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6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.wmf" ContentType="image/x-wmf"/>
  <Override PartName="/ppt/media/image3.jpeg" ContentType="image/jpe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218-C914-4B27-A7F3-81B3F528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A22-2E03-4993-89BF-7DADF04C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B3F65-17D9-465C-BEED-EC601139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9DC58-1A7E-465C-8439-61AB8962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D917C-E43D-4147-B840-3E5025EC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6D145-E71F-45F4-99ED-81C77E3A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E1A87-08C5-46D9-B36D-70EE469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73302-AA81-40F7-B0E2-3C431868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83805-4504-4114-B380-DA37B33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75385-293D-4557-A5CC-DF54F347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BA127-EE4F-438D-8937-2450525E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7A869-0EAE-4654-88C8-C3323554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F92-4F99-4A7F-95FB-FF019711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E26FC-3E20-4C29-AD2A-8F6739CE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C9E9B-5958-46F3-AA64-369D967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6E049-56C0-4173-8FDF-46EDB2D4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5567F-B007-4A0D-B33A-3DEDDA02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B276F-CAC2-445E-9F7F-F7733883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9C189-55B5-413C-A1F3-54A3C28F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654A8-203D-416E-9C5F-F6124BC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99B88-CC59-46A4-ABC3-B16271E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83F68-977F-4CED-8D22-58294756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F43A0-A65B-4D1B-87C3-C2012823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63B-810F-440F-B54C-1311C338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2CEB8-796B-4A5D-81CD-BE73932A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EE6F5-B007-4C37-96A9-17B6F99C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F89F9-5812-4A5A-9C7B-BFC016C2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7DAAF-F064-4A24-AB83-10B06400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4FAEF-9731-4CC3-A108-A990D04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BB7A0-A48A-4ED3-BC4A-EBB68159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19639-08BB-44B1-B07B-7B951D22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66CE5-B21C-48A4-BC32-446F8148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053C7-3563-4569-9C1B-8CF0D28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14B9C-13EF-46CF-8455-C6AA5040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1E7-9C1C-416A-8FE7-AC78E5A3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BCF4A-14D8-4BA4-9C95-E9B42FF8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F0466-B968-471F-986E-C0A52D65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8F581-911B-42AF-BE9C-C319AFE0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BA9FB-2A4F-45C8-8D59-FD27B122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94E05-D8A8-4FB6-A626-C351F7DF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ECEC1-A186-45C8-A509-D8622A43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479D5-3E30-4B0A-BF80-6C71C6CA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15566-E291-4EF9-901C-FE25024F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B675D-B211-45E7-AE3E-2C9B3537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37AA6-C6DA-4AB6-9E32-6EFF100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577A-458C-476F-9508-DC768057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7BBAD-B31E-4260-84CB-A47029E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F3964-D91B-4798-A2AA-966E548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63E5F-098C-4A7C-8903-49579897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0BE2-CB18-4656-9C7A-571FCB19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4FC72-BB69-4313-BE8F-83D7F02D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70651-66ED-477E-BC81-41CC4CC3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697A2-B581-4CF4-AE3E-16329E65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D7242-68FE-4493-BCB2-E7DAC491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29AEB-B7DB-44DB-A174-D83F96E3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FB54B-D093-4BC6-8E2B-3094753C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A765-50C6-4E36-9B16-D4014033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EAD37-1A49-4580-BFBE-44F280FB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0F213-EB0F-46D4-A5A3-753450B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9A31B-D9F7-4042-AF82-4F15AB23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4DCC4-C8B1-4EB7-BC67-DFD99D0F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BAB69-695C-43B0-AB9E-28922530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67828-93DD-4703-BB72-0AC21C20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19CB9-B62B-472B-AC55-13DBC5A8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FE1D-A40F-40C8-B781-4CBB1CAF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7BCD-055A-4AAD-BAB2-18CCE7E8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736E-9EDD-4D38-BFA3-1E82C540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A4D8-F94F-4A64-8183-4BB1717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456-6B35-4113-ADBD-84598B5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BAC1-46A3-4CB0-B904-68B7EAA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7F54-6FBF-4C7E-B2D8-F101420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4751-ECBC-496C-A931-7379FC86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A323-8058-4136-B161-493749C4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111D-F6BB-4348-B6DE-E313D641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F935-F9BB-4AA2-91D3-15693F01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041B-8CFC-49D8-84A9-28FD4515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CD7F-CD77-48DB-9E4D-A0BA9E5C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A55D-F50C-4900-9A4E-BB2013B0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1DBC-BD81-40AD-87D0-839DD90E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CFB-BA74-4AF4-8D3C-52DCE0D9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956C-174E-4AD1-B4A7-1A39CB85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AAD8-3D8E-4A3D-93DB-920C891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45C6-BF69-4A77-ACA7-3296DCFA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60DE-82E5-4522-A174-A348793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E403-A59E-4859-B84C-E6CC600F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42D2-B013-4512-9018-19E20D8A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6B60-DCFF-4F16-B3FB-3E168EF0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F1C1-0D57-4DB7-980E-38D37689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DED2-3F9E-4BEC-B72F-AC2FE005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F6669-45DA-40C3-84DD-252F4A91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32A-4C2D-4967-ADB3-060276C2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8D229-482E-4F8C-B849-EA1B54C0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9336-1A06-4608-8D20-F3117444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60C47-7127-4BFE-A3A9-8F2E0759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1FF41-5C1E-4049-9805-1A60A9F2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414F-3845-4F5F-ACD0-2B1E846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843F-2BAA-4796-8B48-FA648365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E5B1-8198-4240-9B1A-2D2AE08A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C604-23E3-4E79-8381-26082B75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3F39-6EF1-4018-B802-33A91A88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F7F85-AB9A-4EE8-B92C-061BE535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CC7-EF89-47A6-9D26-7DC3CEF4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E6DC9-AC0D-477C-BD78-A69717B0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A9BC-CBAB-40E0-9F17-B7923237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66C82-4C8D-4DBB-8A8D-51FBB003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5060-F9E2-43FC-B29E-C785282A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50743-3B22-40F1-8670-9F1306EF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78F62-35FB-4177-B6AC-D5AFC6ED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3629-97D1-4BFE-B6AE-EB0CCC8D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0E68A-8D18-4D5A-9D5A-C5B7EDA7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F887E-5540-4C63-BFA6-A5D694D9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C79A-4EB7-487C-AFB1-94BE281B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996-AC8C-4210-945B-4AA6637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EDF99-889F-4AA3-9627-FA92DE2C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A1AC-1C9F-4134-B9D4-E1C22392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3A36-4E6D-4CFB-8C55-44447427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DFAC3-C313-4319-B178-21431F23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A915-F58E-4B48-A0E1-B75328B5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586F-AF5E-4EB7-A53D-CFD8C3E2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338C1-A054-4CBB-8768-9FA34AF8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3207-AD9C-4D45-B855-00838673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6345B-D48A-46E2-8AD4-2677C640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ACD6A-2DA2-49C7-A4F2-0A5C44B4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E5D-279F-45CC-83AF-14EDE5C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8E1C-644F-4D83-A64E-3014838A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E7785-D345-47BB-99CC-21788571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362BD-306E-459F-8E34-5821F90C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58F0E-6D4C-4B12-A332-4EC7AE17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BCAE2-9FBE-4D52-B10D-3D50095A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D8D52-E39F-4ED5-B26F-52829A2C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EE594-EF1E-45CF-988E-8337D2FF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7758-50B2-42C3-B281-01AE6A6A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B666F-9D0F-4952-9882-AF7A55AE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F04D7-D427-4444-8134-483421FC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5EF-06B4-4106-AAE2-DE4129FD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DC6D5-2D27-4249-9D5A-71C20D14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8971-3090-4E58-96BE-2BE20111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87E73-F186-4999-87E0-AC6FDF5F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6ECC-DA53-4E89-A2FB-829A4B80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FA2D2-4E15-4BBA-A990-ACBAE8EB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C83AF-A6D0-4703-9091-098E9389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64EEF-7824-4979-93E4-E0099A00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D36E-C667-4F35-AAFC-F75057D1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71DA1-D47F-4622-9D70-2FCC27B2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0DB03-72EB-4311-ADFA-1DC3E848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CC5-692B-438A-AB16-8D746A2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C7108-EAA2-4BA3-93D0-BFB227A6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0981E-4F95-41F5-8ACE-85FEAA4E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FC13E-5B20-4EB5-812E-632A8F02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79C4A-F733-48FF-BDCA-425F5D7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A2A66-69C7-4033-BD01-DFFACF94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A36A1-CB38-4788-829C-60249234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90B92-CC31-46CD-80E8-FA6B35C8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9391A-F196-42AA-8D92-9DB59D4B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623DD-6158-4ED2-9DFD-DA53F0BA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D5F29-9275-44AF-964E-FA65413C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7EB6-DC70-4B04-9444-63C2BA168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D8CC-2827-464C-A7B9-384E9CEC512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B573-D1BF-4AD3-B731-D449BFD718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1570-20D6-45B9-A4D9-B81637D755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0D28-13EC-487D-8B8C-0380DC56A5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A05F-96FD-4960-B18F-8411AFD67B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947C-D65D-49C3-B332-F1D42F9217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FAA7-6642-4E83-8FF7-17019B0120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D4F4-5D2C-400A-9F4C-69406BD361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91F5-451E-4844-B759-DF58229D70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FE25-85D7-423F-A150-762DE18307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1D1A-18BB-4AF0-9473-444B1C3F6E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EA2F-D16E-497A-A7F7-364F5B1ECE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23F5-D1C6-4C6C-AE58-C2930EAD02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24F2-3DCC-4C6D-BA01-D0A17D72E5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D647-9925-4A92-8B5C-542E821C0D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819-6D45-4297-9D8D-7DA60ECCF9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D994-9566-460A-9399-C6F6870F2F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418C-A1D2-43AA-94A9-020770EB31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E043-02C5-42E0-A0FA-FEDD60B179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133E-37C2-42E7-AEE0-044C3E3F50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E318-EF8D-4B54-AB61-87BD8186C2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DD67-E1DA-43FE-81F9-614D4802E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F175-AD09-40C9-9AA8-6E36C8C002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CC7E-5AAD-434D-95B4-89A1D73567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image" Target="../media/image5.gif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3"/>
          <p:cNvSpPr/>
          <p:nvPr/>
        </p:nvSpPr>
        <p:spPr>
          <a:xfrm>
            <a:off x="414360" y="63360"/>
            <a:ext cx="1565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北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京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亮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起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来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2308680" y="603396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生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863160" y="603576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学习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5932440" y="6097680"/>
            <a:ext cx="1155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图片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7702920" y="615636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2" descr="王府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"/>
          <p:cNvSpPr/>
          <p:nvPr/>
        </p:nvSpPr>
        <p:spPr>
          <a:xfrm>
            <a:off x="8246520" y="2286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396240" y="17136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繁华的大街变成了比白天更美的“不夜城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西单路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8322840" y="2239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2" descr="古老的紫禁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8398800" y="48769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903680" y="0"/>
            <a:ext cx="58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长长的城墙和美丽的角楼倒映在河面上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银光闪闪，十分动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2" descr="北京夜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1992240" y="1159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你想对北京说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2" descr="梅地亚中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8459280" y="39672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2" descr="前门箭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8246520" y="29988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2" descr="人民大会堂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900000" y="5425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人民大会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2" descr="天安门石狮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3"/>
          <p:cNvSpPr/>
          <p:nvPr/>
        </p:nvSpPr>
        <p:spPr>
          <a:xfrm>
            <a:off x="550440" y="-15732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2" descr="中华世纪坛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3"/>
          <p:cNvSpPr/>
          <p:nvPr/>
        </p:nvSpPr>
        <p:spPr>
          <a:xfrm>
            <a:off x="8170200" y="15228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3" descr="中央电视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8246520" y="38088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168920" y="990720"/>
            <a:ext cx="6748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夜幕降临       长安街         灯光闪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光彩夺目       勾画             喷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王府井           紫禁城         一束束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金碧辉煌       一幢幢         繁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NA01441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17212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1260000" y="380880"/>
            <a:ext cx="7195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写出下面字的偏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夺（        ）       禁（       ）     府（       ）    闪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在括号里填上合适的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幢幢（                      ）         一座座（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束束（                        ）       一条条（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816560" y="121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4102560" y="121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6236280" y="121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8217360" y="121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304272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房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7382520" y="3657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273780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灯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7160760" y="45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11" descr="3"/>
          <p:cNvPicPr/>
          <p:nvPr/>
        </p:nvPicPr>
        <p:blipFill>
          <a:blip r:embed="rId2"/>
          <a:stretch/>
        </p:blipFill>
        <p:spPr>
          <a:xfrm>
            <a:off x="304920" y="55926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6"/>
          <p:cNvSpPr/>
          <p:nvPr/>
        </p:nvSpPr>
        <p:spPr>
          <a:xfrm>
            <a:off x="1835280" y="422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2" descr="北京夜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748440" y="113832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灯的海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光的世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2" descr="aab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4343400"/>
            <a:ext cx="2194200" cy="21938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2313000" y="5400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由朗读课文的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—5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然段，找一找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中主要描写了北京的哪些夜景？你喜欢哪个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景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97488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2616120" y="1752480"/>
            <a:ext cx="531504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长安街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天安门城楼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广场四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环形路   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街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王府井 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西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紫禁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2" descr="长安街夜景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8595720" y="472428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212760" y="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东西长安街华灯高照，川流不息的汽车，灯光闪烁，像银河从天而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" descr="天安门城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8636400" y="22860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3852720" y="71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天安门城楼金碧辉煌，光彩夺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2" descr="天安门广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626400" y="22860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3736080" y="5438880"/>
            <a:ext cx="18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广场四周，彩灯勾画出一幢幢高大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筑的雄伟轮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2" descr="复兴门立交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474120" y="48769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3953520" y="15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环形路上，一座座立交桥犹如道道彩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街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5"/>
          <p:cNvSpPr/>
          <p:nvPr/>
        </p:nvSpPr>
        <p:spPr>
          <a:xfrm>
            <a:off x="8595720" y="15228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3774600" y="54100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cc00"/>
                </a:solidFill>
                <a:latin typeface="Times New Roman"/>
              </a:rPr>
              <a:t>街道上，照明灯、草坪灯、喷泉灯、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Times New Roman"/>
              </a:rPr>
              <a:t>花灯装点着美丽的北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09:21:05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10:00:27Z</dcterms:modified>
  <cp:revision>16</cp:revision>
  <dc:subject>第一PPT模板网-WWW.1PPT.COM</dc:subject>
  <dc:title>第一PPT模板网-WWW.1PPT.COM</dc:title>
</cp:coreProperties>
</file>