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11.gif" ContentType="image/gif"/>
  <Override PartName="/ppt/media/image7.png" ContentType="image/png"/>
  <Override PartName="/ppt/media/image8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B260-DE3D-455F-82BC-62D3E3EF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10EF-E74D-4372-B37F-4CCBB630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5ABC1-0DC6-4E2F-89D5-AE3A8F25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A7B59-2BD7-43B1-8E8C-03E2A09D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685F6-919F-4D85-909E-68530544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419CB-53C5-4013-86CD-D9E8E590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1C17F-4311-4B90-B061-E44E7435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A43BF-DD1F-484F-9AD4-A8309DED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1DDBB-8FDF-4ACC-8BB0-B2E45E1A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DE442-7B46-43BC-9E68-9E452F0F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039FB-9BF5-41EE-B0C6-65089BFC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E6D8D-05C2-4C2A-945C-2CCD3B8A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0DF9-E2AD-400D-A2F7-29C1A273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366E1-0771-4689-985B-EF3A2DC9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C2195-DE30-4DE0-9EEF-56E705E1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94D69-6742-46F2-89C0-DE7DAFC4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31BFC-0541-4824-8B0E-4AF78A0B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F8090-D443-4891-8695-42701C73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E200B-01BC-41C1-A0FC-25B9113B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2B249-5F73-4CD9-8436-F5C0766B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8354A-6EBB-4B3A-B5DA-5952FA22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A55C9-A2A5-46EC-B4CE-48631A32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7C2BD-3951-49FE-B88E-960825FB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EC4C-F23D-41D1-AE33-C70A2AED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5D4BB-D2CA-4CAB-81E8-662AF6CD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31976-586B-4DCA-A03D-EA0A8363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BCE2F-F5E9-4848-B9E7-BA867823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E29B1-14A6-4C6F-A003-DFB62B2E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5BBB9-9225-47C7-A8B5-F25FE288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96D02-120C-4F69-BEDB-5C077380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DF8B1-6CEC-4187-B64F-8E178B40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866B6-2679-4E4D-8AE7-1AA22C1C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25E24-6791-46C3-BF8B-0A24C0C6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DC1F8-6FF2-487D-BAC2-06661E1B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587B-BE1E-4508-A1D2-F2135A18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FE923-CB81-4E78-B4A5-B99F9A79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E12BD-9149-44CF-B210-D379DDA4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877C2-5C97-4385-98CE-77B6A09C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68F55-EE21-4605-BFE9-8C67DF46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1E6CA-2B49-4659-8857-93DA99B6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929C4-4A8E-45F5-8E78-73E2E3D1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0495B-7C75-4D56-B669-3B2E2B10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0FB519-FC83-44CF-B64D-EEF367F4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354C9-6DA2-41E7-9FF4-EBCB7FEE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BC401-13B9-441C-B433-FA677F91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16CF-3ECA-48CA-80C9-8653054B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D3BA6-78E9-46A8-BDC8-521EDE5A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D773C-3558-4F60-8A30-4363614E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7157B-18D9-4CA7-A1B4-C417A0CF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1CE3A-F515-4561-BCE2-CC6B7E29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905F4-DCF3-48F3-A7FC-9D43B55FE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DFA3E0-F79A-42D1-B85C-6972C972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730666-F1B7-4D4E-B156-B00D3472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BDEF5A-0607-405E-91F9-687F95F2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1411E-4A6D-430E-8CE7-9D573A73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E6DBDA-448C-49DE-A249-2018292B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42A8-364D-4AEE-B2D7-3D7E1003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58A5A9-7ADC-4B8D-A16B-366275B7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CC372-ED0E-4A81-BCC7-7BFDE68C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BA2F06-AF51-4FAD-86E9-B7125F0C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49404F-60D8-48A0-BA86-13DAC17C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62D91B-47B0-4CA1-BE6F-6C6FD2A3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734906-82B2-452F-99CA-F53A3581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BFD931-7D7B-401F-9597-78CCA2DE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A9A1-541D-48CE-9DA2-03D1B16F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F03F-7DDF-4A48-A97B-7C219B81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0C67-F679-4C03-AFED-E87AE446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F487-A40D-4C8C-8B3A-60130E64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46B7-1FF3-4BBF-92C8-BB1CF38B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B18E-CCA6-4D91-866F-10F83FE2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7A8B-4CC1-4BBE-9BF4-CCBFE2AC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1DC9-8F76-4A20-8037-DA90E58A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25DC-F520-4B9A-A0A1-A172C0AF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E23F-4C13-48EC-AFCA-5575BF85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B7AB6-2B73-4093-8277-E9508C42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F31C7-4553-411D-BDB1-E590EDB8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CD301-1EF3-43E2-A60B-90687529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406B6-0E3E-4ACD-861A-D4454599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65F77-7040-45BB-9A6B-8C33C762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F04B-E079-4536-B228-648F99C6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67DF3-0CA8-42B2-B4CE-918AFC1A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0B46C-7401-47FE-A812-5F1B1160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F8FF6-9584-4702-8952-C0650F03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67904-AFEB-4C80-A1BD-BB2427C0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9D00C-08A6-4387-B7ED-9F0911FB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3F327-C1CE-4F2E-84B4-916F7136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4F8AF-76F8-4230-8B5A-CAA6A5C8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0340E-60F0-4F40-ACFF-5D319B3B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9A623-0407-4A5A-BFEC-D0E41EAA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D29DA-FA88-4B9C-B8AD-3FB2A9B4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ED1F-CDE3-4BE6-8034-EF927A07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75DA4-9E9C-4C5B-8E7E-FB5A8540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2642C-51BF-4A6C-9B7D-6B63C560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79BB7-E672-47BE-8DE1-ADE71937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A2E43-C70B-42E5-A5E7-D9E6ECA3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344D3-D353-4961-9896-A2568FD1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BE063-DD81-4418-ABC0-45C14703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C760C-54D6-4ABC-9D7F-6B2C625A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BC0AA-359A-477A-BB41-F51BBC3D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110B4-36D2-4FFB-9672-1660B99C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4462A-E1C0-4091-B2FA-BB7966AD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AF30-D4BE-4ABF-9D36-289275DD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AB0E6-CE89-48CB-92CB-A578EF9D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0626D-694A-4289-ACAA-83B3F93D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05DBB-7660-4B9E-A2A3-7CA6F800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20B5E-12ED-4B3A-8CE6-42B27665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86315-C46A-47BB-87FF-38EA7273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9766B-06BB-408C-B0D7-A653FECA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46E85-F98C-4FE6-B620-1556B9D5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C5C5A-6F0E-4891-AA35-36FF78DA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E7D6E-1969-48C2-A4B0-00D20B65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6DAF6-FD99-48AA-9BDE-09D2A34E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C9A1-2C9F-4224-B5D0-D4131852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C81B9-A48D-4D95-A891-C5852CB8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0263A-4AD6-4C1F-80CC-D9282220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6B3BF-EE2E-4D81-BE89-2F826441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4F609-2FB9-4E58-92E5-9A33ECAA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6673A-0214-4E35-B0C6-474B783C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5CE20-9C5E-46F8-A32E-797F5D9F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CDF88-2E01-47B6-8D0A-4E1354CA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DE32B-CA21-4B7B-8DC7-A427A918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52E55-3DFB-401F-89D1-97303653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4A148-E211-4EF2-BBAD-9BD08B85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2E75-47A9-40AB-AA51-170EB848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9BBB9-EC3A-4452-A77E-589F4E28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DCA8C-32CC-49C4-83CE-6DBFFC03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2DD33-4D2D-433B-AF4E-EB3C016D1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ABB92-39F4-4547-9B2C-45A66693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929AD-599E-4163-ABB2-0A151527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A1F9D-0AD1-445D-A27B-0B7CA008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C6654-4ED0-4CDA-998E-C8579CAD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DBA5B-088F-4D00-9EA7-012E8F2B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4EC73-DD16-487C-AE47-1D690A51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0508C-8F87-421B-9F59-651254B1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04AD-5A24-411E-AE95-553618A6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D9F06-5FDB-4691-AAA0-C9F2D726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887CA-5E96-4FD7-99DE-D2974BE2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EFC8E-89D2-41EE-BD45-7B56EED6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5DF7C-C6C2-405D-87B3-CCDB4701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7E855-B6C1-44CF-BF20-AFFC42E0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E9B20-FDA1-4902-863D-EB2E2E8E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D7E21-19B7-457F-9DAC-7EFB84C3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7BC10-DA81-4EBC-A8C2-92DC1E93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AA327-0A3F-4E90-AF53-5EFCA12B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6EA9A-3B13-4F89-B0E3-45128531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E285-1A51-4850-A50E-25E80986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5C66E-D4E9-4F5B-ABEF-E4A84596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F3021-D9A1-4682-8517-C5A15396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DA631-1CBE-4B8D-A389-650F8415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21772-EF58-4A19-A6EF-BB188A46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580BC-CE58-4656-A6BA-3B47BAAB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32C85-0B9A-4009-91CD-CA9573CF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B6D10-1208-457B-9423-93DD7016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7F6AB-CADE-4391-82B3-A397C136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1FC5B-F956-4B59-B96B-90E838F6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78CFD-C875-4DCF-9869-D1A0CED4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B5F3-2A3B-4380-920D-6A5EB0DB7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1D29-D9B7-4F84-986B-B2B5300F0CD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6316-D630-450D-ACF4-8CEBF9E3F0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8DDB-6717-458F-9E2F-6EE3AE526F7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7C8F-5AA6-4076-A463-DA574EA33A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7CE4-2950-41D3-92A1-1B264AF3A79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A4A4-FACC-4297-A52A-E6E1CC83C7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BD88-942F-44F0-802B-C474C8EC68C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F577-A179-4CEA-9EA8-AF6EC4FD45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E04C-8AA7-4200-95E7-C7F6FB8AF35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CEEE-9C9C-4AB9-8880-D562C936AF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F41A-D8C7-44D5-920A-849F73EE866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7E7F-B630-42D8-8816-6FDA84438F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52A7-D13B-4DD3-9336-7976FFA5F06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9EDE-1CE5-414E-BDCF-0B23793E12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65A1-446A-40C0-8D25-4A462E48F56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BE64-4D0B-4823-8621-F1E247F3DE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020A-1BB5-46B3-B9EB-3FCA54C3DEA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CC62-3BF7-4CCF-B6B8-2E729AA6D1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5489-6E78-4FCE-BE14-F40D8F9D576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B034-7A7A-4B5B-A93F-3B514FAA47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8998-6AE7-45A3-ADA0-0B100B97062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3D5E-B9BC-4127-A937-C48517CE99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A8A4-B51C-4CB6-BC66-C36514D2471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713D-2ABD-4F72-9CB9-D493BA8111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image" Target="../media/image5.gif"/><Relationship Id="rId5" Type="http://schemas.openxmlformats.org/officeDocument/2006/relationships/slide" Target="slide5.xml"/><Relationship Id="rId6" Type="http://schemas.openxmlformats.org/officeDocument/2006/relationships/image" Target="../media/image5.gif"/><Relationship Id="rId7" Type="http://schemas.openxmlformats.org/officeDocument/2006/relationships/slide" Target="slide6.xml"/><Relationship Id="rId8" Type="http://schemas.openxmlformats.org/officeDocument/2006/relationships/image" Target="../media/image5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5.gi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8"/>
          <p:cNvSpPr/>
          <p:nvPr/>
        </p:nvSpPr>
        <p:spPr>
          <a:xfrm>
            <a:off x="3059280" y="63262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WordArt 2"/>
          <p:cNvSpPr txBox="1"/>
          <p:nvPr/>
        </p:nvSpPr>
        <p:spPr>
          <a:xfrm>
            <a:off x="1979640" y="1197000"/>
            <a:ext cx="561672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ffff00">
                      <a:alpha val="50000"/>
                    </a:srgbClr>
                  </a:outerShdw>
                </a:effectLst>
                <a:latin typeface="黑体"/>
              </a:rPr>
              <a:t>半截蜡烛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ffff0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35" name="Picture 3" descr="xs03gif428"/>
          <p:cNvPicPr/>
          <p:nvPr/>
        </p:nvPicPr>
        <p:blipFill>
          <a:blip r:embed="rId2"/>
          <a:stretch/>
        </p:blipFill>
        <p:spPr>
          <a:xfrm>
            <a:off x="826920" y="1628640"/>
            <a:ext cx="685800" cy="1095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539640" y="907560"/>
            <a:ext cx="77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解释       负责       无奈       粉嘟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心翼翼     完好无损     不惜代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例行检查     若无其事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如指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2054520" y="5875200"/>
            <a:ext cx="530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自由轻声读课文，边读边思考是谁保住了秘密，保住了情报站？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3" descr="xs03gif428"/>
          <p:cNvPicPr/>
          <p:nvPr/>
        </p:nvPicPr>
        <p:blipFill>
          <a:blip r:embed="rId2"/>
          <a:stretch/>
        </p:blipFill>
        <p:spPr>
          <a:xfrm>
            <a:off x="179280" y="4508640"/>
            <a:ext cx="685800" cy="109512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4"/>
          <p:cNvSpPr/>
          <p:nvPr/>
        </p:nvSpPr>
        <p:spPr>
          <a:xfrm>
            <a:off x="3708360" y="1210320"/>
            <a:ext cx="172728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伯诺德夫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5"/>
          <p:cNvSpPr/>
          <p:nvPr/>
        </p:nvSpPr>
        <p:spPr>
          <a:xfrm>
            <a:off x="4057560" y="2203920"/>
            <a:ext cx="10220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杰      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6"/>
          <p:cNvSpPr/>
          <p:nvPr/>
        </p:nvSpPr>
        <p:spPr>
          <a:xfrm>
            <a:off x="4082040" y="3211920"/>
            <a:ext cx="1125720" cy="459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杰  奎  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7" descr="箭头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435640" y="1413000"/>
            <a:ext cx="257040" cy="2379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8" descr="箭头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2421000"/>
            <a:ext cx="257040" cy="2379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9" descr="箭头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580000" y="3429000"/>
            <a:ext cx="257400" cy="2379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0" descr="12l"/>
          <p:cNvPicPr/>
          <p:nvPr/>
        </p:nvPicPr>
        <p:blipFill>
          <a:blip r:embed="rId9"/>
          <a:stretch/>
        </p:blipFill>
        <p:spPr>
          <a:xfrm>
            <a:off x="8820000" y="6369120"/>
            <a:ext cx="324000" cy="488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xs03gif428"/>
          <p:cNvPicPr/>
          <p:nvPr/>
        </p:nvPicPr>
        <p:blipFill>
          <a:blip r:embed="rId2"/>
          <a:stretch/>
        </p:blipFill>
        <p:spPr>
          <a:xfrm>
            <a:off x="4284720" y="3068640"/>
            <a:ext cx="685800" cy="10954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3"/>
          <p:cNvSpPr/>
          <p:nvPr/>
        </p:nvSpPr>
        <p:spPr>
          <a:xfrm>
            <a:off x="3492360" y="1843920"/>
            <a:ext cx="2303640" cy="5814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伯诺德夫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324000" y="4508640"/>
            <a:ext cx="8459640" cy="2276280"/>
          </a:xfrm>
          <a:prstGeom prst="rect">
            <a:avLst/>
          </a:prstGeom>
          <a:solidFill>
            <a:srgbClr val="0000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她看着两个脸色苍白的孩子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急忙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从厨房取出一盏油灯放在桌上。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瞧，先生们，这盏灯亮些。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说着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轻轻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把蜡烛吹灭。一场危机似乎过去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" descr="箭头"/>
          <p:cNvPicPr/>
          <p:nvPr/>
        </p:nvPicPr>
        <p:blipFill>
          <a:blip r:embed="rId3"/>
          <a:stretch/>
        </p:blipFill>
        <p:spPr>
          <a:xfrm>
            <a:off x="5796000" y="2133720"/>
            <a:ext cx="257040" cy="2379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" descr="xs03gif428"/>
          <p:cNvPicPr/>
          <p:nvPr/>
        </p:nvPicPr>
        <p:blipFill>
          <a:blip r:embed="rId2"/>
          <a:stretch/>
        </p:blipFill>
        <p:spPr>
          <a:xfrm>
            <a:off x="4284720" y="2781360"/>
            <a:ext cx="685800" cy="109548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3"/>
          <p:cNvSpPr/>
          <p:nvPr/>
        </p:nvSpPr>
        <p:spPr>
          <a:xfrm>
            <a:off x="4129200" y="1699200"/>
            <a:ext cx="102204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杰      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2471040" y="3840840"/>
            <a:ext cx="4217760" cy="3018600"/>
          </a:xfrm>
          <a:prstGeom prst="rect">
            <a:avLst/>
          </a:prstGeom>
          <a:solidFill>
            <a:srgbClr val="000000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时间一分一秒地过去。这时候，大儿子杰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慢慢地站了起来，“天真冷。我到柴房去搬些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来生个火吧。”说着，伸手端起烛台朝门口走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屋子顿时暗了许多。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孩子是懂事的，他知道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厄运即将到来了。在斗争的最后时刻，他从容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搬回一捆木柴，生了火，默默地坐待着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243000" y="4344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慢慢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7545960" y="580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从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348000" y="5805360"/>
            <a:ext cx="3311640" cy="57636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4427640" y="6281640"/>
            <a:ext cx="2952720" cy="57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9" descr="箭头"/>
          <p:cNvPicPr/>
          <p:nvPr/>
        </p:nvPicPr>
        <p:blipFill>
          <a:blip r:embed="rId3"/>
          <a:stretch/>
        </p:blipFill>
        <p:spPr>
          <a:xfrm>
            <a:off x="5508720" y="1844640"/>
            <a:ext cx="257040" cy="238320"/>
          </a:xfrm>
          <a:prstGeom prst="rect">
            <a:avLst/>
          </a:prstGeom>
          <a:ln w="0">
            <a:noFill/>
          </a:ln>
        </p:spPr>
      </p:pic>
      <p:pic>
        <p:nvPicPr>
          <p:cNvPr id="562" name="clock_dream.mp3" descr=""/>
          <p:cNvPicPr/>
          <p:nvPr/>
        </p:nvPicPr>
        <p:blipFill>
          <a:blip r:embed="rId4"/>
          <a:stretch/>
        </p:blipFill>
        <p:spPr>
          <a:xfrm>
            <a:off x="324000" y="3933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4180" fill="hold"/>
                                        <p:tgtEl>
                                          <p:spTgt spid="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2" descr="xs03gif428"/>
          <p:cNvPicPr/>
          <p:nvPr/>
        </p:nvPicPr>
        <p:blipFill>
          <a:blip r:embed="rId2"/>
          <a:stretch/>
        </p:blipFill>
        <p:spPr>
          <a:xfrm>
            <a:off x="4284720" y="2708280"/>
            <a:ext cx="685800" cy="109548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3"/>
          <p:cNvSpPr/>
          <p:nvPr/>
        </p:nvSpPr>
        <p:spPr>
          <a:xfrm>
            <a:off x="4153680" y="1627560"/>
            <a:ext cx="1125720" cy="459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杰  奎  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250920" y="3790800"/>
            <a:ext cx="8640720" cy="29512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突然，小女儿杰奎琳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娇声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地对德国人说道：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司令官先生，天晚了，楼上黑，我可以拿一盏灯上楼睡觉吗？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少校瞧了瞧这位可爱的小姑娘，说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当然可以。我家也有一个你这么大的小女儿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杰奎琳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镇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地把烛台端起来，向几位军官道过晚安，上楼去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5" descr="箭头"/>
          <p:cNvPicPr/>
          <p:nvPr/>
        </p:nvPicPr>
        <p:blipFill>
          <a:blip r:embed="rId3"/>
          <a:stretch/>
        </p:blipFill>
        <p:spPr>
          <a:xfrm>
            <a:off x="5651640" y="1844640"/>
            <a:ext cx="257040" cy="23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808200" y="1123920"/>
            <a:ext cx="182664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少校点燃蜡烛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伯诺德夫人心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772200" y="6062760"/>
            <a:ext cx="200952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于是就急忙从厨房里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出一盏油灯，吹灭蜡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4400280" y="2924280"/>
            <a:ext cx="5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万一蜡烛燃烧到金属管处就会自动暴露，情报站就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遭到破坏，同时也意味着我们一家三口生命的结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3967200" y="1123920"/>
            <a:ext cx="200952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当伯诺德夫人失败后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杰克心想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6"/>
          <p:cNvSpPr/>
          <p:nvPr/>
        </p:nvSpPr>
        <p:spPr>
          <a:xfrm>
            <a:off x="3514320" y="4795920"/>
            <a:ext cx="2375280" cy="825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于是就端起蜡烛，准备到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房里搬些柴来，生个火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7"/>
          <p:cNvSpPr/>
          <p:nvPr/>
        </p:nvSpPr>
        <p:spPr>
          <a:xfrm>
            <a:off x="7248960" y="1123920"/>
            <a:ext cx="1460880" cy="825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当杰克失败后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杰奎琳心想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8"/>
          <p:cNvSpPr/>
          <p:nvPr/>
        </p:nvSpPr>
        <p:spPr>
          <a:xfrm>
            <a:off x="5508720" y="6061320"/>
            <a:ext cx="3635280" cy="825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于是就娇声地请求军官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她拿着蜡烛去上楼睡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9"/>
          <p:cNvSpPr/>
          <p:nvPr/>
        </p:nvSpPr>
        <p:spPr>
          <a:xfrm>
            <a:off x="4462560" y="4075920"/>
            <a:ext cx="79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机智、镇定、勇敢）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250" autoRev="1" fill="hold"/>
                                        <p:tgtEl>
                                          <p:spTgt spid="5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2" descr="m_r_001027"/>
          <p:cNvPicPr/>
          <p:nvPr/>
        </p:nvPicPr>
        <p:blipFill>
          <a:blip r:embed="rId2"/>
          <a:stretch/>
        </p:blipFill>
        <p:spPr>
          <a:xfrm>
            <a:off x="6804000" y="4970520"/>
            <a:ext cx="2340000" cy="1887480"/>
          </a:xfrm>
          <a:prstGeom prst="rect">
            <a:avLst/>
          </a:prstGeom>
          <a:ln w="0">
            <a:noFill/>
          </a:ln>
        </p:spPr>
      </p:pic>
      <p:sp>
        <p:nvSpPr>
          <p:cNvPr id="579" name="WordArt 3"/>
          <p:cNvSpPr txBox="1"/>
          <p:nvPr/>
        </p:nvSpPr>
        <p:spPr>
          <a:xfrm>
            <a:off x="7740720" y="5661000"/>
            <a:ext cx="5763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见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250920" y="2205000"/>
          <a:ext cx="8229600" cy="43592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435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１９３９～１９４５年，德国、意大利、日本法西斯国家发动了人类历史上空前规模的第二次世界大战，先后有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61</a:t>
                      </a: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个国家和地区、２０亿以上的人口被卷入战争，军民死亡５１２０余万人，最后以德、意、日三个法西斯国家的彻底失败而告终。第二次世界大战中，人员伤亡是惊人的。据资料统计：战争期间，世界各国的人口伤亡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９０００万人以上。第二次世界大战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社会生产力遭到了巨大的破坏。据统计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宋体"/>
                        </a:rPr>
                        <a:t>参战国物资总损失达４００亿美元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1" name=""/>
          <p:cNvGraphicFramePr/>
          <p:nvPr/>
        </p:nvGraphicFramePr>
        <p:xfrm>
          <a:off x="457200" y="3962520"/>
          <a:ext cx="311040" cy="244440"/>
        </p:xfrm>
        <a:graphic>
          <a:graphicData uri="http://schemas.openxmlformats.org/drawingml/2006/table">
            <a:tbl>
              <a:tblPr/>
              <a:tblGrid>
                <a:gridCol w="31104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445222"/>
                          </a:solidFill>
                          <a:latin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amond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5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2:21:45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2-10T02:57:11Z</dcterms:modified>
  <cp:revision>5</cp:revision>
  <dc:subject>第一PPT模板网-WWW.1PPT.COM</dc:subject>
  <dc:title>第一PPT模板网-WWW.1PPT.COM</dc:title>
</cp:coreProperties>
</file>