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1.gif" ContentType="image/gif"/>
  <Override PartName="/ppt/media/image14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F0DE-2DB5-431F-8955-B079690C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135-4A9D-411C-AF2B-38BA0A86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602B3-619C-474C-B90E-519855CF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66CC0-4014-4670-B488-606EE003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20FEA-595D-4E51-BACB-C842FED9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88EF5-549D-4431-BAED-1F4B76CE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674FA-5D9D-4CCB-9B51-9D941D55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1AB95-FDF1-4297-8E9C-8DF72C89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0CAAC-A3FA-424E-841D-68428CA3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8C718-156E-4CF4-AB77-54E338DA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6DF43-2B32-4229-84EB-22ECB263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FC361-6629-4E10-B492-991F4546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9234-877D-4801-A00D-F19EFEF5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280BF-146A-45A4-A71E-E13D80C3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186A6-8C81-425D-8215-CB7F0BCA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0281C-3833-45BC-B73B-3EE64F1A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03233-34A7-48FC-BDA6-9E930DE4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D500D-7F3A-45BF-AE3D-ABCABD6A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23462-A0AA-48FB-9A2C-8070A785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CCFB4-8A05-46DB-A7BF-6C23B777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60CE4-132B-454F-8EC4-CE1AE9CF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FC4DB-68DD-4D9D-B8DE-A190B733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9C8A1-737E-4744-9A82-97C77344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3DA-698C-4A9E-9088-B3131D23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3CCA1-9024-4711-A009-5CE1013B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3D61F-5A87-4E81-B4A4-0C3B636E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5B799-80F0-4916-9033-5FB443E2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333B7-C93D-4C78-82D7-6CC3A9A8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DDA43-3CDA-4D6A-B26B-B203931C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6AAFE-F0F6-4894-BA83-7AEBE4E5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F2EBE-9131-4FCA-9874-4524B905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7FED1-D0E8-481A-8D19-620B2DC8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D71C5-7A76-4FC9-814A-3534092D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9FDA3-B07A-48AE-9701-0FDC42E0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4050-DB52-4D13-B4A0-2F3954DF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07EE3-D6FC-453D-BAF4-8C584A56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361E1-F4C9-43D4-AF99-D8A8C9F5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FFB39-357F-476A-A9C1-7592083B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EA651-C4DA-4A28-9A1D-DE6376C7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E4A70-EA19-4AA4-9BBF-FBC1B546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19CB2-467B-40C5-935C-4924753F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984FA-FAFF-4D37-86E3-03638010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20285-B279-4E1E-8A73-A94644E2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A097A-6F90-42D9-9D9B-F7A82CC9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06EC5-B473-45E9-82E0-8E39F41E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59CA-7F41-4C82-8627-F35F2403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2F294-9970-46A0-A677-DC142C02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1E518-C975-4BEF-B6A1-5BFEA199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FBBF2-D987-48F6-9319-FB629E21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54847-F644-4923-AC02-8E9880C6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59261-DB49-4766-9005-8ABFC5B7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BB2C1-31A4-4587-9D73-24B6F1D1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798E6-3C84-408A-95F9-C3F1DB98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7B309-F0C7-44E4-B028-B9378CDA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EDE93-C57B-415F-8D2E-FC2CC93C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D0F8C1-C5EB-4597-9F21-15F50AC9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1B45-B4F0-4A51-950D-783F70FE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1E356-FBED-4EB6-90C2-3E179894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4FA0C-6CC9-4F8A-B451-5093DC88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FC5AF-E051-4A2F-B083-1DA6CFF3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F650ED-7344-4D32-9085-73D24AD0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F5AAC-8371-43E5-B5B8-60BD1D04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1B509-A46F-4D0B-BC97-A5D12401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9D483E-EE51-4118-8619-9DA1F8D0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62AB-569D-44B6-A5E5-68496E71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32D8-1FA8-4CE0-95BC-5D4B58BD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C575-F6B1-4D2D-B83D-314A2646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1AA2-3688-4619-B748-C09A03B9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8577-7AEB-47BE-8CC7-F688800C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6BDE-0962-4508-8EC2-D54CCB28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4207-7E0A-4B8C-B045-6B8F8926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02EC-F0E6-421B-8633-C5C854FC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EBE3-DCEC-48E8-8267-99F6B065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44A3-D380-46F0-86EF-9056CE8C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A238C-8D08-43DB-92E8-4EB1E6E1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FF8A8-5F27-4426-A4D2-2498DF51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2EAFE-7282-4E93-AB9D-7FB3192E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B34E8-EF38-4358-817D-BAEED38C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BD3A0-C8EB-4F2E-B454-C631C58F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F419-F7EE-4A17-96C1-1457E960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6B66A-8807-46E6-8BF9-D192AAB8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2A817-1C66-44F1-A5D2-339EC527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65B23-BF28-4361-BBEB-A8F6310F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11AA7-2DE5-466A-80A4-B5DA0ABA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A8E34-FF2B-48B6-8315-6543706B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E4A34-F2EE-40E7-9E0F-ECCCA654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9386C-0CFB-49CC-85E8-F3851E43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AC64F-1B82-48D2-BAF2-68DD22AA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33458-C80C-41FE-95B7-2B15C6F2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64B20-CA9F-4F4F-AE2A-79EB5D5C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57D3-EC0A-4CF2-A86A-B6E19536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62075-1549-4D33-8CE4-65FADECC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C3CE5-AD39-47DB-99AB-EEB61C07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7DEBF-84DB-44CE-9125-62303F0E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4ED05-BCB0-47FE-B2ED-7794EC55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3C95B-62D4-4FE2-861F-557E5872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8AC78-4935-48B4-A6F6-0C9F2C85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92F67-68DE-4692-83A5-1462A062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7EB65-1F99-423D-8C2D-195B0104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61BA9-CC3D-4F39-86E2-A58F5854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6DF98-975B-4E22-BE2A-BCC7E28A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196-0EFF-4398-9985-DCD48E76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2C821-2419-4F12-904E-208DE123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26F6B-05D1-46A2-BC05-146672A2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9D044-A55E-4984-88A9-2A17DF1B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AFFF4-BCA5-4A97-A48E-E1C7664B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51ECA-D456-43AC-9A1E-DC52D222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70BEE-F9E8-4709-B4CC-E23D7BEA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6B8E1-55B7-4F5F-B4D5-DE5AD5E8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7A4E5-C455-451B-9F4A-023C1C77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E4818-E5F0-4D79-BA1B-6F00C1B8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F0A61-6945-4EB9-8E23-C9930F73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DCE-10DE-49D4-8D77-6382677E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2F475-4EB5-4C81-AEE6-7C228974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4FC74-FC0F-46CB-BED3-0B2C7F32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847C2-2838-4A60-BA3A-0F06D02F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C03A9-622D-4033-B275-C4790594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5E3E8-7390-4764-BF91-E39A87FA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57CC9-01D8-4BED-B2BC-461C17F9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8CA3F-66AA-4099-A284-980FC74C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FE038-E093-4FD2-A8EE-59B431D3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77BF5-417F-41B1-A5B4-2EBF9693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878EE-C961-4C3E-8DDF-9DBE85DD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3AE-9808-4E0F-A057-E9548362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DFD3E-9A9C-4F4B-BBC5-6D545FEE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24C18-5BAF-44C4-9099-3D9F5F44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03D09-3841-460C-9E01-68E46061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FEA2E-D599-4F65-9749-3CE35241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BECCD-78D1-469D-8FEB-B40D688D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58FEF-2CBD-4A51-AC87-31D98F66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D624C-7370-4250-82B8-76F7A60A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47A13-A1C4-4B59-B35A-5EE4836E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269FA-F984-4170-9DE9-3538E375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B3B93-852A-4B75-8430-4D37C47C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2F2-D65B-4D0D-88B5-54C7CC24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AF1FD-EE7B-49CB-BF41-45C927A2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9D521-6F84-4780-9F9F-4620CFA5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4AA16-E847-4803-A9F9-3B03406E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5A917-DF8C-4167-A534-1C2FE547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CACAE-98C2-426F-AB1F-B4C9D7CF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3532F-9D98-4D2B-BF6C-1AABC0CF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A4AF6-37C1-471F-88AB-83684356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44BF5-A9A3-46B7-B504-38404562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8632D-4E39-4341-8A8C-5F6C5676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9787F-A4B0-4B2E-8DDF-2109D435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7338-4C1F-4241-B551-F2EDCAB0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90813-E39E-4C70-8B97-E493B666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45FB3-5985-4975-A8E2-7AF5AC6C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641B4-ABE0-4B0A-8D73-A4E58DC3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E4EC1-F4F7-4582-BFF8-E9A104AE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D5D67-FDAD-4864-83B4-7AD81471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94A32-A510-4746-A5B9-168C23C5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2AEB5-798A-4158-BF10-CAEA812A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F3222-1166-4A0A-94A0-2954DFE9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3B797-140F-4387-85E6-678B06D6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7F96C-9643-49CC-998B-122EB518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B5C8-2C26-4306-B1E5-E3B27E035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C566-06C3-4A74-BF15-A86C74ED0EA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8CA0-81DC-4B36-BCFF-9B085FD35A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33BF-D960-417A-BC2E-B9D65C323D4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D6C6-F726-4A36-AC09-5FF380E0DD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77EF-AF3D-4FC4-B43F-9F21888369E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1A9F-7FC4-4C41-8719-184286AB0D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D7EE-D222-401D-B5A8-867BAE68DB6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FC7E-ED02-439F-AF4C-D52246BA5F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04A2-6930-45A6-8CE9-11C599FD697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FE0C-09A3-42EE-9B90-756294D3A9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7653-5D20-4B59-8D0B-9A68C41F60C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2D89-3518-425A-A962-0BC44A8A2F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7583-AAA5-4DE6-B4B8-BF8725E5CA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BBE9-8FE7-4FE2-A715-97A796A6C7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6B29-3108-4014-BDB1-188BE4F25AE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8231-8364-41E3-8F1D-E2D0F77980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1286-DF78-4DF8-8CF4-83C3382B40F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F063-91D3-451B-8589-EFEA2B4EE6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A20C-5D18-4374-8D86-A943A3DE883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610E-BA9D-4E9A-A788-8C9C05A976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301B-6DDA-4648-8D0F-60C0422B8DE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BF0A-DE86-49FD-89F0-4EFDAEC67A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3FBE-5B9E-41AD-9668-69407E6CA9D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66E7-A8D4-4584-8CC3-E8D5B7DDAC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q-xy.com/wl/sucai/xiank/X5.gif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zq-xy.com/wl/sucai/xiank/X4.gif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zq-xy.com/wl/sucai/xiank/K1.gif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zq-xy.com/wl/sucai/xiank/X52.gif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zq-xy.com/wl/sucai/xiank/X36.gif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www.zq-xy.com/wl/sucai/xiank/X36.gif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zq-xy.com/wl/sucai/xiank/X5.gif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zq-xy.com/wl/sucai/xiank/X5.gif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立交桥1"/>
          <p:cNvPicPr/>
          <p:nvPr/>
        </p:nvPicPr>
        <p:blipFill>
          <a:blip r:embed="rId1"/>
          <a:stretch/>
        </p:blipFill>
        <p:spPr>
          <a:xfrm>
            <a:off x="3932280" y="3173400"/>
            <a:ext cx="5211720" cy="36846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夜景"/>
          <p:cNvPicPr/>
          <p:nvPr/>
        </p:nvPicPr>
        <p:blipFill>
          <a:blip r:embed="rId2"/>
          <a:stretch/>
        </p:blipFill>
        <p:spPr>
          <a:xfrm>
            <a:off x="0" y="0"/>
            <a:ext cx="40179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179280" y="1217880"/>
            <a:ext cx="8785440" cy="76428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近年来，北京新修了许多条宽阔的快速干道，一座座高大的立交桥，成了北京又一道风景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250920" y="4491720"/>
            <a:ext cx="8713800" cy="764280"/>
          </a:xfrm>
          <a:prstGeom prst="rect">
            <a:avLst/>
          </a:prstGeom>
          <a:solidFill>
            <a:srgbClr val="ffcc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道路两旁，一座座崭新的高楼大厦像树林一样排列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X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092400"/>
            <a:ext cx="914400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755640" y="1651320"/>
            <a:ext cx="7667640" cy="1434600"/>
          </a:xfrm>
          <a:prstGeom prst="rect">
            <a:avLst/>
          </a:prstGeom>
          <a:solidFill>
            <a:srgbClr val="0000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年不到北京，再去北京看看，就会发现，北京的变化真大呀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3" descr="X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5084640"/>
            <a:ext cx="622764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k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WordArt 5"/>
          <p:cNvSpPr txBox="1"/>
          <p:nvPr/>
        </p:nvSpPr>
        <p:spPr>
          <a:xfrm>
            <a:off x="1979640" y="1268280"/>
            <a:ext cx="4753080" cy="272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我会写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Line 4"/>
          <p:cNvSpPr/>
          <p:nvPr/>
        </p:nvSpPr>
        <p:spPr>
          <a:xfrm>
            <a:off x="4572000" y="3502080"/>
            <a:ext cx="0" cy="172728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5"/>
          <p:cNvGrpSpPr/>
          <p:nvPr/>
        </p:nvGrpSpPr>
        <p:grpSpPr>
          <a:xfrm>
            <a:off x="250920" y="3502080"/>
            <a:ext cx="8640720" cy="1727280"/>
            <a:chOff x="250920" y="3502080"/>
            <a:chExt cx="8640720" cy="1727280"/>
          </a:xfrm>
        </p:grpSpPr>
        <p:grpSp>
          <p:nvGrpSpPr>
            <p:cNvPr id="585" name="Group 6"/>
            <p:cNvGrpSpPr/>
            <p:nvPr/>
          </p:nvGrpSpPr>
          <p:grpSpPr>
            <a:xfrm>
              <a:off x="250920" y="3502080"/>
              <a:ext cx="8640720" cy="1727280"/>
              <a:chOff x="250920" y="3502080"/>
              <a:chExt cx="8640720" cy="1727280"/>
            </a:xfrm>
          </p:grpSpPr>
          <p:sp>
            <p:nvSpPr>
              <p:cNvPr id="586" name="Rectangle 7"/>
              <p:cNvSpPr/>
              <p:nvPr/>
            </p:nvSpPr>
            <p:spPr>
              <a:xfrm>
                <a:off x="250920" y="3502080"/>
                <a:ext cx="1727280" cy="1727280"/>
              </a:xfrm>
              <a:prstGeom prst="rect">
                <a:avLst/>
              </a:prstGeom>
              <a:solidFill>
                <a:srgbClr val="bbe0e3">
                  <a:alpha val="4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8"/>
              <p:cNvSpPr/>
              <p:nvPr/>
            </p:nvSpPr>
            <p:spPr>
              <a:xfrm>
                <a:off x="1979640" y="3502080"/>
                <a:ext cx="1727280" cy="1727280"/>
              </a:xfrm>
              <a:prstGeom prst="rect">
                <a:avLst/>
              </a:prstGeom>
              <a:solidFill>
                <a:srgbClr val="bbe0e3">
                  <a:alpha val="4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9"/>
              <p:cNvSpPr/>
              <p:nvPr/>
            </p:nvSpPr>
            <p:spPr>
              <a:xfrm>
                <a:off x="5435640" y="3502080"/>
                <a:ext cx="1727280" cy="1727280"/>
              </a:xfrm>
              <a:prstGeom prst="rect">
                <a:avLst/>
              </a:prstGeom>
              <a:solidFill>
                <a:srgbClr val="bbe0e3">
                  <a:alpha val="4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10"/>
              <p:cNvSpPr/>
              <p:nvPr/>
            </p:nvSpPr>
            <p:spPr>
              <a:xfrm>
                <a:off x="7164720" y="3502080"/>
                <a:ext cx="1726920" cy="1727280"/>
              </a:xfrm>
              <a:prstGeom prst="rect">
                <a:avLst/>
              </a:prstGeom>
              <a:solidFill>
                <a:srgbClr val="bbe0e3">
                  <a:alpha val="4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1"/>
              <p:cNvSpPr/>
              <p:nvPr/>
            </p:nvSpPr>
            <p:spPr>
              <a:xfrm>
                <a:off x="3706920" y="3502080"/>
                <a:ext cx="1727280" cy="1727280"/>
              </a:xfrm>
              <a:prstGeom prst="rect">
                <a:avLst/>
              </a:prstGeom>
              <a:solidFill>
                <a:srgbClr val="bbe0e3">
                  <a:alpha val="4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Line 12"/>
            <p:cNvSpPr/>
            <p:nvPr/>
          </p:nvSpPr>
          <p:spPr>
            <a:xfrm>
              <a:off x="1114560" y="3502080"/>
              <a:ext cx="0" cy="1727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3"/>
            <p:cNvSpPr/>
            <p:nvPr/>
          </p:nvSpPr>
          <p:spPr>
            <a:xfrm>
              <a:off x="8028360" y="3502080"/>
              <a:ext cx="0" cy="1727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4"/>
            <p:cNvSpPr/>
            <p:nvPr/>
          </p:nvSpPr>
          <p:spPr>
            <a:xfrm>
              <a:off x="6299280" y="3502080"/>
              <a:ext cx="0" cy="1727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5"/>
            <p:cNvSpPr/>
            <p:nvPr/>
          </p:nvSpPr>
          <p:spPr>
            <a:xfrm>
              <a:off x="2843280" y="3502080"/>
              <a:ext cx="0" cy="1727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6"/>
            <p:cNvSpPr/>
            <p:nvPr/>
          </p:nvSpPr>
          <p:spPr>
            <a:xfrm>
              <a:off x="250920" y="4365720"/>
              <a:ext cx="864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17"/>
          <p:cNvGrpSpPr/>
          <p:nvPr/>
        </p:nvGrpSpPr>
        <p:grpSpPr>
          <a:xfrm>
            <a:off x="250920" y="1125360"/>
            <a:ext cx="8640720" cy="1727280"/>
            <a:chOff x="250920" y="1125360"/>
            <a:chExt cx="8640720" cy="1727280"/>
          </a:xfrm>
        </p:grpSpPr>
        <p:grpSp>
          <p:nvGrpSpPr>
            <p:cNvPr id="597" name="Group 18"/>
            <p:cNvGrpSpPr/>
            <p:nvPr/>
          </p:nvGrpSpPr>
          <p:grpSpPr>
            <a:xfrm>
              <a:off x="250920" y="1125360"/>
              <a:ext cx="8640720" cy="1727280"/>
              <a:chOff x="250920" y="1125360"/>
              <a:chExt cx="8640720" cy="1727280"/>
            </a:xfrm>
          </p:grpSpPr>
          <p:sp>
            <p:nvSpPr>
              <p:cNvPr id="598" name="Rectangle 19"/>
              <p:cNvSpPr/>
              <p:nvPr/>
            </p:nvSpPr>
            <p:spPr>
              <a:xfrm>
                <a:off x="250920" y="1125360"/>
                <a:ext cx="1727280" cy="1727280"/>
              </a:xfrm>
              <a:prstGeom prst="rect">
                <a:avLst/>
              </a:prstGeom>
              <a:solidFill>
                <a:srgbClr val="bbe0e3">
                  <a:alpha val="4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20"/>
              <p:cNvSpPr/>
              <p:nvPr/>
            </p:nvSpPr>
            <p:spPr>
              <a:xfrm>
                <a:off x="1979640" y="1125360"/>
                <a:ext cx="1727280" cy="1727280"/>
              </a:xfrm>
              <a:prstGeom prst="rect">
                <a:avLst/>
              </a:prstGeom>
              <a:solidFill>
                <a:srgbClr val="bbe0e3">
                  <a:alpha val="4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21"/>
              <p:cNvSpPr/>
              <p:nvPr/>
            </p:nvSpPr>
            <p:spPr>
              <a:xfrm>
                <a:off x="5435640" y="1125360"/>
                <a:ext cx="1727280" cy="1727280"/>
              </a:xfrm>
              <a:prstGeom prst="rect">
                <a:avLst/>
              </a:prstGeom>
              <a:solidFill>
                <a:srgbClr val="bbe0e3">
                  <a:alpha val="4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22"/>
              <p:cNvSpPr/>
              <p:nvPr/>
            </p:nvSpPr>
            <p:spPr>
              <a:xfrm>
                <a:off x="7164720" y="1125360"/>
                <a:ext cx="1726920" cy="1727280"/>
              </a:xfrm>
              <a:prstGeom prst="rect">
                <a:avLst/>
              </a:prstGeom>
              <a:solidFill>
                <a:srgbClr val="bbe0e3">
                  <a:alpha val="4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3"/>
              <p:cNvSpPr/>
              <p:nvPr/>
            </p:nvSpPr>
            <p:spPr>
              <a:xfrm>
                <a:off x="3706920" y="1125360"/>
                <a:ext cx="1727280" cy="1727280"/>
              </a:xfrm>
              <a:prstGeom prst="rect">
                <a:avLst/>
              </a:prstGeom>
              <a:solidFill>
                <a:srgbClr val="bbe0e3">
                  <a:alpha val="4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" name="Line 24"/>
            <p:cNvSpPr/>
            <p:nvPr/>
          </p:nvSpPr>
          <p:spPr>
            <a:xfrm>
              <a:off x="1114560" y="1125360"/>
              <a:ext cx="0" cy="1727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25"/>
            <p:cNvSpPr/>
            <p:nvPr/>
          </p:nvSpPr>
          <p:spPr>
            <a:xfrm>
              <a:off x="8028360" y="1125360"/>
              <a:ext cx="0" cy="1727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26"/>
            <p:cNvSpPr/>
            <p:nvPr/>
          </p:nvSpPr>
          <p:spPr>
            <a:xfrm>
              <a:off x="6299280" y="1125360"/>
              <a:ext cx="0" cy="1727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27"/>
            <p:cNvSpPr/>
            <p:nvPr/>
          </p:nvSpPr>
          <p:spPr>
            <a:xfrm>
              <a:off x="2843280" y="1125360"/>
              <a:ext cx="0" cy="1727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28"/>
            <p:cNvSpPr/>
            <p:nvPr/>
          </p:nvSpPr>
          <p:spPr>
            <a:xfrm>
              <a:off x="250920" y="1989000"/>
              <a:ext cx="864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Line 29"/>
          <p:cNvSpPr/>
          <p:nvPr/>
        </p:nvSpPr>
        <p:spPr>
          <a:xfrm>
            <a:off x="4572000" y="1125360"/>
            <a:ext cx="0" cy="172728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0"/>
          <p:cNvSpPr/>
          <p:nvPr/>
        </p:nvSpPr>
        <p:spPr>
          <a:xfrm>
            <a:off x="713880" y="10526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1"/>
          <p:cNvSpPr/>
          <p:nvPr/>
        </p:nvSpPr>
        <p:spPr>
          <a:xfrm>
            <a:off x="4168080" y="10810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2"/>
          <p:cNvSpPr/>
          <p:nvPr/>
        </p:nvSpPr>
        <p:spPr>
          <a:xfrm>
            <a:off x="5825520" y="10810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3"/>
          <p:cNvSpPr/>
          <p:nvPr/>
        </p:nvSpPr>
        <p:spPr>
          <a:xfrm>
            <a:off x="7625880" y="10810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优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4"/>
          <p:cNvSpPr/>
          <p:nvPr/>
        </p:nvSpPr>
        <p:spPr>
          <a:xfrm>
            <a:off x="712080" y="34574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5"/>
          <p:cNvSpPr/>
          <p:nvPr/>
        </p:nvSpPr>
        <p:spPr>
          <a:xfrm>
            <a:off x="4096800" y="34574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6"/>
          <p:cNvSpPr/>
          <p:nvPr/>
        </p:nvSpPr>
        <p:spPr>
          <a:xfrm>
            <a:off x="2368080" y="10810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7"/>
          <p:cNvSpPr/>
          <p:nvPr/>
        </p:nvSpPr>
        <p:spPr>
          <a:xfrm>
            <a:off x="5825520" y="35020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8"/>
          <p:cNvSpPr/>
          <p:nvPr/>
        </p:nvSpPr>
        <p:spPr>
          <a:xfrm>
            <a:off x="7552800" y="35305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9"/>
          <p:cNvSpPr/>
          <p:nvPr/>
        </p:nvSpPr>
        <p:spPr>
          <a:xfrm>
            <a:off x="2512440" y="34574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8" descr="X63"/>
          <p:cNvPicPr/>
          <p:nvPr/>
        </p:nvPicPr>
        <p:blipFill>
          <a:blip r:embed="rId1"/>
          <a:stretch/>
        </p:blipFill>
        <p:spPr>
          <a:xfrm>
            <a:off x="-36360" y="299880"/>
            <a:ext cx="5448240" cy="5367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9" descr="X64"/>
          <p:cNvPicPr/>
          <p:nvPr/>
        </p:nvPicPr>
        <p:blipFill>
          <a:blip r:embed="rId2"/>
          <a:stretch/>
        </p:blipFill>
        <p:spPr>
          <a:xfrm>
            <a:off x="3003480" y="5359320"/>
            <a:ext cx="61056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碑文"/>
          <p:cNvPicPr/>
          <p:nvPr/>
        </p:nvPicPr>
        <p:blipFill>
          <a:blip r:embed="rId1"/>
          <a:stretch/>
        </p:blipFill>
        <p:spPr>
          <a:xfrm>
            <a:off x="826920" y="1197000"/>
            <a:ext cx="2306880" cy="41767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大会堂"/>
          <p:cNvPicPr/>
          <p:nvPr/>
        </p:nvPicPr>
        <p:blipFill>
          <a:blip r:embed="rId2"/>
          <a:stretch/>
        </p:blipFill>
        <p:spPr>
          <a:xfrm>
            <a:off x="3995640" y="404640"/>
            <a:ext cx="5148360" cy="28656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6" descr="长城"/>
          <p:cNvPicPr/>
          <p:nvPr/>
        </p:nvPicPr>
        <p:blipFill>
          <a:blip r:embed="rId3"/>
          <a:stretch/>
        </p:blipFill>
        <p:spPr>
          <a:xfrm>
            <a:off x="4067280" y="3665520"/>
            <a:ext cx="507672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4" descr="K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539" name="WordArt 5"/>
          <p:cNvSpPr txBox="1"/>
          <p:nvPr/>
        </p:nvSpPr>
        <p:spPr>
          <a:xfrm>
            <a:off x="1619280" y="2349360"/>
            <a:ext cx="47862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9933ff">
                        <a:alpha val="48235"/>
                      </a:srgbClr>
                    </a:gs>
                    <a:gs pos="100000">
                      <a:srgbClr val="cf9e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琥珀"/>
              </a:rPr>
              <a:t>北京</a:t>
            </a:r>
            <a:endParaRPr b="1" lang="en-US" sz="1800" spc="1" strike="noStrike">
              <a:ln w="1260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9933ff">
                      <a:alpha val="48235"/>
                    </a:srgbClr>
                  </a:gs>
                  <a:gs pos="100000">
                    <a:srgbClr val="cf9e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5824080" y="612468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长沙市燕山小学   李妹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827280" y="3816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人教版实验教材小学语文第三册第十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X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134040"/>
            <a:ext cx="9144000" cy="72396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8"/>
          <p:cNvGrpSpPr/>
          <p:nvPr/>
        </p:nvGrpSpPr>
        <p:grpSpPr>
          <a:xfrm>
            <a:off x="818640" y="4869000"/>
            <a:ext cx="6406560" cy="1312920"/>
            <a:chOff x="818640" y="4869000"/>
            <a:chExt cx="6406560" cy="1312920"/>
          </a:xfrm>
        </p:grpSpPr>
        <p:sp>
          <p:nvSpPr>
            <p:cNvPr id="544" name="Text Box 5"/>
            <p:cNvSpPr/>
            <p:nvPr/>
          </p:nvSpPr>
          <p:spPr>
            <a:xfrm>
              <a:off x="818640" y="48690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9933ff"/>
                  </a:solidFill>
                  <a:latin typeface="Arial"/>
                  <a:ea typeface="方正舒体"/>
                </a:rPr>
                <a:t>我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6"/>
            <p:cNvSpPr/>
            <p:nvPr/>
          </p:nvSpPr>
          <p:spPr>
            <a:xfrm>
              <a:off x="3555360" y="48690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9933ff"/>
                  </a:solidFill>
                  <a:latin typeface="Arial"/>
                  <a:ea typeface="方正舒体"/>
                </a:rPr>
                <a:t>会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7"/>
            <p:cNvSpPr/>
            <p:nvPr/>
          </p:nvSpPr>
          <p:spPr>
            <a:xfrm>
              <a:off x="6435000" y="4869000"/>
              <a:ext cx="79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9933ff"/>
                  </a:solidFill>
                  <a:latin typeface="Arial"/>
                  <a:ea typeface="方正舒体"/>
                </a:rPr>
                <a:t>读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Text Box 9"/>
          <p:cNvSpPr/>
          <p:nvPr/>
        </p:nvSpPr>
        <p:spPr>
          <a:xfrm>
            <a:off x="250920" y="954000"/>
            <a:ext cx="8569080" cy="3416040"/>
          </a:xfrm>
          <a:prstGeom prst="rect">
            <a:avLst/>
          </a:prstGeom>
          <a:solidFill>
            <a:srgbClr val="00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央    瓦片  庄严  宽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纪念碑  四周  似的  拼成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案    花坛  古迹  大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1000" autoRev="1" fill="hold"/>
                                        <p:tgtEl>
                                          <p:spTgt spid="5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310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33ff"/>
                </a:solidFill>
                <a:latin typeface="Arial"/>
                <a:ea typeface="方正舒体"/>
              </a:rPr>
              <a:t>摘白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1" descr="X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515280"/>
            <a:ext cx="4572000" cy="34272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5"/>
          <p:cNvSpPr/>
          <p:nvPr/>
        </p:nvSpPr>
        <p:spPr>
          <a:xfrm>
            <a:off x="0" y="1484280"/>
            <a:ext cx="2089080" cy="1079640"/>
          </a:xfrm>
          <a:prstGeom prst="cloudCallout">
            <a:avLst>
              <a:gd name="adj1" fmla="val -19300"/>
              <a:gd name="adj2" fmla="val 105439"/>
            </a:avLst>
          </a:prstGeom>
          <a:solidFill>
            <a:srgbClr val="ffffff">
              <a:alpha val="27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6"/>
          <p:cNvSpPr/>
          <p:nvPr/>
        </p:nvSpPr>
        <p:spPr>
          <a:xfrm>
            <a:off x="3924360" y="3357720"/>
            <a:ext cx="2089080" cy="1079280"/>
          </a:xfrm>
          <a:prstGeom prst="cloudCallout">
            <a:avLst>
              <a:gd name="adj1" fmla="val -66259"/>
              <a:gd name="adj2" fmla="val 49115"/>
            </a:avLst>
          </a:prstGeom>
          <a:solidFill>
            <a:srgbClr val="ffffff">
              <a:alpha val="17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950760" y="228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1095480" y="408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0"/>
          <p:cNvSpPr/>
          <p:nvPr/>
        </p:nvSpPr>
        <p:spPr>
          <a:xfrm>
            <a:off x="6443640" y="2565360"/>
            <a:ext cx="2089080" cy="1079640"/>
          </a:xfrm>
          <a:prstGeom prst="cloudCallout">
            <a:avLst>
              <a:gd name="adj1" fmla="val -66259"/>
              <a:gd name="adj2" fmla="val 49115"/>
            </a:avLst>
          </a:prstGeom>
          <a:solidFill>
            <a:srgbClr val="ffffff">
              <a:alpha val="27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1"/>
          <p:cNvSpPr/>
          <p:nvPr/>
        </p:nvSpPr>
        <p:spPr>
          <a:xfrm>
            <a:off x="7054920" y="1052640"/>
            <a:ext cx="2089080" cy="1079280"/>
          </a:xfrm>
          <a:prstGeom prst="cloudCallout">
            <a:avLst>
              <a:gd name="adj1" fmla="val 40425"/>
              <a:gd name="adj2" fmla="val 83824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2"/>
          <p:cNvSpPr/>
          <p:nvPr/>
        </p:nvSpPr>
        <p:spPr>
          <a:xfrm>
            <a:off x="3708360" y="0"/>
            <a:ext cx="2089080" cy="1079640"/>
          </a:xfrm>
          <a:prstGeom prst="cloudCallout">
            <a:avLst>
              <a:gd name="adj1" fmla="val -59421"/>
              <a:gd name="adj2" fmla="val 61912"/>
            </a:avLst>
          </a:prstGeom>
          <a:solidFill>
            <a:srgbClr val="ffffff">
              <a:alpha val="27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13"/>
          <p:cNvSpPr/>
          <p:nvPr/>
        </p:nvSpPr>
        <p:spPr>
          <a:xfrm>
            <a:off x="6372360" y="0"/>
            <a:ext cx="2089080" cy="1079640"/>
          </a:xfrm>
          <a:prstGeom prst="cloudCallout">
            <a:avLst>
              <a:gd name="adj1" fmla="val -59347"/>
              <a:gd name="adj2" fmla="val 66615"/>
            </a:avLst>
          </a:prstGeom>
          <a:solidFill>
            <a:srgbClr val="ffffff">
              <a:alpha val="27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4"/>
          <p:cNvSpPr/>
          <p:nvPr/>
        </p:nvSpPr>
        <p:spPr>
          <a:xfrm>
            <a:off x="1187280" y="2997360"/>
            <a:ext cx="2089440" cy="1079280"/>
          </a:xfrm>
          <a:prstGeom prst="cloudCallout">
            <a:avLst>
              <a:gd name="adj1" fmla="val -47111"/>
              <a:gd name="adj2" fmla="val 68236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5"/>
          <p:cNvSpPr/>
          <p:nvPr/>
        </p:nvSpPr>
        <p:spPr>
          <a:xfrm>
            <a:off x="2340000" y="1413000"/>
            <a:ext cx="2089080" cy="1079280"/>
          </a:xfrm>
          <a:prstGeom prst="cloudCallout">
            <a:avLst>
              <a:gd name="adj1" fmla="val -14587"/>
              <a:gd name="adj2" fmla="val 82500"/>
            </a:avLst>
          </a:prstGeom>
          <a:solidFill>
            <a:srgbClr val="ffffff">
              <a:alpha val="8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6"/>
          <p:cNvSpPr/>
          <p:nvPr/>
        </p:nvSpPr>
        <p:spPr>
          <a:xfrm>
            <a:off x="6588000" y="3716280"/>
            <a:ext cx="2089440" cy="1079640"/>
          </a:xfrm>
          <a:prstGeom prst="cloudCallout">
            <a:avLst>
              <a:gd name="adj1" fmla="val -20518"/>
              <a:gd name="adj2" fmla="val 67060"/>
            </a:avLst>
          </a:prstGeom>
          <a:solidFill>
            <a:srgbClr val="ffffff">
              <a:alpha val="72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7"/>
          <p:cNvSpPr/>
          <p:nvPr/>
        </p:nvSpPr>
        <p:spPr>
          <a:xfrm>
            <a:off x="2484360" y="4653000"/>
            <a:ext cx="2089080" cy="1079640"/>
          </a:xfrm>
          <a:prstGeom prst="cloudCallout">
            <a:avLst>
              <a:gd name="adj1" fmla="val 68921"/>
              <a:gd name="adj2" fmla="val -61763"/>
            </a:avLst>
          </a:prstGeom>
          <a:solidFill>
            <a:srgbClr val="ffffff">
              <a:alpha val="65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8"/>
          <p:cNvSpPr/>
          <p:nvPr/>
        </p:nvSpPr>
        <p:spPr>
          <a:xfrm>
            <a:off x="179280" y="4365720"/>
            <a:ext cx="2089080" cy="1079280"/>
          </a:xfrm>
          <a:prstGeom prst="cloudCallout">
            <a:avLst>
              <a:gd name="adj1" fmla="val 14819"/>
              <a:gd name="adj2" fmla="val 74560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9"/>
          <p:cNvSpPr/>
          <p:nvPr/>
        </p:nvSpPr>
        <p:spPr>
          <a:xfrm>
            <a:off x="4932360" y="4870440"/>
            <a:ext cx="2089080" cy="1079640"/>
          </a:xfrm>
          <a:prstGeom prst="cloudCallout">
            <a:avLst>
              <a:gd name="adj1" fmla="val -39287"/>
              <a:gd name="adj2" fmla="val 65439"/>
            </a:avLst>
          </a:prstGeom>
          <a:solidFill>
            <a:srgbClr val="ffffff">
              <a:alpha val="9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20"/>
          <p:cNvSpPr/>
          <p:nvPr/>
        </p:nvSpPr>
        <p:spPr>
          <a:xfrm>
            <a:off x="4427640" y="1773360"/>
            <a:ext cx="2089080" cy="1079280"/>
          </a:xfrm>
          <a:prstGeom prst="cloudCallout">
            <a:avLst>
              <a:gd name="adj1" fmla="val -2736"/>
              <a:gd name="adj2" fmla="val 63384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3" descr="X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6515280"/>
            <a:ext cx="45720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95" nodeType="clickEffect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6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4" descr="tian"/>
          <p:cNvPicPr/>
          <p:nvPr/>
        </p:nvPicPr>
        <p:blipFill>
          <a:blip r:embed="rId1"/>
          <a:stretch/>
        </p:blipFill>
        <p:spPr>
          <a:xfrm>
            <a:off x="1908000" y="0"/>
            <a:ext cx="5651640" cy="378612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12"/>
          <p:cNvSpPr/>
          <p:nvPr/>
        </p:nvSpPr>
        <p:spPr>
          <a:xfrm>
            <a:off x="287280" y="4937400"/>
            <a:ext cx="8893080" cy="764280"/>
          </a:xfrm>
          <a:prstGeom prst="rect">
            <a:avLst/>
          </a:prstGeom>
          <a:solidFill>
            <a:srgbClr val="ffff99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安门在北京城的中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央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红墙、黄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瓦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又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庄严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又美丽。天安门前面是宽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阔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广场。广场中间矗立着人民英雄纪念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碑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4" descr="lijiao"/>
          <p:cNvPicPr/>
          <p:nvPr/>
        </p:nvPicPr>
        <p:blipFill>
          <a:blip r:embed="rId1"/>
          <a:stretch/>
        </p:blipFill>
        <p:spPr>
          <a:xfrm>
            <a:off x="1187280" y="3213000"/>
            <a:ext cx="6301080" cy="261936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5"/>
          <p:cNvSpPr/>
          <p:nvPr/>
        </p:nvSpPr>
        <p:spPr>
          <a:xfrm>
            <a:off x="1418760" y="906840"/>
            <a:ext cx="6014160" cy="1434600"/>
          </a:xfrm>
          <a:prstGeom prst="rect">
            <a:avLst/>
          </a:prstGeom>
          <a:solidFill>
            <a:srgbClr val="ccffcc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立交桥的四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有绿毯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草坪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拼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成图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花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4"/>
          <p:cNvSpPr/>
          <p:nvPr/>
        </p:nvSpPr>
        <p:spPr>
          <a:xfrm>
            <a:off x="250920" y="427320"/>
            <a:ext cx="8642160" cy="1434600"/>
          </a:xfrm>
          <a:prstGeom prst="rect">
            <a:avLst/>
          </a:prstGeom>
          <a:solidFill>
            <a:srgbClr val="ff99cc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北京是著名的旅游城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北京有许多名胜古迹和公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X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349360"/>
            <a:ext cx="9144000" cy="48132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6"/>
          <p:cNvSpPr/>
          <p:nvPr/>
        </p:nvSpPr>
        <p:spPr>
          <a:xfrm>
            <a:off x="252360" y="4378680"/>
            <a:ext cx="8567640" cy="764280"/>
          </a:xfrm>
          <a:prstGeom prst="rect">
            <a:avLst/>
          </a:prstGeom>
          <a:solidFill>
            <a:srgbClr val="cc99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举世闻名的天安门城楼和天安门广场位于北京城的中央，毛泽东主席题词、周恩来总理书写碑文的人民英雄纪念碑，庄严地矗立在天安门广场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216000" y="1194120"/>
            <a:ext cx="8677080" cy="764280"/>
          </a:xfrm>
          <a:prstGeom prst="rect">
            <a:avLst/>
          </a:prstGeom>
          <a:solidFill>
            <a:srgbClr val="00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长城、十三陵、颐和园、故宫、北海公园等都是北京有名的风景名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3" descr="X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092400"/>
            <a:ext cx="9144000" cy="48096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4"/>
          <p:cNvSpPr/>
          <p:nvPr/>
        </p:nvSpPr>
        <p:spPr>
          <a:xfrm>
            <a:off x="250920" y="4491360"/>
            <a:ext cx="8713800" cy="764280"/>
          </a:xfrm>
          <a:prstGeom prst="rect">
            <a:avLst/>
          </a:prstGeom>
          <a:solidFill>
            <a:srgbClr val="ffff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北京还有天坛、地坛、日坛、月坛以及新建的中华世纪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3:36:13Z</dcterms:created>
  <dc:creator>ray</dc:creator>
  <dc:description/>
  <dc:language>en-US</dc:language>
  <cp:lastModifiedBy>a</cp:lastModifiedBy>
  <dcterms:modified xsi:type="dcterms:W3CDTF">2015-03-17T05:34:28Z</dcterms:modified>
  <cp:revision>6</cp:revision>
  <dc:subject/>
  <dc:title>幻灯片 1</dc:title>
</cp:coreProperties>
</file>