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BB40-C54B-498D-8E44-98A6958B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ADCD-AC7A-4B26-8E6A-AA2B31D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799A-DFE3-4DF5-8DEB-19BF970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9889-1E51-47DB-BCAF-D015BC3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F361-F52F-4CCD-A23D-53CF31E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E214-4324-444F-B38A-4F61DE5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38C9-DBCB-4AFD-ACFB-5CC0629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02A9-7B23-419D-932B-07928C9C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DFC5-538F-4F2C-A8E1-AC2B21C0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1C25-CD26-47EE-818C-92E44AD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47D2-0675-4B59-BADD-A48127D8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13F1-0EFD-43D0-9FC1-2ACCADA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A8B4-0D4C-4945-B0B6-D59D0D63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C154-0249-4FC0-9371-334FA8F6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B468-CB40-45FE-8FA4-164F162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50CE-3119-4391-9F30-F503983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2B5C-07CB-4A37-9BE3-9291B93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8FB7-B084-4F6B-9EB0-E408603E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8BDA-FA79-4F54-9F3F-7C48A970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2D36-C0C1-45CA-BCFA-730167D0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B34E-1072-4D73-8F6D-F0A57E3F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26BB-2A84-4C25-AF53-9E53D6E4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938F-79FD-45DD-8E23-B6ED2BE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53EB-153F-4607-8547-CE3808FD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7F12-4055-4B32-A51D-11DB0C5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9000A-F394-4AD8-9897-14C34B2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EEA5-8833-4DD6-9486-C74D815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3FC6-120B-40ED-B696-CFD5F728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1ED6-C28A-4E55-9692-64CB181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C6A2-4609-4CDB-A5B5-0FABA84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F35-D1C6-4ADD-B1BA-519FD15A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90AF-76E4-4492-B22A-897FB92D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64F5-6AF0-456A-87BD-496B98A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C11C-E763-4B4F-9062-5E124161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DBF9-5AF6-4262-B604-B9E99FB5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C7C6-8AC3-4704-813B-6327E139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826D2-DE07-47E5-B896-54DDBD6A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4A4E-FB90-4A7D-AE06-22813FBC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56CC4-AEBA-4223-B9BD-6FDABBD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109E-21E6-4C1A-9E51-BCE6592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284B-587E-49F6-9363-DDEA343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B6-4BB0-4901-BD79-4087D82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0F88-0F98-45DB-B25D-BE4EDD2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5872-68C4-49E1-BD60-123551F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DD43-0062-48F5-AB4A-AEC336B3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FDA0-C282-45E7-B971-EB33DD71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459D-336D-4890-84A6-4316BE87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54C0-1BCF-420B-84EB-B6249D35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D50AE-9018-4BF4-B465-9E0AD3D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D499-9676-44AE-8DF5-B6649E4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88BAC-1346-4279-9A73-3C716BA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5D69-6DB6-416A-B599-D2D8D6F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E49-47F2-4E6D-A468-A7E254BD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25E6-EA7B-4167-AD79-92533F45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AD05-7EEC-440B-926E-46A655F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DD123-5721-46F3-9F6C-9DC6290A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CAC33-F1E6-466B-9DB2-082DCBD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F2CE-C856-4B0E-8CAD-774C7375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8C01-562A-4D8E-9FE1-4031E859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0A50A-C058-4187-B4AA-6C09B9F1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2CFE-B3DB-4F2E-8D0F-22A46FF4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EC53-9C6C-4D40-A619-A0D93536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E9E47-55C1-4B24-B9CA-D7853E2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EF3-8664-480C-98DB-EEB371AF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68E1-AF57-45EF-BF05-B789E254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C4D1-1F0B-4984-BDF6-4608F480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C463-5E4F-44DF-A3CB-41C464AC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B0BC-801A-4D3B-A6B2-931D4A4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A6B8-EC1D-4692-8E90-C4E2B107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E251-DE30-4F0F-B253-ED385D5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A029-692B-4354-89C6-6E08E707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DDE1-80D1-4B02-B199-501FCFA5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449B3-C8B7-4E92-B399-7A263B54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AC75C-BE3A-4117-AF63-1B574CFB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22F-8B3A-47B0-8809-CBC97C5B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CBF1E-2464-447D-B1F0-9563AC1F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95CAF-9A61-4169-BB3F-4329FB11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8F17-C3E8-458A-840E-79E50F0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CAC6E-3977-4009-95A9-4812FB0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3C76-82FA-453C-A913-D4DF981F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FD6DD-638D-4B7C-B074-D0FE4469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79978-0195-4338-9621-59D8794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DDCD-BDE3-4B6E-BBE2-25FF05B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FDD19-87FD-47FE-9318-8C96384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1C90C-B1EA-4901-A641-79FFEE79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A4E-7D7A-41E9-8081-D2DA08D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E4EA7-25C1-4F18-BBA0-3F59F011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44F74-BFCF-4C58-9895-26192656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3CFE2-224A-4AB6-9D29-1517FF01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92835-7949-4D5E-BFA2-6B93071A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5849E-C4E1-4C56-ADF9-DF03E846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C7A83-3A9C-4ECE-81BA-6190026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5D8B5-8B26-4CA1-BE0D-05EF9DF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57080-6286-4502-99E7-008D1B2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AE106-D078-411E-9F4A-3B3024F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63611-EB11-4CF7-B796-BB1EE9D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357-B5C7-4A35-9352-D0F9C28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663B-B902-43EF-AB40-239C5445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D9A5-0F37-468B-A750-22F93B89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C99D2-B2D0-4AC5-AAF9-3787BFFB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F8C2C-90EB-49A0-B3BF-4261E80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339B0-8AA6-44D1-A30F-72F53722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DBF9-2C18-45ED-A633-6433F01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E6AE5-D740-4B52-8732-DD24AD7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D1220-EF96-475C-A0D1-0804686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5AF13-648A-43F6-AA32-60D70A5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09CA5-53D1-46C5-9372-8D53BBE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70C-D297-46DF-A0CF-FA11DCC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DD3F-3F07-4ED7-9A64-84C779D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8BF81-7F5D-4F89-9740-53D7813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E1AEF-38CA-4FCC-A529-E9C383FA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FBF27-1944-416B-B189-E6CF5258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4FCA-5422-4792-8416-58437953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0CF69-5CB8-47CF-B6E7-18BEB409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FF28-7A1B-4EEB-8D38-14AE77B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A655A-46E2-4E3E-9EE4-9D3A8DE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CDDC4-4FA6-4D26-9D10-7235817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1F05A-B142-4165-998C-05D4262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C85-7853-43C1-B8A3-B75D0FE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5540D-0778-45E3-9562-36D9DB5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BBC9D-1BF3-4766-8212-95553709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00CE3-60E5-4599-84C3-262F4C4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45123-7B22-4F7C-9CD1-92555B1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74E6D-4613-403E-9C10-395E891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B8C6-0222-4D4F-A6A2-A950A28C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78D11-C2B5-4A03-8543-DC5DC15C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75F-01E4-47D0-A24A-5AD1DBB3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4DD-75F3-4BD8-828D-BCDB1656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EF6-908E-4B93-8859-FF341473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A723-0A39-4440-BB5A-D985BE6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5B9-D6FE-42DF-9628-71780D8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993-A193-4D8C-A681-501C985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A56-26BB-4985-89B7-1267608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3E76-7E41-4576-B99B-C58E9FB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9E11-00C3-4ED1-BC44-A9D0422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CC12-122D-45D1-93CF-80D7E48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EA39-C19A-4878-A80F-4698787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A20-D939-4A88-9412-30BBBB2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7521-784E-4922-9512-2885528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176-E2E2-4A2C-9881-28A07A90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3CF-97D5-4A15-8208-926FF37F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1DDC-EE80-4841-865E-1AA391A7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4388-56CB-4BDC-AB33-BAB004A3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E5AB-D718-41BA-80E5-3C2C392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92DB-95AB-4FD9-915B-64087D00AD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3F9-C9AF-4AF8-AA1A-399975430F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3FB0-B131-4104-BEEC-55813D84A6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6FE-7D03-4D86-A9BC-20A950F38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CBCB-7ECA-4FCC-8083-5641CCCA4F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8AC-94F2-45EA-BF0F-25AB354D6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435-3036-47BA-92CE-F3DADAAA27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A54-A165-47FB-835E-95D0C3910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DE39-E858-4441-AC5A-CCAFDBBA62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781-0AE2-4428-96E7-286D904FD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9798-CD9E-4E5E-83F9-A89755AC11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A0B2-5F21-4375-8162-73134FB24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5BA6-7C23-4376-9981-965BD3DD95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A8D-208B-4E98-8D67-7A32FC73F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C28-CCC1-49AE-BF00-8AD90F83C9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F78E-A191-49E8-A601-7327CC994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967-B561-4CA2-8189-BFE201A4DC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276E-AC0C-412A-945F-64B1569B2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4C3A-02B6-4719-9A8D-AAFF663D1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D97-EFC0-4905-A336-64D5B8162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43"/>
          <p:cNvGrpSpPr/>
          <p:nvPr/>
        </p:nvGrpSpPr>
        <p:grpSpPr>
          <a:xfrm>
            <a:off x="955800" y="1762200"/>
            <a:ext cx="2606040" cy="2442600"/>
            <a:chOff x="955800" y="1762200"/>
            <a:chExt cx="2606040" cy="2442600"/>
          </a:xfrm>
        </p:grpSpPr>
        <p:sp>
          <p:nvSpPr>
            <p:cNvPr id="165" name="Freeform 44"/>
            <p:cNvSpPr/>
            <p:nvPr/>
          </p:nvSpPr>
          <p:spPr>
            <a:xfrm>
              <a:off x="989280" y="2000880"/>
              <a:ext cx="2572560" cy="2203920"/>
            </a:xfrm>
            <a:custGeom>
              <a:avLst/>
              <a:gdLst>
                <a:gd name="textAreaLeft" fmla="*/ 0 w 2572560"/>
                <a:gd name="textAreaRight" fmla="*/ 2572920 w 2572560"/>
                <a:gd name="textAreaTop" fmla="*/ 0 h 2203920"/>
                <a:gd name="textAreaBottom" fmla="*/ 2204280 h 220392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45"/>
            <p:cNvSpPr/>
            <p:nvPr/>
          </p:nvSpPr>
          <p:spPr>
            <a:xfrm>
              <a:off x="955800" y="2000880"/>
              <a:ext cx="2547000" cy="215280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46"/>
            <p:cNvGrpSpPr/>
            <p:nvPr/>
          </p:nvGrpSpPr>
          <p:grpSpPr>
            <a:xfrm>
              <a:off x="1943280" y="1762200"/>
              <a:ext cx="534960" cy="511920"/>
              <a:chOff x="1943280" y="1762200"/>
              <a:chExt cx="534960" cy="511920"/>
            </a:xfrm>
          </p:grpSpPr>
          <p:sp>
            <p:nvSpPr>
              <p:cNvPr id="168" name="Line 47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48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9"/>
              <p:cNvSpPr/>
              <p:nvPr/>
            </p:nvSpPr>
            <p:spPr>
              <a:xfrm>
                <a:off x="1950120" y="2092680"/>
                <a:ext cx="188280" cy="18144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0"/>
              <p:cNvSpPr/>
              <p:nvPr/>
            </p:nvSpPr>
            <p:spPr>
              <a:xfrm>
                <a:off x="1943280" y="1901160"/>
                <a:ext cx="394200" cy="35820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1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2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3"/>
              <p:cNvSpPr/>
              <p:nvPr/>
            </p:nvSpPr>
            <p:spPr>
              <a:xfrm>
                <a:off x="2169360" y="1762200"/>
                <a:ext cx="300240" cy="28116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54"/>
              <p:cNvSpPr/>
              <p:nvPr/>
            </p:nvSpPr>
            <p:spPr>
              <a:xfrm>
                <a:off x="2145960" y="1762200"/>
                <a:ext cx="323640" cy="2865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55"/>
              <p:cNvSpPr/>
              <p:nvPr/>
            </p:nvSpPr>
            <p:spPr>
              <a:xfrm>
                <a:off x="2163960" y="1812960"/>
                <a:ext cx="260280" cy="23688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56"/>
              <p:cNvSpPr/>
              <p:nvPr/>
            </p:nvSpPr>
            <p:spPr>
              <a:xfrm>
                <a:off x="2154960" y="18129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57"/>
              <p:cNvSpPr/>
              <p:nvPr/>
            </p:nvSpPr>
            <p:spPr>
              <a:xfrm>
                <a:off x="2156400" y="1762200"/>
                <a:ext cx="321840" cy="28656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80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sp>
            <p:nvSpPr>
              <p:cNvPr id="183" name="Line 88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89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85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228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0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478-819A-461D-AB98-4A9CB96C84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A59B-925F-4161-A24F-3E6F727A6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494-E3F7-4C0A-A156-4901FAC578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E08-A5B4-4A3B-90DD-FBED072CDF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770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859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895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3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904" name="椭圆 1"/>
            <p:cNvSpPr/>
            <p:nvPr/>
          </p:nvSpPr>
          <p:spPr>
            <a:xfrm>
              <a:off x="1315080" y="2088360"/>
              <a:ext cx="318240" cy="3211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椭圆 2"/>
            <p:cNvGrpSpPr/>
            <p:nvPr/>
          </p:nvGrpSpPr>
          <p:grpSpPr>
            <a:xfrm>
              <a:off x="1214280" y="1987560"/>
              <a:ext cx="520920" cy="520560"/>
              <a:chOff x="1214280" y="1987560"/>
              <a:chExt cx="520920" cy="520560"/>
            </a:xfrm>
          </p:grpSpPr>
          <p:pic>
            <p:nvPicPr>
              <p:cNvPr id="906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4280" y="1987560"/>
                <a:ext cx="520920" cy="52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1323000" y="2096280"/>
                <a:ext cx="30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8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0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911" name="椭圆 15"/>
            <p:cNvSpPr/>
            <p:nvPr/>
          </p:nvSpPr>
          <p:spPr>
            <a:xfrm>
              <a:off x="1315080" y="3065400"/>
              <a:ext cx="318240" cy="3189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2" name="椭圆 16"/>
            <p:cNvGrpSpPr/>
            <p:nvPr/>
          </p:nvGrpSpPr>
          <p:grpSpPr>
            <a:xfrm>
              <a:off x="1214280" y="2963880"/>
              <a:ext cx="520920" cy="519120"/>
              <a:chOff x="1214280" y="2963880"/>
              <a:chExt cx="520920" cy="519120"/>
            </a:xfrm>
          </p:grpSpPr>
          <p:pic>
            <p:nvPicPr>
              <p:cNvPr id="913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4280" y="296388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1323000" y="3072960"/>
                <a:ext cx="302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5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918" name="椭圆 20"/>
            <p:cNvSpPr/>
            <p:nvPr/>
          </p:nvSpPr>
          <p:spPr>
            <a:xfrm>
              <a:off x="1315080" y="4077720"/>
              <a:ext cx="318240" cy="31608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9" name="椭圆 21"/>
            <p:cNvGrpSpPr/>
            <p:nvPr/>
          </p:nvGrpSpPr>
          <p:grpSpPr>
            <a:xfrm>
              <a:off x="1214280" y="3976560"/>
              <a:ext cx="520920" cy="519120"/>
              <a:chOff x="1214280" y="3976560"/>
              <a:chExt cx="520920" cy="519120"/>
            </a:xfrm>
          </p:grpSpPr>
          <p:pic>
            <p:nvPicPr>
              <p:cNvPr id="920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4280" y="397656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1" name=""/>
              <p:cNvSpPr/>
              <p:nvPr/>
            </p:nvSpPr>
            <p:spPr>
              <a:xfrm>
                <a:off x="1323000" y="4085280"/>
                <a:ext cx="3024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22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Box 10" descr=""/>
          <p:cNvPicPr/>
          <p:nvPr/>
        </p:nvPicPr>
        <p:blipFill>
          <a:blip r:embed="rId4"/>
          <a:stretch/>
        </p:blipFill>
        <p:spPr>
          <a:xfrm>
            <a:off x="914400" y="1322280"/>
            <a:ext cx="76500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773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5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777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781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785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7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矩形 4">
            <a:hlinkClick r:id="rId1" action="ppaction://hlinksldjump"/>
          </p:cNvPr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93">
            <a:hlinkClick r:id="rId2" action="ppaction://hlinksldjump"/>
          </p:cNvPr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94">
            <a:hlinkClick r:id="rId3" action="ppaction://hlinksldjump"/>
          </p:cNvPr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95">
            <a:hlinkClick r:id="rId4" action="ppaction://hlinksldjump"/>
          </p:cNvPr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833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4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6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50Z</dcterms:created>
  <dc:creator>张奔</dc:creator>
  <dc:description/>
  <cp:keywords>信工学院</cp:keywords>
  <dc:language>en-US</dc:language>
  <cp:lastModifiedBy>a</cp:lastModifiedBy>
  <dcterms:modified xsi:type="dcterms:W3CDTF">2015-03-17T05:55:01Z</dcterms:modified>
  <cp:revision>69</cp:revision>
  <dc:subject/>
  <dc:title>PowerPoint 演示文稿</dc:title>
</cp:coreProperties>
</file>