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gif" ContentType="image/gif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CBA-EDDC-478F-852A-F94744DF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F55-AB15-4337-A29F-08ED6725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3C47A-C8A9-428A-8F47-6E369F6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4E778-AC6D-4150-A001-B52A056C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6004A-DAF2-4332-BFCC-5D4A96F0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F644A-F61D-4B39-AF0C-E2A9EAED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01E69-5972-4743-A2C3-3A1D954A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4E1DF-F08F-4DE2-997A-438C0081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4B0DD-B06D-4A86-B292-09997F39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6F44E-BD33-4E36-9A7A-4E55C5D2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88B5B-FA06-497C-945F-555CF6A6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C45AB-57BE-4800-B3FE-E8347CFD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D4F-E93E-44DA-948E-0CBAF625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AF7CB-6BC4-471E-B64E-2837362F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D3FD1-A140-4751-AB46-CB96AAF8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5D92F-C2BC-4944-92DE-8603AE4C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9A035-8B23-43F2-89D1-70A13950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54F89-7826-40BC-875B-00E31588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A4C17-9016-481C-A0F2-819672FA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0D0E1-F8B7-4B6E-9A0B-F5FD6608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7BED2-4B35-47ED-9560-303AB691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33437-692C-4FCE-A1AA-544D5DA3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366EA-5174-4535-824F-646C0933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6E4-B1E9-472C-9383-816D6FB7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06FFD-97C6-402A-B0CD-B8B8C710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F7BF0-B3E3-4626-939B-065476E9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EC381-148A-47D7-B262-EF2665B7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087DF-C45C-4511-8762-676CD87E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EE9D4-C1AB-4CB7-B3A5-6478BCF6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AF19C-C5AA-437A-8A9B-8BD45E8B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493E1-6533-48E7-AED3-1CE265A3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9C289-9149-4FD2-85D9-7309A1A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32912-7E97-4663-B1A7-2943F72E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B891E-582C-4756-9064-41E66ADD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DA89-A87B-422D-81AF-DD3050D3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95AE8-6CFD-4D9C-8CE0-0F78B8E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B3CA4-F4E5-413F-BBDD-984440C5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E27F1-4D6E-42DA-993C-652E62B2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4135D-378A-44D9-BB17-C73EC188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24E1C-2C7F-4A31-BAD9-A455E096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EC49B-0E87-4278-BBB6-B3614F9D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4BB55-6BEA-405E-A612-5818F701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F038B-EEC0-4E0C-9472-9B3338DE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D2051-313F-417F-9AAE-CED22827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F79E6-7530-44F2-BD4B-956CC3E2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86A4-ECF3-4FAE-B377-4F7B1D0F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72A1E-D910-4108-91BC-882ACC3B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3DA14-ECFA-403E-95E4-564FF3BB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78645-17EF-4929-B3C3-0100D75A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7E190-1473-40DD-96DD-C3D0A361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5DF9F-7B96-478C-8686-B5D29853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378AA-A053-4572-853C-966C2F6F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44589-013F-4D34-AFEB-77238061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4BCD9-8AEB-4EA4-AABA-A45B2D5C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1FFB0-E137-4337-B1A4-82620083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8DF06-A2BE-4503-8BF6-94F8EDE9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59A1-D7AD-4CF4-8D53-E47A61C2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71BB9-7E22-4129-A1EA-F9DBE402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DF384-CA4B-4EDF-BD11-12DE672B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914A2-5752-4912-AB64-E897C225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6F2A5-F73B-408C-B87E-F4F9D70D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66DC2-FAB5-4596-A48A-2E190AC6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A8440-1F27-40BD-9357-9EFA3130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D7B85-A056-4494-80DE-D24F0A69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FBF2-7AAB-4453-807A-6EC7DD9E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3B8D-C35D-4A86-9DFD-9DCD0AE1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769A-A5A4-4049-8E34-9B6549C6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2847-430C-45CF-8482-FD588188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56E-481E-426E-8EC2-C895EC7D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F1B2-D64A-4F0F-AB90-5780B76E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695C-1DF6-4734-9632-EC4DFF4B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0AD7-A7A6-4C8E-BEF8-BF05E390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E717-F876-4D21-B988-11820517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D2B1-2844-4308-A3C7-72D0883E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EEBFE-5C9E-4623-947C-3348CBF1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2F04B-562F-4DC1-87A3-EABD25AC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FE0F5-886C-433A-A713-4E320764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0315-693F-4942-AA8B-AEEAD3DD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0CD4-C68A-4C47-A7CE-C8DBAAB6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61B-6A42-49B2-BA7F-01170F5C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4A3E-03DB-4A9C-ACCE-7DFAE680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1D42E-54B5-42B3-967A-68A6BBDE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5F29-AB08-41ED-92C3-568D67B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7073-F95F-4AE2-B693-3463EB7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6934-0288-4827-B6D7-04279C43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DB10-2FA8-4567-8D21-D4DD7FBC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D125-7DE0-49E2-9493-984F4E15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CE06A-48AB-4B33-848E-D8FF2F7E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3613-2B97-4095-A569-0FA3A335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2E28C-5A82-4E38-BB3A-638DB87A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25A-7371-4E2C-936E-DA3265A5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418C7-D636-44BB-9FC1-B2453072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38EB-8FF2-4247-8A8C-591657BD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DD60D-0AA0-4AE1-AE7B-A2CBCD88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18E0-68E5-48A6-8491-43D8FBD9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2EE2-D71A-4560-8FBD-8F0CB9C2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1C7D3-6DDE-4A78-9D7C-C3804362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23619-9C09-4D18-BF51-2C310694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79173-2C34-4D22-8CB8-CE31314C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16EBF-A6CA-4915-9234-792E8770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4CC62-A4A8-474E-BE27-580EA303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8FC-FD97-4896-8A14-48F86922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2D160-C610-418C-91DB-121BD4A5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65A4A-AA16-4A31-9ECB-9F2C8547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724D0-E7A9-426C-ACB2-91C1DB77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340DB-9E8A-4735-A5DA-A2E99627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1D0F8-BFAF-466D-92A7-0642E80E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182C7-97F0-41C8-9021-CF2A8227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84CB1-0011-41FF-9660-C855A956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80AB5-FD0D-4977-9672-5B8862D5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B197E-C734-4C6D-BF56-A61AAD06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1DC0E-01B3-489D-9CAB-968371FE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26B-D486-4E7F-B389-FBEF570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D13EB-DCF9-4B41-B407-FD27C498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09229-7267-46A2-BF32-E3DB242C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21E8C-B7C8-4D76-9A65-D9511204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E2F54-4E53-4BF3-A8AA-D61EC489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0747F-C22A-4111-8923-4069FD02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78645-F08B-47D1-ACB5-2D76C72F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559B7-F2C5-42C4-8C97-59441A26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9A273-5284-4751-8513-CB138695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DE8B7-9354-41BC-A610-AE6CFA9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A053-A356-4C43-A8A8-389E04F7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22E-A02A-420C-9700-305A8E65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42F17-52DE-4B5E-AD18-6E69B25F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40AE3-3DA5-4DE9-AE53-EF310576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65B46-E431-41B5-A0E8-A86A05F4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098E6-5B9A-47E0-9026-8E19EE78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F2E08-4917-4836-86EB-0BD9DCFA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FB64C-8F7A-4570-B5A9-352E0814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305FB-6D10-47A4-89A4-0C644E4B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67099-30A2-434E-84C4-99479405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C109B-3ECE-4115-A02E-CA67F044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9309B-2020-4009-BF3F-7235465B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8C5-19FE-4D96-86CB-24B0CEEF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7E6A7-163A-42A5-A722-8B8B99FF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30D75-92D7-4038-8AF9-DE7C30D9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F9861-164B-4990-AF74-AD89A919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BF376-31B4-4820-AD33-3A1A44AB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7D613-FB1C-421D-9E51-06B1602B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06FEA-B46D-4B1D-AC88-D57D1877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8408C-5FBF-45A7-86CF-DC2FEDA2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78E16-C260-4ECD-A0F7-4A6AEBA4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2BAB5-27A5-4FE5-8DD8-33FA8FCD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39A64-A48B-4996-8793-44BC044E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457-6421-45E5-9D24-C33508F0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7FAE6-E86D-4C16-B083-2F46F380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DC4CB-D74A-47E3-B73E-05D30DD5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00383-3238-497A-BC92-2C7DBD3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39FA7-F74A-4656-9E2C-AB7CA905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DAED1-B2B0-48B2-ABD8-C74D19A6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C6F29-086B-4AE4-A98A-C9B2DA97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8984D-D224-43C3-A84E-F6DD6EDA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3612E-BF72-4176-9A30-C8869598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AED04-3E14-40AB-8AF8-CDFADBDF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0E7F4-7B33-4F8F-9303-C27FE1CE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73AD-D928-492C-9B15-2CB39DB6B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07C4-C011-4C3A-9A16-F868A8F8A4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3010-EA45-417E-867F-9EBEBDC5BA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BA31-F683-4A05-AD73-FBB308ED7BA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FBBD-790E-4EAA-ADFD-295D9867E5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A333-280C-46B0-8FCF-35247BC40F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1DF3-13B9-48D9-8B88-7D924EA4F2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E9FB-BFDE-4927-8CCD-445887EB47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BD6B-8CE3-447F-9DA0-16085BCEA2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27D7-5C64-4D89-B42B-A2551C4AA8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F9BA-48AF-461A-9AF4-68FB63C3F7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195D-EA7C-423A-B8C5-3A32859127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C7BB-48F8-4C83-A353-434FEDF3D2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46A1-A71D-407A-822E-7D05FB2A93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3B52-A1D2-4ACC-AC8F-410089207D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2D0D-0CE8-4AAC-824F-CA970BDCD8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E36E-432D-4410-B6FC-EF4F05AB4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A570-2F1D-4496-A7F1-001E0C17C5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F91A-B6EC-4705-9395-FD35095A69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6034-5229-4AF4-BBDD-7D9884D1FFC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4AB2-191D-48E1-85F0-63517D7C63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AD1F-20D9-4517-B676-CEB3764F2C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D6AD-0980-4E09-9306-11767E9D41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88BC-240A-4B34-B5A7-93DAC30D90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7310-9374-49EB-9FBF-99D85B0FDD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2"/>
          <p:cNvSpPr txBox="1"/>
          <p:nvPr/>
        </p:nvSpPr>
        <p:spPr>
          <a:xfrm>
            <a:off x="1523880" y="1295280"/>
            <a:ext cx="67820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笔算乘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33"/>
          <p:cNvSpPr/>
          <p:nvPr/>
        </p:nvSpPr>
        <p:spPr>
          <a:xfrm>
            <a:off x="57150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笔算乘法例1"/>
          <p:cNvPicPr/>
          <p:nvPr/>
        </p:nvPicPr>
        <p:blipFill>
          <a:blip r:embed="rId1"/>
          <a:stretch/>
        </p:blipFill>
        <p:spPr>
          <a:xfrm>
            <a:off x="1676520" y="609480"/>
            <a:ext cx="6933960" cy="312732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3"/>
          <p:cNvSpPr/>
          <p:nvPr/>
        </p:nvSpPr>
        <p:spPr>
          <a:xfrm>
            <a:off x="487440" y="4287960"/>
            <a:ext cx="21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1669320" y="4759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2060280" y="5442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1022040" y="5459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2043000" y="6107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1697040" y="611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9"/>
          <p:cNvSpPr/>
          <p:nvPr/>
        </p:nvSpPr>
        <p:spPr>
          <a:xfrm flipV="1">
            <a:off x="2251080" y="5246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"/>
          <p:cNvSpPr/>
          <p:nvPr/>
        </p:nvSpPr>
        <p:spPr>
          <a:xfrm flipH="1" flipV="1">
            <a:off x="1980720" y="52574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1760400" y="56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333684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3"/>
          <p:cNvSpPr/>
          <p:nvPr/>
        </p:nvSpPr>
        <p:spPr>
          <a:xfrm>
            <a:off x="4533120" y="4738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4"/>
          <p:cNvSpPr/>
          <p:nvPr/>
        </p:nvSpPr>
        <p:spPr>
          <a:xfrm>
            <a:off x="4538160" y="5421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5"/>
          <p:cNvSpPr/>
          <p:nvPr/>
        </p:nvSpPr>
        <p:spPr>
          <a:xfrm>
            <a:off x="38858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492408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456084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8"/>
          <p:cNvSpPr/>
          <p:nvPr/>
        </p:nvSpPr>
        <p:spPr>
          <a:xfrm flipV="1">
            <a:off x="4765680" y="5226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9"/>
          <p:cNvSpPr/>
          <p:nvPr/>
        </p:nvSpPr>
        <p:spPr>
          <a:xfrm flipV="1">
            <a:off x="4807080" y="5257440"/>
            <a:ext cx="257040" cy="2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0"/>
          <p:cNvSpPr/>
          <p:nvPr/>
        </p:nvSpPr>
        <p:spPr>
          <a:xfrm>
            <a:off x="419400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1"/>
          <p:cNvSpPr/>
          <p:nvPr/>
        </p:nvSpPr>
        <p:spPr>
          <a:xfrm>
            <a:off x="638496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2"/>
          <p:cNvSpPr/>
          <p:nvPr/>
        </p:nvSpPr>
        <p:spPr>
          <a:xfrm>
            <a:off x="7612920" y="4952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3"/>
          <p:cNvSpPr/>
          <p:nvPr/>
        </p:nvSpPr>
        <p:spPr>
          <a:xfrm>
            <a:off x="7204320" y="5421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4"/>
          <p:cNvSpPr/>
          <p:nvPr/>
        </p:nvSpPr>
        <p:spPr>
          <a:xfrm>
            <a:off x="67784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5"/>
          <p:cNvSpPr/>
          <p:nvPr/>
        </p:nvSpPr>
        <p:spPr>
          <a:xfrm>
            <a:off x="6832440" y="605484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797220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762624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8"/>
          <p:cNvSpPr/>
          <p:nvPr/>
        </p:nvSpPr>
        <p:spPr>
          <a:xfrm>
            <a:off x="727704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9"/>
          <p:cNvSpPr/>
          <p:nvPr/>
        </p:nvSpPr>
        <p:spPr>
          <a:xfrm>
            <a:off x="920880" y="6051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0"/>
          <p:cNvSpPr/>
          <p:nvPr/>
        </p:nvSpPr>
        <p:spPr>
          <a:xfrm>
            <a:off x="3784680" y="605484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5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6"/>
          <p:cNvSpPr/>
          <p:nvPr/>
        </p:nvSpPr>
        <p:spPr>
          <a:xfrm>
            <a:off x="270180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282348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8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6450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2579760" y="114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2964600" y="1860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2276280" y="1878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336840" y="25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974680" y="25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2593800" y="25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20574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2974680" y="3062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2574720" y="3062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2212920" y="3062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2"/>
          <p:cNvSpPr/>
          <p:nvPr/>
        </p:nvSpPr>
        <p:spPr>
          <a:xfrm>
            <a:off x="20574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3279600" y="3657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2955600" y="36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6"/>
          <p:cNvSpPr/>
          <p:nvPr/>
        </p:nvSpPr>
        <p:spPr>
          <a:xfrm>
            <a:off x="2574720" y="36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2193840" y="36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9" descr="老师"/>
          <p:cNvPicPr/>
          <p:nvPr/>
        </p:nvPicPr>
        <p:blipFill>
          <a:blip r:embed="rId1"/>
          <a:stretch/>
        </p:blipFill>
        <p:spPr>
          <a:xfrm>
            <a:off x="7010280" y="4343400"/>
            <a:ext cx="1086120" cy="1219320"/>
          </a:xfrm>
          <a:prstGeom prst="rect">
            <a:avLst/>
          </a:prstGeom>
          <a:ln w="0">
            <a:noFill/>
          </a:ln>
        </p:spPr>
      </p:pic>
      <p:sp>
        <p:nvSpPr>
          <p:cNvPr id="589" name="AutoShape 20"/>
          <p:cNvSpPr/>
          <p:nvPr/>
        </p:nvSpPr>
        <p:spPr>
          <a:xfrm>
            <a:off x="4800600" y="220968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笔算应这样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gslc"/>
          <p:cNvPicPr/>
          <p:nvPr/>
        </p:nvPicPr>
        <p:blipFill>
          <a:blip r:embed="rId1"/>
          <a:stretch/>
        </p:blipFill>
        <p:spPr>
          <a:xfrm>
            <a:off x="2514600" y="304920"/>
            <a:ext cx="3645000" cy="16761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326484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1" descr="fencai2"/>
          <p:cNvPicPr/>
          <p:nvPr/>
        </p:nvPicPr>
        <p:blipFill>
          <a:blip r:embed="rId2"/>
          <a:stretch/>
        </p:blipFill>
        <p:spPr>
          <a:xfrm>
            <a:off x="1828800" y="2819520"/>
            <a:ext cx="3352680" cy="15238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2"/>
          <p:cNvSpPr/>
          <p:nvPr/>
        </p:nvSpPr>
        <p:spPr>
          <a:xfrm>
            <a:off x="2121840" y="4572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3" descr="老师"/>
          <p:cNvPicPr/>
          <p:nvPr/>
        </p:nvPicPr>
        <p:blipFill>
          <a:blip r:embed="rId3"/>
          <a:stretch/>
        </p:blipFill>
        <p:spPr>
          <a:xfrm>
            <a:off x="7696080" y="5334120"/>
            <a:ext cx="1086120" cy="121896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14"/>
          <p:cNvSpPr/>
          <p:nvPr/>
        </p:nvSpPr>
        <p:spPr>
          <a:xfrm>
            <a:off x="5638680" y="327672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各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xsgs388"/>
          <p:cNvPicPr/>
          <p:nvPr/>
        </p:nvPicPr>
        <p:blipFill>
          <a:blip r:embed="rId1"/>
          <a:stretch/>
        </p:blipFill>
        <p:spPr>
          <a:xfrm>
            <a:off x="1828800" y="1828800"/>
            <a:ext cx="676440" cy="1314360"/>
          </a:xfrm>
          <a:prstGeom prst="rect">
            <a:avLst/>
          </a:prstGeom>
          <a:ln w="0">
            <a:noFill/>
          </a:ln>
        </p:spPr>
      </p:pic>
      <p:sp>
        <p:nvSpPr>
          <p:cNvPr id="597" name="AutoShape 3"/>
          <p:cNvSpPr/>
          <p:nvPr/>
        </p:nvSpPr>
        <p:spPr>
          <a:xfrm>
            <a:off x="2819520" y="609480"/>
            <a:ext cx="3276360" cy="1447920"/>
          </a:xfrm>
          <a:prstGeom prst="wedgeEllipseCallout">
            <a:avLst>
              <a:gd name="adj1" fmla="val -57462"/>
              <a:gd name="adj2" fmla="val 62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口算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×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再在积的末尾添两个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3412800" y="2635200"/>
            <a:ext cx="36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80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7" descr="女孩"/>
          <p:cNvPicPr/>
          <p:nvPr/>
        </p:nvPicPr>
        <p:blipFill>
          <a:blip r:embed="rId2"/>
          <a:stretch/>
        </p:blipFill>
        <p:spPr>
          <a:xfrm>
            <a:off x="7391520" y="4419720"/>
            <a:ext cx="1000080" cy="157140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9"/>
          <p:cNvSpPr/>
          <p:nvPr/>
        </p:nvSpPr>
        <p:spPr>
          <a:xfrm>
            <a:off x="4648320" y="3352680"/>
            <a:ext cx="2438280" cy="1067040"/>
          </a:xfrm>
          <a:prstGeom prst="cloudCallout">
            <a:avLst>
              <a:gd name="adj1" fmla="val 78648"/>
              <a:gd name="adj2" fmla="val 98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这样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2617920" y="3733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3009240" y="4416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3027240" y="5081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2681280" y="508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4"/>
          <p:cNvSpPr/>
          <p:nvPr/>
        </p:nvSpPr>
        <p:spPr>
          <a:xfrm>
            <a:off x="2286000" y="50292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2352240" y="4357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3336840" y="510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3641400" y="510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2212560" y="5867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6915600" y="609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3"/>
          <p:cNvSpPr/>
          <p:nvPr/>
        </p:nvSpPr>
        <p:spPr>
          <a:xfrm>
            <a:off x="3083040" y="533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因数和积的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ShockwaveFlash1"/>
          <p:cNvGraphicFramePr/>
          <p:nvPr/>
        </p:nvGraphicFramePr>
        <p:xfrm>
          <a:off x="1676520" y="1219320"/>
          <a:ext cx="70102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70102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WordArt 2"/>
          <p:cNvSpPr txBox="1"/>
          <p:nvPr/>
        </p:nvSpPr>
        <p:spPr>
          <a:xfrm>
            <a:off x="2666880" y="228600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9:41:58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