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823-E28A-4CAE-8721-EE2CCC21C9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366F-FB97-4A0E-A6EE-FCB3018210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0B1-8832-4305-BF68-56FBF62D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262-6344-4051-B637-1F06199D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ADAB2-0E0A-4CCE-91BC-7F19B72E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E8225-530B-4326-88BC-1421194B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AE3FF-F53D-4464-A3B0-7C7A9BAE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C164F-0887-4FE3-9C99-99560F7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5E888-D557-415D-B283-1FB62AF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4F6EC-9F47-4E6C-9912-AA16B4D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A6B7A-4671-46CE-8C99-888A86F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EF79B-8DA2-4253-97AC-D72B0FE9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03E6B-DB91-49CC-96A4-29AFC435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4C85E-A692-4BA0-9AB1-06E62A5E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5B5-AE56-4E03-B039-641E5142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D1EEF-DD38-4ED5-988E-988DF3A6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6A930-8DAC-48A5-90B1-80F4CEE2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AE928-6917-40B6-982D-19F66F58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ADA96-C2B2-4D2F-AB26-38509132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82B7D-DB3F-428C-BB60-2F66200B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C7D24-1243-4B97-991A-286C4A27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2944F-BCE2-463C-A182-BBD197C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A38CA-3C26-4EFC-B2F4-0CCFC4F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EB437-D94D-491E-9E0D-CC54E07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41D77-2435-4B5A-9B7C-66324F61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FBD-6843-4CC1-9C21-A4109F60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5A3C4-8D30-4A34-9D85-44EC9184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0157B1-1EE2-46B2-8B5C-38928B1E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E74F15-5DA8-42D2-BCB1-1EDDC0D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E0888E-842B-46D9-B48D-2DF5CE2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A287DD-2997-4BDE-A1F8-50E67BC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8274CF-02A8-42CB-B022-B1915BF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3A74C-8EC9-48A0-B622-8EC303C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8935FE-FBEF-4D6B-A371-9DD9AE8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38DD3A-FDCA-473E-9149-D89ED9D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02AE6E-EEB9-42A3-AFAF-1D05D28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DBD-359D-41D4-8E25-16347865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F9F833-8E77-49EA-ABC0-2776844C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F0DF5F-D72F-405A-A580-98CA961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69C66F-6764-4F92-AE65-8A8FD167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6D334-9CEB-445C-9585-7396065A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39490-4EEA-4633-8A5D-C4B3563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169BA-6653-4BD9-87DE-D588B53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EA492-FDEA-455D-8FEA-88638FF3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45BD2-6D0B-4EE6-B87F-970562B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601C0-D988-4616-8D10-F4021F4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40502-54BA-4A87-A802-A4F9A606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7BD3-E053-4FA5-82D2-F68DEEE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8E0AF-DFFA-43CA-A7AE-D1B9BCBA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101AC-B47B-44F9-9CD3-6ED26BF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A5757-1B80-48A4-9280-EC111888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5F04E-693D-41C3-9364-99B907B2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8274C-5E55-4202-A278-F4FEAA6F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21F73C-26B1-41A4-9DF4-91018B96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E951FD-AE59-44FF-9296-54ECBFB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A0F6D5-7B84-4A9B-B562-9E7A0EA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3F282A-A6D7-447A-B910-8F5DEE1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1C462E-8356-4400-BF1E-CA3C711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1A0-7CF7-48E1-A005-1C2B56B2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5B0FB6-43CB-4FA7-A960-D718A56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95B0D9-6C65-484E-9A72-E488E9FB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11E77E-7A57-4EB4-9BE4-ACE5DB6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AC8EB7-7F10-4A51-B35E-BCC4732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1B1EFA-48BD-4414-AF76-0579FF8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7A1154-41D5-4A0F-8F75-4519FC6C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3C03D8-5969-4663-9580-84B3A469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1C1C8D-4819-4D62-BF75-15B6DE05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A3B62E-796F-457C-9D13-CE1A732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FDFD06-D39C-4A81-A691-CD244DDB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9CC2-6281-45F4-806C-8004C98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20036A-5CA0-4757-A06B-F9EF7FD7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3515B8-378C-4E64-B94A-0AC946A1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17F6EC-CB30-4864-BA91-45456BF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902109-F3F4-498E-86BD-4140E9F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B3DF2D-0938-4A81-878D-C3EF243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635BC0-744E-435C-8225-B1EE85C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C3181C-F752-490A-A07B-6BD762F6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2FEE4D-EF6C-4ACE-9E49-51D4FBD9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C798EA-6463-4242-AEDC-1CDA3A04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05186A-FC43-4CB9-B36F-0585814E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9F5-A18D-4BDC-B011-20D8D560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1B884A-F2C8-499A-88B3-42485DB5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D24154-AF55-48E6-A759-5C889A6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3657E4-7F24-49A3-9456-05140860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9F318A-9636-45FE-9B0D-17FE04E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F39497-07BF-4C53-A931-5FD9EB1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CF846F-4CC7-4850-B146-580D4D0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860D81-5AF0-48F7-AA5C-15EC294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0C0A39-A9C9-46A7-AC1E-F65CD78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2A1430-154E-4FD9-8C93-4F256B2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2D171A-F0F3-410C-877C-856201BC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3514-D89B-4612-8828-0658A6E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09E831-CAFE-4A38-AB79-71CECA2C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4F50-1BCC-4749-B54C-B03CB7D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732-56B1-4A82-9B5E-1FF1D5D7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9B92-9354-4E89-A328-FB5DF12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78C2-6D39-48BE-8D9B-3EDFC5A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1A8-4F69-467F-A757-EF98E44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766-3735-46F9-9969-66F6FB1E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55A1-5D29-4D91-B2FB-9973020C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FAC11-BAE2-467C-8EE9-49888ED54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B432F-A5EF-4706-B03B-ADD7F530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26689-F01D-4B85-B2BF-D93C2B8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E6B38-9B75-4E4C-91F6-8CBBB6BA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05FE7-9914-400C-BBE4-893EF5F4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B5A-A23B-479E-A786-FD58CF8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E54CD-CFFF-4B7A-AF63-579221EF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5FEF4-82F6-42E0-8EF9-F28C2C8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39D51-F845-44B1-A504-17CC745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E7E3F-D6A5-4DA9-8B74-4DF40068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5BFA9-916F-4055-9AFA-2D7A9DD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9023E-3E1C-4BE3-B1C9-F0C4BE4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72656-1092-46EB-8666-CAC801172C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8C361-D9F4-4AAC-8216-AE3ED6245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86A73-E211-4DD7-A3A0-104E859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E6B2A-DD58-4C4D-AFA6-0D46DD3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A60-2465-4CDE-BC98-1FA25575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37C94-B394-4743-A532-5BCBB74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15C03-F4C9-45DB-B9ED-53A6E04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3AE5E-9CFC-46F1-BB8A-B9B03F2E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00820-4655-40DA-8D5B-D0F7429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9B3D3-1C90-49DA-A83F-446B293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7B035-1800-47F4-9E6F-A71C58C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9CE98-3E76-4789-AC73-EA394C01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3E57A-4134-4400-BDF9-EC796C29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36E72-E91D-44CE-A176-B86BF68FC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57B96-DA49-408A-A2B3-6787ED4B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351-2BB0-412C-98DD-B0AACB1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F7832-EEDE-4BD6-92F7-6EA77F9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D299B-7435-430D-9311-254855FE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2B816F-FA5B-4FAE-8526-544940BB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88B20-C496-4C66-B836-4BFF5DD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4394E-6381-4C09-8A48-ECC78098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5B0C5-5A1F-4AA5-81F4-837DF340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AA7AB-9D32-4B8A-9322-EE3DD13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C664F-D33B-4437-A51D-E545CFF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4614B-348A-4E1B-BF36-F551F32A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262B3-5E9C-4BF7-B487-955ED1A3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7D6-C902-4DA6-BAA3-B231F2D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113CB-3B85-41A4-916C-9CA83DFC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7E2353-AC60-4893-B2F6-880357B8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05CBA-C9B5-4721-A09B-152639D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33A38-8EAB-4755-BFF5-A2AB73CD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72D4C-44C0-46DA-A9B6-FE671F68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38802-AD56-44B7-ADC9-A52D408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B2B776-5C17-4326-8823-756A4B61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80DC0-5391-486A-BBFE-7BB8411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6093E9-DB6C-4753-B660-8356950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178119-E01F-4358-9C7B-DF73F1E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E60-5508-44D5-8DD4-3A7547C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A5491-5240-4DA7-BDD3-5580ED4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02049-36FB-4B5D-AE6E-A6830036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7074A-2825-4829-8B61-D56486D3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63947-4D46-4CEB-89DA-4E72C142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E83A28-725B-4BE5-BB2C-1A1E449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7329D3-3EB4-41D5-B830-A33D0BA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353A6-9B61-4FAE-8FD6-744C16A7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57EA47-EFBC-4B9B-A816-6E261CB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DCBAE-0390-437A-987B-E11E873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795BC8-5C37-4754-A9A1-CA2A1C5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C21-82F0-463F-9B51-DBDC8F9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DA3D7-132D-4A03-B227-0AF02BB9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74392-E63E-4337-A9F9-70AC62B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443331-C148-41F9-B9F8-D76AB3B9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A1D330-F643-4EDD-B28E-611D26AE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A28D2-04E7-40A6-A261-B98BF8EA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2C8043-07FF-4264-A99C-D641C840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988D1-B5A5-46DC-BCC7-AA7D9038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7F424-2759-408B-89F8-320D1E5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6A205-699B-4557-B43B-CDE153F7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A30651-5FEA-4386-BA74-2A4E209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5CB-D844-4550-A995-58E55EC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FC20C-1C53-4F1A-8523-C3B916A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730A1E-70C2-464B-B25E-466EBBF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5AE4C7-0780-4C3B-974C-CEB5139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C374E-8F82-4E0F-868E-8909C75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CA4F72-14D6-49B9-B7A8-01B76093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6D445-5F04-44AE-90F0-540E951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7A1FA-D3CF-483E-A2EB-C04661C8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7FF08-6874-4583-9FB9-D6CB63CB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52A17-BF89-4645-9213-DE3FC0D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77602-59CC-4735-BDC2-15676771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E01-4F52-4F19-84CD-627764AEC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16F-ACD4-447F-A833-23C4BA9D14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22E-5C66-4DAE-8367-978F28125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CE8-380C-4E04-9383-3F0181AD88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FBDB-034A-41C7-A68D-15BACFE59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95B-F869-4C41-89B8-3DFEECF219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830-24B7-4E27-B985-EAAD1D0E3D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F5F8-5407-4733-82F7-BB73B4EBDD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B4E0-CF4E-4E7D-BFC5-E63CFFD7EC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1F9-C102-4AEB-982B-A1F4CAD94F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71D-1FFD-4095-AD74-C75DA3FB2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A441-7E93-483F-8B80-BED45AFB2A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350-2B97-4E1D-985B-8F6528E9A4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1531-CC85-4E30-B9BD-D9712DCDDE8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DD07-D7F7-4D1A-8594-B1883D827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FFF-2E93-4DF4-8D5C-BDD2E1567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0F73-EBAD-4A82-9C6D-B9C8014B3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1988-461E-494F-B3CD-A578A9E031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E19D-FFC9-4E52-911B-82107E60E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CFF-6735-48CA-9004-8ABA419B27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16D7-FA23-49CF-B9CD-98C8026B63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CFC-B9A3-429E-986C-F5B97C9AD8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288-BB79-473E-9C97-F784F47DB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538-46AE-44CD-8A11-151A7FCD38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CE28-AE30-4B39-91E1-E73965C75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55E5-9AB8-4CE0-B813-52D2680B26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F364-5183-4D39-957A-A142138CE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</cp:lastModifiedBy>
  <dcterms:modified xsi:type="dcterms:W3CDTF">2015-03-16T08:39:37Z</dcterms:modified>
  <cp:revision>53</cp:revision>
  <dc:subject/>
  <dc:title>幻灯片 1</dc:title>
</cp:coreProperties>
</file>