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A0AE-D563-4FBF-AA9F-80261B0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AA86-6C9B-4F7F-B871-02855C4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8C39-44B5-43D0-B96B-6FB302E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8EB6-BAF0-4724-BBD7-261F797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F7FA-9B81-4C23-9E2E-5E284A20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6775-E14E-4027-BD4F-08DC78E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F0986-9556-44C0-8404-47643FF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14099-39FE-41A6-9236-89028931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95C1B-F5BB-499D-BCFD-63A31F40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08ED8-BB8F-4751-88EC-D1F9CAAA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CE975-35C8-4F19-9DDD-E3DBC06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7345-EE88-43B3-8039-F849E64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1C9C5-6B57-4624-B830-746FF3BB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96314-9496-4B15-80E6-8FA53C6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440D5-BBCF-4E16-BBFD-177EF90F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A1E17-22B0-46CC-9D43-7433F67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09B34-4AD1-4E3D-920C-356658C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42FC2-8095-4F73-8432-C171EEA4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EA2F2-2E86-4B48-8102-468DBE9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1F539-8EDB-4F67-8532-D9DA40DD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049D-ABCB-4EDE-A49B-452FA9F6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DF233-7A36-463B-AD95-F9FBD14C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536E2-DA58-453D-A468-01C89B0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EF222-3972-4ED4-AC01-EFF8D9F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0CB8D-98FF-4953-9458-6E7783A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BBD36-1F7E-4622-B3FD-45B0FC18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7FB61-3198-4ECC-AD09-EC59858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BDDFF-E7D2-46DE-BEF1-93C0EF1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62AC-6070-4297-91E3-A7705B5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DB60E-A30B-4326-B1AC-CDBC3A3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6CC-A886-44F0-9F79-E7A91BB2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C9636-C93C-450C-B0B6-5E086C7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D51D5-328B-4DA0-9267-4EF7283B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9E93-576E-4589-89F7-A84F43BE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F9FE2-27C0-403D-9D7E-6F6F6136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3C136-5562-483D-A182-39AF0E1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B708D-8BCA-430C-B90D-09B4742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41B4C-8148-457C-BDD5-6EB1F86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5A88-914E-43E7-9545-F1F8A9A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FC18D-A981-48F7-961E-39E838C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4E0E1-2604-46BC-B991-D86F21AB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FFB-CFD6-4E0A-840F-76B3242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33AFE-1F1D-4526-B882-5701BD2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B667B-22BD-4D2C-8D52-80024E3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6320-9367-455B-8FE7-3FCC8ED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7BC4-553E-4CAE-9E60-7587D3B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C823-BFF8-477B-89B9-3CBF1783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F025E-B3BB-42E4-A415-01A78C98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5B78D-F8F8-4A39-81A4-48E6C409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26E8A-0BBD-4F02-900F-F78E674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C6180-C888-4CE9-8205-00CB9BFF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B2B92-67B8-4233-ABC3-36C0CA3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1D0-5EF9-4445-948B-2BEEE4C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2D610-AB5C-4E46-A222-157AC121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6084B-CB51-4C67-8DFC-0561F99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07753-F944-4813-A9CA-3C5B1E8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7A08C-76A9-4E06-904C-85F5100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673D7-0ED5-4DD6-A684-9B51C2F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BF16F-6588-45C4-BE38-CC87268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DC169-F6AF-41E1-B9F3-B780BC56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A26A2-AAD9-4B14-AF7F-2B0664DA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2621B-19BD-47BE-BE90-6B66974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990D8-86B6-4A50-AFE3-D374D48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D12-A96B-4B02-8A0A-6B46B5A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C38DC-B72F-484C-8B17-D31C4FF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BDED3-FD41-4118-A471-F10AD3E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10BDF-00DE-4CA9-BCAD-42924BC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8F708-6F6F-4293-B437-7F11CB3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19BD9-C36F-486D-90F2-FA2AD0F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78126-4BA4-4898-A8D5-7361617F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57AB2-9F02-4FDF-A5A7-43CE0F99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E000E-AEAD-487B-93F8-F50F94DF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F9365-300C-4517-A379-91D0C705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95F56-AFCF-4788-B5FE-7F71F681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358-337F-4395-B7A7-7AD12AF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A5784-3CF7-4E9C-A466-DF18146F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F37CA-E840-4226-8FD5-7F5C99A1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761A1-7A3F-4EF4-A19A-102D153C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D345E-56DA-445B-A79D-5C2785F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22674-10BC-45FF-B1B0-D6D42DA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D8958-0367-4C99-BDDB-BE16AB7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8BE80-D962-4C55-AAD7-66FF35D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C97D0-C076-4088-9F99-A3E3C66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B445F-4542-460B-8AB9-EA0E0FFE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C038D-B270-4BB2-AA14-D0245D20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FC4-8C19-4FE5-90E6-3DD327E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F0A2B-C377-4EAC-BB5E-B86C3518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AA44E-925D-46C3-8579-1708E546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CFB97-4C02-4C59-BE7D-9248DC37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E5FEE-2081-4F1E-B79A-C708641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5F66C-FE3C-4363-8C1F-32CD3FF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3DBBD-B09F-429D-88B9-B9133001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BA24A-3F0A-41FE-A9B1-1FC20500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84045-9035-46D5-846F-F54C9F0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664D3-0D3D-42AE-B112-5842ECA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8FFB2-19FB-4C82-A2A4-4D3F795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4D0-9E27-4784-A5F2-F46B5C4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DEF68-1707-4EBC-B2F7-BCB0B91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DC35C-DF19-4634-9A68-34CB7E90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A52D6-8716-48CE-8454-273C96A6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6EEA3-7478-4186-AA25-090BBF19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169A8-DB79-4DE0-9090-86835E0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B0AEF-2AA3-45CA-8853-F6B9E64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1BDC3-BB26-4243-885B-B444245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43E55-87ED-422E-A799-3286296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E4BED-D386-4ECB-AF00-C833DD3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DA728-3298-4CBB-AB27-590158E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D3D-878E-4C96-AB9C-3C82F8D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A9BD5-D80F-44A8-BAD9-F1CA5B6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A6A55-E93B-48B1-8655-5F3404B2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8B5B3-5F8B-41D4-B1DF-DE1F681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04885-D382-4D33-A6BA-B08698A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A0795-BE54-4A62-AC8C-7BCF876D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8F9F7-8910-42E1-9915-ACB93291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F6771-3951-422B-A18C-89B0699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6076C-C932-4A50-8B20-D858B62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1A36B-799C-45ED-9764-C0C5284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591DB-2B2C-4919-B893-40534ED3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C51-BA05-4CA1-926A-F27EBE09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F226A-9266-401F-AEFC-8C5D5C3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AD165-7BAF-4CEA-8590-7B53CF1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8436C-DC18-4BC4-8471-C6C91D9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0BD17-C014-49A6-ADEA-C203AE1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0C85B-61E7-4A7A-8478-C97377E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B5A78-96C4-4A6C-A062-2A6C5361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C9051-90A7-4644-ABE1-C22EA5A0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CC447-F06A-4AF5-9382-A89CBA2C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9A4AD-B076-4094-8E16-A3275B9B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457D4-0C14-45B1-B9ED-3244634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6D9-747E-45B0-B0E6-1F1759A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FBE9C-73E7-4137-8996-3ADF73B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A058B-E711-435A-BAC5-4A24211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0CE60-F26E-41A8-A193-6E173F1E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74491-ED91-4D1F-84C0-8B2D1CB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03D66-F9BE-4EE0-A50D-815AF6E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3B2B8-5864-4CEB-8FF6-67E8A27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9FDD1-A3F9-4AB6-9039-B90530F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30DD8-2340-4A53-A42E-7A929CF0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69AA5-4675-43BC-933C-2F867F6D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EB21D-AA20-492C-91EF-E5C04F4A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02D-EE69-4206-9F6E-320C3993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DA916-A715-4065-8A66-4C28748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B1A28-B610-45DD-BB6E-1D6347A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D7F41-1350-4588-8B8E-BE9ED9E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64B78-ADB4-4668-934D-ED2A3A03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1E40E-A386-4E8F-92D1-5203D16B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59CB5-CB3A-4694-ACA1-D926462D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50838-3E3C-42B9-9708-035F491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AD596-EBEC-4957-87C7-D1258CC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15546-2F47-4757-85BB-06E17825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21B8F-1DB3-4F27-98C6-5074617A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71A-4695-4092-A119-C956CE2E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9F9B18-07B5-4A51-BA2B-3EAD184F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7645D-D27D-4AD1-B36A-660778F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F3FF7-EA1E-40F2-8FFA-8609CFD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75FA1-94BF-4B28-BDC9-60EF6C5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5E62F-13CA-47EA-914E-5089CCE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3C2E9-C32E-45F9-8998-C022975D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D43DA-3258-471B-8975-6B8F524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8148D-E58A-4AEC-B5E5-50B06E5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2D949-FF75-4FB3-A189-0D801E7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8EFCA-8935-4F7A-BCFE-984CB3B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DB8B-954F-4F96-878F-0C932358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9E962-A173-47CD-86C3-6DAD028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4E9B1-FBCC-4B66-A48D-9245612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E5B12-9914-41A7-85B4-60E249B4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DA0E9-79A0-4844-8A43-CC66E8A5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B6B3A-8B29-47DB-95DF-DBC9E09A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0E0D1F-98EE-4868-A247-0B326F2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67A78-E6D5-4FED-986A-83B1693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54B56-F253-4C62-B0C4-3BCB849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D73E9-AF79-4C93-84B6-F180AE12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946F6-02AA-4BC9-8552-5BD9E8A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007-01C8-4C15-B13F-BFFE21A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44F27-FDEB-4A07-AE41-960062A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4B69E-5E32-4EA5-B2D3-3834CA9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FB44E-9401-4F6B-8F5B-3D89AD2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C2FEB-220C-4898-8802-BFEBB0B2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18D50-F667-4336-AF1E-D2EAB70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2B119-DF0E-4736-81A6-A4FC1DF2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44339-BA73-44F9-9C8A-5C82C8D8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17C2F3-A817-4D49-91DC-9A78D28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F8899-A55E-4A11-9FCC-D73536DF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836BA-74C4-4F3E-8AEE-BA282063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FA87-1250-42FA-B000-D494D905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61AB3-1895-411B-ABEF-1E6D4D2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89ED2-99B9-44DF-AAC1-0D0E759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B532A1-E22F-460D-B3ED-A2581C6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4F8C95-7743-4723-9BAA-E136AC6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8C1BA-5420-47A7-8841-E431BBD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5A8B62-38F5-49B7-8631-F33DE81F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3A5FDD-B601-42D5-A157-BA0D9CBD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5C11B-00A7-4B33-8F6F-89AAC38D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56762-6E22-45AC-9A15-23580A5C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50048-451F-4618-9C1A-9A86AFAB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13B4-D56C-4B14-AFC3-9B5150F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965FCE-AE7B-4A01-BBE8-EE5509C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DC403-EA10-4CF9-B95A-A1AEC28D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6B4B5-FCCA-45B7-A4F0-98A5458F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ACF4F4-02C5-47DB-AB52-FEB4DB6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B91794-D1C8-4140-A859-470C382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DDD74-9B8F-4082-9F36-D18D146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23B16-2994-4E2A-B288-7E90AEF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0C0A59-1D12-4D02-9119-361DE66C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89005-9F96-4BFB-996B-C991DB27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AD54-4F12-4314-9B97-D981F4B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20C-2013-4C08-9BB2-580B2B1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CEA-2D2D-4660-8EEC-17B7759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E4BD-9BDF-4252-B0D5-0E3D764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1FE-CB07-4934-BE08-CA3CB2E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EB8-E21C-4E65-89CA-AB28103B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A85-20F3-4C7A-AF50-768BDE06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778-B448-4FD1-822C-0577DE68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D6AE-46B8-4E27-B757-22574058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6D56-7374-4A4E-8EDE-E859238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6EC8-77F3-4F54-8E43-16EFD9C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512F-D68A-434D-8D27-B109F30B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15FB-9DFB-4CD1-BF17-BAEE2F9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D595-9233-454F-97F3-2484A9A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F5FE-DA6F-49CD-A7D8-61CC6FA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0A63-B241-44D2-81F3-640F16BD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5B78-613A-4801-A03C-CE093C13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E12D-D127-40B8-B2C3-813DB3F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DC13-9D4E-45A3-8792-3E27D93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1D50-F07A-46E8-BAD6-B11BFCCB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7E2B-4B93-4FC9-B83F-205AEDF1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ED18-40B3-43AD-BBA0-0134F4B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E5B5-D222-48E7-92E5-D8996874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7319-D48B-4C81-991B-0558975F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0B45-944F-428E-9748-782D3EA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3046-9925-4859-A9C2-CDA6B1A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73FD-D2AC-428C-9385-A8E9A2E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D3DF-CAFB-4504-A338-7E1995E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3E9E-B54A-42F3-AC80-D16179AD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3340-C5C3-4E1C-874E-D3BC7A39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2CD9-04DB-4A74-B6A1-054968B2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0C6A-4646-4BB7-9E60-450E0A2C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2E94-77B9-4F60-90E3-92E5EB05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7C80-07E1-4550-874C-9FD19695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23C7-ED41-48EE-B2EC-57C6993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4246A-C93E-43CA-BADC-89204A6B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D736-545A-4643-9338-BA85442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F26A-91F6-4301-B369-BAAFAC5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02B6-715D-49C6-928B-A68D199A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C43D-01D4-4EDD-BFA8-F5308D8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2F03-9AC6-4585-85B9-2A79C31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C59E-9235-48C0-9595-160ACA41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F5C1-1DE2-44BD-99FF-D4B6D621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1166-2264-4C6E-B256-AB190AF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BD41A-B3CA-4CC8-8D78-DD789B25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6807-F821-42E9-8B0E-4B8395A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AA30-DCA4-459B-9262-BD0B4F2A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065BA-E17A-47EC-9704-5A02F3C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F5A2-201C-4841-A41F-8956A21E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F90A-2B1F-460F-BBA7-5477F30A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4F89-3481-40C7-977E-D6F1F34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886A-2FCF-46A3-B232-D843712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90E0-28FF-4984-BF4D-401F3A7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EA78-5448-43AB-B41A-C9F55A9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476A-A386-4D56-870F-EA018C41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D43E-A725-4CDB-9E3C-914E4CD9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2280-2FF7-4D86-8C69-D346F8B4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860D-8B36-412B-84EB-088B1FC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79F8E-F7C5-4C4E-B464-94A7CEC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A2E1-DD2A-428F-BCDA-626CFDD0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EC0C5-B913-4A5E-9209-20F4D7D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BA2A-D25A-4AA8-9BC1-FD0ECAD4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B82C-EB1A-4447-AB30-6C7BB95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A4DCD-10E7-401C-8C12-00287AB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8825-ECAC-4A3E-A550-FCEEF4F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765BE-2661-4E1B-AB4E-D2E10A9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E12B0-DA03-48CE-BA46-1B10C8EA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B401-7589-4544-9E67-EC264B32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61F1-5B50-4E64-8421-16A76E91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0D19-00C1-4FDB-A0FD-25E47332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FC48-FD3F-4B8C-8F39-E9F817F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1C4-EF02-4388-8D61-B65B31BC676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0B30-77F6-4600-91BC-32E8FB3E3FA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86A-675D-4DBC-ACCF-3696B2AC938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A267-3ECB-4CC5-972A-47360928B82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79D-6534-411F-A141-0FFA1028F66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60DD-4AEA-467A-8D22-BE1D19B608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9F12-0E19-4F75-A2EA-B00D17BDC58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E57-A72E-424B-85CF-DE8E0FE5C6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B834-FA6F-420A-B4E7-6D3EB68C28E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F80-0508-4B26-811C-3E7186982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74A9-526F-473F-AD8F-24A4AF1CB36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F26-BEA2-4D23-826A-50DA67D111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B6F7-1289-4FFD-ACD6-7DD4457ABA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9DA-DD80-4633-A97C-D7AB54559F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03B-61EA-407C-8E6A-8DD05C7FFF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C2D-680D-4939-A3AA-282D30011C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1E2-C3E5-4251-92F5-6E55DC6CA55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D695-863E-4901-B715-F9109CD4E4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A49-B3EB-41F1-B4F5-4CC6735814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BAC-8DB2-4691-94FA-C64D1A8828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7EB8-42FA-48C1-8DC3-5989B56F13D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95E-15C8-4E83-AB40-B679FAD829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DC9-D3B0-432F-8F32-436EFDDCBCC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5C3-9979-499A-AEF5-C0361AB72A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E285-B361-4381-970A-77B1E556074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CC1-17E5-44B4-AB2D-74BC94FE5A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C1D-FB25-492C-BA94-220DF8D0216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92E-2E66-4104-8A16-0ACD16329F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AF18-DD8F-42E8-BF8F-5BF14550FAE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32D-35F9-4014-80E7-D41AB3DC892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49E-476E-4AD4-B9FC-E4007D5F66A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9B8-20D2-4A64-8C8B-D63D6BE64E0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9567-CA8E-4088-B75B-0501B70CF5F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D87-C171-438F-B9BB-895129E166D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F226-C864-40EF-9D3D-6611A92405A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95640" y="551664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蓝色毕业答辩</a:t>
            </a:r>
            <a:r>
              <a:rPr b="1" lang="en-US" sz="3600" spc="-1" strike="noStrike">
                <a:solidFill>
                  <a:srgbClr val="025198"/>
                </a:solidFill>
                <a:latin typeface="黑体"/>
                <a:ea typeface="黑体"/>
              </a:rPr>
              <a:t>PPT</a:t>
            </a: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2-10T02:43:23Z</dcterms:modified>
  <cp:revision>620</cp:revision>
  <dc:subject/>
  <dc:title>Diapositiva 1</dc:title>
</cp:coreProperties>
</file>