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projctor.wav" ContentType="audio/x-wav"/>
  <Override PartName="/ppt/media/image9.jpeg" ContentType="image/jpeg"/>
  <Override PartName="/ppt/media/image11.jpeg" ContentType="image/jpeg"/>
  <Override PartName="/ppt/media/cashreg.wav" ContentType="audio/x-wav"/>
  <Override PartName="/ppt/media/image12.jpeg" ContentType="image/jpeg"/>
  <Override PartName="/ppt/media/image10.wmf" ContentType="image/x-wmf"/>
  <Override PartName="/ppt/media/camera.wav" ContentType="audio/x-wav"/>
  <Override PartName="/ppt/media/image7.jpeg" ContentType="image/jpeg"/>
  <Override PartName="/ppt/media/chimes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applause.wav" ContentType="audio/x-wav"/>
  <Override PartName="/ppt/media/type.wav" ContentType="audio/x-wav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5BEC-0CE0-483A-AABD-AE040AA6397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DFF5-5F51-4904-97CB-A8BB18BC0C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498-D480-4639-A271-77BC10F223A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24A8-8311-4091-8EAA-0D4A703956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06351-79B0-483D-AD08-C0F06416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9DC0-C0A0-40F8-AD08-4461C2B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9A38-20E8-4968-8E30-68295DB4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4312A-873B-4302-B9BA-4090A409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A5A3-CC71-4161-B6ED-B17ECE3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68641-E65B-4283-AF7A-EC7FCB29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57509-53F2-43A5-9750-16F1E391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39A51-041E-4601-914F-331EB695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311DE-FB96-4059-8A8E-6CB29A64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BDD8F-C285-4869-B200-E1719A67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06C25-A5E0-4412-A424-0538786F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B00DA-C2B3-4FE3-A24F-779E94C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E80D1-2752-4074-8B34-5618F484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6AE07-994D-485F-BD74-E45C0F5D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2064C-37E6-47E4-900F-135B6D6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89DE6-FC12-4895-ABC5-42AEF1D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51A0C-63C0-4B90-A188-4EA244A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1BC69-10B6-4979-879B-DD25F0B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8E60A-7AE3-49F2-A5A4-90417C3F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ECBF0-35AA-4D63-883C-DFD34A0B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D2898-7A4C-4A92-8DE4-9A1CFB10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5CBC0-01EC-4564-91CC-0B0D50DB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2BFE4-86C0-4B84-B73D-5F0E16BF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D3576-A09F-4627-8BD2-A2F7C4C8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5A44D-DEC5-40B7-A69C-B42DEA9C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60108-FA36-4BB5-9CF4-D150E971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9AF63-32D0-4421-95A8-172A01CF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320A0-6BE3-48E9-B86E-63FA5083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8517B-B651-4A6C-A76C-0A8D8971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0B46B-72E2-4B1B-9B8A-93BFCAE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472-0A55-4F41-A3B8-FB67B378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90458-E9E6-4435-AD6D-07026BC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0683A-655A-4B7E-B449-E7769CAA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B777A-1F49-4DC1-A377-F8E6D731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F9E1B-3A0A-4B2A-8D1F-CAD3AC9B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941F4-11F8-4CDC-98B1-8069D87F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F04B2-A40E-4B6C-B787-CB9879E6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6B42D-82CF-4810-B5CA-C5B75614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2AE14-701C-4B7B-861E-89626FB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3FC0-6A21-4219-9D1A-3B310F19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B4C15-4368-49B1-84A6-BF857033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1C0-C6A6-42DB-BC1E-4A326EE3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12B85-925E-4B38-B0E7-D85BF0F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61FCB-9D6D-4A39-815B-5C7CEC5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F63C0-4044-4CB8-B240-90814FFA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7C8CB-6F65-4A4A-93BD-84AD993F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F6FA6-50C8-4C66-A115-B5556B92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5FE62-7AC6-4B93-B59E-CE95AB88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37315-7403-4F18-BE01-99B4900E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D7CB9-CEB2-4DDA-A501-3C73572D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7577C-9878-4E90-958E-DAC49F4C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6EFC7-ACC6-49DA-8A04-8981292B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7FD-272A-4BFF-B301-546FB175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6A714-CA96-436B-8EDD-F9FA44DE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26775-B138-4877-A274-95F9431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F6978-5116-4810-9994-9B6641E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C7640-294A-421F-99FA-C7F0AF4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5BCCE-E0F0-46C7-B5D9-BB340F33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5328D-EAFA-40F0-A3C7-4D891DD2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B62A8-A094-42E8-87F0-0F740B15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875E0-5639-4FC8-9A12-0A26AD2D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B97D9-8467-49C1-B632-21E3E2A1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BDF69-F099-4B9F-84DC-48FD641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EDF-521A-4082-9CE2-DBD47829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646CB-20B9-4E3C-9F42-10B36F80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9AB4E-040C-4552-90FF-4187D040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66EAD-8111-4198-9143-B2A6285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6889D-FAB3-492A-8216-9413495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A6F3A-3728-4FDC-AC1E-10ED5118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40441-7D2D-4164-BDFE-D59D1EE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AD72D-259E-4F69-A0F7-838D1C04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6000D-4A78-4C00-93EF-506E27D1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0FF91-FFB2-4891-8E8B-A3846059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2C8-F00F-4451-BEED-A93F5583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8A6-093D-4F35-B97F-EBF16814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C40-1825-479D-9B0F-AFE64F62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C2E-B552-42AA-957D-4B9003A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E0E-B43F-4CE5-B0DA-9531B0C2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4DB-5A32-4F23-9DD9-E66BC15E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C6C-76B7-4D92-9378-6DF79628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623-7C22-4F81-BD8F-D0582EFA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CAD0-9619-4E10-92C1-27398BDE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481A-2E75-4DFB-88EF-CF9F360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ACC9-97CB-4FFC-BE02-DEF892A8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0D85-40DA-4A19-90FB-928FA022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2F01-E35D-4B1F-8C72-75485741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FA16-D764-46EE-99FC-B524C11E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83A8-91F1-4127-946F-6CE9B96A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C978-B23E-49BF-BC13-1AA0C99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E1AC-3DDD-4CDB-862A-A40D447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19C6-58F0-4FB3-B896-66FEE8A0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8DAA-484F-40B0-8989-EC057625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3F3B-3751-4FB4-AFA8-1F3D387B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7F77-3BED-4ED1-98D2-B7828706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6A0E-6465-48AA-BF36-210116BE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7504-5B8B-41BB-8312-3FB472B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3426-1BB3-4792-B7FC-23614F85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242F-7CB7-472B-977D-0D5725E9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90F9-2D47-4EA9-90CE-E2D917AC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45F0-D141-405B-AC9F-5FABE908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D988-136A-45B0-B105-9719E8C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9945-2681-43C3-816D-FD0C54B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B028-B754-4E02-A157-2176AFB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2CE9-260C-4E84-9EA0-323869E9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2F73-9C1A-425E-997C-7491EA2E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C949-3AE4-42E1-98AA-EEA80C92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9B09-CA94-4FAD-819E-3FD3EAA4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328A-1213-4448-BB53-BD059BE3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CD6BF-44AB-49D3-8AF0-F8B7CBDA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FE7C-7F90-48A7-ADAF-F57B631D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AD05-739C-4723-898C-9FB09F29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E712-B579-44CD-8F8E-B12F9384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6388-23A6-4CF1-B53D-EDFF06F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F8D8-71EF-409C-9CD3-A4C26B7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CE06-B84F-4A1F-8008-672E178E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3DC0F-D81B-43DE-B753-DD501572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7E79A-04CC-4C4A-8342-297481A2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627B-2808-45CD-9159-04984838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1752-5FEE-4EB6-B843-EB8DF6B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A1C9-A9B7-4FAB-804B-0D80A97C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F6C4-FDEA-43B7-9815-E7509D8A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DE85-A644-40B5-A68C-EE6CBB21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99D16-89A1-4285-9F1B-D2D3B71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60F05-7B6D-4A7C-857E-3009E080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8639-FE34-4A6A-8A49-08571F4E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12F4E-B7C8-4764-8D70-1BF1AFB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DF77C-AF66-4BFF-8520-4DED50FF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0B18-48E3-474F-9DEF-24EF9ECD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223FD-A3C1-47DF-A337-689C3775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0EDE-2A4B-413B-86A8-DDA97705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6DD58-1884-47CE-9B40-50B6D6D1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0A5C-E1AC-4CFB-B4AA-5524A17C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56744-43D9-4926-9065-AFC57959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0799A-9EBB-485A-8450-BD1BBA59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9D800-AE63-4874-98A4-C76C4695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DFD2C-0F29-4184-B4B1-C53C1889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30B39-ECE9-4B79-8F8C-0981508D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014BD-6077-489D-A3E1-748A64FE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B5118-5145-4418-89F9-4799525D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FB11B-7FE6-446E-AE42-39E33A6D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46DBD-5240-4BC3-9F3F-94C854C5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4873E-F5B1-470F-B403-66CE09E5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2469-C646-4EA8-B879-E95392E4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9B5AD-322E-4627-A263-64C0B2C5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B5D0-2180-4485-B915-92B5BE23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F3E25-3A0F-426F-82B2-CCB52D70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7A5B4-A178-4FB0-9CA9-EE674165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31B6-F1FB-455C-A400-7A439485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9807E-064B-4B70-8D01-B214429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8A7A9-82D5-4D66-8AB4-E5C5034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4444A-0B7C-4DFC-8A00-E3FAAF52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4689-9446-4F7D-A9C5-A948A4FA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79593-DF83-4815-AD5C-5C7F7CC0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EF4BD-4C8F-4733-80F1-AE0131D5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87585-A7BC-44D4-A17F-BAC890B0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B4130-275F-4E31-ABE9-140168E1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D3C1-3B32-4675-9DD3-646CB0430B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BBB-E094-4F92-88DF-A3928D41D1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9431-E1CD-4299-8C78-4626B979B8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807-FE1A-4C2D-B22F-CCDFEC6E43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4FCB-E082-4FEB-8171-59D88C958E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6C68-AAFD-4174-A529-92BE93AFD3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8B76-FB12-4D2E-832F-4FD3C05A32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624D-BE0B-4B46-B2C2-FB5E4CB712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DF7F-D3DF-43C8-BBBB-65C57646D7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7C85-83E7-4EA7-8B02-407780E26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1299-2F61-4B45-A199-957491813E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A45B-8ED1-4E15-9DF2-6EDBDF187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03E4-B873-4327-9EF7-AACE6A78CD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A569-A6B8-4B21-9E85-85E2331AD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CE08-C82B-426D-B1DB-CBBA01E2E4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9659-275E-43BF-99AA-32891596D7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70D5-1ACD-418A-9116-0A47DB95D6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4085-8B71-4DC9-82F2-74C1ED599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4CCC-DAE2-4FE7-AA39-B3E7ED43DC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3328-8F52-4B1F-AB82-C26891CB0F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7F17-D2A5-44BB-B34E-94E3E4AF28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D05-3C16-48F1-9800-6D985A9B4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08D5-F1D1-404E-B349-B3610E9F26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A71E-0FBD-4E0A-9561-881F46B82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78EA-0BE2-447D-9A69-8651528E7D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6CB3-86BC-4F63-9018-5CDC2A5B5A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WordArt 8"/>
          <p:cNvSpPr txBox="1"/>
          <p:nvPr/>
        </p:nvSpPr>
        <p:spPr>
          <a:xfrm>
            <a:off x="2411280" y="404640"/>
            <a:ext cx="3611520" cy="18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赤壁赋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85" name="WordArt 9"/>
          <p:cNvSpPr txBox="1"/>
          <p:nvPr/>
        </p:nvSpPr>
        <p:spPr>
          <a:xfrm>
            <a:off x="4114800" y="2438280"/>
            <a:ext cx="154296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苏轼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1066680" y="5029200"/>
            <a:ext cx="2713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攸县三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11"/>
          <p:cNvSpPr txBox="1"/>
          <p:nvPr/>
        </p:nvSpPr>
        <p:spPr>
          <a:xfrm>
            <a:off x="3886200" y="4876920"/>
            <a:ext cx="3276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李瑞云制作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8" name="明月几时有.mp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22603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2209680" y="152280"/>
            <a:ext cx="733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齐声朗诵第一自然段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月夜泛舟赤壁，写了哪些景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写了怎样一幅图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面对秋江夜色之美，举杯诵诗生出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样的快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段的叙述和描写融入了作者怎样的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286000" y="2666880"/>
            <a:ext cx="16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4989600" y="320040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清风、白露、月色、水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3276720" y="3657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清风徐来，水波不兴，月出于东山之上，徘徊于斗牛之间。白露横江，水光接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3925440" y="4941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冯虚御风，羽化登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032280" y="5486400"/>
            <a:ext cx="61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澄清幽美之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月夜荡舟之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融入了作者陶然于自然怀抱中的惬意情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2455200" y="32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景物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2455200" y="37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图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396520" y="5005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快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396520" y="5538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情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993960" y="2908800"/>
            <a:ext cx="8506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4"/>
          <p:cNvSpPr/>
          <p:nvPr/>
        </p:nvSpPr>
        <p:spPr>
          <a:xfrm>
            <a:off x="3306600" y="31680"/>
            <a:ext cx="38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齐声朗读第二段，思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本段在全文中的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668680" y="151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362320" y="236232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承上启下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承上即继续描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泛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的欢快心情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于是饮酒乐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”——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启下写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托遗响于悲风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”</a:t>
            </a:r>
            <a:r>
              <a:rPr b="0" lang="zh-CN" sz="4000" spc="-1" strike="noStrike">
                <a:solidFill>
                  <a:srgbClr val="0000ff"/>
                </a:solidFill>
                <a:latin typeface="方正舒体"/>
                <a:ea typeface="方正舒体"/>
              </a:rPr>
              <a:t> （抒情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356000" y="4005360"/>
            <a:ext cx="79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4572000" y="4724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993960" y="920160"/>
            <a:ext cx="8506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6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4"/>
          <p:cNvSpPr/>
          <p:nvPr/>
        </p:nvSpPr>
        <p:spPr>
          <a:xfrm>
            <a:off x="2438280" y="228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齐声朗读第三段，理解课文意思，用文中句子或用自己的语言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2362320" y="160020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客触景伤怀，由眼前所见“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”，联想到曹操的诗句“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”，进一步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到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事。又由一世之雄的曹操，尚且随大江东去而销声匿迹，联想到自身“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；”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“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；”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“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。 ”把人生与宇宙加以对照，一方面“哀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”，另一方面“羡 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”，产生了“挟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”的想法，抒发了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情感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3388680" y="19810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出于东山之上  徘徊于斗牛之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3687840" y="23623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月明星稀   乌鹊南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2743200" y="26668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历史上曹操被周郎困于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6253920" y="449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吾生之须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3587040" y="487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江之无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3282120" y="5181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仙以遨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5477760" y="5181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抱明月而长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344916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怀古伤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9"/>
          <p:cNvSpPr/>
          <p:nvPr/>
        </p:nvSpPr>
        <p:spPr>
          <a:xfrm>
            <a:off x="3444840" y="33526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渔樵于江渚之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侣鱼虾而友麋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0"/>
          <p:cNvSpPr/>
          <p:nvPr/>
        </p:nvSpPr>
        <p:spPr>
          <a:xfrm>
            <a:off x="3870000" y="37339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驾一叶之扁舟        举匏樽以相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1"/>
          <p:cNvSpPr/>
          <p:nvPr/>
        </p:nvSpPr>
        <p:spPr>
          <a:xfrm>
            <a:off x="3798360" y="41148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寄蜉蝣于天地     渺沧海之一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2"/>
          <p:cNvSpPr/>
          <p:nvPr/>
        </p:nvSpPr>
        <p:spPr>
          <a:xfrm>
            <a:off x="1070280" y="1072800"/>
            <a:ext cx="8506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/>
          <p:cNvSpPr/>
          <p:nvPr/>
        </p:nvSpPr>
        <p:spPr>
          <a:xfrm>
            <a:off x="31082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Object 5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6323040" cy="458496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6"/>
          <p:cNvSpPr/>
          <p:nvPr/>
        </p:nvSpPr>
        <p:spPr>
          <a:xfrm>
            <a:off x="3870720" y="24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逝者如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5623200" y="24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未尝往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3815640" y="33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盈虚者如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5568120" y="33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而卒莫消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7162920" y="259092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又何羡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358128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地曾不能以一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533412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物与我皆无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7010280" y="4114800"/>
            <a:ext cx="18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必哀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之须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2438280" y="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四段作者以回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名义，用眼前的水月为喻，展开哲学般的议论，论述了变与不变的道理 。完成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5"/>
          <p:cNvSpPr/>
          <p:nvPr/>
        </p:nvSpPr>
        <p:spPr>
          <a:xfrm>
            <a:off x="2362320" y="53341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本段实际上是苏轼对客消极的人生观和虚无主义思想的驳斥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又回到了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字上来了。（议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7391520" y="563868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7"/>
          <p:cNvSpPr/>
          <p:nvPr/>
        </p:nvSpPr>
        <p:spPr>
          <a:xfrm>
            <a:off x="993960" y="914400"/>
            <a:ext cx="85068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4"/>
          <p:cNvSpPr/>
          <p:nvPr/>
        </p:nvSpPr>
        <p:spPr>
          <a:xfrm>
            <a:off x="2362320" y="3049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第五段作结，写客被苏轼说服了。结尾一句跟文章开头的“泛舟”“月出”遥相呼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3806280" y="41911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首：苏子与客泛舟游于赤壁之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6"/>
          <p:cNvSpPr/>
          <p:nvPr/>
        </p:nvSpPr>
        <p:spPr>
          <a:xfrm>
            <a:off x="3476520" y="3124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尾：相于枕藉乎舟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3459240" y="594360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首：月出于东山之上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3481560" y="4800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尾：不知东方之既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9"/>
          <p:cNvSpPr/>
          <p:nvPr/>
        </p:nvSpPr>
        <p:spPr>
          <a:xfrm>
            <a:off x="30481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0"/>
          <p:cNvSpPr/>
          <p:nvPr/>
        </p:nvSpPr>
        <p:spPr>
          <a:xfrm>
            <a:off x="2971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993960" y="920160"/>
            <a:ext cx="8506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4"/>
          <p:cNvSpPr/>
          <p:nvPr/>
        </p:nvSpPr>
        <p:spPr>
          <a:xfrm>
            <a:off x="2286000" y="304920"/>
            <a:ext cx="329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思考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2286000" y="1371600"/>
            <a:ext cx="655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表达了作者怎样的思想感情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种思想感情是如何转化的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993960" y="533520"/>
            <a:ext cx="85068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内容分析（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1905120" y="-1522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分析</a:t>
            </a:r>
            <a:r>
              <a:rPr b="0" lang="zh-CN" sz="66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2209680" y="990720"/>
            <a:ext cx="6934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苏轼力图排遣政治打击而带来的苦闷从而听任自然，乐观旷达，作者力图从消极中超脱出来，其实是含蓄地向他的政敌暗示：我虽然遭贬，但我却超然世外，飘然欲仙，寄情山水，尽得其乐，不寂寞不烦恼，反而积极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538560" y="457200"/>
            <a:ext cx="16426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本文表达了作者怎样的思想感情</a:t>
            </a: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6"/>
          <p:cNvSpPr/>
          <p:nvPr/>
        </p:nvSpPr>
        <p:spPr>
          <a:xfrm>
            <a:off x="2362320" y="1295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者先写月夜泛舟，饮酒赋诗，沉浸在美好景色中而忘怀世俗的快乐心情；再从凭吊历史人物的兴亡，感到人生短促，变化无常，因而跌入现实的苦闷；最后阐发变与不变的哲理，表现了旷达乐观的人生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538560" y="380880"/>
            <a:ext cx="164268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这种思想感情是如何转化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3156480" y="380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感情变化过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9"/>
          <p:cNvSpPr/>
          <p:nvPr/>
        </p:nvSpPr>
        <p:spPr>
          <a:xfrm>
            <a:off x="609768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乐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悲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－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0"/>
          <p:cNvSpPr/>
          <p:nvPr/>
        </p:nvSpPr>
        <p:spPr>
          <a:xfrm>
            <a:off x="2644920" y="1219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030"/>
          <p:cNvSpPr/>
          <p:nvPr/>
        </p:nvSpPr>
        <p:spPr>
          <a:xfrm>
            <a:off x="1288440" y="17604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写景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031"/>
          <p:cNvSpPr/>
          <p:nvPr/>
        </p:nvSpPr>
        <p:spPr>
          <a:xfrm>
            <a:off x="2286000" y="2286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清风徐来，水波不兴；月出东山，徘徊斗牛；白露横江，水光接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032"/>
          <p:cNvSpPr/>
          <p:nvPr/>
        </p:nvSpPr>
        <p:spPr>
          <a:xfrm>
            <a:off x="1269360" y="191628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抒情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033"/>
          <p:cNvSpPr/>
          <p:nvPr/>
        </p:nvSpPr>
        <p:spPr>
          <a:xfrm>
            <a:off x="2362320" y="1916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哀吾生之须臾，羡长江之无穷；挟飞仙以遨游，抱明月而长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34"/>
          <p:cNvSpPr/>
          <p:nvPr/>
        </p:nvSpPr>
        <p:spPr>
          <a:xfrm>
            <a:off x="1269360" y="321300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议论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035"/>
          <p:cNvSpPr/>
          <p:nvPr/>
        </p:nvSpPr>
        <p:spPr>
          <a:xfrm>
            <a:off x="2362320" y="3276720"/>
            <a:ext cx="6781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水，逝者如斯而未尝往也；      月，盈虚者如彼而卒莫消长也；      变，天地曾不能以一瞬；          不变，物与我皆无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36"/>
          <p:cNvSpPr/>
          <p:nvPr/>
        </p:nvSpPr>
        <p:spPr>
          <a:xfrm>
            <a:off x="4081320" y="5649840"/>
            <a:ext cx="14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景、情、理  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融为一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0"/>
          <p:cNvSpPr/>
          <p:nvPr/>
        </p:nvSpPr>
        <p:spPr>
          <a:xfrm>
            <a:off x="441360" y="0"/>
            <a:ext cx="83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全文梳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1"/>
          <p:cNvSpPr/>
          <p:nvPr/>
        </p:nvSpPr>
        <p:spPr>
          <a:xfrm>
            <a:off x="0" y="91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清风徐来              白露   遗世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游                      月出                                                             写景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水波不兴              水光   羽化登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914400" y="104616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3"/>
          <p:cNvSpPr/>
          <p:nvPr/>
        </p:nvSpPr>
        <p:spPr>
          <a:xfrm>
            <a:off x="2362320" y="1046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3276720" y="112248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15"/>
          <p:cNvSpPr/>
          <p:nvPr/>
        </p:nvSpPr>
        <p:spPr>
          <a:xfrm>
            <a:off x="4038480" y="104616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16"/>
          <p:cNvSpPr/>
          <p:nvPr/>
        </p:nvSpPr>
        <p:spPr>
          <a:xfrm>
            <a:off x="5486400" y="112248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7"/>
          <p:cNvSpPr/>
          <p:nvPr/>
        </p:nvSpPr>
        <p:spPr>
          <a:xfrm>
            <a:off x="0" y="203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怨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乐        歌         箫声                        承上写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启下写“悲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泣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9144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1828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0"/>
          <p:cNvSpPr/>
          <p:nvPr/>
        </p:nvSpPr>
        <p:spPr>
          <a:xfrm>
            <a:off x="3124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21"/>
          <p:cNvSpPr/>
          <p:nvPr/>
        </p:nvSpPr>
        <p:spPr>
          <a:xfrm>
            <a:off x="3657600" y="218916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2"/>
          <p:cNvSpPr/>
          <p:nvPr/>
        </p:nvSpPr>
        <p:spPr>
          <a:xfrm>
            <a:off x="0" y="310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苏子               客    孟德                        哀吾生之须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        问                           而今安在哉         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抒情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愀然               答    周郎                        羡长江之无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23"/>
          <p:cNvSpPr/>
          <p:nvPr/>
        </p:nvSpPr>
        <p:spPr>
          <a:xfrm>
            <a:off x="1066680" y="33526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4"/>
          <p:cNvSpPr/>
          <p:nvPr/>
        </p:nvSpPr>
        <p:spPr>
          <a:xfrm>
            <a:off x="144792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981080" y="32558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26"/>
          <p:cNvSpPr/>
          <p:nvPr/>
        </p:nvSpPr>
        <p:spPr>
          <a:xfrm>
            <a:off x="2514600" y="32558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27"/>
          <p:cNvSpPr/>
          <p:nvPr/>
        </p:nvSpPr>
        <p:spPr>
          <a:xfrm>
            <a:off x="3429000" y="333216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28"/>
          <p:cNvSpPr/>
          <p:nvPr/>
        </p:nvSpPr>
        <p:spPr>
          <a:xfrm>
            <a:off x="5105520" y="3255840"/>
            <a:ext cx="75960" cy="83844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29"/>
          <p:cNvSpPr/>
          <p:nvPr/>
        </p:nvSpPr>
        <p:spPr>
          <a:xfrm>
            <a:off x="7010280" y="3332160"/>
            <a:ext cx="152640" cy="762120"/>
          </a:xfrm>
          <a:custGeom>
            <a:avLst/>
            <a:gdLst>
              <a:gd name="textAreaLeft" fmla="*/ 0 w 152640"/>
              <a:gd name="textAreaRight" fmla="*/ 5508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0"/>
          <p:cNvSpPr/>
          <p:nvPr/>
        </p:nvSpPr>
        <p:spPr>
          <a:xfrm>
            <a:off x="0" y="4495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水——逝者如斯             变：天地不能一瞬             清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                                                                                                议论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月——盈虚者如彼        不变：物与我皆无尽          明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1"/>
          <p:cNvSpPr/>
          <p:nvPr/>
        </p:nvSpPr>
        <p:spPr>
          <a:xfrm>
            <a:off x="2971800" y="464832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2"/>
          <p:cNvSpPr/>
          <p:nvPr/>
        </p:nvSpPr>
        <p:spPr>
          <a:xfrm>
            <a:off x="31240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3"/>
          <p:cNvSpPr/>
          <p:nvPr/>
        </p:nvSpPr>
        <p:spPr>
          <a:xfrm>
            <a:off x="3429000" y="48006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34"/>
          <p:cNvSpPr/>
          <p:nvPr/>
        </p:nvSpPr>
        <p:spPr>
          <a:xfrm>
            <a:off x="6324480" y="47242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5"/>
          <p:cNvSpPr/>
          <p:nvPr/>
        </p:nvSpPr>
        <p:spPr>
          <a:xfrm>
            <a:off x="64771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6"/>
          <p:cNvSpPr/>
          <p:nvPr/>
        </p:nvSpPr>
        <p:spPr>
          <a:xfrm>
            <a:off x="6858000" y="48006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7"/>
          <p:cNvSpPr/>
          <p:nvPr/>
        </p:nvSpPr>
        <p:spPr>
          <a:xfrm>
            <a:off x="7696080" y="4724280"/>
            <a:ext cx="152640" cy="762120"/>
          </a:xfrm>
          <a:custGeom>
            <a:avLst/>
            <a:gdLst>
              <a:gd name="textAreaLeft" fmla="*/ 0 w 152640"/>
              <a:gd name="textAreaRight" fmla="*/ 5508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8"/>
          <p:cNvSpPr/>
          <p:nvPr/>
        </p:nvSpPr>
        <p:spPr>
          <a:xfrm>
            <a:off x="0" y="57913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喜笑      更酌      狼籍       枕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9"/>
          <p:cNvSpPr/>
          <p:nvPr/>
        </p:nvSpPr>
        <p:spPr>
          <a:xfrm>
            <a:off x="1219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0"/>
          <p:cNvSpPr/>
          <p:nvPr/>
        </p:nvSpPr>
        <p:spPr>
          <a:xfrm>
            <a:off x="2286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1"/>
          <p:cNvSpPr/>
          <p:nvPr/>
        </p:nvSpPr>
        <p:spPr>
          <a:xfrm>
            <a:off x="3429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42"/>
          <p:cNvSpPr/>
          <p:nvPr/>
        </p:nvSpPr>
        <p:spPr>
          <a:xfrm>
            <a:off x="8077320" y="173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3"/>
          <p:cNvSpPr/>
          <p:nvPr/>
        </p:nvSpPr>
        <p:spPr>
          <a:xfrm>
            <a:off x="8153280" y="394164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4"/>
          <p:cNvSpPr/>
          <p:nvPr/>
        </p:nvSpPr>
        <p:spPr>
          <a:xfrm>
            <a:off x="8763120" y="173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5"/>
          <p:cNvSpPr/>
          <p:nvPr/>
        </p:nvSpPr>
        <p:spPr>
          <a:xfrm>
            <a:off x="8763120" y="394164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6"/>
          <p:cNvSpPr/>
          <p:nvPr/>
        </p:nvSpPr>
        <p:spPr>
          <a:xfrm>
            <a:off x="5940360" y="155736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7"/>
          <p:cNvSpPr/>
          <p:nvPr/>
        </p:nvSpPr>
        <p:spPr>
          <a:xfrm>
            <a:off x="7238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295640" cy="65530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湖北黄冈赤壁（东坡赤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2362320" y="4419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宋代的黄州，就是今天的湖北黄冈。黄冈西北的长江边上，有一处风景胜地。那儿矗立着一座红褐色的山崖，因为形状很像鼻子，人们就称它为赤鼻矶；又因为山崖陡峭如一面墙壁，所以它也被称为赤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4"/>
          <p:cNvSpPr/>
          <p:nvPr/>
        </p:nvSpPr>
        <p:spPr>
          <a:xfrm>
            <a:off x="2707200" y="189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"/>
          <p:cNvSpPr/>
          <p:nvPr/>
        </p:nvSpPr>
        <p:spPr>
          <a:xfrm>
            <a:off x="3201840" y="1006560"/>
            <a:ext cx="462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完成课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背诵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明月几时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为题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字以内的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明月几时有.mp3" descr=""/>
          <p:cNvPicPr/>
          <p:nvPr/>
        </p:nvPicPr>
        <p:blipFill>
          <a:blip r:embed="rId1"/>
          <a:stretch/>
        </p:blipFill>
        <p:spPr>
          <a:xfrm>
            <a:off x="5796000" y="242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30" dur="indefinite" restart="never" nodeType="tmRoot">
          <p:childTnLst>
            <p:seq>
              <p:cTn id="931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932" nodeType="clickEffect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5" dur="422603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苏东坡像"/>
          <p:cNvPicPr/>
          <p:nvPr/>
        </p:nvPicPr>
        <p:blipFill>
          <a:blip r:embed="rId1"/>
          <a:stretch/>
        </p:blipFill>
        <p:spPr>
          <a:xfrm>
            <a:off x="4621320" y="0"/>
            <a:ext cx="4522680" cy="6858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苏轼游赤壁"/>
          <p:cNvPicPr/>
          <p:nvPr/>
        </p:nvPicPr>
        <p:blipFill>
          <a:blip r:embed="rId2"/>
          <a:stretch/>
        </p:blipFill>
        <p:spPr>
          <a:xfrm>
            <a:off x="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8"/>
          <p:cNvSpPr/>
          <p:nvPr/>
        </p:nvSpPr>
        <p:spPr>
          <a:xfrm>
            <a:off x="152280" y="4572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诗词文赋、书法、绘画样样精通。儒家和佛老思想。入世：积极进取，怀才不遇；出世：逃避现实，寄情山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3813840" y="14263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苏轼其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3186_苏轼图像"/>
          <p:cNvPicPr/>
          <p:nvPr/>
        </p:nvPicPr>
        <p:blipFill>
          <a:blip r:embed="rId1"/>
          <a:stretch/>
        </p:blipFill>
        <p:spPr>
          <a:xfrm>
            <a:off x="0" y="0"/>
            <a:ext cx="492768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7"/>
          <p:cNvSpPr/>
          <p:nvPr/>
        </p:nvSpPr>
        <p:spPr>
          <a:xfrm>
            <a:off x="2987640" y="0"/>
            <a:ext cx="22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981e"/>
                </a:solidFill>
                <a:latin typeface="Times New Roman"/>
                <a:ea typeface="华文中宋"/>
              </a:rPr>
              <a:t>背景提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4140360" y="787320"/>
            <a:ext cx="50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宋神宗元丰五年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08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年），苏轼遭受政治迫害，被贬谪到黄州已经两年了。“长江绕廓知鱼美，好竹连山觉笋香” ，水中的鲜鱼，山间的竹笋，江城的一切风物，都给政治失意的苏轼带来莫大的慰藉。这时，他曾站立在江边赤壁之上，眺望如画江山，唱出了“大江东去”的豪放歌声。他还在七月十六日一个幽静的夜晚，驾舟畅游于赤壁之下的长江水面，写下了千古名作《赤壁赋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7"/>
          <p:cNvSpPr/>
          <p:nvPr/>
        </p:nvSpPr>
        <p:spPr>
          <a:xfrm>
            <a:off x="3656880" y="43812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听课文录音朗读并注意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2916360" y="1341360"/>
            <a:ext cx="593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请同学们在文中标出押韵字并体会换韵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249640" y="3573360"/>
            <a:ext cx="66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段       间   天   然   仙              第四段         往   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二段       桨   光   方                                          瞬   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慕   诉   缕   妇                                   主   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三段       稀   飞   诗                            月   色   竭   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昌    苍   郎                     第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东    空   雄                                   酌   藉   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鹿    属   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穷    终   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赤壁赋.mp3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5299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4923720" y="434340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二、指出下列各字的通假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2484360" y="5445000"/>
            <a:ext cx="771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39f2"/>
                </a:solidFill>
                <a:latin typeface="Times New Roman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f739f2"/>
                </a:solidFill>
                <a:latin typeface="Times New Roman"/>
                <a:ea typeface="华文中宋"/>
              </a:rPr>
              <a:t>、属——         </a:t>
            </a:r>
            <a:r>
              <a:rPr b="0" lang="zh-CN" sz="3200" spc="-1" strike="noStrike">
                <a:solidFill>
                  <a:srgbClr val="f739f2"/>
                </a:solidFill>
                <a:latin typeface="Times New Roman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f739f2"/>
                </a:solidFill>
                <a:latin typeface="Times New Roman"/>
                <a:ea typeface="华文中宋"/>
              </a:rPr>
              <a:t>、冯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4427640" y="544500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7308720" y="5445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975960" y="836640"/>
            <a:ext cx="911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基础检测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2590920" y="12952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赋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是一种有韵的文体，讲求声律、押韵、对比等形式。有辞赋、骈赋和律赋、文赋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0"/>
          <p:cNvSpPr/>
          <p:nvPr/>
        </p:nvSpPr>
        <p:spPr>
          <a:xfrm>
            <a:off x="287208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、关于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风景1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4"/>
          <p:cNvSpPr/>
          <p:nvPr/>
        </p:nvSpPr>
        <p:spPr>
          <a:xfrm>
            <a:off x="1203840" y="620640"/>
            <a:ext cx="34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注意下列画线字词的读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1047600" y="1676520"/>
            <a:ext cx="68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壬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 ）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酾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酒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桂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横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槊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余音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袅袅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    ）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渔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樵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幽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壑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扁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舟（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嫠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妇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匏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樽（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愀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然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蜉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山川相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缪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 ）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无尽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藏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舳舻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千里（           ）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狼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籍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旗（       ）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枕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藉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       ）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981080" y="1600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rén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98108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z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2917800" y="266688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n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2209680" y="3124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209680" y="3581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1981080" y="40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q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2879640" y="45925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2895480" y="50292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zhúl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1981080" y="5562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7086600" y="1676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h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7010280" y="21337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7010280" y="2590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q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701028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708660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010280" y="35053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6858000" y="4114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fú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73915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z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70866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7162920" y="5562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j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4"/>
          <p:cNvSpPr/>
          <p:nvPr/>
        </p:nvSpPr>
        <p:spPr>
          <a:xfrm>
            <a:off x="1752480" y="1371600"/>
            <a:ext cx="480060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舞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幽壑之潜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泣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孤舟之嫠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侣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鱼虾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麋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正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襟危坐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乌鹊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击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空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兮溯流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918720" y="914400"/>
            <a:ext cx="91152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基础检测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121280" y="457200"/>
            <a:ext cx="17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三 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. 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说一说加线词的活用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6451560" y="13716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使动用法，使……舞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5899320" y="2057400"/>
            <a:ext cx="32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使动用法，使……哭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9436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意动用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以……为伴侣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朋友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6531120" y="3581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形容词作动词，整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6471000" y="441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名词作状语，向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6270480" y="5105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形作名，明澈如空的清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2362320" y="1066680"/>
            <a:ext cx="66294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此非孟德之困于周郎者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而今安在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吾与子渔樵于江渚之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904680" y="549360"/>
            <a:ext cx="911520" cy="59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基础检测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3796560" y="166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被动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9"/>
          <p:cNvSpPr/>
          <p:nvPr/>
        </p:nvSpPr>
        <p:spPr>
          <a:xfrm>
            <a:off x="4664880" y="152280"/>
            <a:ext cx="16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四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. 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说一说下边句子是什么句式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378684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宾语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8"/>
          <p:cNvSpPr/>
          <p:nvPr/>
        </p:nvSpPr>
        <p:spPr>
          <a:xfrm>
            <a:off x="3859920" y="472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状语后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4:54:59Z</dcterms:created>
  <dc:creator>Teller</dc:creator>
  <dc:description/>
  <dc:language>en-US</dc:language>
  <cp:lastModifiedBy>a</cp:lastModifiedBy>
  <dcterms:modified xsi:type="dcterms:W3CDTF">2015-02-09T02:30:11Z</dcterms:modified>
  <cp:revision>169</cp:revision>
  <dc:subject/>
  <dc:title>赤壁赋</dc:title>
</cp:coreProperties>
</file>