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791-F6C6-4156-90C4-2DA43C3E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A6D-8E22-4795-88F9-D6711F29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22231-C249-42D9-BD42-2699B5A1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47876-FB72-4F3E-ACD6-8D915044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B1B44-32A1-49BA-BD25-30F46B77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774B4-763E-41A9-8AB5-2E76AE8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33006-1D4A-432D-9246-9C41077C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65E00-86BE-4E73-98BB-BA2652A1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A8280-75AD-4AA3-8422-23E366ED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ACB18-9D8A-4D01-96DC-1BB3E78C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41023-D14A-4914-BE10-5764DD0C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C60C8-4A24-4570-A744-1149DE7F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44F-105C-4B4C-BF78-FEA5CDDE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CF3CC-3339-43F9-B1F4-73103A3E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63CD1-9FC5-45BC-9515-A7744D6F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10074-97B1-47F0-B8B6-5E2C556F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DFB87-47CE-4FD3-ABC7-CB2C3664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EDD7D-1388-432C-890E-E8C180FE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611B8-AEB0-4566-B727-E9EB3CB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21990-D1DD-4268-BD15-09609FA2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89FA8-20D0-45B6-88DC-DAB72E41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37C04-08C3-4198-8F23-6892D26A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E3207-52BF-448D-AE0E-75BC3EAA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D08-9092-4D0E-868F-50415479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9E2DC-891F-4317-A89E-841532EA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345CB-2A96-4DFF-A84E-2FA00C29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5DC65-DE6D-4811-8779-FC16188E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D424-E8C8-423D-959C-E85484BD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F2A8A-6B49-4B78-B5C8-4AC7F230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13802-2D02-4723-9C47-D28D6CB9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347EC-2558-40D6-A418-1B97CC49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3C461-7B0A-4AA6-B65C-5CBA113B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6B49C-82DE-4EF1-A7E7-C5D968F4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536DC-6DA3-499B-8F38-FEFA5E19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7CBE-6370-4330-9BB5-57EFE96B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E8177-4616-471F-BBA8-A67FD969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50DEE-8654-429F-9770-131BA6E2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7A609-23CE-4E61-8FE7-41BA9602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6FF71-7D82-4D6F-B185-45D0C242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7D30F-0BDC-400A-A29B-3FD1C264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4D585-E10D-4ADC-843C-8960AF5A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C2F5D-F31B-4DB3-BBA7-DC71521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98625-F280-41D0-8B24-8C48D782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D11A0-F678-4EA4-BA9E-E6FEAC80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E7470-B27D-4D42-B09D-C0EDFC6F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BD79-ED58-468E-97B4-7CE99E60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D589B-9207-4D0D-BA57-6FCC1ED7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B7BB7-C492-4356-B31A-5B3383C4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0F037-84F7-4417-BEBB-70C788CF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78C7E-5082-4623-A2AB-5747C17D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9B5EF-AEE5-48A2-968E-4ED9E04F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389B6-8339-4325-84E9-75A263EC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26396-F041-400F-BCE6-F86098FC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6B973-53C8-4155-8FC3-76FBA9F9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BD266-F83B-4B82-8D45-60DFE92B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BC301-2815-444F-81A5-CFD18865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45BF-BA90-4AEF-98FA-B3E3F6B1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87501-11C5-44AF-BD15-899BF15B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D6C30-EF9E-4435-AFFA-4C2684C2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23C35-EDE4-4B93-BCCB-D735840A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5B5F4-CF13-4995-8B48-058FBB7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B84A2-C75F-4E30-9480-5A97AFA2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255E3-517A-439D-90A4-63F8E0CD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A6775-8A17-4F4B-B818-D345C7D8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AE00-B311-4533-8214-1386AF32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6EC1-27E5-4648-9C9D-7BDE5E61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9635-3C13-44CC-B8CB-2A08D8E2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00E5-B246-4CA8-959F-61CAC6A3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A42-60A5-490C-9E05-66431B76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49AB-176D-4D53-87BA-B6A4F769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853A-F627-4F2A-8B78-F2276877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026C-9F27-4A34-A7F0-C4F44D0D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3660-FF9B-4E88-81C5-630C55B0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15D0-DB64-47F3-9E61-6AAFFF40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F1260-681D-4D24-A2E5-7EA7D674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90E5-000E-415A-8806-72E4698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7EC2-7D0E-4E71-AC45-18716130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3D4F-EBFC-4086-BA8E-F719232D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3FFD-2A7A-40F1-A6EC-358B78C1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F60-0719-473B-9D02-D51837DE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7026-190F-4BE3-9324-6A8B460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ED50-C8B4-4C35-A67F-36B9ABC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928EE-BCBC-44AC-8D5C-0BEB918B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3C26-FC3E-4325-BF33-0A1C7616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619A6-86C5-4E78-A7AD-4E3CE8C7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9D73-7BE7-4198-9A76-9A5DCE96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50DC-1BB0-481F-878B-F372412F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14576-E90F-43BF-A09F-32771022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BEE8-8423-4E05-A0C9-3649BD23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3AE2-67DE-4E7D-B8FA-417A319A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58A-AC1C-475A-8698-A5564C52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711B9-264F-4B98-A8DA-B9D6C174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77BA0-E103-42EF-A904-F86B468E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87850-AEC4-452C-9EC7-4C303394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9F101-5D72-4265-BDD2-97A971B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70C66-5C10-474D-AF45-25BC165B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D260-0482-4DB3-991D-BA80D614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3A903-FCF7-4532-A5DA-75C92755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7AD5-2E61-4FB1-8853-7A6D1D2A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F290-47B5-4455-A6E3-991DF1AA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28D8B-4FC9-4F5A-9670-BF167116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CB3-F04D-40D8-9E56-91EA9546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D20A-C7AC-4FEC-B642-2AB5C2D6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E71E0-4195-4201-AEA7-B3FD8D87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102FA-DF2E-49AD-B03F-45F71A63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DBBF7-7D80-425F-B4FC-9496C22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0C3CF-8B0F-4D72-8D9A-094394B6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E6FD5-91B7-4663-9F75-DF504600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A6316-D89C-4A32-A193-48774D10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33FA7-20EE-4A57-81AF-F9E563E0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4D3F9-0B21-4C75-AA39-7D3FB11D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096A7-F660-48E3-86C9-89E20CB2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8A1-846C-4806-867B-E17CFF87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20BE-10AA-4A27-829D-2225CA93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ABED4-B1F4-4C10-AFDF-E3A0BFF1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991B9-3223-48FE-8B77-DC66C601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99905-0E14-4E55-88C0-968DFD7A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DFE34-6857-42B7-A6F8-9CFE4FF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2C399-29AA-4111-B998-F809180D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B16FA-9B08-41C1-97BD-C7CF85A6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8D5E4-46C4-4C1B-A70D-3200FBAE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33225-F309-4BEE-B112-2EC3A33A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D235-8353-48E2-913F-7126AAA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A79-A48E-4076-8EDE-6973A0AC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28A7-AF52-4203-92B6-1235E5BB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56A73-F0C9-477B-85D9-09937D3D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980BC-904D-4B25-916D-F0104B89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23DEA-92AA-45E1-B308-A9D58A4C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1C5E6-DF1D-4634-9AC3-F733CB33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3EC61-709A-4BE8-9F8B-E1B86CB0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B3960-CB5D-43D4-8C30-33EF742B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A5F6F-30B3-4B21-806B-535D9F7B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5E467-A0E5-47F9-9869-C56EC17F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7136B-0041-464F-9349-2EF7E934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F59-ED96-40F8-98B7-19376630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BF70E-A408-4449-863B-91944A0E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5F09E-8C03-4803-865F-3D0EA5BE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C74FB-2113-4A91-AB58-C1CE4904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3480F-BB38-4005-9DE1-9EAC5E01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D1625-FAD9-40F7-8F8B-9708DF2C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1CD2E-2C6B-4771-A8FE-2C19D23B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40F2D-FB70-4BC3-B155-C5792A00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11447-7F72-40F7-B863-2EC69727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93F07-9AF9-41ED-AD9D-AFA7AB0B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2D882-162B-40E4-8409-2718D39F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C2A-EDF2-4C4C-AC16-C4BA93EA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D69D6-86AF-46C9-931F-90D99F77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CCB71-BE8A-485C-9C82-D883766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20565-8CFC-4D8E-B85B-28C76D3E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5F95A-4B3F-4722-9CA7-B155C918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2B4D2-D1A7-4ADC-96C3-B3B40D36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205C5-C9F8-4F6E-AE0F-212EE134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FDE57-8969-4FE5-8304-3406A6ED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988AF-1AF0-43B4-B509-763ADD14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D86B4-E430-4BE8-8584-DD3C897A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A7FC9-588D-4526-8A38-E5E91D98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0162-23BC-4EAD-B257-A1DA4DBC94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CD12-C30F-4201-B81C-5310407477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0717-19D8-4863-83AA-3F0FA108CE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281B-E544-4A1A-9C82-52BEA14D2F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2A27-D7AD-4856-904E-0ACF471F2E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8958-967F-469A-BCF2-63C58E2B85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9EDE-347D-4D34-925F-A4F49CD1BC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74F1-1CCF-4F2A-992E-7DCB7944DB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C39A-09E1-4FF5-BBE2-5C72E6BFC1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DE7C-251B-4740-B61F-5A0711A810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8723-89BA-427E-BD2D-67620B4ECB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B46B-BC6B-434D-9A05-956C9DAD64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7FE8-A795-44F6-B9DF-27DC797945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DA33-18D0-472F-AA99-30CFE1D1AE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FFA3-CA5F-4558-887C-A00B6EB14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A21D-A0FE-41CD-9B15-3CA35C85E3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750C-6C68-4866-9316-06BC6CC3CB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D8CB-B49E-4EFB-81F4-71B7034624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164A-C457-4183-8BCE-F8F9C6D45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B9E7-A68C-482F-A45F-3961225388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0C51-B9AC-43D4-9D28-EA00FE85E8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4A6D-AAD4-4BEB-B66B-D790C65C5A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3E5D-CC75-42ED-83C7-30591B53E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5CA8-C176-4958-87A4-B3ABB5BC81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8125-BFDD-4C1E-AD80-F2B0A4F3B1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>
            <a:off x="1619280" y="4221000"/>
            <a:ext cx="6095880" cy="15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草船借箭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4" name="Picture 9" descr="1"/>
          <p:cNvPicPr/>
          <p:nvPr/>
        </p:nvPicPr>
        <p:blipFill>
          <a:blip r:embed="rId2"/>
          <a:stretch/>
        </p:blipFill>
        <p:spPr>
          <a:xfrm>
            <a:off x="3230640" y="471600"/>
            <a:ext cx="25923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754200" y="1268280"/>
            <a:ext cx="7705440" cy="581400"/>
          </a:xfrm>
          <a:prstGeom prst="rect">
            <a:avLst/>
          </a:prstGeom>
          <a:solidFill>
            <a:srgbClr val="0000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篇课文讲的是我国著名长篇历史小说《三国演义》中的一个故事。故事发生在东汉末年，当时曹操刚刚打败刘备，又派兵进攻孙权。于是刘备和孙权联合起来抵抗曹操。刘备派诸葛亮到孙权那里帮助作战。认真读读课文，看看草船借箭这件事的起因是什么，经过怎样，结果又如何。弄清“神机妙算”这个词语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1116000" y="1700280"/>
            <a:ext cx="6912000" cy="44830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                     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北魏（曹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           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打败                                 攻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西蜀（刘备）              联合                  东吴（周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（诸葛亮）      派诸葛亮                      （鲁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H="1">
            <a:off x="1692000" y="2058840"/>
            <a:ext cx="1873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4859280" y="2131920"/>
            <a:ext cx="1800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3132000" y="4290840"/>
            <a:ext cx="27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1403280" y="1557360"/>
            <a:ext cx="691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中写到了哪几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文中找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草船借箭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起因，经过和结果，各在哪几个自然段讲到的？除此还讲到了什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556000" y="4365720"/>
            <a:ext cx="658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起因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1</a:t>
            </a:r>
            <a:r>
              <a:rPr b="0" lang="en-US" sz="3200" spc="-1" strike="noStrike">
                <a:solidFill>
                  <a:srgbClr val="ff9966"/>
                </a:solidFill>
                <a:latin typeface="宋体"/>
                <a:ea typeface="黑体"/>
              </a:rPr>
              <a:t>—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2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准备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3</a:t>
            </a:r>
            <a:r>
              <a:rPr b="0" lang="en-US" sz="3200" spc="-1" strike="noStrike">
                <a:solidFill>
                  <a:srgbClr val="ff9966"/>
                </a:solidFill>
                <a:latin typeface="宋体"/>
                <a:ea typeface="黑体"/>
              </a:rPr>
              <a:t>—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5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经过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6</a:t>
            </a:r>
            <a:r>
              <a:rPr b="0" lang="en-US" sz="3200" spc="-1" strike="noStrike">
                <a:solidFill>
                  <a:srgbClr val="ff9966"/>
                </a:solidFill>
                <a:latin typeface="宋体"/>
                <a:ea typeface="黑体"/>
              </a:rPr>
              <a:t>—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9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 结果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10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 flipH="1" rot="21591000">
            <a:off x="1063440" y="4006440"/>
            <a:ext cx="11552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Sylfaen"/>
                <a:ea typeface="黑体"/>
              </a:rPr>
              <a:t>按事情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>
            <a:hlinkClick r:id="rId2" action="ppaction://hlinksldjump"/>
          </p:cNvPr>
          <p:cNvSpPr/>
          <p:nvPr/>
        </p:nvSpPr>
        <p:spPr>
          <a:xfrm>
            <a:off x="971640" y="5493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默读起因部分，请你思考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900000" y="1628640"/>
            <a:ext cx="741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1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、周瑜是怎样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请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诸葛亮商议军事的？他的真正目的是什么，从哪儿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2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、诸葛亮为什么不揭穿他，反而接受赶造十万枝箭的任务，并且立下军令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6"/>
          <p:cNvSpPr/>
          <p:nvPr/>
        </p:nvSpPr>
        <p:spPr>
          <a:xfrm>
            <a:off x="3924360" y="2133720"/>
            <a:ext cx="93492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"/>
          <p:cNvSpPr/>
          <p:nvPr/>
        </p:nvSpPr>
        <p:spPr>
          <a:xfrm>
            <a:off x="3059280" y="3429000"/>
            <a:ext cx="144144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332000" y="7398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</a:rPr>
              <a:t>第一天，不见诸葛亮有什么动静；第二天，仍然不见诸葛亮有什么动静；直到第三天四更时候，诸葛亮秘密地把鲁肃请到船里。</a:t>
            </a:r>
            <a:r>
              <a:rPr b="0" lang="zh-CN" sz="32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1044720" y="322092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借给我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二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条船，每条船上要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三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名军士。船用青布幔子遮起来，还要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一千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个草把子，排在船的两边。我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自有妙用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第三天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管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十万支箭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不过不能让都督知道。他要是知道了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我的计划就完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5"/>
          <p:cNvSpPr/>
          <p:nvPr/>
        </p:nvSpPr>
        <p:spPr>
          <a:xfrm>
            <a:off x="3419640" y="10526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2625840" y="476280"/>
            <a:ext cx="403380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草船借箭.AVI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1"/>
          <p:cNvSpPr/>
          <p:nvPr/>
        </p:nvSpPr>
        <p:spPr>
          <a:xfrm>
            <a:off x="539640" y="342900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这时候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大雾漫天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，江上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连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面对面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都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看不清。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诸葛亮下令把船头朝西，船尾朝东，一字儿摆开，又叫船上的军士一边擂鼓，一边大声呐喊。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一万多名弓努手一齐朝江中放箭，箭好像下雨一样。诸葛亮又下令把船掉过来，船头朝东，船尾朝西，仍旧擂鼓呐喊，逼近曹军水寨去受箭。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979640" y="90792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诸葛亮神机妙算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我真比不上他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719280" y="2781360"/>
            <a:ext cx="84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诸葛亮上知天文，下晓地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知己知彼，周密谋划。他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智多谋，具有非凡的才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7"/>
          <p:cNvSpPr/>
          <p:nvPr/>
        </p:nvSpPr>
        <p:spPr>
          <a:xfrm>
            <a:off x="5219640" y="1628640"/>
            <a:ext cx="216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2411280" y="1700280"/>
            <a:ext cx="79916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复述故事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船借箭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搜集表现诸葛亮神机妙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故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5"/>
          <p:cNvSpPr txBox="1"/>
          <p:nvPr/>
        </p:nvSpPr>
        <p:spPr>
          <a:xfrm>
            <a:off x="2340000" y="1484280"/>
            <a:ext cx="1371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宋体"/>
              </a:rPr>
              <a:t>作业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  <p:transition>
    <p:wheel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1:43:4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5:56:30Z</dcterms:modified>
  <cp:revision>25</cp:revision>
  <dc:subject>第一PPT模板网-WWW.1PPT.COM</dc:subject>
  <dc:title>第一PPT模板网-WWW.1PPT.COM</dc:title>
</cp:coreProperties>
</file>