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EB3A-9DD7-4AA7-BA23-699DA0DA0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1A77-BBB2-4316-BB43-F99EDA8A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5D830-8852-45E6-A5B1-2EDEA50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F806E4-79D8-431A-A261-FCB58CE3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3689D-D85F-4F3F-8612-2B3EAD29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32B30-D135-48E4-9BCF-E19809C6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34F95-F7B7-4C8A-89B9-6E9BB5A5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3B08C-3E35-471C-A2A2-00E99BC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B3E969-51C2-46E8-A507-483236AB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2240E-0B17-4A81-B688-BF894E63C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040C70-EF37-4FD1-8054-2D1889127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D76D4-94FB-485D-99C1-578B3F3E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9759-2C5B-40E7-9B4D-6B20A5AEB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1F862C-F887-459D-84F8-05F4059B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D3E51F-9D5C-44DD-92E0-05E3974E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F2A23-A37A-40E6-B566-7ABEACBD0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970AF-EFAC-4024-ABBA-F9DCAC69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9122E-866D-4360-A9BD-F66119D16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248038-8649-47FE-8824-844000C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E047C-2042-44F2-B453-7051863B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49E711-0739-42B4-8BE6-1163CA6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F4C95-3A18-42A8-80C2-48C1FA6A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614084-03A8-4D2C-84ED-64B0EAB8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BBCC-D767-4BCE-938B-0A41260F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D86D11-C6FC-4B04-A12A-3D9B74D2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6A8E80-329A-4146-A1DE-22EEC2849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4CF1B-A6DE-4544-96DB-C37DF84E2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C8487-F4D1-4A68-BC12-02101202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E0DDF5-9102-46B8-86BC-6E1D8CE6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A38CC7-430A-4C61-BFB6-40057E74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6B4B5-719E-4049-BFFF-2973697B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CEED4-1F4E-44C3-9133-8C95F8904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72536-0CCC-4E3A-A189-AFB4A859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204163-9227-458D-8C56-445193AD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B8EE-6B3A-4468-9D7E-AF7053F6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A3C73-4EE7-4966-A28C-C45AB87C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6D116-E056-4633-AD69-1764E64E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D060F-A205-4EA6-81D6-68EF9D312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D4B3D0-EA79-4B04-BF9E-D438A128B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EA762-CBA7-499F-8471-E76697C7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A4EFA-BD8C-4CE0-9197-670844D7D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EB588E-2EB2-41BB-8EE3-B62BB23C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49B3C-B6A4-40C0-85B9-921E6DC01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7AAEA-B772-4CA1-855B-CE493130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E8EB97-4782-49C5-AB74-2798C4C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901D-AE7E-4EBE-8D96-4D984515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6F438E-3EE6-4DED-91D1-7C94F639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3B9CF-E413-4C5E-8DBD-4306150C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432CC-B609-425B-9809-EFB975D9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E07D4-C9DA-485C-BF02-94870822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01BAEA-CA7A-43DD-88CF-572EE13BA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176731-62E1-4D37-8423-AE8E4BEA3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AD7DA-B379-4501-89EB-7F2600A1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FB6682-1940-4A8B-BF47-A6B60D065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A9DF78-492F-44F2-8937-F92416F5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5DD0E8-0CB1-40D6-B27F-F4841699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FA92-0D09-4903-B2F1-3BC3744C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8D5940-36BD-4319-887C-54F87BE8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4CB8A-B615-486A-8132-8C814BDF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669DDA-7F5C-4AA7-A39E-E2AEE98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A7B44A-74D8-4713-B726-9D97FC93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CBC0D2-F299-42C2-89B7-CB28E81A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A48705-8A34-45D0-8079-7169F225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0CE72E-BDBC-485E-AA0F-1B9F33F1C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1EB14F-C8CC-44EB-A75F-7985E49F9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713844-47D0-42AD-BD85-ECA3DA99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631319-ABBB-48BE-B353-F1F5A283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88FE2-39DF-4500-91A2-BD63D084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5BFB5-9C60-4B5F-B8ED-C62BFE55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498294-9649-41E4-B998-B0BBC215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DACE5C-962F-456B-BB38-09F7C9AA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0AE3A0-8AA3-4897-81C5-242D6AB7F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6B2899-0EEF-4809-AF7B-6EF47980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8C18FF-E812-4F2D-ACF7-517E8FC7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16C970-20C5-441B-87BE-D8EF80DA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86207B-D2AE-4367-9BFF-09404A25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34920D-BA9F-464D-8FD5-5F8B030F1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2CFEC-69D5-40E8-973A-76D3B8E8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1DF5-10B9-4F9F-A7F7-47B66B186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5EBE-9339-4DB6-8AC7-900570A6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F356-07BE-4FCB-B5C5-D1056553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D6A7-0899-42D7-B9F9-4E19FCCD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B9B0-BB08-4903-8651-F0D6A7E5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C45A-1FDB-465F-B066-E605A9DF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E2FE-2B84-4750-8CF6-7C6F947A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9268-6720-4C37-82A9-90BB707C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4EE0E-58A4-4820-A29D-7E64879D9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E136-3CE4-49B9-A47D-945CC8B7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F01BFB-087B-403B-B804-15FC3D35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E92D-81C2-4AC4-A023-F7C131EB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C07C-8627-453F-995E-64EDDD3B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80ED-A4D3-436B-98DC-985864863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262FB-F528-453F-B589-61E1DFA2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BBDB-34A4-425A-BF7A-0CE80A2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422D3-DF5B-422C-AE77-A5D4EAB2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67A85-4B06-45D4-B801-FC10A975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8EA74-779D-44D7-8C6E-A22BEDBD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4BF6F-93BC-4B29-8658-7D3E22A9C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07C3-3B63-45D3-B4FF-A815B7CB9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2EEF-AFA2-4A2A-A6A1-69B2307EF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C89D6-19D9-4D4A-8C9E-AFE5E516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A518-1D18-44FF-963F-E45FA7AF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F55-A801-4B77-AC57-58C065DE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48486-F2DB-48CA-B092-C47CAC0B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B7C0-3E0F-4DBB-AF24-EC320C71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9DD0-EB12-47E1-AA57-38BD2A5B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D27D-9BC0-4501-BAD8-C8765A5E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A2498-D918-4F58-9C50-B8965716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CA451-0AD8-44D8-A21E-5BC44B772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CB82D-A9A7-49D8-9C20-9F1ABE9B1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27FEA-3998-4ED8-8CC8-C453F72D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51AAD-E6F4-409A-A224-182C0895D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73CC0-F6CA-48FA-82B3-0B3F2F58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3520-F651-4CDC-88C9-25E185C0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78398-5BC6-4050-B1E0-9E45E786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1DBCA-7751-43E0-89D9-A813409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A1C34-97D4-4849-9EA7-3D737EE1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D38C6-11B8-4155-AD37-4D50862C1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F334E-E3B5-4121-A57E-761DEE0F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8957-DC84-40CA-91C1-2FEBA97C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D387C-AD33-4A8F-A580-FAF2FC22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42668-5B5E-4FAA-BBF2-8D0FE0D2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B833-0564-4E53-95B8-F940DAA9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4F5CC-5ED7-4190-ADB2-128BF1C3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8249-5111-457B-98E2-E45F8634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334C0-F03B-486C-9A1C-2BA29745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92A47-53A3-4477-93E1-E523242A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586964-AA7B-46B7-B43A-F87E573F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958F-1AC2-4F68-9B79-7FB3BEC9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6FE6A-4B7B-4645-A1A3-6CC3357F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F90019-FE80-429E-8BF1-D4B3A0C3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7D684-52B9-4A45-B715-D2F9EA70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0CC22-971F-4D94-9D6B-84C43247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528D8-9199-4A9B-A982-C83AF9543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38294-6AF2-425E-922B-F9F48F04A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F4AE-53C1-46AD-8710-C684DE6F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D9DB1-71E4-4BC0-BB9F-21D2F35C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85030-8711-4AEA-900B-EC924A158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61C280-AD1B-411B-A144-3D2ECB4E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EDB21-6664-4DCD-9996-6B37203FC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10E20-1E72-417E-81B8-5A56BB62F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589D6-672E-4634-88D6-D2A38821D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8B537D-6BD7-4F31-9502-DB789ED40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C6D50-227D-401D-A0EE-006F2C8B3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DBDC7-38B6-426F-B3F6-D64BAF0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ED5E-6476-4D48-AE9F-D2AB6E5D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48E6-7BF5-473F-979D-327E712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4DFED-D0A2-4E77-BA42-69DDC65F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8617E-1613-484F-A82C-BC36C2A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F8C90-C61B-4FE4-82E2-4977F4959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32E7C-2F92-446C-91A2-CEE9B920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81E16-5D3B-4866-81BE-962C0CD29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CE511E-D3A6-47AC-A2F3-C079963D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8F84-ABA6-44C1-BDA5-0D17B65C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C9DB2-7EB5-4300-B8D8-52AE65D8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0BD30-D7A9-496D-ACBE-259C82F5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68ABC2-E8B3-43B7-831D-1DBB476C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2659-58C7-4E85-99FD-D3EB1D66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E2617-6267-4A4C-955F-636BCF03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D8A45-A376-4D7D-9EBF-2E6DA38A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07843-E976-4488-8967-699F725C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F7F20-E23B-4B40-9AB5-BC87BB1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C70FF-C2D3-49CB-931E-2944ED66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5475-CC77-45CB-A96F-FC3AB8ACC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1A693-1165-4E7C-9F51-7D9C3677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838A7E-82FE-40DE-A415-74CA8FD28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C1AA-C055-4F68-BC40-CD7D54B4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0630C6-749E-4F66-8DAE-ED672134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9197-37AD-40D2-8E88-C019F1EAF97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68B9-5848-4AA0-B160-8608DC69465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6159-A549-4001-80BA-D4407C8CD79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B1EAD-B2E6-45FE-8573-D6F06B274F4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8CE-8B54-47FC-A6B3-796FE22EED6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16E3-7FEE-42DF-92A6-491214B10A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64F9-8C8F-4B85-B4E0-29750AC8E5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73C4-8ADD-477E-9128-F045FE9E07A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2D4C1-83E8-4BCF-B48D-5981ECF6337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E5CC-121E-4850-B1F1-7989CA8B396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D893-11AE-4E1D-BC88-600EAD250D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3160-2A22-48B9-9337-E407C4B95B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3C41-365F-441F-B8A5-6B85C121A3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4D29D-BB12-498A-AE59-3C072F3A42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63F1-2784-48BE-BD98-D47047C8E7C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B7C3B-085C-4654-965D-6B16A783F0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375C-6960-4735-AE7C-61DA1E596EC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16896-E881-4E2B-8553-7999495D9D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4C953-A6A3-46C1-B1C2-EF87329159C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63A6-94F7-4DD0-AF0C-E20994D70E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D32BB-61CD-4EF9-9940-21D5542FAAD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D64D-BA4C-4720-8988-DAB588A445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06844-8B2B-4BE5-93D7-8A484AC411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61EA-DE3F-4A8E-B00D-3A143DF966D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BA8A-1DE1-4190-A4C0-0E834BDDC7F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ECA4-0FD1-47F1-8487-A7C8D95338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002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琥珀"/>
                <a:ea typeface="华文琥珀"/>
              </a:rPr>
              <a:t>操 场 上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Times New Roman"/>
              </a:rPr>
              <a:t>八跟入长得像，</a:t>
            </a:r>
            <a:br>
              <a:rPr sz="8000"/>
            </a:br>
            <a:r>
              <a:rPr b="0" lang="zh-CN" sz="8000" spc="-1" strike="noStrike">
                <a:solidFill>
                  <a:srgbClr val="ffff00"/>
                </a:solidFill>
                <a:latin typeface="Times New Roman"/>
              </a:rPr>
              <a:t>仔细看不一样</a:t>
            </a:r>
            <a:endParaRPr b="0" lang="en-US" sz="8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2743200" y="1447920"/>
            <a:ext cx="38862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7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89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矩形 5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www.1ppt.com/sucai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ff0000"/>
                </a:solidFill>
                <a:uFillTx/>
                <a:latin typeface="Times New Roman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excel/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ziliao/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kejian/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ww.1ppt.com/fanwen/           </a:t>
            </a: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操 场 上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7" name="Picture 12" descr="《操场上》课文插图"/>
          <p:cNvPicPr/>
          <p:nvPr/>
        </p:nvPicPr>
        <p:blipFill>
          <a:blip r:embed="rId10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Text Box 3"/>
          <p:cNvSpPr/>
          <p:nvPr/>
        </p:nvSpPr>
        <p:spPr>
          <a:xfrm>
            <a:off x="1116000" y="2133720"/>
            <a:ext cx="67975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Times New Roman"/>
              </a:rPr>
              <a:t>拍皮 球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3"/>
          <p:cNvSpPr/>
          <p:nvPr/>
        </p:nvSpPr>
        <p:spPr>
          <a:xfrm>
            <a:off x="1258920" y="2133720"/>
            <a:ext cx="6119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Times New Roman"/>
              </a:rPr>
              <a:t>拔  河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3"/>
          <p:cNvSpPr/>
          <p:nvPr/>
        </p:nvSpPr>
        <p:spPr>
          <a:xfrm>
            <a:off x="762120" y="2205000"/>
            <a:ext cx="7162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Times New Roman"/>
              </a:rPr>
              <a:t>打 球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3"/>
          <p:cNvSpPr/>
          <p:nvPr/>
        </p:nvSpPr>
        <p:spPr>
          <a:xfrm>
            <a:off x="1619280" y="1916280"/>
            <a:ext cx="62643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Times New Roman"/>
              </a:rPr>
              <a:t>踢足球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3"/>
          <p:cNvSpPr/>
          <p:nvPr/>
        </p:nvSpPr>
        <p:spPr>
          <a:xfrm>
            <a:off x="1258920" y="2430360"/>
            <a:ext cx="590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15000" spc="-1" strike="noStrike">
                <a:solidFill>
                  <a:srgbClr val="ffffff"/>
                </a:solidFill>
                <a:latin typeface="Times New Roman"/>
              </a:rPr>
              <a:t>跳 高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3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</a:t>
            </a:r>
            <a:r>
              <a:rPr b="1" lang="zh-CN" sz="15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跑步</a:t>
            </a:r>
            <a:endParaRPr b="0" lang="en-US" sz="15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0" y="765000"/>
            <a:ext cx="914400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打    拔    拍    跳     跑     足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球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高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步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六十铺中小学教育网http://www.lspjy.com</dc:creator>
  <dc:description>六十铺中小学教育网http://www.lspjy.com</dc:description>
  <cp:keywords>六十铺中小学教育网http://www.lspjy.com</cp:keywords>
  <dc:language>en-US</dc:language>
  <cp:lastModifiedBy>a</cp:lastModifiedBy>
  <dcterms:modified xsi:type="dcterms:W3CDTF">2015-03-16T08:41:14Z</dcterms:modified>
  <cp:revision>75</cp:revision>
  <dc:subject>六十铺中小学教育网http://www.lspjy.com</dc:subject>
  <dc:title>六十铺中小学教育网http://www.lspjy.com</dc:title>
</cp:coreProperties>
</file>