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2551-C876-41DD-85A2-87FEF57F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40A-3B58-4AB7-B37A-C2AAC976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29F05-527E-48CA-92DA-33A8E5D8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F7006-2C48-4469-A5E3-5D69CD08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FFFA9-20A3-4BAD-8035-1890D1B8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4066D-6685-4312-8555-9CB658F6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883C3-E5CA-412C-A92B-7BE8DA32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B3F12-83DA-4579-B814-475383C2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819FD-97FD-4186-BD36-646BB72E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965F7-AA84-4D0A-B95F-B39B17CA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11114-EC76-442B-9263-31706CC8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3FF49-B9B7-4BAC-92E9-589C59B1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C6D-CDFD-455D-AEF7-F98F5427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92694-14DD-4059-9ACF-81185450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1C274-1716-4A4F-AA7E-A4A4F735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A524C-C9FB-44BB-986F-235EE494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62753-D501-4E4A-8F6A-86B8F561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0BB8D-5A97-4E09-B4C3-2538FD01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61A5F-5331-41F9-A684-21107CB4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497F9-9801-4B09-A0BD-6C78344A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A00EB-0210-42F2-929C-501A1CE1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68679-9158-429E-BFB5-5A748AFE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5966A-DDCC-4423-8795-2F39D8F2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5570-1236-4FDF-9929-2CFC9BAA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9F5BB-2672-4E10-9376-18F26A94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5A2B6-F92B-410B-8D57-33A3C850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77D2D-B83A-47F8-9F77-8784B96D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1A988-C823-4364-952F-D455BC6C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0B313-72AA-47D4-B7B9-5566108F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0387D-43A8-4AC5-89CD-8593D7F3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50DEF-9FA3-4FFD-A158-E1F59E57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B45D6-FC78-4C81-AD3E-F306884A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09F8A-EC0F-43B6-9438-C48B897E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56F34-BF74-4FE1-AFE7-85CF091C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0033-0F3F-437E-8D8D-386DBAF2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F0AA4-13A8-4C78-9FB1-1D8D6A72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DEA8B-25F9-4496-AE5D-5E77196B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D97EE-A6D3-4635-B202-311D18DD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08A73-5339-4991-8E9B-69F21C89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26A9B-B338-4323-B26C-FDAE3BDF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9E61D-9440-414B-A4A3-D35629E0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00ECA-5A4A-4BF7-8B97-5A87455A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4C047-3A04-47BB-9288-4B014E09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84287-4586-4444-BF15-78AA31AB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67A03-B552-4CF4-A12D-2D37B443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EC9D-F9F9-4B91-978E-417AF6B8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97C0E-20AC-4C41-86A8-C61F6FC9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ADBD6-293A-4A33-B90C-992A04A9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1BAB4-2019-44E4-9721-7707DAE8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2ED00-9354-4FA3-9B9F-3BA62CEC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24863-D2AF-4421-829E-1111BCD5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16C39-F120-4061-97FF-9597D4AA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9EBC35-9F39-4082-9512-A7A0B216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73BAB6-93E9-4475-8F5E-A34DFC07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3004F0-E2F4-4077-887D-706BC333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42C09A-0329-47D5-BDFF-BEEE3F84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1B3D-41A2-4ED2-8112-21946357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75D9F0-1364-4ABE-9E98-98204E6E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E0FB9-A5BC-4A4A-AA8D-8EC64CD2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9E75A-AA4F-4547-A1C4-186707BF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C5B92-4926-492C-A772-A7D6D8DE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30134-D75F-497B-8D4B-5C2BD978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7829C8-3468-4117-A386-C310AF7C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B552B7-7457-4415-B650-AC51FC2F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D91F-B2D2-42CC-9905-49F66D66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BDDF-F4D3-484F-B4FD-5625F133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CB81-8406-4DB6-A0E4-D379266B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8BFD-8072-4AC3-9F4E-DAB7D5B0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0C73-8CE7-47A3-96A9-E71688C1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A8B5-18AC-432A-AE8A-178B8277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D86C-C7FE-46A2-BF74-D6ACFF39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A2A3-A172-41F3-B76B-8D0FB258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0EC9-DD23-4CC9-99F3-878039B3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78D1-209A-4E06-92B5-721850F0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74026-273B-4FB7-B2A2-07A236E5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E518B-5A1C-4ECD-9A91-983C96E4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6FDAD-E7BB-4CF1-935C-4763EEFF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0A6F5-A2F8-4006-81CC-FF8EB53B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84771-F04E-4087-A563-DC6C0C06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C8AE-094E-483A-88CE-ADDCD14D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FAA6D-4C5E-4596-9254-2F4DD621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4E0B5-36DE-450C-8A4B-D1411A0E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6C257-3498-4FCE-9F71-1EDC2A10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927DB-97FC-4255-ADDB-FCBBADB5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16A67-F7FF-4D69-92E0-4DA65FCE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08968-21F5-48AA-B204-757714ED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18D06-F615-45EE-97A4-A20B190A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61868-69EB-4EB2-BB96-B1530AF6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2A826-8CD2-46BB-AF36-CEA24E53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5AB53-7F2F-4B5F-A66B-7E1CF457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0EC3-8F5F-4A8A-B90F-2DE27894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555A6-B24C-4D4A-B7C3-D471F84A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D730B-63CE-4C44-B2CB-993A46EB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FA81B-89BA-4C9F-9BD1-75A531D3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5B5C1-A983-44B3-87FF-13E27587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E95E4-D104-4BD7-9763-8A90D4BF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04673-2379-4F84-86B3-F97E8D75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9A537-BDE3-4481-A67A-7867DB3F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1F596-6F7F-4889-8519-6924F968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BE65F-4ACC-42A4-9BBB-5B751116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B932A-3564-4447-A285-55FE1DB6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A847-815B-48E9-A1BD-996E23D4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DF1ED-4D2E-480C-BA03-EC367B02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E5D36-0B37-4497-A019-8B2A996F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6EF43-FB4A-4657-A4C9-989A5A29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57982-CA7A-4B4D-8B71-590D8491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34AF7-2487-4D1A-A999-C39B2C96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DF9B5-AD84-4712-B349-C0708F37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2A4E1-3738-42CB-8042-9B6239C8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0D5B6-FC3C-4B6D-A93F-C8AC2BF9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B8DAC-084C-43BC-9067-FF8B778C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7C2BB-BEDC-4604-A54C-A94A27E3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882-19B5-4D55-9F45-CCBDF747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99EE4-BF64-4FDC-948B-FD2BD570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E2934-B765-4A19-96BD-BC205CE3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9DC45-24AE-4D11-8946-E41EB65A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F5AF9-C8F6-4AD3-8A68-FC7687E9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447E0-6DFD-497C-9891-14912F48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F4A2B-5DF7-4ABC-9516-F28A345D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B5969-8E05-4F4D-816A-FF1D7927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F98EB-44BF-4AA2-982B-01BD5381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886CD-78E8-4D0D-B31B-2AF9C241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697B0-DFFA-4D36-99C3-0465064F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D94-4F5B-49C0-97B2-1FC2C3D6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B8468-2589-4125-968B-0B7ADC4D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2D576-314C-4C7A-A39A-FBF99709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2F05D-DFA2-4780-9B7F-99AC6B52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91A5C-7285-4686-9569-9EDC951A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C187F-D439-4D5F-A2EF-082F3D6D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5E095-255F-44A8-98C7-AB3F4DEC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9B5AF-C1B6-4442-87CD-2E901A8C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DE70C-E8E7-43A6-9D34-FA99BC06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69E3A-AF1A-4323-9457-7C5B4B1C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4E914-2A4F-435E-AB3F-35FC2B0D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983-5640-4D8B-BF60-B9235E5E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12F64-8F78-4717-B663-0796B38B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7FD9C-E296-488D-84F2-EA5F46F7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ED1F2-BA2C-403D-8035-D51DD88F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EBA2A-6BFD-4D3F-99F3-C2CC7920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3047D-6921-4903-B70C-271A1B00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1A45B-5455-4E0D-B72B-0821F560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155EF-21EF-46FB-89CB-14319272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52D45-21F5-4976-AE1C-6B7D0BE4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C57BA-6F2E-47DD-94D8-7B87238E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63292-99BE-43F8-961E-5978E71E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359-70D3-4FA9-8B5D-86C65DD3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74D09-023D-46C6-96A0-50047336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69702-B8C9-4EF0-98F0-A67B5724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828D8-B313-488B-9C45-5E1634BC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052D4-C3AD-4BF6-BDDD-EDC9CEED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D5680-44AE-4381-B287-B5405C18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DEEA8-FFA6-4560-B137-05C3FDC9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930A7-D885-4BED-8C52-DA0D94AD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F262C-168D-4C5A-8B41-3CC9B18E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3BF6D-C78D-4901-A148-6BF1C37F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2A601-CDF0-4043-ACCB-758C2626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22D5-A646-494A-A193-2DBF99DF0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0AF7-1FC2-4350-9B2E-11CFABE9130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EBB6-6E2C-459F-9F94-9992468149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7DA3-67CA-4554-87F2-B304399D91C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1791-0047-4870-8063-10528CD80B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CA0B-8514-4A62-AA54-6675888410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2243-9719-449C-B31D-DA74EFD10F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8ED7-DA2E-4DDB-B6E6-86A2E5EB160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441F-10D5-4A7F-A510-0DCBD1EA95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F0E8-44BC-40F3-8339-6815D8E4883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D03C-B731-4AEC-97DA-7D170AAE92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3453-351B-4B8F-863A-6198F7AA98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C1A4-475E-4369-9508-E71D8090EF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BD03-BFC6-4A48-9282-C61A59615D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B513-9722-40DD-8FC5-AEC93DF0CA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0F3E-F42B-4A22-A3BD-19B26C8A8CB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0901-F38E-4DA7-AEAA-BB7BE63431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C3F4-58CA-4E22-8A62-C33B096C37F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D24C-24D8-475E-A158-D1ABCD5A5B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0E6E-0E92-459B-B180-53ED958DE27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7E4D-E278-48C9-926A-989F3BB9F9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E30D-FDF7-495E-87D6-A2C489EA538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7384-FF43-4D74-B60B-2E4E628319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0E67-754E-4B5E-A1F4-AFF0AF39F98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6657-C643-4989-BFA3-B639D9E02F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楷体_GB2312"/>
              </a:rPr>
              <a:t>村  居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3360" y="155736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                    </a:t>
            </a:r>
            <a:r>
              <a:rPr b="0" lang="zh-CN" sz="4000" spc="-1" strike="noStrike">
                <a:solidFill>
                  <a:srgbClr val="000c0c"/>
                </a:solidFill>
                <a:latin typeface="Arial"/>
              </a:rPr>
              <a:t>高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草长莺飞二月天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拂堤杨柳醉春烟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儿童散学归来早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忙趁东风放纸鸢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想想诗中两个多音字该读什么音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  <a:ea typeface="楷体_GB2312"/>
              </a:rPr>
              <a:t>草</a:t>
            </a:r>
            <a:r>
              <a:rPr b="0" lang="zh-CN" sz="5400" spc="-1" strike="noStrike" u="sng">
                <a:solidFill>
                  <a:srgbClr val="007a77"/>
                </a:solidFill>
                <a:uFillTx/>
                <a:latin typeface="Arial"/>
                <a:ea typeface="楷体_GB2312"/>
              </a:rPr>
              <a:t>长</a:t>
            </a:r>
            <a:r>
              <a:rPr b="0" lang="zh-CN" sz="5400" spc="-1" strike="noStrike">
                <a:solidFill>
                  <a:srgbClr val="007a77"/>
                </a:solidFill>
                <a:latin typeface="Arial"/>
                <a:ea typeface="楷体_GB2312"/>
              </a:rPr>
              <a:t>莺飞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长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cháng  zhǎng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  <a:ea typeface="楷体_GB2312"/>
              </a:rPr>
              <a:t>儿童</a:t>
            </a:r>
            <a:r>
              <a:rPr b="0" lang="zh-CN" sz="5400" spc="-1" strike="noStrike" u="sng">
                <a:solidFill>
                  <a:srgbClr val="007a77"/>
                </a:solidFill>
                <a:uFillTx/>
                <a:latin typeface="Arial"/>
                <a:ea typeface="楷体_GB2312"/>
              </a:rPr>
              <a:t>散</a:t>
            </a:r>
            <a:r>
              <a:rPr b="0" lang="zh-CN" sz="5400" spc="-1" strike="noStrike">
                <a:solidFill>
                  <a:srgbClr val="007a77"/>
                </a:solidFill>
                <a:latin typeface="Arial"/>
                <a:ea typeface="楷体_GB2312"/>
              </a:rPr>
              <a:t>学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散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sàn  sǎn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借助下面的解释，说说诗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63272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长：生长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拂堤：抚摸着堤岸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醉：迷醉于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春烟：春天里水泽、草木间蒸发的雾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散学：放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纸鸢：纸做的形状像老鹰的风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宿新市徐公店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3360" y="177336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杨万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篱落疏疏一径深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树头花落未成阴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儿童急走追黄蝶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飞入菜花无处寻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834920" y="1700280"/>
            <a:ext cx="59259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篱落：篱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疏疏：稀稀落落的样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一径深：一条小路很远很远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树头：树的枝头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阴：树阴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急走：快跑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无处寻：找不到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借助下面的解释，说说诗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课后练习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解释带点的词语，再说说诗句的意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 u="sng">
                <a:solidFill>
                  <a:srgbClr val="000c0c"/>
                </a:solidFill>
                <a:uFillTx/>
                <a:latin typeface="楷体_GB2312"/>
                <a:ea typeface="楷体_GB2312"/>
              </a:rPr>
              <a:t>草长</a:t>
            </a:r>
            <a:r>
              <a:rPr b="0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莺飞二月天，拂堤杨柳</a:t>
            </a:r>
            <a:r>
              <a:rPr b="0" lang="zh-CN" sz="3200" spc="-1" strike="noStrike" u="sng">
                <a:solidFill>
                  <a:srgbClr val="000c0c"/>
                </a:solidFill>
                <a:uFillTx/>
                <a:latin typeface="楷体_GB2312"/>
                <a:ea typeface="楷体_GB2312"/>
              </a:rPr>
              <a:t>醉</a:t>
            </a:r>
            <a:r>
              <a:rPr b="0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春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儿童</a:t>
            </a:r>
            <a:r>
              <a:rPr b="0" lang="zh-CN" sz="3200" spc="-1" strike="noStrike" u="sng">
                <a:solidFill>
                  <a:srgbClr val="000c0c"/>
                </a:solidFill>
                <a:uFillTx/>
                <a:latin typeface="楷体_GB2312"/>
                <a:ea typeface="楷体_GB2312"/>
              </a:rPr>
              <a:t>急走</a:t>
            </a:r>
            <a:r>
              <a:rPr b="0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追黄蝶，</a:t>
            </a:r>
            <a:r>
              <a:rPr b="0" lang="zh-CN" sz="3200" spc="-1" strike="noStrike" u="sng">
                <a:solidFill>
                  <a:srgbClr val="000c0c"/>
                </a:solidFill>
                <a:uFillTx/>
                <a:latin typeface="楷体_GB2312"/>
                <a:ea typeface="楷体_GB2312"/>
              </a:rPr>
              <a:t>飞入</a:t>
            </a:r>
            <a:r>
              <a:rPr b="0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菜花无处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1042920" y="3284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草长：春草在茂盛的生长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5076720" y="328464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醉：迷醉于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1403280" y="5013360"/>
            <a:ext cx="23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急走：快跑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4716360" y="508464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飞入：飞进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课后练习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5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宿新市徐公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这首诗描绘了怎样的情景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残荷轩出品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55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0:05:18Z</dcterms:created>
  <dc:creator>wph</dc:creator>
  <dc:description/>
  <dc:language>en-US</dc:language>
  <cp:lastModifiedBy>a</cp:lastModifiedBy>
  <dcterms:modified xsi:type="dcterms:W3CDTF">2015-04-28T12:26:24Z</dcterms:modified>
  <cp:revision>13</cp:revision>
  <dc:subject/>
  <dc:title>4 古诗两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