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gif" ContentType="image/gif"/>
  <Override PartName="/ppt/media/image2.png" ContentType="image/png"/>
  <Override PartName="/ppt/media/image3.gif" ContentType="image/gif"/>
  <Override PartName="/ppt/media/image1.jpeg" ContentType="image/jpeg"/>
  <Override PartName="/ppt/media/image4.gif" ContentType="image/gif"/>
  <Override PartName="/ppt/media/image14.jpeg" ContentType="image/jpeg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9AD7-F225-47D9-B534-37647BD9D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22E4-0E21-4B4E-9A53-D8586BB61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B30551-7368-404A-B61C-DA7341862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8537CC-DB90-4486-AB80-5181AA207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BC51BB-F316-413E-B554-E6D198C73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5A6220-5595-4912-8BAF-B906D047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121774-D0FF-4248-8335-F12BCD45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56C891-4A37-4FC3-B293-A97EE104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AC1713-D7A4-4CCC-B6F1-F123B4892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1E76D2-0B99-46EA-858C-09F44326C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BCC60D-F930-450A-8FAB-F6DCF1D34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14D5C1-6D2C-4E68-ABC4-3ABF5F7B3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0CE2-CD4C-4919-AB34-8DF21BE18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85B422-2015-4A92-A154-B0FCD6098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2C424B-105E-4BD4-8EFF-A297C9B6B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02B3A6-F136-467C-AA07-5001D96E8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999E71-DF03-4F1E-A68C-875D5223F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483B0D-B474-4D46-AF7E-E460B7927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0F1C3D-619E-4D39-8F2C-E648C8E4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FD3EAA-C924-4A74-A5F1-AD8C5780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9358C7-728B-4DC5-A5A2-4E77798F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94B0CE-108B-499D-9E05-905ECB921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F96BCD-DD2E-4F62-A215-2FFC8B69A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ABDA-95B3-48A7-8C8B-BF662EF42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F64B81-9908-45B7-BDD9-1166CD74F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A8BCC8-1551-4BAC-ADFD-215DD0E5F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4F1AC5-5B00-486C-B0F4-648CA72D4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81B151-80DB-4D65-9EAA-20FC1AAF6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180BA1-D85C-4FD4-AF1D-59155A4B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1AB1BF-9B5F-405A-A901-A7F22D9A9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CC4FAE-D9A2-4323-87BF-24A0B8D66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DD495E-D245-4199-861E-09D3A1DA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DF060D-AC33-429A-A702-95BC71D2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0C35FB-E90F-40B0-8647-EB647635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804F8-D2D6-4035-9B8E-2BB1E2D50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811374-B751-4678-ACA4-485E22D4A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D00649-267E-47ED-9F1E-DA508AB96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3000A3-42DA-457D-9CED-332ABF051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323050-38D2-4319-A90D-BB59BCA00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746E4F-8C44-4CB5-8B6D-82597FD28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A4D98B-B0D3-4059-81A8-DE2063703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F72A8F-7215-4768-AB10-A28C84CBD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09B7DB-6136-4A68-B7CC-232142E2D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A11B1F-4913-40CB-8802-0FF661499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1F31B6-0566-460D-B57B-10105BB6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101BD-A6BC-458C-A2C5-C2C180447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B93D60-8E3B-4DEA-8DC4-4D3CDC0F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F1EE21-649C-43C3-8817-8F93222F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494BF0-79AF-460F-86E2-BDF885443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CC776F-F2D7-44DF-AFAB-44B03FC13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C4F234-D5DA-479F-8047-6AF0941E1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F2957E-15E7-4CC4-AF1E-F9E999C2A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031419-7B43-4626-B4E7-027D2DBE8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787D08-55A8-49D7-8F7E-8FDE59363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6E6243-7DA5-429A-880E-89BF96E77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5EBE5B-5512-47DC-A088-46C30CFA8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21651-594B-40D9-AC0D-DC9DEA0F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E9C524-B148-47C9-801F-767C57F85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A156DF-51DD-4233-80C0-4490D73D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F050F6-01DF-481F-BC1F-5ED95213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4EB37F-FF90-4AE6-971E-58282BD2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1BA2EF-9518-4D1A-8F8B-C01D2F5F8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419440-E6FB-4B2E-B019-FCE4D6174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3286F3-479C-47B4-9D72-307FED224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54AE3-7A0A-4467-8931-97D7E9970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FB5D9-3B95-4786-8EAC-DE73A23C2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C5135-2084-4D30-95F1-6B258DACE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59B41-8023-4E94-81FC-790A83CE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90BB-628F-4515-8B03-34E29B786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A4BF3-D009-46F7-9E9F-56EA64B8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6AB8C-9CC0-4696-B9E1-87CF2C3F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09232-30DF-4E3C-BAAF-951D248A8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6E78F-26B8-4CFF-9250-C53B9188C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6CAEA-B625-4BAB-A376-DA19ECA2D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87E05-12D2-4FA6-AC73-82CF29F84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E3168-5786-4D56-843B-1627638FE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2729B-8A9D-4F3A-B026-B6E9FE812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CC836-41E0-446D-85E8-0DEB0D6A7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AD9B6-2CB0-48A5-8DC9-C5802974F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6A73-2BC5-4F24-A08D-2DD96D0EE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D93AE-11FC-4C51-8AD9-5152BC07B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092B7-8A7B-4248-AB31-908BA6FB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6E387-71BD-431E-8E02-A93F36EE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B72A9-A624-497C-A5B0-E0284104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639FB-264B-4BF3-BBC0-EE8901742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385E1-4758-4285-A9A7-897DA81A2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23566-0270-456C-9E80-6CA78AB9D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6BA33-6B9D-45C1-BD86-E67A6678F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35294-D156-4DCC-9FF3-FF2829864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2A0DF-8AFB-4D38-AEF6-F9DC97BC2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74ED-D3B9-4F31-B850-8A0595082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DFAD0-30EC-4248-A9F2-53ACDB928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B368F-0CFB-4E96-84A8-AD3CB40F4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E2C73-091B-4DCF-B480-FC9D23055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BD175-0098-4F02-8764-166E4B68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7F998-6E45-4F29-8C12-5DCD8466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2B1B1-D2B1-4930-8EF8-289B7EBE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215EA-6397-47AA-A622-23E3B9C97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E7380-A74D-4FFE-9A79-5DD592D7C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99E42-0526-4A8C-9F38-A01F76773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66688-6A4F-4930-BE44-95DEA11E7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560F-46F3-4626-BBE7-8B3C26000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43FCE-88CD-4D2B-98B9-C244090D5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A7556-9AF7-4857-ABED-11076CFC5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5361E-5173-4527-843F-996C7C482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97F36-5ECA-4A20-B6DE-403FCC2C9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B67ED-A317-41D4-902F-D009B701C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E5749-5562-4319-B71C-33AC95C0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AFCCD-E8D5-450C-BAA5-695EF09B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D0892-2E84-4A01-9355-D0DEB537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1834B-64B7-46E1-8404-5D46E3905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FA7B5-BC23-4CBA-8F65-01E595DB9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CF74-2B4B-4535-84D9-55D4FC0C5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3F110-A8F4-4167-9988-12AFDC898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964424-7E48-4089-A397-28FEA14C3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81E534-CFED-4E26-BD63-3E9F191F8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85C581-C3F2-483F-A589-EAC404824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902CD-B9D9-4E16-AC73-8E547D8FA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7943D-F964-4362-AE44-CADA70380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30D7E-49BF-4A62-A1B6-5B3D0B5AC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EDE52-39C7-4C90-95A4-DB705E7F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C4B67-474B-495F-8755-D5EB6333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F5EA6-A848-4A59-ABD3-2F37E121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9A0A-224E-45F4-AF79-DEC6980A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17091A-5ED4-4B3A-9ED0-94E43281A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5378B-010A-4F5A-8626-56723278D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42EF6-7487-472D-85E6-9FED6B631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1F2243-276C-43E6-85B5-3AD5C8F26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5A504D-037E-42E8-BB64-4F27CA008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753D1-19FD-48D5-94A4-D9DA74057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1ED0AF-8C5F-437F-9690-FCDF25428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E4BF5-F51D-47F1-83B0-3E2E5087C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2F859-914D-4A23-9ACD-E2383B946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C0A7F8-BD59-44C3-BA58-36397630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4E72-640A-4FF7-ACF0-36A22404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98BF8A-D6DE-4C60-86B3-4008F512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20A01-601F-44D6-8159-CE8AD2F8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3FBC75-C5F4-40AF-A413-82BF50E62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2D4120-17BD-4B38-AE2A-9F5C4A6EB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0F8A5-E2B8-47AE-A39E-FFEAE2882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A4CC1-629F-4E3F-BD78-F7A401A69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0F47EB-93E5-40A3-9CDC-55DD6EE46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30C3D7-A2E2-463E-AC22-BB63B187D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0BE338-FFA9-4F18-8C0B-CF4414A4A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E6A76F-7135-480B-AFC8-C10F7C9E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E171-9240-494E-BE83-FEEA75DA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A94FEF-1C18-48BB-814F-0E8666914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6997C4-1B7A-4A56-BDC0-E34CE606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DE973-3FAB-4EB7-93BE-F5FB3EB0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CCB09-22A6-49C0-B41B-66A31D06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808570-8281-4D5C-87BB-F0C96EAA2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441BC-75A1-4417-9B7E-A24D652F3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CBA62F-711E-4996-8D63-D41A91E89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AC8FA2-9D1F-4367-8186-3A654EB3E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1227E2-6F07-4535-AA39-299D34D47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A90541-05FF-432F-BB7D-290BD6CE3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2D8FC-8A03-4268-8CDA-7EE3A98373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2019F-3B17-4D81-B7F3-2AD3807BCE68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1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DD1BF-CBAF-4F97-8EC4-B6D3891117A1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8BE21-250D-4326-90E5-91096B8CB274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1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D010-6BC5-4B38-92EA-90A3C6B5F6CA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C8315-615D-4A9F-8781-2A15AE3587C5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1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8C809-6D5D-4100-A1B6-E8F10FC20CCD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0C426-C2F2-4D0A-B288-F06E509A7DFC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1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6D68E-6DD1-499F-9982-38DDCA3F7855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1F6AC-FB03-4354-AC4A-86F89AD4038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1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1C73A-5D69-4DD5-8B30-87C04646FF3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A8B32-EA28-48C5-BB2A-5CA9B2A27592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1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098F2-1F00-4E1B-96A4-BC93FE2E4348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DF10A-6285-4AC0-BAE6-A833394F8FA0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1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1EDA6-924E-48DF-99A5-CF2D52F9AB86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1B0B2-C4F0-4972-9082-9F7CB9A7D7E1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1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DF1B2-E44C-4247-803B-E98F9C69353C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64E25-F157-44CA-9864-309D43FAC56E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1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43702-1006-4B2F-9A27-64CBBAAB9DE3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EA294-7BC3-4B98-8E35-94460D0EA409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1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2CC40-2173-43F0-8D65-8F4F6BC0CAF6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383D3-83D9-4B5B-B47A-05B623645419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1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8F9FE-DD0B-4D65-9A29-9F6724ADD155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F9C50-D15C-42A1-B5C7-D6324E03E6AF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1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C5877-C157-4FCD-83C0-AAA2A1D0A68D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矩形 10"/>
          <p:cNvSpPr/>
          <p:nvPr/>
        </p:nvSpPr>
        <p:spPr>
          <a:xfrm>
            <a:off x="7308720" y="55166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1" lang="en-US" sz="1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1" lang="en-US" sz="1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1" lang="en-US" sz="1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1" lang="en-US" sz="1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1" lang="en-US" sz="1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1" lang="en-US" sz="1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1" lang="en-US" sz="1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1" lang="en-US" sz="1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34" name="Picture 2" descr="D:\下学期资源库文件\第六册\29\曹刿论战\媒体素材\下视其辙.jpg"/>
          <p:cNvPicPr/>
          <p:nvPr/>
        </p:nvPicPr>
        <p:blipFill>
          <a:blip r:embed="rId1"/>
          <a:stretch/>
        </p:blipFill>
        <p:spPr>
          <a:xfrm>
            <a:off x="4067280" y="0"/>
            <a:ext cx="5076720" cy="6858000"/>
          </a:xfrm>
          <a:prstGeom prst="rect">
            <a:avLst/>
          </a:prstGeom>
          <a:ln w="0">
            <a:noFill/>
          </a:ln>
        </p:spPr>
      </p:pic>
      <p:sp>
        <p:nvSpPr>
          <p:cNvPr id="535" name="Text Box 3"/>
          <p:cNvSpPr/>
          <p:nvPr/>
        </p:nvSpPr>
        <p:spPr>
          <a:xfrm>
            <a:off x="128880" y="457200"/>
            <a:ext cx="3106440" cy="56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曹刿论战</a:t>
            </a:r>
            <a:endParaRPr b="1" lang="en-US" sz="9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36" name="Text Box 4"/>
          <p:cNvSpPr/>
          <p:nvPr/>
        </p:nvSpPr>
        <p:spPr>
          <a:xfrm>
            <a:off x="783360" y="3532320"/>
            <a:ext cx="7898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  <a:ea typeface="宋体"/>
              </a:rPr>
              <a:t>《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宋体"/>
              </a:rPr>
              <a:t>左传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  <a:ea typeface="宋体"/>
              </a:rPr>
              <a:t>》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37" name="钱塘湖春行.WAV" descr=""/>
          <p:cNvPicPr/>
          <p:nvPr/>
        </p:nvPicPr>
        <p:blipFill>
          <a:blip r:embed="rId2"/>
          <a:stretch/>
        </p:blipFill>
        <p:spPr>
          <a:xfrm>
            <a:off x="85345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" restart="whenNotActive" nodeType="interactiveSeq" fill="hold">
                <p:stCondLst>
                  <p:cond evt="onClick">
                    <p:tgtEl>
                      <p:spTgt spid="537"/>
                    </p:tgtEl>
                  </p:cond>
                </p:stCondLst>
                <p:childTnLst>
                  <p:par>
                    <p:cTn id="10" nodeType="clickEffect" fill="hold">
                      <p:stCondLst>
                        <p:cond evt="onClick">
                          <p:tgtEl>
                            <p:spTgt spid="537"/>
                          </p:tgtEl>
                        </p:cond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5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ext Box 2"/>
          <p:cNvSpPr/>
          <p:nvPr/>
        </p:nvSpPr>
        <p:spPr>
          <a:xfrm>
            <a:off x="1143000" y="838080"/>
            <a:ext cx="152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  <a:ea typeface="宋体"/>
              </a:rPr>
              <a:t>鼓</a:t>
            </a:r>
            <a:endParaRPr b="1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9" name="Text Box 3"/>
          <p:cNvSpPr/>
          <p:nvPr/>
        </p:nvSpPr>
        <p:spPr>
          <a:xfrm>
            <a:off x="1143000" y="304812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  <a:ea typeface="宋体"/>
              </a:rPr>
              <a:t>驰</a:t>
            </a:r>
            <a:endParaRPr b="1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0" name="Text Box 4"/>
          <p:cNvSpPr/>
          <p:nvPr/>
        </p:nvSpPr>
        <p:spPr>
          <a:xfrm>
            <a:off x="3048120" y="21337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未可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1" name="Text Box 5"/>
          <p:cNvSpPr/>
          <p:nvPr/>
        </p:nvSpPr>
        <p:spPr>
          <a:xfrm>
            <a:off x="5562720" y="213372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可矣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2" name="Text Box 6"/>
          <p:cNvSpPr/>
          <p:nvPr/>
        </p:nvSpPr>
        <p:spPr>
          <a:xfrm>
            <a:off x="3048120" y="12952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公将鼓之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3" name="Text Box 7"/>
          <p:cNvSpPr/>
          <p:nvPr/>
        </p:nvSpPr>
        <p:spPr>
          <a:xfrm>
            <a:off x="3048120" y="32767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公将驰之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4" name="Text Box 8"/>
          <p:cNvSpPr/>
          <p:nvPr/>
        </p:nvSpPr>
        <p:spPr>
          <a:xfrm>
            <a:off x="5562720" y="129528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齐人三鼓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5" name="Text Box 9"/>
          <p:cNvSpPr/>
          <p:nvPr/>
        </p:nvSpPr>
        <p:spPr>
          <a:xfrm>
            <a:off x="5562720" y="31240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下视其辙  登轼而望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6" name="Line 10"/>
          <p:cNvSpPr/>
          <p:nvPr/>
        </p:nvSpPr>
        <p:spPr>
          <a:xfrm>
            <a:off x="2133720" y="1600200"/>
            <a:ext cx="838080" cy="685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7" name="Line 11"/>
          <p:cNvSpPr/>
          <p:nvPr/>
        </p:nvSpPr>
        <p:spPr>
          <a:xfrm flipV="1">
            <a:off x="2057400" y="2742840"/>
            <a:ext cx="914400" cy="685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8" name="Line 12"/>
          <p:cNvSpPr/>
          <p:nvPr/>
        </p:nvSpPr>
        <p:spPr>
          <a:xfrm>
            <a:off x="4267080" y="2514600"/>
            <a:ext cx="121932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619" name="Picture 13" descr="C:\WINDOWS\Desktop\马鸿燕\gif图片\guqi_s4.gif"/>
          <p:cNvPicPr/>
          <p:nvPr/>
        </p:nvPicPr>
        <p:blipFill>
          <a:blip r:embed="rId1"/>
          <a:stretch/>
        </p:blipFill>
        <p:spPr>
          <a:xfrm>
            <a:off x="1066680" y="5105520"/>
            <a:ext cx="1981440" cy="107928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14" descr="D:\网页设计素材\1\箭头\0004.GIF"/>
          <p:cNvPicPr/>
          <p:nvPr/>
        </p:nvPicPr>
        <p:blipFill>
          <a:blip r:embed="rId2"/>
          <a:stretch/>
        </p:blipFill>
        <p:spPr>
          <a:xfrm>
            <a:off x="7391520" y="5791320"/>
            <a:ext cx="60948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17"/>
          <p:cNvSpPr/>
          <p:nvPr/>
        </p:nvSpPr>
        <p:spPr>
          <a:xfrm>
            <a:off x="685800" y="1384200"/>
            <a:ext cx="7826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曹刿为什么要在“齐人三鼓”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才曰“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矣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?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曹刿为什么要“下视其辙，登轼而望之。”？他看到了什么？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622" name="Picture 19" descr="C:\WINDOWS\Desktop\nat\67.gif"/>
          <p:cNvPicPr/>
          <p:nvPr/>
        </p:nvPicPr>
        <p:blipFill>
          <a:blip r:embed="rId1"/>
          <a:stretch/>
        </p:blipFill>
        <p:spPr>
          <a:xfrm>
            <a:off x="304920" y="228600"/>
            <a:ext cx="1143000" cy="906480"/>
          </a:xfrm>
          <a:prstGeom prst="rect">
            <a:avLst/>
          </a:prstGeom>
          <a:ln w="0">
            <a:noFill/>
          </a:ln>
        </p:spPr>
      </p:pic>
      <p:sp>
        <p:nvSpPr>
          <p:cNvPr id="623" name="Rectangle 20"/>
          <p:cNvSpPr/>
          <p:nvPr/>
        </p:nvSpPr>
        <p:spPr>
          <a:xfrm>
            <a:off x="2269080" y="1981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齐人三鼓正是“彼竭我盈”之时。）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4" name="Rectangle 21"/>
          <p:cNvSpPr/>
          <p:nvPr/>
        </p:nvSpPr>
        <p:spPr>
          <a:xfrm>
            <a:off x="1694880" y="38862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“惧有伏焉” ）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5" name="Rectangle 22"/>
          <p:cNvSpPr/>
          <p:nvPr/>
        </p:nvSpPr>
        <p:spPr>
          <a:xfrm>
            <a:off x="3886200" y="38862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“辙乱旗靡”）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626" name="Picture 23" descr="D:\网页设计素材\1\箭头\0004.GIF"/>
          <p:cNvPicPr/>
          <p:nvPr/>
        </p:nvPicPr>
        <p:blipFill>
          <a:blip r:embed="rId2"/>
          <a:stretch/>
        </p:blipFill>
        <p:spPr>
          <a:xfrm>
            <a:off x="7391520" y="5791320"/>
            <a:ext cx="60948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4"/>
          <p:cNvSpPr/>
          <p:nvPr/>
        </p:nvSpPr>
        <p:spPr>
          <a:xfrm>
            <a:off x="1058040" y="58104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远谋：</a:t>
            </a: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8" name="Text Box 7"/>
          <p:cNvSpPr/>
          <p:nvPr/>
        </p:nvSpPr>
        <p:spPr>
          <a:xfrm>
            <a:off x="1295280" y="1600200"/>
            <a:ext cx="70106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一知“民心向背”，有为国分忧的精神；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二知“士气盈竭”，有当机立断的才干；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三知“战场虚实”，有务实求真的才智。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6"/>
          <p:cNvSpPr/>
          <p:nvPr/>
        </p:nvSpPr>
        <p:spPr>
          <a:xfrm>
            <a:off x="533520" y="10350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鲁庄公的“鄙”表现在哪些方面？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0" name="Rectangle 7"/>
          <p:cNvSpPr/>
          <p:nvPr/>
        </p:nvSpPr>
        <p:spPr>
          <a:xfrm>
            <a:off x="1066680" y="213372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一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﹑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把战争寄托在近臣和神灵身上；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1" name="Rectangle 8"/>
          <p:cNvSpPr/>
          <p:nvPr/>
        </p:nvSpPr>
        <p:spPr>
          <a:xfrm>
            <a:off x="2217600" y="2895480"/>
            <a:ext cx="359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二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﹑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用兵轻举妄动，急功近利；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2" name="Rectangle 9"/>
          <p:cNvSpPr/>
          <p:nvPr/>
        </p:nvSpPr>
        <p:spPr>
          <a:xfrm>
            <a:off x="1892520" y="365760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三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﹑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取胜而不知胜因；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2"/>
          <p:cNvSpPr/>
          <p:nvPr/>
        </p:nvSpPr>
        <p:spPr>
          <a:xfrm>
            <a:off x="762120" y="160020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古人记叙这场战争，用“齐鲁长勺之战”为题，而后人却改用“曹刿论战”为题，为什么要作这样的改动？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4" name="Rectangle 3"/>
          <p:cNvSpPr/>
          <p:nvPr/>
        </p:nvSpPr>
        <p:spPr>
          <a:xfrm>
            <a:off x="762120" y="38862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本文记事哪些详写，哪些略写？为什么这样处理？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5" name="Rectangle 4"/>
          <p:cNvSpPr/>
          <p:nvPr/>
        </p:nvSpPr>
        <p:spPr>
          <a:xfrm>
            <a:off x="838080" y="29718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全篇以曹刿的言行为主组织记事材料，而记事的中心又处落在曹刿的“谋”字和“论”字上。）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636" name="Picture 5" descr="0"/>
          <p:cNvPicPr/>
          <p:nvPr/>
        </p:nvPicPr>
        <p:blipFill>
          <a:blip r:embed="rId1"/>
          <a:stretch/>
        </p:blipFill>
        <p:spPr>
          <a:xfrm>
            <a:off x="304920" y="228600"/>
            <a:ext cx="1447560" cy="1119240"/>
          </a:xfrm>
          <a:prstGeom prst="rect">
            <a:avLst/>
          </a:prstGeom>
          <a:ln w="0">
            <a:noFill/>
          </a:ln>
        </p:spPr>
      </p:pic>
      <p:sp>
        <p:nvSpPr>
          <p:cNvPr id="637" name="Rectangle 6"/>
          <p:cNvSpPr/>
          <p:nvPr/>
        </p:nvSpPr>
        <p:spPr>
          <a:xfrm>
            <a:off x="838080" y="44956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本文重点是写“论战”，故战前对话写得详；战争过程写得略；曹刿用谋写得详；庄公问计写得略。）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07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Text Box 2"/>
          <p:cNvSpPr/>
          <p:nvPr/>
        </p:nvSpPr>
        <p:spPr>
          <a:xfrm>
            <a:off x="685800" y="30492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内容小结：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9" name="Text Box 3"/>
          <p:cNvSpPr/>
          <p:nvPr/>
        </p:nvSpPr>
        <p:spPr>
          <a:xfrm>
            <a:off x="914400" y="1143000"/>
            <a:ext cx="7162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课文中指出了战前的政治准备－－                 ，叙述了利于转入反攻的阵地－－             ，叙述了利于反攻的时机－－                 之时，叙述了追击开始的时机－－                 之时。这次战役，采取了“敌疲我打”的方针，成为中国战史中弱军战胜强军的有名战例。长勺之战表现了曹刿政治上的               和军事上  的               ，说明必须              ，运用正确的                 ，并掌握          ，才能取得战争胜利的道理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0" name="Line 5"/>
          <p:cNvSpPr/>
          <p:nvPr/>
        </p:nvSpPr>
        <p:spPr>
          <a:xfrm>
            <a:off x="5638680" y="1523880"/>
            <a:ext cx="1371600" cy="0"/>
          </a:xfrm>
          <a:prstGeom prst="line">
            <a:avLst/>
          </a:prstGeom>
          <a:ln w="158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1" name="Line 6"/>
          <p:cNvSpPr/>
          <p:nvPr/>
        </p:nvSpPr>
        <p:spPr>
          <a:xfrm>
            <a:off x="4876920" y="1905120"/>
            <a:ext cx="990360" cy="0"/>
          </a:xfrm>
          <a:prstGeom prst="line">
            <a:avLst/>
          </a:prstGeom>
          <a:ln w="158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2" name="Line 7"/>
          <p:cNvSpPr/>
          <p:nvPr/>
        </p:nvSpPr>
        <p:spPr>
          <a:xfrm>
            <a:off x="2895480" y="2286000"/>
            <a:ext cx="1371600" cy="0"/>
          </a:xfrm>
          <a:prstGeom prst="line">
            <a:avLst/>
          </a:prstGeom>
          <a:ln w="158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3" name="Line 9"/>
          <p:cNvSpPr/>
          <p:nvPr/>
        </p:nvSpPr>
        <p:spPr>
          <a:xfrm>
            <a:off x="5105520" y="3352680"/>
            <a:ext cx="1523880" cy="0"/>
          </a:xfrm>
          <a:prstGeom prst="line">
            <a:avLst/>
          </a:prstGeom>
          <a:ln w="158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4" name="Line 10"/>
          <p:cNvSpPr/>
          <p:nvPr/>
        </p:nvSpPr>
        <p:spPr>
          <a:xfrm>
            <a:off x="1371600" y="4114800"/>
            <a:ext cx="1219320" cy="0"/>
          </a:xfrm>
          <a:prstGeom prst="line">
            <a:avLst/>
          </a:prstGeom>
          <a:ln w="158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5" name="Line 11"/>
          <p:cNvSpPr/>
          <p:nvPr/>
        </p:nvSpPr>
        <p:spPr>
          <a:xfrm>
            <a:off x="5029200" y="3733920"/>
            <a:ext cx="1219320" cy="0"/>
          </a:xfrm>
          <a:prstGeom prst="line">
            <a:avLst/>
          </a:prstGeom>
          <a:ln w="158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6" name="Line 12"/>
          <p:cNvSpPr/>
          <p:nvPr/>
        </p:nvSpPr>
        <p:spPr>
          <a:xfrm>
            <a:off x="1371600" y="3733920"/>
            <a:ext cx="1676520" cy="0"/>
          </a:xfrm>
          <a:prstGeom prst="line">
            <a:avLst/>
          </a:prstGeom>
          <a:ln w="158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7" name="Line 13"/>
          <p:cNvSpPr/>
          <p:nvPr/>
        </p:nvSpPr>
        <p:spPr>
          <a:xfrm>
            <a:off x="3886200" y="4114800"/>
            <a:ext cx="762120" cy="0"/>
          </a:xfrm>
          <a:prstGeom prst="line">
            <a:avLst/>
          </a:prstGeom>
          <a:ln w="158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8" name="Line 14"/>
          <p:cNvSpPr/>
          <p:nvPr/>
        </p:nvSpPr>
        <p:spPr>
          <a:xfrm>
            <a:off x="1905120" y="2666880"/>
            <a:ext cx="1371600" cy="0"/>
          </a:xfrm>
          <a:prstGeom prst="line">
            <a:avLst/>
          </a:prstGeom>
          <a:ln w="158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9" name="Text Box 15"/>
          <p:cNvSpPr/>
          <p:nvPr/>
        </p:nvSpPr>
        <p:spPr>
          <a:xfrm>
            <a:off x="5638680" y="10666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取信于民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0" name="Text Box 16"/>
          <p:cNvSpPr/>
          <p:nvPr/>
        </p:nvSpPr>
        <p:spPr>
          <a:xfrm>
            <a:off x="4800600" y="1676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1" name="Text Box 17"/>
          <p:cNvSpPr/>
          <p:nvPr/>
        </p:nvSpPr>
        <p:spPr>
          <a:xfrm>
            <a:off x="4952880" y="1447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长勺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2" name="Text Box 18"/>
          <p:cNvSpPr/>
          <p:nvPr/>
        </p:nvSpPr>
        <p:spPr>
          <a:xfrm>
            <a:off x="2895480" y="18288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彼竭我盈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3" name="Text Box 19"/>
          <p:cNvSpPr/>
          <p:nvPr/>
        </p:nvSpPr>
        <p:spPr>
          <a:xfrm>
            <a:off x="1905120" y="22096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辙乱旗靡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4" name="Text Box 20"/>
          <p:cNvSpPr/>
          <p:nvPr/>
        </p:nvSpPr>
        <p:spPr>
          <a:xfrm>
            <a:off x="5181480" y="28954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远见卓识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5" name="Text Box 21"/>
          <p:cNvSpPr/>
          <p:nvPr/>
        </p:nvSpPr>
        <p:spPr>
          <a:xfrm>
            <a:off x="1600200" y="3276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杰出才能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6" name="Text Box 22"/>
          <p:cNvSpPr/>
          <p:nvPr/>
        </p:nvSpPr>
        <p:spPr>
          <a:xfrm>
            <a:off x="5029200" y="32767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取信于民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7" name="Text Box 23"/>
          <p:cNvSpPr/>
          <p:nvPr/>
        </p:nvSpPr>
        <p:spPr>
          <a:xfrm>
            <a:off x="1295280" y="36576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战略战术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8" name="Text Box 24"/>
          <p:cNvSpPr/>
          <p:nvPr/>
        </p:nvSpPr>
        <p:spPr>
          <a:xfrm>
            <a:off x="3809880" y="3657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战机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5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1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3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9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5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1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7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3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Picture 2" descr="D:\下学期资源库文件\第六册\29\曹刿论战\媒体素材\下视其辙.jpg"/>
          <p:cNvPicPr/>
          <p:nvPr/>
        </p:nvPicPr>
        <p:blipFill>
          <a:blip r:embed="rId1"/>
          <a:stretch/>
        </p:blipFill>
        <p:spPr>
          <a:xfrm>
            <a:off x="0" y="0"/>
            <a:ext cx="5105520" cy="6858000"/>
          </a:xfrm>
          <a:prstGeom prst="rect">
            <a:avLst/>
          </a:prstGeom>
          <a:ln w="0">
            <a:noFill/>
          </a:ln>
        </p:spPr>
      </p:pic>
      <p:sp>
        <p:nvSpPr>
          <p:cNvPr id="660" name="Text Box 5"/>
          <p:cNvSpPr/>
          <p:nvPr/>
        </p:nvSpPr>
        <p:spPr>
          <a:xfrm>
            <a:off x="5334120" y="1295280"/>
            <a:ext cx="3047760" cy="39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口头作业：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理解背诵课文</a:t>
            </a:r>
            <a:endParaRPr b="1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17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书面练习：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作文题目：我心目中的曹刿形象</a:t>
            </a:r>
            <a:endParaRPr b="1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要求：①围绕课文，发挥想像；②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300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字以上。</a:t>
            </a:r>
            <a:endParaRPr b="1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17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知识迁移：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想想我国历史上还有哪些以少胜多的战例，并互相交流</a:t>
            </a:r>
            <a:endParaRPr b="1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661" name="Picture 6" descr="C:\WINDOWS\Desktop\马鸿燕\gif图片\shu5.gif"/>
          <p:cNvPicPr/>
          <p:nvPr/>
        </p:nvPicPr>
        <p:blipFill>
          <a:blip r:embed="rId5"/>
          <a:stretch/>
        </p:blipFill>
        <p:spPr>
          <a:xfrm>
            <a:off x="7696080" y="228600"/>
            <a:ext cx="1143000" cy="1071720"/>
          </a:xfrm>
          <a:prstGeom prst="rect">
            <a:avLst/>
          </a:prstGeom>
          <a:ln w="0">
            <a:noFill/>
          </a:ln>
        </p:spPr>
      </p:pic>
      <p:pic>
        <p:nvPicPr>
          <p:cNvPr id="662" name="钱塘湖春行.WAV" descr=""/>
          <p:cNvPicPr/>
          <p:nvPr/>
        </p:nvPicPr>
        <p:blipFill>
          <a:blip r:embed="rId6"/>
          <a:stretch/>
        </p:blipFill>
        <p:spPr>
          <a:xfrm>
            <a:off x="4572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0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1" restart="whenNotActive" nodeType="interactiveSeq" fill="hold">
                <p:stCondLst>
                  <p:cond evt="onClick">
                    <p:tgtEl>
                      <p:spTgt spid="662"/>
                    </p:tgtEl>
                  </p:cond>
                </p:stCondLst>
                <p:childTnLst>
                  <p:par>
                    <p:cTn id="472" nodeType="clickEffect" fill="hold">
                      <p:stCondLst>
                        <p:cond evt="onClick">
                          <p:tgtEl>
                            <p:spTgt spid="662"/>
                          </p:tgtEl>
                        </p:cond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5" dur="1" fill="hold"/>
                                        <p:tgtEl>
                                          <p:spTgt spid="6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6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pic>
          <p:nvPicPr>
            <p:cNvPr id="665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6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1" lang="en-US" sz="3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2"/>
          <p:cNvSpPr/>
          <p:nvPr/>
        </p:nvSpPr>
        <p:spPr>
          <a:xfrm>
            <a:off x="447984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39" name="Text Box 4"/>
          <p:cNvSpPr/>
          <p:nvPr/>
        </p:nvSpPr>
        <p:spPr>
          <a:xfrm>
            <a:off x="304920" y="533520"/>
            <a:ext cx="853416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释下列各句中红色的字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肉食者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鄙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未能远谋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小惠未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徧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民弗从也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弗敢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加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也，必以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信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小信未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神弗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福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也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公将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鼓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之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既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公问其故 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吾视其辙乱，望其旗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靡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0" name="Text Box 5"/>
          <p:cNvSpPr/>
          <p:nvPr/>
        </p:nvSpPr>
        <p:spPr>
          <a:xfrm>
            <a:off x="4267080" y="11430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（鄙陋，这里指目光短浅）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1" name="Text Box 6"/>
          <p:cNvSpPr/>
          <p:nvPr/>
        </p:nvSpPr>
        <p:spPr>
          <a:xfrm>
            <a:off x="4267080" y="18288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（同“遍”，遍及、普遍）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2" name="Text Box 7"/>
          <p:cNvSpPr/>
          <p:nvPr/>
        </p:nvSpPr>
        <p:spPr>
          <a:xfrm>
            <a:off x="4495680" y="26668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3" name="Rectangle 8"/>
          <p:cNvSpPr/>
          <p:nvPr/>
        </p:nvSpPr>
        <p:spPr>
          <a:xfrm>
            <a:off x="5122080" y="243828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（虚夸，这里指以少报多）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4" name="Rectangle 9"/>
          <p:cNvSpPr/>
          <p:nvPr/>
        </p:nvSpPr>
        <p:spPr>
          <a:xfrm>
            <a:off x="4267080" y="304812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（诚实，意思是对神说实话）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5" name="Rectangle 10"/>
          <p:cNvSpPr/>
          <p:nvPr/>
        </p:nvSpPr>
        <p:spPr>
          <a:xfrm>
            <a:off x="4357080" y="3755880"/>
            <a:ext cx="197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（为人所信服）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6" name="Rectangle 11"/>
          <p:cNvSpPr/>
          <p:nvPr/>
        </p:nvSpPr>
        <p:spPr>
          <a:xfrm>
            <a:off x="7336800" y="373392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（赐福、保佑）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7" name="Rectangle 12"/>
          <p:cNvSpPr/>
          <p:nvPr/>
        </p:nvSpPr>
        <p:spPr>
          <a:xfrm>
            <a:off x="4842720" y="44197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（动词，击鼓）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8" name="Rectangle 13"/>
          <p:cNvSpPr/>
          <p:nvPr/>
        </p:nvSpPr>
        <p:spPr>
          <a:xfrm>
            <a:off x="4343400" y="5029200"/>
            <a:ext cx="177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（ 战胜）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9" name="Rectangle 14"/>
          <p:cNvSpPr/>
          <p:nvPr/>
        </p:nvSpPr>
        <p:spPr>
          <a:xfrm>
            <a:off x="4629600" y="56386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（倒下）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Text Box 2"/>
          <p:cNvSpPr/>
          <p:nvPr/>
        </p:nvSpPr>
        <p:spPr>
          <a:xfrm>
            <a:off x="1066680" y="304920"/>
            <a:ext cx="701064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释下列各句中红色词语古今的不同意义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牺牲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玉帛，弗敢加也，必以信。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古义：                               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今义：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忠之属也。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可以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战。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古义：                       今义：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肉食者谋之，又何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间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焉？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古义：                       今义：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大之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狱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虽不能察，必以情。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古义：                        今义： 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1" name="Text Box 3"/>
          <p:cNvSpPr/>
          <p:nvPr/>
        </p:nvSpPr>
        <p:spPr>
          <a:xfrm>
            <a:off x="2666880" y="16002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祭祀用的猪、牛、羊等祭品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2" name="Text Box 4"/>
          <p:cNvSpPr/>
          <p:nvPr/>
        </p:nvSpPr>
        <p:spPr>
          <a:xfrm>
            <a:off x="2666880" y="22860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为正义事业舍生，引申为丢弃某种利益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3" name="Text Box 5"/>
          <p:cNvSpPr/>
          <p:nvPr/>
        </p:nvSpPr>
        <p:spPr>
          <a:xfrm>
            <a:off x="2743200" y="35053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可以凭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4" name="Text Box 6"/>
          <p:cNvSpPr/>
          <p:nvPr/>
        </p:nvSpPr>
        <p:spPr>
          <a:xfrm>
            <a:off x="5791320" y="35053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表示可能，许可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5" name="Text Box 7"/>
          <p:cNvSpPr/>
          <p:nvPr/>
        </p:nvSpPr>
        <p:spPr>
          <a:xfrm>
            <a:off x="2819520" y="48006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参与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6" name="Text Box 8"/>
          <p:cNvSpPr/>
          <p:nvPr/>
        </p:nvSpPr>
        <p:spPr>
          <a:xfrm>
            <a:off x="5867280" y="48006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隔开，不连接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7" name="Text Box 9"/>
          <p:cNvSpPr/>
          <p:nvPr/>
        </p:nvSpPr>
        <p:spPr>
          <a:xfrm>
            <a:off x="2819520" y="601992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案件，官司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8" name="Text Box 10"/>
          <p:cNvSpPr/>
          <p:nvPr/>
        </p:nvSpPr>
        <p:spPr>
          <a:xfrm>
            <a:off x="5943600" y="60199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监牢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 Box 2"/>
          <p:cNvSpPr/>
          <p:nvPr/>
        </p:nvSpPr>
        <p:spPr>
          <a:xfrm>
            <a:off x="304920" y="685800"/>
            <a:ext cx="7391160" cy="65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辨析下列各组句子中红色词语的不同意思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吾视其辙乱，望其旗靡，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逐之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既克，公问其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故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民弗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也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战则请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从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既克，公问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故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吾视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辙乱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乡人曰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0" name="AutoShape 4"/>
          <p:cNvSpPr/>
          <p:nvPr/>
        </p:nvSpPr>
        <p:spPr>
          <a:xfrm>
            <a:off x="838080" y="1371600"/>
            <a:ext cx="152640" cy="1447920"/>
          </a:xfrm>
          <a:custGeom>
            <a:avLst/>
            <a:gdLst>
              <a:gd name="textAreaLeft" fmla="*/ 97560 w 152640"/>
              <a:gd name="textAreaRight" fmla="*/ 153000 w 15264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1" name="AutoShape 6"/>
          <p:cNvSpPr/>
          <p:nvPr/>
        </p:nvSpPr>
        <p:spPr>
          <a:xfrm>
            <a:off x="914400" y="3048120"/>
            <a:ext cx="76320" cy="1295280"/>
          </a:xfrm>
          <a:custGeom>
            <a:avLst/>
            <a:gdLst>
              <a:gd name="textAreaLeft" fmla="*/ 48960 w 76320"/>
              <a:gd name="textAreaRight" fmla="*/ 76320 w 763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2" name="AutoShape 7"/>
          <p:cNvSpPr/>
          <p:nvPr/>
        </p:nvSpPr>
        <p:spPr>
          <a:xfrm>
            <a:off x="914400" y="4572000"/>
            <a:ext cx="76320" cy="1295280"/>
          </a:xfrm>
          <a:custGeom>
            <a:avLst/>
            <a:gdLst>
              <a:gd name="textAreaLeft" fmla="*/ 48960 w 76320"/>
              <a:gd name="textAreaRight" fmla="*/ 76320 w 763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3" name="Text Box 8"/>
          <p:cNvSpPr/>
          <p:nvPr/>
        </p:nvSpPr>
        <p:spPr>
          <a:xfrm>
            <a:off x="5791320" y="1295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所以）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4" name="Text Box 9"/>
          <p:cNvSpPr/>
          <p:nvPr/>
        </p:nvSpPr>
        <p:spPr>
          <a:xfrm>
            <a:off x="3886200" y="23623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缘故，原因）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5" name="Text Box 11"/>
          <p:cNvSpPr/>
          <p:nvPr/>
        </p:nvSpPr>
        <p:spPr>
          <a:xfrm>
            <a:off x="3886200" y="2971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听从）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6" name="Text Box 12"/>
          <p:cNvSpPr/>
          <p:nvPr/>
        </p:nvSpPr>
        <p:spPr>
          <a:xfrm>
            <a:off x="3962520" y="39625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跟随）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7" name="Text Box 13"/>
          <p:cNvSpPr/>
          <p:nvPr/>
        </p:nvSpPr>
        <p:spPr>
          <a:xfrm>
            <a:off x="3962520" y="44197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这样，如此）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8" name="Text Box 14"/>
          <p:cNvSpPr/>
          <p:nvPr/>
        </p:nvSpPr>
        <p:spPr>
          <a:xfrm>
            <a:off x="3962520" y="49528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他们的，指齐军的）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9" name="Text Box 15"/>
          <p:cNvSpPr/>
          <p:nvPr/>
        </p:nvSpPr>
        <p:spPr>
          <a:xfrm>
            <a:off x="3962520" y="548640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他的，指曹刿的）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6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1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6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6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1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6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2"/>
          <p:cNvSpPr/>
          <p:nvPr/>
        </p:nvSpPr>
        <p:spPr>
          <a:xfrm>
            <a:off x="914400" y="609480"/>
            <a:ext cx="594360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将下列句子译成现代汉语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何以战？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译句：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必以分人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译句：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战于长勺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译句：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再而衰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译句：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1" name="Line 3"/>
          <p:cNvSpPr/>
          <p:nvPr/>
        </p:nvSpPr>
        <p:spPr>
          <a:xfrm>
            <a:off x="1295280" y="220968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2" name="Line 4"/>
          <p:cNvSpPr/>
          <p:nvPr/>
        </p:nvSpPr>
        <p:spPr>
          <a:xfrm>
            <a:off x="1295280" y="3352680"/>
            <a:ext cx="541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3" name="Line 5"/>
          <p:cNvSpPr/>
          <p:nvPr/>
        </p:nvSpPr>
        <p:spPr>
          <a:xfrm>
            <a:off x="1295280" y="434340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4" name="Line 6"/>
          <p:cNvSpPr/>
          <p:nvPr/>
        </p:nvSpPr>
        <p:spPr>
          <a:xfrm>
            <a:off x="1295280" y="5486400"/>
            <a:ext cx="556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5" name="Text Box 7"/>
          <p:cNvSpPr/>
          <p:nvPr/>
        </p:nvSpPr>
        <p:spPr>
          <a:xfrm>
            <a:off x="2498760" y="5506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6" name="Text Box 8"/>
          <p:cNvSpPr/>
          <p:nvPr/>
        </p:nvSpPr>
        <p:spPr>
          <a:xfrm>
            <a:off x="2209680" y="16765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凭什么去作战？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7" name="Text Box 9"/>
          <p:cNvSpPr/>
          <p:nvPr/>
        </p:nvSpPr>
        <p:spPr>
          <a:xfrm>
            <a:off x="2209680" y="28954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一定要把它们分给别人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8" name="Text Box 10"/>
          <p:cNvSpPr/>
          <p:nvPr/>
        </p:nvSpPr>
        <p:spPr>
          <a:xfrm>
            <a:off x="2209680" y="388620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在长勺作战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9" name="Text Box 11"/>
          <p:cNvSpPr/>
          <p:nvPr/>
        </p:nvSpPr>
        <p:spPr>
          <a:xfrm>
            <a:off x="2209680" y="502920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第二次击鼓时，士气就衰落了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WordArt 2"/>
          <p:cNvSpPr txBox="1"/>
          <p:nvPr/>
        </p:nvSpPr>
        <p:spPr>
          <a:xfrm>
            <a:off x="1143000" y="2362320"/>
            <a:ext cx="13716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论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81" name="WordArt 3"/>
          <p:cNvSpPr txBox="1"/>
          <p:nvPr/>
        </p:nvSpPr>
        <p:spPr>
          <a:xfrm>
            <a:off x="4267080" y="1295280"/>
            <a:ext cx="12193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战前</a:t>
            </a:r>
            <a:endParaRPr b="1" lang="en-US" sz="4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82" name="WordArt 4"/>
          <p:cNvSpPr txBox="1"/>
          <p:nvPr/>
        </p:nvSpPr>
        <p:spPr>
          <a:xfrm>
            <a:off x="4267080" y="2514600"/>
            <a:ext cx="12193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战中</a:t>
            </a:r>
            <a:endParaRPr b="1" lang="en-US" sz="4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83" name="WordArt 5"/>
          <p:cNvSpPr txBox="1"/>
          <p:nvPr/>
        </p:nvSpPr>
        <p:spPr>
          <a:xfrm>
            <a:off x="4343400" y="3962520"/>
            <a:ext cx="12193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战后</a:t>
            </a:r>
            <a:endParaRPr b="1" lang="en-US" sz="4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84" name="Line 9"/>
          <p:cNvSpPr/>
          <p:nvPr/>
        </p:nvSpPr>
        <p:spPr>
          <a:xfrm flipV="1">
            <a:off x="2666880" y="1752120"/>
            <a:ext cx="1295640" cy="838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5" name="Line 10"/>
          <p:cNvSpPr/>
          <p:nvPr/>
        </p:nvSpPr>
        <p:spPr>
          <a:xfrm>
            <a:off x="2743200" y="2971800"/>
            <a:ext cx="1295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6" name="Line 11"/>
          <p:cNvSpPr/>
          <p:nvPr/>
        </p:nvSpPr>
        <p:spPr>
          <a:xfrm>
            <a:off x="2666880" y="3352680"/>
            <a:ext cx="1371600" cy="838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3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8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3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 Box 2"/>
          <p:cNvSpPr/>
          <p:nvPr/>
        </p:nvSpPr>
        <p:spPr>
          <a:xfrm>
            <a:off x="914400" y="1752480"/>
            <a:ext cx="708660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课文中哪两个字最能概括曹刿这一人物的特点？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      </a:t>
            </a:r>
            <a:endParaRPr b="1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 Box 2"/>
          <p:cNvSpPr/>
          <p:nvPr/>
        </p:nvSpPr>
        <p:spPr>
          <a:xfrm>
            <a:off x="1025640" y="1981080"/>
            <a:ext cx="10033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宋体"/>
              </a:rPr>
              <a:t>远 谋</a:t>
            </a:r>
            <a:endParaRPr b="1" lang="en-US" sz="5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9" name="Text Box 3"/>
          <p:cNvSpPr/>
          <p:nvPr/>
        </p:nvSpPr>
        <p:spPr>
          <a:xfrm>
            <a:off x="3216240" y="1050840"/>
            <a:ext cx="150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战前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0" name="Text Box 4"/>
          <p:cNvSpPr/>
          <p:nvPr/>
        </p:nvSpPr>
        <p:spPr>
          <a:xfrm>
            <a:off x="3200400" y="243828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战中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1" name="Text Box 5"/>
          <p:cNvSpPr/>
          <p:nvPr/>
        </p:nvSpPr>
        <p:spPr>
          <a:xfrm>
            <a:off x="3200400" y="373392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战后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2" name="Line 12"/>
          <p:cNvSpPr/>
          <p:nvPr/>
        </p:nvSpPr>
        <p:spPr>
          <a:xfrm flipV="1">
            <a:off x="2225520" y="1599840"/>
            <a:ext cx="838440" cy="685800"/>
          </a:xfrm>
          <a:prstGeom prst="line">
            <a:avLst/>
          </a:prstGeom>
          <a:ln w="2232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3" name="Line 13"/>
          <p:cNvSpPr/>
          <p:nvPr/>
        </p:nvSpPr>
        <p:spPr>
          <a:xfrm>
            <a:off x="2301840" y="2819520"/>
            <a:ext cx="762120" cy="0"/>
          </a:xfrm>
          <a:prstGeom prst="line">
            <a:avLst/>
          </a:prstGeom>
          <a:ln w="2232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4" name="Line 14"/>
          <p:cNvSpPr/>
          <p:nvPr/>
        </p:nvSpPr>
        <p:spPr>
          <a:xfrm>
            <a:off x="2209680" y="3276720"/>
            <a:ext cx="838440" cy="838080"/>
          </a:xfrm>
          <a:prstGeom prst="line">
            <a:avLst/>
          </a:prstGeom>
          <a:ln w="2232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5" name="Rectangle 16"/>
          <p:cNvSpPr/>
          <p:nvPr/>
        </p:nvSpPr>
        <p:spPr>
          <a:xfrm>
            <a:off x="6161760" y="11113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取信于民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6" name="Line 17"/>
          <p:cNvSpPr/>
          <p:nvPr/>
        </p:nvSpPr>
        <p:spPr>
          <a:xfrm>
            <a:off x="4572000" y="1447920"/>
            <a:ext cx="1143000" cy="0"/>
          </a:xfrm>
          <a:prstGeom prst="line">
            <a:avLst/>
          </a:prstGeom>
          <a:ln w="2232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7" name="Line 18"/>
          <p:cNvSpPr/>
          <p:nvPr/>
        </p:nvSpPr>
        <p:spPr>
          <a:xfrm>
            <a:off x="4648320" y="2895480"/>
            <a:ext cx="1143000" cy="0"/>
          </a:xfrm>
          <a:prstGeom prst="line">
            <a:avLst/>
          </a:prstGeom>
          <a:ln w="2232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8" name="Rectangle 19"/>
          <p:cNvSpPr/>
          <p:nvPr/>
        </p:nvSpPr>
        <p:spPr>
          <a:xfrm>
            <a:off x="6275880" y="2514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捕捉时机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9" name="Line 20"/>
          <p:cNvSpPr/>
          <p:nvPr/>
        </p:nvSpPr>
        <p:spPr>
          <a:xfrm>
            <a:off x="4648320" y="4114800"/>
            <a:ext cx="1218960" cy="0"/>
          </a:xfrm>
          <a:prstGeom prst="line">
            <a:avLst/>
          </a:prstGeom>
          <a:ln w="2232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0" name="Rectangle 21"/>
          <p:cNvSpPr/>
          <p:nvPr/>
        </p:nvSpPr>
        <p:spPr>
          <a:xfrm>
            <a:off x="6275880" y="3778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分析胜因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601" name="Picture 23" descr="D:\网页设计素材\4\GIF动画图标大全\PEOPLE\0021.GIF"/>
          <p:cNvPicPr/>
          <p:nvPr/>
        </p:nvPicPr>
        <p:blipFill>
          <a:blip r:embed="rId1"/>
          <a:stretch/>
        </p:blipFill>
        <p:spPr>
          <a:xfrm>
            <a:off x="6934320" y="5105520"/>
            <a:ext cx="1577880" cy="10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2" dur="50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1" dur="500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" dur="5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WordArt 4"/>
          <p:cNvSpPr txBox="1"/>
          <p:nvPr/>
        </p:nvSpPr>
        <p:spPr>
          <a:xfrm>
            <a:off x="838080" y="228600"/>
            <a:ext cx="1905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12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latin typeface="宋体"/>
              </a:rPr>
              <a:t>讨论：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50000"/>
                </a:srgbClr>
              </a:solidFill>
              <a:latin typeface="宋体"/>
              <a:ea typeface="宋体"/>
            </a:endParaRPr>
          </a:p>
        </p:txBody>
      </p:sp>
      <p:sp>
        <p:nvSpPr>
          <p:cNvPr id="603" name="Rectangle 5"/>
          <p:cNvSpPr/>
          <p:nvPr/>
        </p:nvSpPr>
        <p:spPr>
          <a:xfrm>
            <a:off x="457200" y="1295280"/>
            <a:ext cx="830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曹刿是在怎样的背景下请见的？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他为什么要“请见”？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“何以战？”一问，鲁庄公提出哪三个条件？分别是对谁而言的？曹刿的态度怎样？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4" name="Text Box 6"/>
          <p:cNvSpPr/>
          <p:nvPr/>
        </p:nvSpPr>
        <p:spPr>
          <a:xfrm>
            <a:off x="762120" y="17524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十年春，齐师伐我。公将战。）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5" name="Text Box 7"/>
          <p:cNvSpPr/>
          <p:nvPr/>
        </p:nvSpPr>
        <p:spPr>
          <a:xfrm>
            <a:off x="762120" y="259092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“肉食者鄙，未能远谋。”）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6" name="Rectangle 8"/>
          <p:cNvSpPr/>
          <p:nvPr/>
        </p:nvSpPr>
        <p:spPr>
          <a:xfrm>
            <a:off x="768240" y="3962520"/>
            <a:ext cx="829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官僚贵族；天地神灵；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〈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否定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〉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广大人民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〈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肯定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〉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。）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7" name="Rectangle 9"/>
          <p:cNvSpPr/>
          <p:nvPr/>
        </p:nvSpPr>
        <p:spPr>
          <a:xfrm>
            <a:off x="1744200" y="4648320"/>
            <a:ext cx="381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曹刿为什么要肯定</a:t>
            </a:r>
            <a:r>
              <a:rPr b="0" lang="zh-CN" sz="3200" spc="-1" strike="noStrike">
                <a:solidFill>
                  <a:srgbClr val="dd2562"/>
                </a:solidFill>
                <a:latin typeface="Times New Roman"/>
                <a:ea typeface="宋体"/>
              </a:rPr>
              <a:t>第三个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条件？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09:03:25Z</dcterms:created>
  <dc:creator>第一PPT模板网-WWW.1PPT.COM</dc:creator>
  <dc:description>第一PPT模板网-WWW.1PPT.COM
</dc:description>
  <cp:keywords>第一PPT模板网-WWW.1PPT.COM</cp:keywords>
  <dc:language>en-US</dc:language>
  <cp:lastModifiedBy>a</cp:lastModifiedBy>
  <dcterms:modified xsi:type="dcterms:W3CDTF">2015-02-09T02:16:57Z</dcterms:modified>
  <cp:revision>30</cp:revision>
  <dc:subject>第一PPT模板网-WWW.1PPT.COM</dc:subject>
  <dc:title>第一PPT模板网-WWW.1PPT.COM</dc:title>
</cp:coreProperties>
</file>