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B5695-8798-4E67-8BE3-E7B6A352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2A77-8D27-4416-8A8D-F922623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B3836-DFAF-4DD4-A1F7-746A0DBE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47E5-F3B9-40EA-AE3F-2565485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6100-6EEB-4675-821C-A684B13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0869-7339-41D2-A2AE-9164245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8A525-1760-4130-AAB7-DC8D29B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2137-F3A0-4FE5-9E80-E451C8C9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86FD-5618-4372-B0D3-4FE99BDC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0AEE-9183-40E5-92F8-7216D13C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39B4-0A8C-4D8A-B3C6-9C20F7CD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6E3C4-05AE-4558-BC61-14EEA599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B6048-F1B3-4A06-80A5-E999DF14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FE3C-14AD-44FB-A42F-9C1DE5EB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32D99-AB9E-44FD-BC80-58F50773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715A4-136C-4208-B951-4D5916D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39DA-6B66-49B4-B37D-8DF1603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7ACB8-2614-4454-9A4D-A1168D6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DA0B7-8173-4D52-A8A6-6B449F3A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FA3B-0D83-45DD-AA12-C0A38E09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C7EE3-A22C-4D5F-8F33-E0BA08F6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ABF2C-BAA5-4E4E-8AD4-C578A0F0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29D66-2DAD-489E-B012-96D4656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D9E15-F648-45BD-87FE-0C5F07B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AD2D6-E120-4CD5-8D40-E91BFB83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14A3D-AA27-43CF-BA33-E9F64948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3C3B4-83D7-4C7B-A49A-CDE80708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D160-E267-4CB8-AC92-32F2F10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14034-7CDA-4E1E-AB55-084FDB8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D29AA-C598-4FBB-881C-254766E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14E1F-091D-42E2-8A83-71CD1B6F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BA80-8032-4F10-994B-5B7BB4F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E872B-03B5-41EA-96A1-3967DACB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35363-9484-443E-AF99-2C4FE24F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08A02-B8D5-424C-8AAF-F987FDFD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8C54-A16E-49A7-9B78-0C1CE1A1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AF98D-66E2-4B0A-B032-99EDD918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B281C-57D4-43D5-BF95-3C496C32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249CD-F7F7-4126-ADA7-3F2A835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99D94-154C-491B-ACA7-F1C0A392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BF7C9-24C0-42D5-82E5-5FFCC32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D9C8-4B5B-4D75-A984-176C8EB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E29DF-9BCE-40A5-90FA-6C851D7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9587-22AD-4692-8D10-CDFAF7C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155C1-DB32-494D-9EC5-6CBEC556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19BA-773B-4178-811E-49003888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CEA0E-8341-4241-B5C3-615F066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F6B8-CD5A-4657-941D-F4CA7DD7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28A76-5A84-4A1F-A867-0FD244E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365EB-70BC-459E-BD0B-2CFFA397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D14B-A088-49E9-9685-6F47CEF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56766-3294-4D34-926B-E6E2EEE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709F9-EA57-4CA4-94E4-2791CFC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57980-DAE4-4D87-AEF2-F74348F9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79F70-7AB8-4072-85F8-3DB9275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9EFFF-31B7-41CF-B873-E24EEB5E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3D947-82AE-4384-A69F-38A3A37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B9770-A7A2-4302-9FF6-084E38C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14330-2D07-4417-A4A4-4BC1184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CBA74-754F-4287-BB0B-BAED69D8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62459-5B8D-4BB2-9C1B-0D2E3A21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BE19F-A399-4057-8840-DE37183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84A29-CE71-494C-BE4E-2037D9D5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AA32F-B871-4FEB-876C-887E55A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3F7AA-6AB3-41C7-B803-A0FC82A4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63C63-5D0C-4283-A776-EFA467F8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D7A25-A39E-4923-9BC6-D8B3087B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14D47-CE1D-4604-A278-3BF4063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25535-6985-4378-A98F-23A41FA6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02767-D45F-432D-A681-0F62A0F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E8553-3C7F-42A7-84BB-13A68056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C3AD0-6A05-480E-9198-B9D8394D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B251F-2970-4F2B-A22E-2B3ED903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0FB26-D58E-41AB-8AE7-74DD4064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95B8E-B143-496F-A450-721CB42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749F2-1BED-418C-A3D8-D60E17E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6F61C-4DB3-4CC9-B6FC-7FB5069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DDC29-72AD-4237-B4EA-8B6DB4F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61A9B-9502-434E-871C-DEC4A3C9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24B67-3FE7-406C-AFD8-B440D2F4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BBB4B-A3CC-4B78-9607-203D8F31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C01D-AF20-4306-8408-BA66C8BE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465B-9989-4D3F-8FA8-6ED86C1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2C83-F8E8-4A60-BE43-AE46167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3667-9519-49D7-8AA3-495E230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850E-37ED-411D-B5E0-4CD34EDB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4AA4-C1E3-4F02-87AD-33BBCE74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DF63-3C3E-4E4E-A85C-4D63424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2411-AF03-411E-B54F-3BC36D5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FBDC-0428-40BA-B8E3-50CC914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3E9F-768D-4CF4-AF0D-10E25CD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E87F-91D2-4251-A436-1C97C8EF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BF5B-2144-4778-9354-F530CFF2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FD10-9A6C-4F80-A267-DAFD3035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843B-C066-4BD4-B161-8CB8A06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B7B5-B51A-469B-96CB-A11E6E6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E540-AA59-4EF3-BE33-45B4EDC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522C-DE93-40C9-B013-636654D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84E1-4B3F-4723-8C71-BD8964B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9A06-F9F7-47A7-B4EE-434CAD2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E228-966A-4951-A918-6E3416E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AE37-8410-43C4-9BEF-C9666C5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E5E3-0D24-4CC0-8D2D-29854782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06E7-94BC-4953-9616-14A527DB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3458-FF2D-4D33-B4DB-0F43B1D3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A905-64AA-4C27-AD38-33761ED4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2C0C-195A-4B48-AFC0-39601D10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9D28-CEE4-4568-A037-2F1706D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42DE-649D-4D16-92F2-F40FC53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5A9C-DC36-43DB-BAD0-E5527FBB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065C-B81A-48F4-8E39-17963D7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BF2C-7FBB-4125-9999-035F8FE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F543-0841-4632-93ED-B7FC86B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9EF0-1B5A-4421-ABE9-8FAE9F2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6AF4-E6C9-4DB1-82EF-26A5ABB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B693-7CE3-4CDB-9DB4-AEC54704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9676-1401-469F-8D31-E317934C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EBA4-CD63-49C0-9923-35815652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1EB0-5CEC-4DDE-BBCC-39F25D0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42C6-6426-4602-97D1-FEFDA03F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7F80-CF23-48E6-9410-D267824E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6386-6558-4865-9B31-2EAF247B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624A-4A82-4738-843F-9808236D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2B9B-D5C4-4BDC-8C1D-CADB767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EE086-2170-4802-A64A-2D6D9588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0F76-11EF-4904-BF98-D0E5D48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FAC4-2D62-468D-BE5F-9F0EC5D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9B8F-ACBB-4D4F-9418-20A4B223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BD36-84C1-420E-9069-2486481D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BEDC-DDDA-4005-BF15-9539A904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298E-FACA-4871-84F9-ABC7886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AEE0-8DD0-456F-ACA6-11F5F908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D044-382E-4467-B0AD-F6B999F1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8A60-1678-4CC9-A757-DCAE952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9BA69-EB0C-413B-8612-FB69048D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F970-E257-4C46-9CC3-889D137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699DD-8CAD-403F-9389-339F8F2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5DB3-D0E5-47C9-ACDF-184D683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65C5-E00B-42B3-AEA6-1E81789C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0AE2-84ED-42E6-AC34-2E292F01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3873-5D3D-48B5-81F2-C709F102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F1B0-1087-410A-AE4B-D71C5023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B6C32-5E80-4F5E-BEFA-3AE19F1F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4B314-D061-4BD9-93F2-BE015FC4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F917-66AC-4DCF-9D8A-C7931BFF105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9624-1159-4627-BB78-31B90C6ECD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4B2-D6D6-47C8-B24C-3A9A261A16F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88B-6895-4C94-8EB2-1D2CC2B11E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084-6711-4915-B961-5749C7EF302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4C5-3700-475D-BF63-08493864B5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146-0958-4E07-B884-9FA8E2ACADD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9481-68C7-4A96-811C-3158D4B505D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63D-6146-44A8-A190-C54141B787E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5BA-6648-45B0-8397-C7E5F1CF7C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0568-15EC-435F-8CAC-639AAF366A99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F175-A226-45DB-910E-39E34D59738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44B-C886-4F09-8BA4-A32EEFAFD0B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5F5-E3DF-4037-9187-62CADBB145D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F98-B401-483D-B403-DA0FF77014D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931-D4C2-4C45-B54F-28DE9075A23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204A-F47A-4FBF-9E33-14BFDB4CC9A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3A6F-B2DE-45AE-AF7F-E4CB2D2B24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FF7-B3C9-4585-831C-AC43AC9D2BD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B487-7CB3-4A0C-96F4-9D7D4135614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B42-3630-4289-8406-F36B833473C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A8A8-0348-4AD3-9CF5-71CFB3E0AF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2C3-BE0A-48F1-8730-44983568CF4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AEA-CD55-48E0-9A54-2DC1CBD7107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Gulim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Gulim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答辩人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XXX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专业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教育技术学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指导老师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王佑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概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框架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a</cp:lastModifiedBy>
  <dcterms:modified xsi:type="dcterms:W3CDTF">2015-02-09T02:34:19Z</dcterms:modified>
  <cp:revision>82</cp:revision>
  <dc:subject/>
  <dc:title>PowerPoint Template</dc:title>
</cp:coreProperties>
</file>