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4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4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825B-F42F-4975-8C92-267F583F3B9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406F-2208-45F2-AF24-239858BB561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5A28-9005-4F43-9632-A6D52195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6475-9B8E-4441-A8C1-C1D26CFE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6B73DF-7ABF-45B1-9845-14571C42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CE45CE-BC04-4CA2-9026-84DEEDF8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413E01-DFB2-4F7D-BB6E-F333F65A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5B1FD4-7F74-4710-8C4C-FA156A79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BEBA8F-E8A2-4078-A3F9-05AFA144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0CA83E-8D23-488B-98AE-8AB1AB20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7F9193-E869-4979-BD9D-0B9D6FF2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995BB2-CE22-4EEA-95B4-9632695D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1A4421-DAC3-4F75-9DEC-0906455D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54C434-D8B2-43E8-B88D-4A471267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EDE6-BF0D-4A9A-9A53-F91407FB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9EF9EB-AFE6-4488-AA06-FCE23DCC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5D99B9-91B4-44EE-9E87-06189DF4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2998B0-352B-4B4D-84DF-A34EE299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898DC1-CF6A-4009-9792-A431489D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F23A8A-1E58-4627-8F5C-BF506278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9E98FB-4891-4E82-9FEF-86AD09F6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0C168A-B78A-4BDB-9517-DE67E61B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2F9BFF-E5F0-4712-A4A1-801DF0D5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2E4C93-8DA5-4694-9F71-42B9550F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CD0B09-140B-4450-AB56-0E3A2E28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FEFB-BC45-47F8-9163-20601A68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EC41B2-CD4F-4BC8-B5CD-E64E0260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00875A-1B32-4646-A9CF-5E8C3221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759381-2DC5-4F25-8AC5-6FECD904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297DD5-A0A0-42F7-A57F-52FD2275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FAF050-85C1-4660-A3EA-CB13C759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31C955-1A1D-472E-B41F-4EC98C56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B4437C-E383-4253-B673-BD04D72E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736855-BD2A-4135-96EA-D721F875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45C736-985C-4A0F-8C54-7C994E10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35A29A-A985-4813-8D2D-BF81106E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8680-DB79-4EAF-8D48-470ADB1D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22930E-8250-4C75-99D1-BBB0EF64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5F5878-4455-4B20-8B8F-0B3DCE2B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FD8AE9-7AF0-41C7-9A2E-B0B3A316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54494E-7B7C-49ED-9C74-A2148D60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D71BA4-5627-44DC-9170-1F5F0378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FEED21-653D-4CE2-B8F6-D9C685B3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CA1B58-8AA0-4E86-B294-50D489C0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71292E-1A0C-438F-A63A-C9B1DCBA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DFCEC7-0292-4F6B-862F-CD6D50FF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251E3E-CC36-4C91-91A0-248F6200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838B-4D8C-4FEA-BC67-96A0D98C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ADE25C-52C0-4A64-807E-DDDAB36E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595C51-F321-4AE2-8887-02A6D378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BFCC25-3DEF-4EA6-B071-A122AE02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DA2A10-F6F0-450C-8079-E4F852B9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3F6584-68CD-4B22-8D31-63EC41E1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4BF7D7-CEA9-43EC-8692-1903DDF5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699E15A-284C-4DF5-A6D9-7B3A8BB6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3CB3C52-5A4A-4D51-A3A4-01DB21E9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07E6725-CBD2-4310-B428-02AC2570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0C09439-6A18-49A3-BE6C-3D5E73CF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8568-CC15-4397-85F9-8B244D6D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A03ECC8-ED2F-46A3-8878-57608C5B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EF646F4-26CD-41B5-BD2F-11F911D7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8287071-AA88-4A78-8324-6EDAD3A0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9DDA4D1-ECE3-43D9-9C4E-C30906E0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46AFCC7-8D75-4EAF-8713-66AB4249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5618278-D24A-4C68-912E-5A10D913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1C8E8E5-C178-4973-B2E9-3393426F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47C9CE6-AAB6-4C5C-B052-F67E01B7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F2D485D-7BF6-4D9D-85DF-1CDD55FB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2C7B6C9-CC91-4F1C-A49D-DA05B464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94A1-924E-4C7A-8507-8D024FD5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A9F0064-2E06-4C63-B0AF-63F5DF71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65EBA31-3E17-45C4-9173-566E018A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0A0D53F-980F-4F0A-9E90-CA906B6C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24573B0-2338-40E2-BF7E-776D299B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0C789E5-AACF-4E4E-A05E-5400FF6E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4CDDCE3-A492-4B48-8ED4-2FD82EAE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AF33E3F-9433-4423-B4B2-99F84083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750A57B-C22E-41CA-8712-85FE0303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2C3069A-0A75-4F96-89CD-FCE532CA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55BE6EF-2244-4641-985C-8E7109FD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FFED-ABA5-428F-9A6C-F84D704B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D46D3DD-9DBE-4865-B099-3FC004FD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0BE884F-E170-43FF-91F0-493EFDEC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520FD86-0C6F-41B3-80DD-344666F3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1DE6C24-9C12-4901-BB7C-CD1AAADC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340F8F6-01CA-4F56-9409-6754C802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6309E6E-AD80-444D-9C38-E46EA631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54CA92B-279B-4C4A-9342-A0A7F3C1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9C14EAB-9660-4978-9140-F0C92952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07BEC6E-D969-43BE-B3E0-2B591263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58434B2-136F-45B5-BFB3-56FB379E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25BC-43E5-4AC4-B9A1-281CE811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F47C809-558F-4AC8-8316-99C818C57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B4B5-6C3D-497C-8F81-627DF468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3378-31BC-421F-8315-6482D960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CB1A-078B-4A2C-B25D-C20C1D8C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7EE9-5CF5-4044-951E-18B8C94A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31A1-0CEF-4B55-AD80-B5F3B80B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E85F-D6F9-49F7-847F-1FA070E3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82FE-0870-47F2-ABA9-89DC0CA8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42A4C7-238F-4CDD-AF23-B8929A9025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9C5FA-3B95-491B-AB8B-6DC280CB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3E6616-5D60-4B84-9471-405F85DF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4F4E11-C729-4BE1-99E7-4D70F2FC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BB6DF8-6C79-477E-A718-39F6A70F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2676-7DA0-4601-B21F-389AB70D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30A447-817F-4BC8-9AAA-809B4A89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BCE45-CD56-4069-8828-D262BA6C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659166-82BA-4390-9E72-DC85512B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739863-F01F-4F2F-AA83-FE1B5F94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3CA4BA-F82D-45E7-AE2C-8C55F374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DF23C4-ADCF-4397-9372-56EBA3D5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511AB6-973C-4376-95CC-8456069D18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7551ED-DDCD-4C92-9F25-1985F8DD96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672AE6-4AA6-4DE0-95E9-53BCF167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EFA1DC-381F-40C2-B5B5-6E2B4B1D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039D-4BD8-44E9-B437-5AF726F5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4E3315-7ACF-4500-85DF-43958CF6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F482EC-4916-4CE7-A8CA-CD9C3BF3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7B997E-6E06-436D-8DFE-2AC716C1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D7D69A-D53A-45B5-AF9B-6A711952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96A80A-CEFD-4490-A9BE-8BAF2E88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D7C905-298B-4164-B30D-187269B8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1F10FD-4B58-4747-A302-49688AFA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7828CD-A227-44F4-8EE6-08A87C37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D31715-EA6A-4F5B-94E9-089F8429A5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5E4AF7-C05D-40BC-A10D-0F5BEE6B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A0F-3B09-4186-BECD-3905A70D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412A0C-74A4-47F2-8940-6BA04AAF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A8A9FC-32B8-4085-A2DC-F6EC6A34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1BB46A-177C-4DE7-9113-0570DD06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5FC0D2-55D6-4418-916E-744B0B5C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BF4F86-41D3-402B-A443-CA074DDD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4E4994-D31B-44DC-83F0-C0ECACF4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0B96B2-EE0E-4331-93A0-D686586A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CDFDB1-C63D-467E-8999-E3FC764A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DBF88F-6EEC-4CA1-92F6-4DBCA735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5912B7-5B1E-47D2-BDD5-4E8ABFD4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5E42-3403-43F8-B5F8-7D4243EF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4D7A4E-775B-4D52-BDF6-1065BA18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55D52D-5CB5-4575-9759-7144B4D2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656E4C-ECD9-4190-A1B6-9916161E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9E21CD-D85E-470C-ABC3-54C6340C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7083FF-B8B4-4155-909B-EE4824A0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46BCD6-8B9A-4308-9E8A-AFD6DF98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CB9A17-84D2-4712-ABDF-D33C86F1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DE6DD7-DEA7-4091-AC37-735E82CF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B0D442-6F1C-4E73-A07C-A05B4BAB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9B2D67-64E7-4491-92B3-FB8D6150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F2A5-6E40-4F43-AA1B-2089E349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2C98F7-4E50-4359-B8B4-F120614C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7D1A7E-6B1D-4991-9434-D8DEA262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309282-0A94-4862-8383-BCC7CC7C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DED2FF-09F0-4C00-B630-116A4750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3C3D2D-75DC-4436-882D-A92019B2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6735D1-E258-4C22-8400-D37A999F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FA18C9-EFCC-4DC4-966A-AF8F2C12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64E9A5-9793-48C8-A6A5-5B957E8D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762B54-1429-44AA-8CC6-413A3D65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08A107-942E-4D09-94E0-5B9F1485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40A2-26BE-4CB0-A4B0-F202928F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51593F-3548-40A9-AC5D-D8883CF3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8C8784-EBBD-4A98-860B-3F18979C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95139A-89BE-4248-A364-55008819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7E204E-B8A0-44D8-A2A6-3F5B4C5B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0D77A2-FDD9-4802-93D3-71AC347C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F43A97-2325-4423-9B55-A2016CFA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90A7B9-1FF0-40D5-A24A-3934F1B7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7585B9-F952-4922-8A6F-C40A153F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DBD744-B0E6-4F85-935A-8AE9E9AB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21CC85-B2BB-429D-A987-5D345803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533B-5347-40FF-824E-B3A06798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E462E6-C2D1-44F4-8818-7EFCD4E5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261685-745C-4756-ABF2-2AB57512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C0A08A-2077-447C-8A2F-A87237E2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4537E9-9F49-47F9-908B-549BF022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DF2975-C570-463C-A9EC-3AF97DA1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527F3E-1167-41EC-85A0-DEEC358B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0D438D-9A6F-402E-B46A-7022BFF1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D7BA1E-297F-45C6-A7EA-D9B5D5BA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AEC982-FB0B-4557-9C71-8142045C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0A93F7-4106-4DB3-853C-69355343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7C1E-21AD-48AB-B7F1-CB08C50BB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48B1-0C36-421A-B493-9EFDD4E0396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956F-6236-4D75-A257-D20EC3DC3B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4EC0-AB19-485E-BD77-8FA905EEFB6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04BA-F4FF-463A-9DF4-47E36CBF67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6526-87CF-45C4-BEAC-C20FF31F886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E802-1CB0-4F35-B6C5-FC69E42541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2F37-5BE6-4CE0-896B-8EAD6736998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E472-E84C-414B-8CC1-0244A406B4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17C1-45C2-49D0-8D5B-BF8991322A9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91A5-34D4-4895-B582-822DB5461E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C09E-50BD-441F-AA4F-1CE812E77CC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1584-015D-4205-B6A4-CFC84ABF94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685F-11A6-4213-B254-90DDB4BAE75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E474-760D-4CB2-AEBA-1E4C8020C9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28666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B5AC-C0F4-4F68-9739-617513BDAF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0"/>
          </p:nvPr>
        </p:nvSpPr>
        <p:spPr>
          <a:xfrm>
            <a:off x="28576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44F3-0C4D-4FB4-A8CA-D47ED6C71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8CC4-E28E-4416-B333-80FE3591EDD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8E10-649D-4846-8CAC-887CEE47B6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4A6F-EC03-4CA3-B956-98A181D9699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4F74-BECC-4274-9473-A1777EDC9D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9F46-88B9-4CED-BA93-F97E28F0760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BD6E-60BD-4BEB-9863-AFB3FBCF6B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09F5-39F7-47F5-A3CB-4D82B873B02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C78B-5C05-4957-B300-372A391869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6052-E525-4392-9CE9-20803172B2E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3D55-4231-4B97-B4A8-0CAD109E03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2700360" y="2492280"/>
            <a:ext cx="59040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仿宋_GB2312"/>
              <a:ea typeface="仿宋_GB2312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143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1436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143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XX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上凸带形 9"/>
          <p:cNvSpPr/>
          <p:nvPr/>
        </p:nvSpPr>
        <p:spPr>
          <a:xfrm>
            <a:off x="7358040" y="571680"/>
            <a:ext cx="642960" cy="214200"/>
          </a:xfrm>
          <a:custGeom>
            <a:avLst/>
            <a:gdLst>
              <a:gd name="textAreaLeft" fmla="*/ 160560 w 642960"/>
              <a:gd name="textAreaRight" fmla="*/ 482400 w 642960"/>
              <a:gd name="textAreaTop" fmla="*/ 0 h 214200"/>
              <a:gd name="textAreaBottom" fmla="*/ 178560 h 21420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b9cde5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143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XX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143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XX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上凸带形 4"/>
          <p:cNvSpPr/>
          <p:nvPr/>
        </p:nvSpPr>
        <p:spPr>
          <a:xfrm>
            <a:off x="7429680" y="571680"/>
            <a:ext cx="500040" cy="214200"/>
          </a:xfrm>
          <a:custGeom>
            <a:avLst/>
            <a:gdLst>
              <a:gd name="textAreaLeft" fmla="*/ 124920 w 500040"/>
              <a:gd name="textAreaRight" fmla="*/ 375120 w 500040"/>
              <a:gd name="textAreaTop" fmla="*/ 0 h 214200"/>
              <a:gd name="textAreaBottom" fmla="*/ 178560 h 21420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b9cde5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2:34:15Z</dcterms:created>
  <dc:creator>BABY</dc:creator>
  <dc:description/>
  <dc:language>en-US</dc:language>
  <cp:lastModifiedBy>a</cp:lastModifiedBy>
  <dcterms:modified xsi:type="dcterms:W3CDTF">2015-02-09T02:34:33Z</dcterms:modified>
  <cp:revision>48</cp:revision>
  <dc:subject/>
  <dc:title>幻灯片 1</dc:title>
</cp:coreProperties>
</file>