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image2.png" ContentType="image/png"/>
  <Override PartName="/ppt/media/image3.jpeg" ContentType="image/jpeg"/>
  <Override PartName="/ppt/media/camera.wav" ContentType="audio/x-wav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941C7-1552-4CEF-91D4-54BA2E30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234E8-7F0D-43E5-A8BD-02C568C4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EB255-0BBD-4430-BFAF-B34F628E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04C75-287A-49D0-83B3-20F4D94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37BD8-EA09-4396-B611-9453874F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8F188-3674-4C32-8FB0-56CE294F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192D1-658A-47B4-AB8C-5DAC863E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5D342-D660-4CCA-A283-50898EAC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4C311-A4A4-4918-B791-7C8EA7C8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13DDE-9978-4CE9-95D4-F0354C6D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CF309-4F90-4A03-8D3B-41BDA400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6C1BB-36DD-4EA7-BE0A-E4B8A931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0B51D-93D6-48B4-8146-9D48A463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ACF17-6E06-45AE-BBC1-2A95587C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B73CB-730E-47D0-981C-9A9A23C7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F162A-FAFC-4051-803F-F5FE6982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94142-7FCC-43BA-AEF1-EA36BF9F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EB753-B296-4444-831B-E8CB0BA5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D154F-E071-4469-9C2F-EB6CE5A4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96A95-0949-4317-AED2-650527E3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8636E-B5CD-4C87-975D-DA5DC7B7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A6EAC-63E1-45E5-894A-450C413A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2DF55-68E4-4588-B3A6-CD827E05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6006D-C0C3-4B85-80F0-63BA702A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A5CF4-0C0D-4137-B02F-BE5133F8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CD573-BED9-4F68-8F3B-95E04724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CDEBB-7E62-402F-9126-DAA26C2B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C3FC8-F16B-4C1F-9AE3-EDC9E216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3A491-952F-434F-9E87-2C9F658A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F7D1F-0A03-4003-B9E8-D4567527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A34-1884-4FF5-BA49-ED232234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0AF20-A16B-476A-84D8-1CDD6376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F58AE-1916-4247-9A26-668BD194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48DFB-D1C1-42BF-B26F-DC738B4B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803DC-ACF8-4213-B0A8-1FA84BD0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49B32-A4C3-4A2F-B946-8CA444C2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23735-0927-4363-9F4B-3BA86107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C4EEE-D6AB-434C-B651-5986BBD3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58252-963C-4F04-A1C4-0CB680B3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1E93A-872E-4003-83D3-C8A51A93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41BB6-40D7-4A60-97A3-061B9C36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B8F-5A43-429A-96D1-865BD9C6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E2572-8BFF-456A-930B-0F50FA2E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89D8D-1DAF-4476-8F56-77BEC537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D56B2-5897-43F6-AEFA-FA573053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61346-E025-4B7A-A18E-D311EB79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3E89C-AB16-4328-8F65-37573CF5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6E47A-4CAB-46B2-976A-7079550F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6EB26-EB27-4BE8-8E1E-A5FFA7B4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0B264-6EBE-470D-9794-3991C2C6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609DE-8F21-4AE3-A80F-3D568066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1D88F-D251-4377-BC03-0503BE8E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E32-1906-497B-AFAF-53E2DEC1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3D378-DA78-404A-8E4E-2957E939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D5440-25B5-47B4-9EE6-6304F749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5272A-D626-4544-8E68-54403BCF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8B822-D4DC-45D4-85E6-144638FE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C150A-F988-41B9-A134-913EF073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50258-0547-410E-861A-5C06AC61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AB0BD-B3B2-4050-97FD-4031C435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DCA-F654-4A49-B910-DC6DFCF9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5E2-0B86-4DDE-A839-934D283F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E07-D9EB-4531-AF76-D7D4AE97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67A-D073-48A7-A231-466A2247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0D7-51E7-4210-93DF-1C6E6DB6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50B-22D5-49A1-8C5B-E884C405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358-6B0E-4333-85C0-027231AB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5DC-D5C0-44E9-9610-0D2A90F1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32A-CEA5-443B-B323-3898D162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E817-9902-42F9-B16F-9AFA6E94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F49D-048E-4731-AF5E-951D262D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D35E-5337-4964-BE6B-EDE1C4C1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77BB-5733-44DC-829D-4E2E0109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1F33-C64C-43F9-8AC8-5AF9EDEB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559A-BF00-4689-BDCC-B319618D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1D75-49A2-4130-82F6-C8466416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759E-D323-46C1-91C3-1534F628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DA2E-8544-4BAE-A0E5-A4C1CFC2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B6AF-C06F-42B0-B96C-68543FB8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51F2-DA28-48AE-8570-611B1EA6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C2CC-4AF6-4D7B-88A7-4F5D3872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8A832-3DD5-4127-B87B-06AD65FE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D2FE-A9DE-4A0A-944E-9D027EAD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28C84-2BC9-4FE1-8938-619ECC6A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FAD56-1EC1-417B-A088-67F0B7E0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9B60-F94B-4D27-9191-775E182D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CF232-146F-4E58-A5A9-B4F950D9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A85B-335B-4987-876A-DD662490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C452-2B1B-4F87-897C-C1D0D99C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78E7-2CCE-49FA-BBD6-75846B5F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2F857-C560-4A24-A660-E6262993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91EB-0BF1-4729-939A-4382605D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15BF-1360-477B-87EE-D7B73D66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D04F-F1BA-4F49-8C3A-00BD5940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A6D0-736A-40F6-8580-03D2333E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8AB1-42AC-453A-B5D3-28E6800B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13976-CAA9-4617-87F3-B57D3BA9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F7ABA-3A32-479C-8679-8BAE79D0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80B37-5AFF-46CC-9F08-7A72384B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6C8D-2F81-414D-9B1C-35C69F0C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E048-6D0C-44DC-B280-5B6DAAC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7021-3494-454B-9E10-5511F944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09E8-F1A2-4184-BC67-70B5B7B4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41D4-F822-4073-B706-5091EF09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D062D-017A-4E44-B04B-8DE96091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75C59-B2DB-430E-9BD7-9DDD55F8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5241B-9771-44E7-A442-9FAFFF59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06CBA-3327-41D7-AA35-5F62E366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561F-E779-489F-AFA6-1AAC3103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3653-A2A4-41FF-9221-58EB0EC5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93FC2-0948-430D-B892-4DC2969F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C96F7-1F7B-48B5-9526-8166C10E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B6FFD-8821-41E1-9AFC-214A36A9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7568C-DA0E-44FB-BF61-743DCAF9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64855-62F7-483C-A232-E21A7371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F9456-741A-4EEC-AC08-9375FA23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E2D2D-9BD0-4EF1-BF40-E5A7F922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F6A65-0972-4782-B866-A26E3C23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A2E7C-C0E8-46B4-BCF4-32AE18D2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D252-7708-4379-A83C-0823D189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BD0CF-AED4-4639-9B84-6AAD2E43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27552-1714-48CA-8AA2-9D106990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5C9D2-0EB2-484E-9F10-144D2115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BCACC-B76F-4FE6-A40F-5AEECA39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5EB7F-4E21-43F5-9D92-6296E020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C58CE-202E-4F60-959E-DAB78B32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2C487-FE96-408D-B8EA-B4BDE4D4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F48BA-9022-4C8A-9CFA-2A05B619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2E973-1F6F-41F6-97EA-0DDE4F50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D7797-B26C-423D-B03B-9BEB2DF4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217DA-37D4-46F6-8B80-943B7109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0DB18-4372-4EB3-8667-D34D67D8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C3E47-570D-4F43-91A3-DC6C28F0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DDC94-6826-442A-8122-4AD9158A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9C570-B4BB-4536-B233-1B913889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5E63B-E4ED-4215-80EA-E3A9B2B2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0120D-36D1-46E2-B557-CCF968F0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AA0DB-91C8-4B92-A74B-D13F66EC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A7FF7-C383-416A-AE7D-12C6E898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08FB4-577F-48C1-BBE7-FEDCFDFE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0811F-0310-4170-BE20-52A53E09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A4820-67BD-48E9-886D-D76A3E2E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C2F4B-1850-4623-A49E-0A1E0A9D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28673-E3E5-4F20-B9A9-B493FA13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B984-2587-40F3-B4C9-2B86A6AC84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CE38-E062-4150-836E-632807C525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E00A-19E6-43C4-937A-00C97BAC3F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EEC8-97AE-46A3-8578-46BFA6AAC0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DE1E-23F6-4892-9895-CB73BF63C1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0883-327F-41A3-920E-7D304DE541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F56C-F764-4E17-912E-0CC5FF5F75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1D1B-7FC1-4D36-9FE0-EACE2D0020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D63C-0214-458C-BDEE-22B2B576AC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4F6B-E0CC-4A63-9297-5700227429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6A4A-D6B5-40E0-8470-20FB31D2BE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DFB-027D-4EA6-8CC9-BFAEE83E9A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9212-22AC-438D-B22E-55C9A59375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1317-AF06-402E-8EE2-E95C57842D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864C-D61E-4968-B068-36F73B7325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BA98-4E12-4EB3-95CC-01C87A889B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7504-A454-4577-AC47-675456187F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F163-C3ED-48FE-8D3C-766A8E9206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4C58-8955-4DA5-B0AE-4F6D67D28D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63DD-C0E3-4E2D-8D11-1357B56906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19E1-94B4-4952-83A7-46C000B252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6524-7257-440F-9032-7B44B3FF44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5E49-AD91-4446-9FE7-501FB47D330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0177-3AD6-44DF-AAA7-5A1F9710AE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1835280" y="2276640"/>
            <a:ext cx="6048360" cy="1557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5b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登    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颌联写了萧萧而下的“无边落木（落叶）”、滚滚东流的“不尽长江”两种景物。这样的景物，对于当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（逝世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）、飘零流落同时又是一个现实主义诗人，一个有阔大的胸襟的知识分子的杜甫来说，会产生怎样的感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395280" y="278136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826920" y="342900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既感到人生短暂而渺小，历史悠远而不可逆转，因壮志未酬而产生惆怅；也会感到豁达、坦荡、胸襟开阔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358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、如果说前两联是写景，后两联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826920" y="1557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抒情。直接倾诉内心的重重愁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24000" y="2421000"/>
            <a:ext cx="8424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、从“万里”、“作客”、“百年（老年）、“多病”、“独”这些字眼中，你能领悟出诗人怎样的思想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684360" y="393372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逢战乱、时值悲秋、离乡万里、漂泊他乡、人到老年、体弱多病、孤独无依，再加上国家多难，诗人身受八重愁苦。倍感老病孤独，身世凄凉，十分眷念家乡和亲人，也为国家多难忧心忡忡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56908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、尾联中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艰难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潦倒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词形容的是国家还是个人？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苦恨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字如何理解？这一联表现了作者怎样的思想境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395280" y="2205000"/>
            <a:ext cx="8353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既是国家，也是个人。客观上，“国破”与“家亡”是因果关系；主观上，诗人一直忧国忧民，为国家破亡忧心如焚。从联句的对仗关系看，“苦恨”与“新停”相对，应是副词加动词，“苦”是副词“很”，“恨”是动词“遗憾”，诗人很遗憾过早的白了双鬓，不能多为国家出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古代知识分子大多以“达则兼济天下，穷则独善其身”自勉，而杜甫无论穷达，都心忧天下，其思想境界之高，不愧被称为“诗圣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3581280" y="663480"/>
            <a:ext cx="4876920" cy="5031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万里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地之远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时之凄惨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作客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羁旅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常作客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久旅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百年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齿暮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病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衰疾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高迥处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独登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无亲朋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十四字之间含八意，而对偶又极精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609480" y="669960"/>
            <a:ext cx="2835360" cy="1922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宋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罗大经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曾说颈联的十四个字中含有八层意思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077"/>
          <p:cNvSpPr/>
          <p:nvPr/>
        </p:nvSpPr>
        <p:spPr>
          <a:xfrm>
            <a:off x="3979800" y="136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079"/>
          <p:cNvSpPr/>
          <p:nvPr/>
        </p:nvSpPr>
        <p:spPr>
          <a:xfrm>
            <a:off x="358920" y="3635280"/>
            <a:ext cx="2612880" cy="642600"/>
          </a:xfrm>
          <a:prstGeom prst="rect">
            <a:avLst/>
          </a:prstGeom>
          <a:solidFill>
            <a:srgbClr val="d5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意象分析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080"/>
          <p:cNvSpPr/>
          <p:nvPr/>
        </p:nvSpPr>
        <p:spPr>
          <a:xfrm>
            <a:off x="3057480" y="4915080"/>
            <a:ext cx="57913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能尽可能了解诗人生活的时代特征和其自身境况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081"/>
          <p:cNvSpPr/>
          <p:nvPr/>
        </p:nvSpPr>
        <p:spPr>
          <a:xfrm>
            <a:off x="3057480" y="1231920"/>
            <a:ext cx="57913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展开想象与诗人形成共鸣，甚至让自己化身为诗人，体味诗人所思所想所感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3082"/>
          <p:cNvSpPr/>
          <p:nvPr/>
        </p:nvSpPr>
        <p:spPr>
          <a:xfrm>
            <a:off x="3057480" y="3352680"/>
            <a:ext cx="57913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抓住诗中的形象，紧扣表现形象特征的词语，体味情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083"/>
          <p:cNvSpPr/>
          <p:nvPr/>
        </p:nvSpPr>
        <p:spPr>
          <a:xfrm>
            <a:off x="358920" y="5159520"/>
            <a:ext cx="2612880" cy="642600"/>
          </a:xfrm>
          <a:prstGeom prst="rect">
            <a:avLst/>
          </a:prstGeom>
          <a:solidFill>
            <a:srgbClr val="d5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知人论世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084"/>
          <p:cNvSpPr/>
          <p:nvPr/>
        </p:nvSpPr>
        <p:spPr>
          <a:xfrm>
            <a:off x="358920" y="1658880"/>
            <a:ext cx="2612880" cy="642600"/>
          </a:xfrm>
          <a:prstGeom prst="rect">
            <a:avLst/>
          </a:prstGeom>
          <a:solidFill>
            <a:srgbClr val="d5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移情入境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457200" y="990720"/>
            <a:ext cx="84740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鉴赏杜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蜀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思想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152280" y="2133720"/>
            <a:ext cx="87631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蜀相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描写了武侯祠的位置和景色。诗人感物思英雄，情溢言表，以深沉之笔歌颂了诸葛亮的才智和功业，叹惋他的壮志未酬，寄托了诗人自己对时局的忧虑和不能实现自己的抱负的思想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3652560" y="136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自主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554"/>
          <p:cNvSpPr/>
          <p:nvPr/>
        </p:nvSpPr>
        <p:spPr>
          <a:xfrm>
            <a:off x="441360" y="762120"/>
            <a:ext cx="84740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人说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蜀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在写人（蜀相），而颔联两句却写了武侯祠之景，走题了，是一处败笔。你是怎么理解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50"/>
          <p:cNvSpPr/>
          <p:nvPr/>
        </p:nvSpPr>
        <p:spPr>
          <a:xfrm>
            <a:off x="4123440" y="2168640"/>
            <a:ext cx="1039680" cy="642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映阶碧草自春色，隔叶黄鹂空好音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51"/>
          <p:cNvSpPr/>
          <p:nvPr/>
        </p:nvSpPr>
        <p:spPr>
          <a:xfrm>
            <a:off x="228600" y="2971800"/>
            <a:ext cx="876312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同意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蜀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旨在歌颂诸葛亮的才智和功业，叹惋他的壮志未酬，从而借古来抒发自己的怀抱。而颔联两句：阶前碧草一到春天便是一片碧绿，年复一年，可为谁而绿？隔叶的黄鹂叫声动听，可有谁听呢？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字和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字，写出了祠的凄凉、冷落，蕴含了作者无尽的感叹。两句情景交融，为后面的咏叹营造了氛围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553"/>
          <p:cNvSpPr/>
          <p:nvPr/>
        </p:nvSpPr>
        <p:spPr>
          <a:xfrm>
            <a:off x="3655800" y="136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迁移训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55"/>
          <p:cNvSpPr/>
          <p:nvPr/>
        </p:nvSpPr>
        <p:spPr>
          <a:xfrm>
            <a:off x="2658960" y="2168640"/>
            <a:ext cx="6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556"/>
          <p:cNvSpPr/>
          <p:nvPr/>
        </p:nvSpPr>
        <p:spPr>
          <a:xfrm>
            <a:off x="6418440" y="216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WordArt 15"/>
          <p:cNvSpPr txBox="1"/>
          <p:nvPr/>
        </p:nvSpPr>
        <p:spPr>
          <a:xfrm>
            <a:off x="3124080" y="1981080"/>
            <a:ext cx="4343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谢谢！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027" descr=""/>
          <p:cNvPicPr/>
          <p:nvPr/>
        </p:nvPicPr>
        <p:blipFill>
          <a:blip r:embed="rId2"/>
          <a:stretch/>
        </p:blipFill>
        <p:spPr>
          <a:xfrm>
            <a:off x="7238880" y="2743200"/>
            <a:ext cx="1905120" cy="32767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028"/>
          <p:cNvSpPr/>
          <p:nvPr/>
        </p:nvSpPr>
        <p:spPr>
          <a:xfrm>
            <a:off x="533520" y="2133720"/>
            <a:ext cx="7391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 Unicode MS"/>
                <a:ea typeface="华文隶书"/>
              </a:rPr>
              <a:t>风急天高猿啸哀，渚清沙白鸟飞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 Unicode MS"/>
                <a:ea typeface="华文隶书"/>
              </a:rPr>
              <a:t>无边落木萧萧下，不尽长江滚滚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 Unicode MS"/>
                <a:ea typeface="华文隶书"/>
              </a:rPr>
              <a:t>万里悲秋常作客，百年多病独登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 Unicode MS"/>
                <a:ea typeface="华文隶书"/>
              </a:rPr>
              <a:t>艰难苦恨繁霜鬓，潦倒新停浊酒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5f00"/>
                </a:solidFill>
                <a:latin typeface="Times New Roman"/>
              </a:rPr>
              <a:t>杜甫小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304920" y="914400"/>
            <a:ext cx="8534160" cy="155628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杜甫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12—77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字子美，曾居长安城南少陵以西，自称少陵野老，世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杜少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原籍襄阳，迁居巩县。杜审言之孙。开元后期，举进士不第，漫游各地，寓居长安近十年。及安禄山兵陷长安，乃逃至凤翔，谒见肃宗，官至左拾遗。后弃官移家成都，筑草堂于浣花溪畔，世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浣花草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一度任剑南节度参军，检校工部员外郎，世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杜工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其诗显示了唐由盛转衰的历史过程，被称为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诗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。以古体、律诗见长，风格多样，而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沉郁顿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主。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杜工部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5f00"/>
                </a:solidFill>
                <a:latin typeface="Times New Roman"/>
              </a:rPr>
              <a:t>背景材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04920" y="685800"/>
            <a:ext cx="8610480" cy="10688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首诗是杜甫大历二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秋在夔州所作。夔州位于长江之滨、矍塘峡口，以水急、风大、多猿著称。诗中抒发的不只是诗人个人的不幸。当时，安史之乱已经结束四年了，但地方军阀们又乘隙而起，相互争夺地盘，造成社会动乱，民不聊生。在这种形势下，诗人只得继续“飘泊西南天地间”。他的郁闷是多种因素造成的，这里有时代的苦难，也有家道的艰辛，个人多病和壮志未酬，再加上好友李白、高适、严武的相继辞世。为了排遣浓云一样时时压在心头的郁闷，他抱病登台，但悲凉萧瑟的江峡秋景反倒使他增添了新的悲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5f00"/>
                </a:solidFill>
                <a:latin typeface="Times New Roman"/>
              </a:rPr>
              <a:t>诵读提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6360" y="728640"/>
            <a:ext cx="9144000" cy="52131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拍要清晰，体现诗的韵律。语气要缓慢，沉重，读出“悲”的基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首联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奏感要强，注意表现整个画面的气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颔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要读得气势开阔，有包容宇宙之意。“无边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木”“不尽长江”二语要一气读出，“木”“江”二字可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、适当延长、有余韵；“萧萧”“滚滚”要拉长声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现木叶和江水的形象，表现诗人不尽的愁绪哀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颈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是全诗的高潮，要提高声调，读得悲愤。重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悲”“常”，描绘长年飘泊之苦；重读“病”“独”，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老病孤愁，以加重悲苦情绪。基调沉重，宜缓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尾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含无限凄凉于言外，应读得更加缓慢、沉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听者仔细体味诗人此刻百感交集的心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4"/>
          <p:cNvSpPr/>
          <p:nvPr/>
        </p:nvSpPr>
        <p:spPr>
          <a:xfrm>
            <a:off x="938160" y="914400"/>
            <a:ext cx="76212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2481120" y="990720"/>
            <a:ext cx="4856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2378160" y="1905120"/>
            <a:ext cx="6858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2584440" y="2895480"/>
            <a:ext cx="7902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啸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2481120" y="3809880"/>
            <a:ext cx="4856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2481120" y="4784760"/>
            <a:ext cx="4856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2584440" y="5791320"/>
            <a:ext cx="7902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飞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7448760" y="2514600"/>
            <a:ext cx="790200" cy="13129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意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凄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3"/>
          <p:cNvSpPr/>
          <p:nvPr/>
        </p:nvSpPr>
        <p:spPr>
          <a:xfrm>
            <a:off x="4816440" y="2514600"/>
            <a:ext cx="1400040" cy="13129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孤独无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漂泊痛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4"/>
          <p:cNvSpPr/>
          <p:nvPr/>
        </p:nvSpPr>
        <p:spPr>
          <a:xfrm>
            <a:off x="3979800" y="136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品味语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5"/>
          <p:cNvSpPr/>
          <p:nvPr/>
        </p:nvSpPr>
        <p:spPr>
          <a:xfrm>
            <a:off x="938160" y="1905120"/>
            <a:ext cx="76212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938160" y="2895480"/>
            <a:ext cx="76212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938160" y="3809880"/>
            <a:ext cx="76212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8"/>
          <p:cNvSpPr/>
          <p:nvPr/>
        </p:nvSpPr>
        <p:spPr>
          <a:xfrm>
            <a:off x="938160" y="4800600"/>
            <a:ext cx="76212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9"/>
          <p:cNvSpPr/>
          <p:nvPr/>
        </p:nvSpPr>
        <p:spPr>
          <a:xfrm>
            <a:off x="938160" y="5791320"/>
            <a:ext cx="76212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3"/>
          <p:cNvSpPr/>
          <p:nvPr/>
        </p:nvSpPr>
        <p:spPr>
          <a:xfrm>
            <a:off x="1438200" y="1079640"/>
            <a:ext cx="1305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落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1663200" y="2819520"/>
            <a:ext cx="8514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长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417840" y="1079640"/>
            <a:ext cx="129528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3622680" y="2819520"/>
            <a:ext cx="7902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5037120" y="1066680"/>
            <a:ext cx="12193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萧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5241960" y="2819520"/>
            <a:ext cx="7902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滚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825720" y="1905120"/>
            <a:ext cx="1400040" cy="5814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命之短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825720" y="3762360"/>
            <a:ext cx="1400040" cy="5814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间之永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4674600" y="4800600"/>
            <a:ext cx="598320" cy="6426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境：苍凉、雄浑、沉郁而悲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7696800" y="1920960"/>
            <a:ext cx="668520" cy="5814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沉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7696800" y="3762360"/>
            <a:ext cx="668520" cy="5814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4598280" y="5562720"/>
            <a:ext cx="598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豁达、坦荡、开阔的胸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3979800" y="136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品味语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6759720" y="1066680"/>
            <a:ext cx="4856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6759720" y="2819520"/>
            <a:ext cx="4856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7"/>
          <p:cNvSpPr/>
          <p:nvPr/>
        </p:nvSpPr>
        <p:spPr>
          <a:xfrm>
            <a:off x="1905120" y="822240"/>
            <a:ext cx="69339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诗三、四两联是抒情，有哪些字眼充分表现了作者的情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3979800" y="136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品味语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1676520" y="2336760"/>
            <a:ext cx="7238880" cy="33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：表明了离国别家，漂泊路途之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：表明了离家万里，流浪他乡的时间之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客：客居他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：感叹年老多病，精神疲惫不堪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独：感叹独自登台，形单影只，万分凄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恨：感叹过分的愁苦和愤恨，以致两鬓过早地斑白了停：感叹因穷困潦倒没酒可喝，只好停下酒杯，郁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胸中的愁闷得不到渲泄的情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苦：是极度；极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痛恨两鬓染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研讨思想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首联写登高俯仰所见所闻，一连出现哪六个特写镜头？渲染了秋江景物的什么特点 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324000" y="3068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疾的秋风、高远的天空、哀鸣的猿啼、孤零冷落的小岛、水落而出的白沙、低飞盘旋的水鸟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些都是具有夔州三峡秋季特征的典型景物，捕捉入诗，不但形象鲜明，使人读了如临其境，而且所展示的境界，既雄浑高远，又肃杀凄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3:24:30Z</dcterms:created>
  <dc:creator>兰萍</dc:creator>
  <dc:description/>
  <dc:language>en-US</dc:language>
  <cp:lastModifiedBy>a</cp:lastModifiedBy>
  <dcterms:modified xsi:type="dcterms:W3CDTF">2015-03-17T07:10:07Z</dcterms:modified>
  <cp:revision>329</cp:revision>
  <dc:subject/>
  <dc:title>PowerPoint 演示文稿</dc:title>
</cp:coreProperties>
</file>