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B7BE-89D1-4A70-A6E6-22EC956F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1CF-9287-4C14-9BCC-4DF03A1C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134D0-C81F-4518-B4A4-C2190EB6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801F8-1DB8-497C-A63F-5EAC466E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75BE9-9F42-4C27-A955-E93E1AC4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6F7A5-2079-4D12-A665-B8BD62B5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919EC-B93D-4C8A-9D4D-2FFEDCFF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CDAC0-F034-47B3-826A-5A0E42D7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5DC3B-E198-4BDA-82B1-AFDDDEAC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A0EBE-D13B-48D6-AA93-B898C846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44EB2-AC8A-4246-AAE5-F9A41746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61C66-7867-4E97-91F1-2F2A4A53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16D-D257-4EEA-AC30-3C111682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7E9B3-2D99-42EB-87A0-A74F5A36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EE5D8-2D6F-4768-8444-E1B1CD11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0AF61-57B3-4931-828F-D40D7742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7DC44-8568-4CFB-900B-2BAE79FB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0B21C-F191-4D3C-8B6D-71B56192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1BD3F-10D5-46F4-868C-8C9D3EBF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1B93D-381B-4B97-8B8A-B1A0D8A9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7BB19-F84D-4347-BE63-1F717646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B9FB2-30A2-4037-ABD3-E765A008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FF559-0D27-46F1-B2E9-E6CA6436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EC5-8E7B-4A0A-AF36-78EB0A8A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F206D-B258-4961-99AD-5FBA5AEF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62B9F-3A77-4DE0-B2E5-322D68FD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29EE8-57D9-4714-9D82-1F65B4F7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F0696-287E-4E3D-849A-2C384169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D2555-CF03-4CE4-BEA4-B433BDDD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B7519-03E9-4857-921E-0EC25890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6C87E-5A0C-41BB-AB17-D0D1170E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D98D3-9401-417A-B3E1-5608813A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21DC9-0252-4DE2-A0D4-D26CA4A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9A427-4D0F-4386-B242-380219B0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6545-5C06-4EF2-B227-2F74BA9A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F21C8-C03E-4614-A078-4E14A7E4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B8F53-0C5E-40A6-9009-79A4E07D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2C07A-B2FD-4234-A106-CE4F043C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0E5BB-B0B5-4FD9-9C76-C2FBE5E6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56198-6D92-44A5-9146-963140EA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F8D87-242C-466E-9AF4-15F45DFE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E8CCE-4DF5-49B6-9E71-C99A1D79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27B33-87FD-41FF-AE9A-A324654B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DAA1A-CB9F-412E-816F-CB0818CF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247D7-C9E5-47B8-9E77-C9963355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56F6-063A-4C1B-9EFC-99AC6BBB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5A284-92EF-4C99-B0A2-97ACD517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4A870-3ED2-41CA-BE81-27DB83F9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D6ECD-182D-4139-A506-4028262E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99C29-3709-41DF-A363-E6F4BA6A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9966C-6929-469E-B62A-3BA0375C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1F754-8ADB-4C8B-9963-8E90EA3D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F4C3E-A9EF-41A6-8F3C-50129C3B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62C79-D13E-42FE-AE8D-70E5CE82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D44ED-5784-48E9-B7E3-1E67F773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544A9-4844-481B-83D1-8EDA2065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4B99-B1B7-4BE1-9216-EFE2B134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0D6D25-59A1-448E-A0AA-C7F21B66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C6CC4-3AFB-42C7-AAEA-5DA9D52B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85367-AC59-41CC-BE81-B4AFFE8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A194C-0359-4910-B51A-D876C994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E1293-6E31-4C64-B60A-CCEC3FAA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8C557-3FC1-4E62-9419-58324947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01882-C87B-4DE0-B743-7A140EC9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EC1A-E358-4AEE-AE5F-9A8BDBB5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1B01-C0D8-41F4-8CDE-C372542C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AC1E-0A52-43FE-9C4F-CC4A2543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3B3A-D072-44BD-8F91-E8C59427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075A-412E-44E1-917F-2CAAEC19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239F-2AC3-4EC4-BFDA-BEB98C45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5C46-FBCD-4E09-ACD1-3CB67ADD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5375-9E8B-48E6-A091-51238463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9251-A970-4945-8C3B-FE5CB694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8B45-8421-494D-A362-6406F904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F5443-FC93-4B60-B013-4C8231C4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9E1A-1236-47EE-84B4-B04B1BB4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6333-2683-45EF-9C94-5CE5F567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3F5E-E852-42B5-9D5C-C230CF42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851D-761E-49E4-A86C-5B60F0EA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893-249D-49C6-B6AD-C682EEA0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2E46A-13E5-46C3-B2E4-8F64CAF2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FFF5B-A1B8-4441-A9C6-B8CE8BB7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3AC6A-8DC4-42FB-B65E-6D6D99F6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7B956-BEEA-4707-B066-AD0B6101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FAB12-09E7-46FF-A2DE-A528AECF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E0F9-6EA8-4A4C-A7F2-AB96D7EC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84622-F5F4-405E-A33A-5166EB7E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6CCD0-64E1-4460-A98A-D676B821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FAE1D-242A-4F51-85E7-256DB97A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354DA-3467-42D6-ACF1-C4BB1904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ED5-2ABD-48C9-B978-F711695A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482A-8017-46FE-9FF5-0D1CFE16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3ECAE-CE8B-467A-BB3A-4ECAD4B8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B5918-8E00-49A8-BFAA-7DD8BF91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8F14A-4FCF-447A-9D73-740DCD3B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9FB73-4D5A-4A77-A411-7E318BFC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8A30F-CA67-494A-AD6E-042D4201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A21E4-4224-44F9-8CB2-90E464D5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9EACB-C112-4BB7-B107-8DB37DEB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1BE04-0FF5-4A6C-9702-F1B2C5AF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FAB0F-41A2-4A0C-AFC0-A6F06766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802-05F2-4D65-B680-9BB484E1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1E08A-53C4-4904-BD10-049D59A1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A55F4-52DB-4B76-B705-C1FE6DFC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16230-B061-4866-A047-0044F402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6A43C-27EA-4FE1-8139-14FAD8F7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69AA4-67CF-4F92-94B2-37E7D21D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4E326-132F-45B0-85E9-9664085F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BA8AF-928D-458E-ACA5-4576640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DBB96-244B-4E6D-8918-02D319A8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7B5D6-2F99-41E3-B578-714F925F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8928A-43BF-4951-903E-8EDD1EEA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3A3-D32B-4EA4-B864-20B1C5E1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8A26A-D828-436F-8AD6-9D7559B3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1CF2E-6289-4150-8D82-BF7F0F2D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8E22A-F456-410C-9B85-12476860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1B87B-E64B-4036-908A-EAFA269C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E9B0B-480C-4E2F-BA6E-2F77DC0D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CE37A-8CF5-4966-B169-19F319F1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68E9B-A863-4938-A6AC-6101672E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7BC0E-4CEA-4384-8049-D856AC15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802EF-09EF-4AD3-977A-229D0FAF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23618-19D4-431A-BD41-F7007CFD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DB6-5F0D-4041-B60D-7713F359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D1CD8-0352-4C3D-BB72-001AF111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C5D57-D595-4148-967E-0A13807E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0B903-D424-451F-B0CD-0543DCAA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6C19D-23A0-476A-9E2E-12ADA74D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9036F-B0D6-4297-B59F-00B5FAFB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59183-420B-4244-B44F-575E41B9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949A4-6FF3-425D-A7ED-845D6CEF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5983A-1EA3-471A-93C2-C0FC6FD1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0C9E4-F7DE-4A2C-A490-5FD3E949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29EE8-04DA-43F6-8945-480C985F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C6F-0E23-4E48-9AE9-91FA14D5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8141A-4323-40AE-A391-A6D3E3D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291CA-4909-435C-B6D2-A78DA68E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6AEF5-5449-4624-8307-217B1818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8B936-3DEB-49E0-B51C-A436045F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EA7B1-07B7-4C29-8201-893117D5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921CD-329F-4BDC-8FC6-0F495FCB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4C151-6623-4265-AEEE-C5A2E63C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770AF-8CF9-46A8-AC13-73B50CBE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898EA-264C-4C85-A20B-26C643C6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C6F7A-3037-4CDB-9CFB-FCAD10C4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49E-7D9B-420D-83B6-1FE7D576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BB95-63B3-494F-866C-46CE2982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B96AB-0153-443A-9D5E-FFADD65E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2E575-CC76-4DFD-8B01-B4FCF71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5323F-86F9-41F3-A07D-F35B58F7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E2814-B51F-4014-AB3E-1E981D6A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A6305-6775-4A44-AFD7-D849280E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8E7DE-C068-4A2A-9387-53666E17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3827D-8934-461C-8886-C9F3E265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CED64-E4BE-4C5D-B19A-E1C0628A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80987-28FB-4E01-A57F-913A1F7E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C694-2367-4050-B436-4234A0CA08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C59B-4365-43F2-BEB2-0A2B3E9259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0C69-AD9E-4DE0-9D76-F07757C169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5505-C171-4A8A-B397-6973C594F8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F3BC-D512-41D6-908F-D1FE7614C4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C263-DF88-4B58-9C29-E283D93580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E14F-56B6-45D8-954D-2DA55A9C95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1C99-0DDE-4924-B66B-852FC37F86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E44F-F7B1-417A-92A3-110D637E68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2A0E-1605-4625-A4EA-D08C583DFA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4A81-074C-4808-A6BE-4479A8303C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E528-6E27-44CD-AFD0-750DDE9AA5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9AE1-F16E-41CC-A8DB-CC6991716E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39C9-A217-42D7-B7D2-9EC1E4D26AE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09AB-CEA1-4924-9573-453799102D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47C7-4F91-4905-A987-6BAD99F7103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1A3B-FDDC-4D67-BEC7-261D3CBEDA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1B77-A509-4800-BA5F-424351DC33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1A0E-2DEF-4116-A886-1ABA72D0A7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BC8C-7EA2-4487-B20A-560F77D014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EB1B-D048-4764-A284-E682E58691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4019-AA88-4D7F-B197-ECDD9367B8A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3931-E5E4-42AA-B0AF-80E76764A4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E494-DE67-460C-BECC-6F2BE81413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0B4A-76F8-4759-9034-F4189E44D7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bg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bg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4"/>
          <p:cNvSpPr/>
          <p:nvPr/>
        </p:nvSpPr>
        <p:spPr>
          <a:xfrm>
            <a:off x="1835280" y="404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476360" y="33336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6372360" y="1125360"/>
            <a:ext cx="237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6443640" y="1916280"/>
            <a:ext cx="24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河汉清且浅，相去复几许。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盈盈</a:t>
            </a: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一水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脉脉</a:t>
            </a: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不得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6516720" y="386064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揭示根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348000" y="4797360"/>
            <a:ext cx="23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3276720" y="5950080"/>
            <a:ext cx="331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1" descr="无标题"/>
          <p:cNvPicPr/>
          <p:nvPr/>
        </p:nvPicPr>
        <p:blipFill>
          <a:blip r:embed="rId3"/>
          <a:srcRect l="52500" t="37240" r="9735" b="0"/>
          <a:stretch/>
        </p:blipFill>
        <p:spPr>
          <a:xfrm>
            <a:off x="5580000" y="0"/>
            <a:ext cx="356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无标题"/>
          <p:cNvPicPr/>
          <p:nvPr/>
        </p:nvPicPr>
        <p:blipFill>
          <a:blip r:embed="rId4"/>
          <a:srcRect l="29872" t="39802" r="47481" b="280"/>
          <a:stretch/>
        </p:blipFill>
        <p:spPr>
          <a:xfrm>
            <a:off x="3132000" y="260280"/>
            <a:ext cx="2449800" cy="6597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无标题"/>
          <p:cNvPicPr/>
          <p:nvPr/>
        </p:nvPicPr>
        <p:blipFill>
          <a:blip r:embed="rId5"/>
          <a:srcRect l="29872" t="40465" r="47481" b="58247"/>
          <a:stretch/>
        </p:blipFill>
        <p:spPr>
          <a:xfrm>
            <a:off x="3132000" y="33480"/>
            <a:ext cx="2449800" cy="38232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14"/>
          <p:cNvSpPr/>
          <p:nvPr/>
        </p:nvSpPr>
        <p:spPr>
          <a:xfrm>
            <a:off x="-1207800" y="765000"/>
            <a:ext cx="31064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短 歌 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943920" y="4221000"/>
            <a:ext cx="18262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曹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sq"/>
          <p:cNvPicPr/>
          <p:nvPr/>
        </p:nvPicPr>
        <p:blipFill>
          <a:blip r:embed="rId1"/>
          <a:srcRect l="0" t="0" r="62188" b="873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sq"/>
          <p:cNvPicPr/>
          <p:nvPr/>
        </p:nvPicPr>
        <p:blipFill>
          <a:blip r:embed="rId2"/>
          <a:stretch/>
        </p:blipFill>
        <p:spPr>
          <a:xfrm>
            <a:off x="468360" y="2205000"/>
            <a:ext cx="2158920" cy="33847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250920" y="549360"/>
            <a:ext cx="302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曹公古直，甚有悲凉之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钟嵘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诗品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395280" y="57340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曹操（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55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2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851280" y="260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生平介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851280" y="1916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军事功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851280" y="620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三国时政治家、军事家、诗人。字孟德，小 名阿瞒，沛国谯县人。封魏王。子曹丕称帝，追尊为武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708360" y="242100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初举孝廉，任洛阳北部尉，迁顿丘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708360" y="2924280"/>
            <a:ext cx="54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镇压黄巾起义和讨伐董卓的战争中，逐步扩充军事力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708360" y="3789360"/>
            <a:ext cx="51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建安元年（ １９６年），迎献帝都许。从此用其名义发号施令，先后削平吕布 等割据势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635280" y="5084640"/>
            <a:ext cx="55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官渡之战大破河北割据势力袁绍后，逐渐统一了中国北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635280" y="602136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建安十三 年，进位为丞相，率军南下，被孙权和刘备的联军击败于赤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sq"/>
          <p:cNvPicPr/>
          <p:nvPr/>
        </p:nvPicPr>
        <p:blipFill>
          <a:blip r:embed="rId1"/>
          <a:srcRect l="0" t="0" r="62188" b="873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sq"/>
          <p:cNvPicPr/>
          <p:nvPr/>
        </p:nvPicPr>
        <p:blipFill>
          <a:blip r:embed="rId2"/>
          <a:stretch/>
        </p:blipFill>
        <p:spPr>
          <a:xfrm>
            <a:off x="684360" y="2205000"/>
            <a:ext cx="2158920" cy="33847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4"/>
          <p:cNvSpPr/>
          <p:nvPr/>
        </p:nvSpPr>
        <p:spPr>
          <a:xfrm>
            <a:off x="3814920" y="836640"/>
            <a:ext cx="50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他在北方屯田，兴修水利，解决了军粮缺乏的问题，对农业生产 的恢复有一定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95280" y="333360"/>
            <a:ext cx="30243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曹公古直，甚有悲凉之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钟嵘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诗品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95280" y="573408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曹操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5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2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851280" y="22050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用人唯才，罗致地主阶级中下层人物，抑制豪强，加强集权。 所统治的地区社会经济得到恢复和发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3851280" y="260280"/>
            <a:ext cx="23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政治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3780000" y="38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文学成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851280" y="4508640"/>
            <a:ext cx="504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建安文学的代表人物之一，与其子曹植、曹丕合称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三曹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。善诗歌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抒发政治抱负，反映汉末人民的苦难生活，气魄雄伟，慷慨悲凉。散文清峻整洁，著有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魏武帝集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zzt01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zzt01"/>
          <p:cNvPicPr/>
          <p:nvPr/>
        </p:nvPicPr>
        <p:blipFill>
          <a:blip r:embed="rId2"/>
          <a:srcRect l="0" t="0" r="77166" b="0"/>
          <a:stretch/>
        </p:blipFill>
        <p:spPr>
          <a:xfrm>
            <a:off x="2268360" y="0"/>
            <a:ext cx="223236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zzt01"/>
          <p:cNvPicPr/>
          <p:nvPr/>
        </p:nvPicPr>
        <p:blipFill>
          <a:blip r:embed="rId3"/>
          <a:srcRect l="0" t="0" r="77166" b="0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5"/>
          <p:cNvSpPr/>
          <p:nvPr/>
        </p:nvSpPr>
        <p:spPr>
          <a:xfrm>
            <a:off x="539640" y="260280"/>
            <a:ext cx="54356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观沧海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东临碣石，以观沧海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水何澹澹，山岛竦峙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树木丛生，百草丰茂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秋风萧瑟，洪波涌起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月之行，若出其中；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汉灿烂，若出其里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幸甚至哉！歌以咏志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作于建安十二年秋）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200489185011285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star_kabe_03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star_kabe_03"/>
          <p:cNvPicPr/>
          <p:nvPr/>
        </p:nvPicPr>
        <p:blipFill>
          <a:blip r:embed="rId2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4"/>
          <p:cNvSpPr/>
          <p:nvPr/>
        </p:nvSpPr>
        <p:spPr>
          <a:xfrm>
            <a:off x="2411280" y="692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468360" y="476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短歌行思想主题鉴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324000" y="1268280"/>
            <a:ext cx="82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示一：知人论世，紧扣作品时代背景、作者个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324000" y="242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示二：准确筛选作品中显性传情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10"/>
          <p:cNvSpPr/>
          <p:nvPr/>
        </p:nvSpPr>
        <p:spPr>
          <a:xfrm>
            <a:off x="6948360" y="1844640"/>
            <a:ext cx="649440" cy="1297080"/>
          </a:xfrm>
          <a:prstGeom prst="downArrow">
            <a:avLst>
              <a:gd name="adj1" fmla="val 50000"/>
              <a:gd name="adj2" fmla="val 499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1"/>
          <p:cNvSpPr/>
          <p:nvPr/>
        </p:nvSpPr>
        <p:spPr>
          <a:xfrm>
            <a:off x="5435640" y="3284640"/>
            <a:ext cx="3457440" cy="3240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5580000" y="3429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曹操在其政治活动中，为了扩大他在庶族地主中的统治基础，打击反动的世袭豪强势力，曾大力强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才是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为此先后发布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贤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举士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逸才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13"/>
          <p:cNvSpPr/>
          <p:nvPr/>
        </p:nvSpPr>
        <p:spPr>
          <a:xfrm>
            <a:off x="684360" y="3429000"/>
            <a:ext cx="1296720" cy="100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826920" y="3645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忧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5"/>
          <p:cNvSpPr/>
          <p:nvPr/>
        </p:nvSpPr>
        <p:spPr>
          <a:xfrm>
            <a:off x="1979640" y="3789360"/>
            <a:ext cx="649440" cy="360360"/>
          </a:xfrm>
          <a:prstGeom prst="leftArrow">
            <a:avLst>
              <a:gd name="adj1" fmla="val 50000"/>
              <a:gd name="adj2" fmla="val 450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6"/>
          <p:cNvSpPr/>
          <p:nvPr/>
        </p:nvSpPr>
        <p:spPr>
          <a:xfrm>
            <a:off x="2700360" y="3068640"/>
            <a:ext cx="1871640" cy="208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3855600" y="3284640"/>
            <a:ext cx="6069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华年已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2854080" y="3284640"/>
            <a:ext cx="10335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功业未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2349360" y="3284640"/>
            <a:ext cx="10335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才难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324000" y="544500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旨：感叹人生短暂，抒发求才若渴，希望在有生之年广纳贤才以建功立业的思想情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罗良</dc:creator>
  <dc:description/>
  <dc:language>en-US</dc:language>
  <cp:lastModifiedBy>a</cp:lastModifiedBy>
  <dcterms:modified xsi:type="dcterms:W3CDTF">2015-02-10T11:25:52Z</dcterms:modified>
  <cp:revision>6</cp:revision>
  <dc:subject/>
  <dc:title>PowerPoint Presentation</dc:title>
</cp:coreProperties>
</file>