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comments/comment7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新课标第一网" initials="新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presProps" Target="presProps.xml"/><Relationship Id="rId35" Type="http://schemas.openxmlformats.org/officeDocument/2006/relationships/commentAuthors" Target="commentAuthors.xml"/>
</Relationships>
</file>

<file path=ppt/comments/comment7.xml><?xml version="1.0" encoding="utf-8"?>
<p:cmLst xmlns:p="http://schemas.openxmlformats.org/presentationml/2006/main">
  <p:cm authorId="0" dt="2011-08-09T11:05:59.162000000" idx="1">
    <p:pos x="2099" y="1735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E150-D620-4552-9008-3132887A9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91DF-9FC6-4C37-8DF1-FF14ADC6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ECD2E8-3486-4DDA-86C8-182460D40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3C88F8-E6F5-44D0-BD00-0715AFB8C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3EDA3E-9E93-4FD7-8C57-E7396956F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80C84D-A3C8-4D46-9BEC-31B9B18B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056FC6-ABA3-48D1-9D29-683CE8CB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C40FEB-BDFA-40F6-AA8A-E495624A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05B28D-B51B-4DEA-BB86-AA13CC46D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3924C5-E4F3-46FD-AF99-4F9F9D1B8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3615BA-AC12-4205-B0B3-A5F2D3DF9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355DE7-1CD3-4A73-9453-D7AFDCF3F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3844-9E5F-4FD0-B680-6997907F4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CF6516-F632-42EF-9E27-CA4A9D332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1D1A1D-188B-41E3-B6EC-313BBC900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EE1D9F-3140-478D-BCDF-AC1E78722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1430D7-CF74-48AE-9EEF-E9F22F044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6BCC32-0BDB-4C0B-8910-105991EFA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8520B3-454E-46D3-B0F4-D2EA4AB0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1AD4D1-921A-44B6-967B-D6FD7665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805A38-F7BA-4207-A37F-F7AE5270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D193DB-1B23-42E8-A050-2274AE593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E4886F-5E17-45ED-A1BF-4575CFAFD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D044-2F9C-442B-BFA6-2129B8531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3E2298-3764-4FEC-AF7B-4D37DA63B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DAD985-C13D-45FF-816D-80695D1D8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F25076-1958-4ED8-925A-96E1BEB7A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E23669-5739-416E-AA04-CB97694FB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B127B9-622D-42AA-AAA4-F0257E9A7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694101-F2C9-4722-AD5B-E7E0C2C7E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A2793E-5EB4-4BA5-9AD6-3917545BA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A90543-B699-48A9-B8A3-AD30E8B8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EA6AF2-B07E-4A2B-AA22-170E1708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801672-5054-4418-B505-0C2EECA4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14000-F39A-413C-818E-DEAE5BF0A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C21018-5D8C-4202-82F1-DDD463561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E8C889-730D-46B5-A229-AE03DE2D0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E011F7-894A-4A55-8029-0335DF115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F3D007-FEC3-4C2C-AAA7-EC3CD559A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5140A5-D1BF-41B4-A6A4-D5A2BB50F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97BB2D-A2FC-4B14-9784-BEEFD9560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1A4C26-0092-4FE5-AE10-E6BB7E2F8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3E71E5-3F70-4066-8851-772FC8F1C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2445D2-3793-49E4-905F-5A0494C01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45A909-B1E4-41E1-B9B4-D8EA1D1F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4F70E-7F5E-47CC-AA4E-CCFA0AA20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70621D-8DB3-49F4-9716-90AB778A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4F19A0-4E9E-43FE-A0E3-F6634606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9E2C43-51DE-4924-AA59-2E1168409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98992B-5414-42D2-BA45-A189AAA6F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8F4438-1A82-4137-B451-E4B71E504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6C2ECF-59D2-435E-88E9-B88C97ABA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82D61D-5316-469A-888D-280BCAD93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C3F793-EDBD-4165-BF7C-4C19B96CB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3F442A-0BD4-4B90-90DD-10B8C2351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B8858C-4099-46A3-B3A3-2F71050AD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CA170-0592-4329-B1A4-810E2569B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1D4771-670F-4E82-BEDC-418953C71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24D294-33C3-4D32-BC92-8C6D51AE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2B37EE-05B4-4CD1-9B5B-411301E5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31A448-E450-4692-8DC9-D970C550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FB9731-4B08-4B70-B522-30C5A8D8D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CC5AB8-EDD5-469D-8550-F4A7A4F49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C8BA6E-A367-491C-B238-FD727952F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52B32-61CC-43B2-A60F-434A843B9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4E32B-7B15-4CBF-A5D2-7CBA124A8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A2F6F-196D-467D-A243-50342DB7A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12E69-ECD2-4D11-8193-330550C7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BB75-C48C-4DDD-AC45-B255706A4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8FD9E-2220-43FD-9820-D2E9CEC8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0E05D-8166-4AFD-A86A-4CFCE057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4D71E-F965-4BFC-B23A-5A9B6AA3A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20819-1E77-4699-B95B-C4280FDDF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C89CC-C51C-49B2-B4C3-B2446A543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97A4A-7E2F-4B5B-8F0F-F2ECA3594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E0942-0103-4A96-9261-9885405E9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443DC-B030-47BA-9D14-F6BAB3276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22B31-0A9C-463B-B834-94FBA1B6D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6E9C0-A6A1-4EAE-A52C-3925A9B13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0D69-FDB7-4F9F-B44E-7DCC50B8C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E1F42-A09E-4762-84CB-25B77C471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2D441-1FB6-4B98-8B46-D322E83D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ACCC2-A08F-4686-AFCF-D9C97AE1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08A73-48C7-48D3-8D3A-B1F19A02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EDF0F-75BF-4711-BFD5-D8BEB7681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76E50-DCE6-4160-8CB6-FBD7DE7C1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010AD-1E5D-466F-A0E4-2B5B9BC83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87EA1-4B8E-4C0C-AC07-93CFCB56F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D3E20-A203-410C-A194-500366787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D42DB-5FEE-4CEB-B046-C6C7C2283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6E7E-D78E-46E0-88CF-FEC0BE9BD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728DB-5D7E-482E-B5AA-E02120104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B284D-FBF7-445B-B0E7-AB3D1E8A2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02C57-0574-4BE5-A64A-FD6767AA2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0C5CC-DAF5-4171-AC32-808F8B2A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75D68-A1E2-41D6-A2E5-20B33D22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E147F-6326-4B64-A730-4119394E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B3CCB-D3BD-4503-AE9C-7C493A961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21394-2AEF-49E4-98FA-19D97C81A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404CE-8331-45CE-B96A-437106E44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6B264-2450-4109-8BCD-633321A42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3DDB-B2F6-420C-A87A-F75008007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42E48-BCD6-4D29-9D9E-FDF432A3D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DAF09-9612-413C-9A7D-B5590C5F2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F89DC-34F2-42A7-9EE9-455BCBE6A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FC4DC-1BA9-46AA-8C2F-721CD2EBE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DFAA5-5587-4303-B700-DEA663D23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D9B56-5D87-435A-B972-64638296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EF24C-DFA8-46F0-B34C-2940F2C7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3F72E-FE2C-43B8-882C-76F0D4D7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28558-A5F0-4BF8-8117-4245F75BC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75938-F36A-4FE5-A013-EE1709DDD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A150-5823-49E8-BCE4-B6A6F1ED2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B987E-2C51-4909-848D-9018A9C24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7417F-B5DA-47D7-96FA-69AEC5DA8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3503C-E9A3-4AE0-A212-6AAC3200B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4E926-E7A4-4A57-B5DA-4BA260F4B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5A798-7DD7-4E8B-874F-836CA741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0AD50-6B1A-476A-A945-5008B223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D8C3C-17B4-4AF4-A619-5D694BEBE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93FF0-1ED0-49E2-AD70-181EC920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E57A1-628E-4689-82BA-16C514AD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0FD2C-5DC0-4CF3-819E-C06EC441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1468-1D69-47BD-B320-B3A7048A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23618-F2D1-48AE-A907-9E7D92DBE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273EBC-3272-4E04-AC87-251639FE8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BF14E-193A-49AD-BF96-C398FFFD6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F2284-7440-4E38-89BC-A60A3E7DB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2265B-D3AE-4202-961D-0E602E82A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3B8BA-B755-4466-B8BD-589578904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B5DDD5-9DD8-4540-9F45-E71FEDCCF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12A3D-6A4A-4AD9-B22D-CE1B5B0CE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B2313-01D9-4BE1-A370-B45A6B4EB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E8A6FD-40D1-4EE9-BD63-D8468613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CD36-F592-45C0-989B-7E56A6FC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A4E07-802A-48EC-8A3F-FD8DAA20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06302-B0A0-43D1-B503-B6098916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6BF94-2048-42E8-9069-D37A04E4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206B8-0245-464A-85B9-88A5ECEBA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C0EDB9-ECEB-4CF7-883C-FCB6C9144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A39637-F9BC-4AEA-A973-4D49E1A8E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BE9E7F-3C55-40E0-BC41-EAC0F356C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4D5551-B60D-4A28-AFDE-2EB9995F6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EE3802-6447-4E26-B37A-DD360E850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5FE55-1C6F-4599-8312-A081A9B79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F289-5F8F-4863-AD06-B268DDF8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6445EC-79CB-4E9B-A31A-A2732A946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95C2C8-3285-4FF6-A474-8AF438B6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B58961-D9FE-405F-B85F-4AEC95A4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576CD2-9961-476A-A636-1EA984E2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BB7D05-0714-4076-A6A8-FFE9B41E9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80DD16-72A7-41B8-B725-AE6758ABF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479093-BD69-453B-BDE1-6726BFE8F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28BD30-0333-44AD-8CA9-FE00179F6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E4DF70-00F3-4721-B666-5980E848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CB2D39-76A0-4BAA-B5B2-2F8A1ACFA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54825-6BAF-403E-90FF-5E1C4B0FAC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A8A59-308F-41CE-AD47-A4FC4CE3C6D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F232C-B6DB-4B7E-8717-F336FB5628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D3D7A-B509-41E1-8F12-F25618D571F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6CE7C-E275-45A7-A10A-DAC015CD49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BE324-E44B-43E8-9F42-548BBE43520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F14D6-0438-4D0B-86B9-97A0D40B2A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42844-A663-4058-B438-74F9B327836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75EA2-6D8A-4690-8AAC-47B926691F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6D4F3-5B7A-4D99-B3C4-7167A8E2EB7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1C3B3-F9C4-4ED9-948C-FCCAE35295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C01E4-4646-43EE-9DFE-48CAA111609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43AC9-3833-4B72-9600-DE43B315EB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3CB94-9373-4E28-9C16-247E9CCAE16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33C84-D109-454C-B872-4409B7FFA9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B970F-40B6-4EA3-821B-81C47828F06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E4227-89CC-49D1-874A-4BC6EDA6C8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3128A-5E84-48AD-81AC-E72885C6F4D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2DC51-5197-4425-8D19-2CE933B620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6443-166C-42E8-AA7E-C24B8CF1000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99C09-B750-43E1-A314-B5E84B01AF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D7C6-3938-4886-B9B6-7DEB9CD1A0F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886AE-A62A-45F3-8A46-D99F2FCBBB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688C3-770B-4AF2-BFE5-3F219FAE3D2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68772-F181-4929-864C-E8FA799DF8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6836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黑体"/>
                <a:ea typeface="黑体"/>
              </a:rPr>
              <a:t>1.1 </a:t>
            </a:r>
            <a:r>
              <a:rPr b="1" lang="zh-CN" sz="5400" spc="-1" strike="noStrike">
                <a:solidFill>
                  <a:srgbClr val="ff0066"/>
                </a:solidFill>
                <a:latin typeface="黑体"/>
                <a:ea typeface="黑体"/>
              </a:rPr>
              <a:t>电荷及其守恒定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5"/>
          <p:cNvSpPr/>
          <p:nvPr/>
        </p:nvSpPr>
        <p:spPr>
          <a:xfrm>
            <a:off x="1116000" y="476280"/>
            <a:ext cx="68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新课标高中物理选修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华文行楷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－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华文行楷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6"/>
          <p:cNvSpPr/>
          <p:nvPr/>
        </p:nvSpPr>
        <p:spPr>
          <a:xfrm>
            <a:off x="2050920" y="1628640"/>
            <a:ext cx="50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00"/>
                </a:solidFill>
                <a:latin typeface="Arial"/>
                <a:ea typeface="华文行楷"/>
              </a:rPr>
              <a:t>第一章  </a:t>
            </a:r>
            <a:r>
              <a:rPr b="1" lang="zh-CN" sz="5400" spc="-1" strike="noStrike">
                <a:solidFill>
                  <a:srgbClr val="ff6600"/>
                </a:solidFill>
                <a:latin typeface="Arial"/>
                <a:ea typeface="华文行楷"/>
              </a:rPr>
              <a:t>静电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4" descr="t023"/>
          <p:cNvPicPr/>
          <p:nvPr/>
        </p:nvPicPr>
        <p:blipFill>
          <a:blip r:embed="rId1"/>
          <a:stretch/>
        </p:blipFill>
        <p:spPr>
          <a:xfrm>
            <a:off x="324000" y="549360"/>
            <a:ext cx="5079960" cy="507996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5" descr="20051011113736300"/>
          <p:cNvPicPr/>
          <p:nvPr/>
        </p:nvPicPr>
        <p:blipFill>
          <a:blip r:embed="rId2"/>
          <a:stretch/>
        </p:blipFill>
        <p:spPr>
          <a:xfrm>
            <a:off x="5724360" y="476280"/>
            <a:ext cx="3113280" cy="269856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6" descr="11475293945541091"/>
          <p:cNvPicPr/>
          <p:nvPr/>
        </p:nvPicPr>
        <p:blipFill>
          <a:blip r:embed="rId3"/>
          <a:stretch/>
        </p:blipFill>
        <p:spPr>
          <a:xfrm>
            <a:off x="5940360" y="3284640"/>
            <a:ext cx="2879640" cy="2592360"/>
          </a:xfrm>
          <a:prstGeom prst="rect">
            <a:avLst/>
          </a:prstGeom>
          <a:ln w="0">
            <a:noFill/>
          </a:ln>
        </p:spPr>
      </p:pic>
      <p:sp>
        <p:nvSpPr>
          <p:cNvPr id="624" name="Text Box 7"/>
          <p:cNvSpPr/>
          <p:nvPr/>
        </p:nvSpPr>
        <p:spPr>
          <a:xfrm>
            <a:off x="1339920" y="5877000"/>
            <a:ext cx="2942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静电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指针式验电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8"/>
          <p:cNvSpPr/>
          <p:nvPr/>
        </p:nvSpPr>
        <p:spPr>
          <a:xfrm>
            <a:off x="7191720" y="5805360"/>
            <a:ext cx="916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验电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Text Box 4"/>
          <p:cNvSpPr/>
          <p:nvPr/>
        </p:nvSpPr>
        <p:spPr>
          <a:xfrm>
            <a:off x="179280" y="1341360"/>
            <a:ext cx="871380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静电计中金属杆下部的水平轴上装有金属指针，指针可以绕水平轴灵活转动，外面圆筒的底部有接线柱。而在验电器中金属杆的下部悬挂着两片金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静电计的外壳一定是金属的，金属外壳与内部的金属杆及金属指针构成了一个特殊的电容器，它在静电计工作时起着重要的作用。而验电器外壳的主要作用是为了避免气流的影响，它一般是用玻璃制作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5"/>
          <p:cNvSpPr/>
          <p:nvPr/>
        </p:nvSpPr>
        <p:spPr>
          <a:xfrm>
            <a:off x="1258920" y="44280"/>
            <a:ext cx="6480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验电器与静电计在结构上的不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8" name="Group 35"/>
          <p:cNvGrpSpPr/>
          <p:nvPr/>
        </p:nvGrpSpPr>
        <p:grpSpPr>
          <a:xfrm>
            <a:off x="4356000" y="2492280"/>
            <a:ext cx="2448000" cy="2376000"/>
            <a:chOff x="4356000" y="2492280"/>
            <a:chExt cx="2448000" cy="2376000"/>
          </a:xfrm>
        </p:grpSpPr>
        <p:sp>
          <p:nvSpPr>
            <p:cNvPr id="629" name="AutoShape 36"/>
            <p:cNvSpPr/>
            <p:nvPr/>
          </p:nvSpPr>
          <p:spPr>
            <a:xfrm flipV="1">
              <a:off x="4356000" y="4434840"/>
              <a:ext cx="2448000" cy="433080"/>
            </a:xfrm>
            <a:custGeom>
              <a:avLst/>
              <a:gdLst>
                <a:gd name="textAreaLeft" fmla="*/ 509400 w 2448000"/>
                <a:gd name="textAreaRight" fmla="*/ 1938600 w 2448000"/>
                <a:gd name="textAreaTop" fmla="*/ 90360 h 433080"/>
                <a:gd name="textAreaBottom" fmla="*/ 342720 h 43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Oval 37"/>
            <p:cNvSpPr/>
            <p:nvPr/>
          </p:nvSpPr>
          <p:spPr>
            <a:xfrm>
              <a:off x="4498920" y="2492280"/>
              <a:ext cx="2160360" cy="21607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1" name="Group 11"/>
          <p:cNvGrpSpPr/>
          <p:nvPr/>
        </p:nvGrpSpPr>
        <p:grpSpPr>
          <a:xfrm>
            <a:off x="1189080" y="2565360"/>
            <a:ext cx="2448000" cy="2376000"/>
            <a:chOff x="1189080" y="2565360"/>
            <a:chExt cx="2448000" cy="2376000"/>
          </a:xfrm>
        </p:grpSpPr>
        <p:sp>
          <p:nvSpPr>
            <p:cNvPr id="632" name="AutoShape 10"/>
            <p:cNvSpPr/>
            <p:nvPr/>
          </p:nvSpPr>
          <p:spPr>
            <a:xfrm flipV="1">
              <a:off x="1189080" y="4507920"/>
              <a:ext cx="2448000" cy="433080"/>
            </a:xfrm>
            <a:custGeom>
              <a:avLst/>
              <a:gdLst>
                <a:gd name="textAreaLeft" fmla="*/ 509400 w 2448000"/>
                <a:gd name="textAreaRight" fmla="*/ 1938600 w 2448000"/>
                <a:gd name="textAreaTop" fmla="*/ 90360 h 433080"/>
                <a:gd name="textAreaBottom" fmla="*/ 342720 h 43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Oval 4"/>
            <p:cNvSpPr/>
            <p:nvPr/>
          </p:nvSpPr>
          <p:spPr>
            <a:xfrm>
              <a:off x="1332000" y="2565360"/>
              <a:ext cx="2160360" cy="21607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4" name="Line 6"/>
          <p:cNvSpPr/>
          <p:nvPr/>
        </p:nvSpPr>
        <p:spPr>
          <a:xfrm flipH="1">
            <a:off x="2340000" y="3429000"/>
            <a:ext cx="69840" cy="647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7"/>
          <p:cNvSpPr/>
          <p:nvPr/>
        </p:nvSpPr>
        <p:spPr>
          <a:xfrm>
            <a:off x="2411280" y="3429000"/>
            <a:ext cx="0" cy="647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2"/>
          <p:cNvGrpSpPr/>
          <p:nvPr/>
        </p:nvGrpSpPr>
        <p:grpSpPr>
          <a:xfrm>
            <a:off x="2266920" y="1628640"/>
            <a:ext cx="287280" cy="1800360"/>
            <a:chOff x="2266920" y="1628640"/>
            <a:chExt cx="287280" cy="1800360"/>
          </a:xfrm>
        </p:grpSpPr>
        <p:sp>
          <p:nvSpPr>
            <p:cNvPr id="637" name="Line 5"/>
            <p:cNvSpPr/>
            <p:nvPr/>
          </p:nvSpPr>
          <p:spPr>
            <a:xfrm flipH="1">
              <a:off x="2410920" y="1916280"/>
              <a:ext cx="1800" cy="1512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Oval 8"/>
            <p:cNvSpPr/>
            <p:nvPr/>
          </p:nvSpPr>
          <p:spPr>
            <a:xfrm>
              <a:off x="2266920" y="1628640"/>
              <a:ext cx="287280" cy="2876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9" name="Line 13"/>
          <p:cNvSpPr/>
          <p:nvPr/>
        </p:nvSpPr>
        <p:spPr>
          <a:xfrm flipH="1">
            <a:off x="5433480" y="3357720"/>
            <a:ext cx="142920" cy="647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14"/>
          <p:cNvSpPr/>
          <p:nvPr/>
        </p:nvSpPr>
        <p:spPr>
          <a:xfrm>
            <a:off x="5578560" y="3357720"/>
            <a:ext cx="144360" cy="647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1" name="Group 22"/>
          <p:cNvGrpSpPr/>
          <p:nvPr/>
        </p:nvGrpSpPr>
        <p:grpSpPr>
          <a:xfrm>
            <a:off x="6045840" y="421200"/>
            <a:ext cx="2508480" cy="1215360"/>
            <a:chOff x="6045840" y="421200"/>
            <a:chExt cx="2508480" cy="1215360"/>
          </a:xfrm>
        </p:grpSpPr>
        <p:sp>
          <p:nvSpPr>
            <p:cNvPr id="642" name="AutoShape 15"/>
            <p:cNvSpPr/>
            <p:nvPr/>
          </p:nvSpPr>
          <p:spPr>
            <a:xfrm rot="20532000">
              <a:off x="6262200" y="766440"/>
              <a:ext cx="2303280" cy="28728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Text Box 17"/>
            <p:cNvSpPr/>
            <p:nvPr/>
          </p:nvSpPr>
          <p:spPr>
            <a:xfrm>
              <a:off x="6261480" y="693720"/>
              <a:ext cx="319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Text Box 18"/>
            <p:cNvSpPr/>
            <p:nvPr/>
          </p:nvSpPr>
          <p:spPr>
            <a:xfrm>
              <a:off x="6620400" y="549360"/>
              <a:ext cx="319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 Box 19"/>
            <p:cNvSpPr/>
            <p:nvPr/>
          </p:nvSpPr>
          <p:spPr>
            <a:xfrm>
              <a:off x="6548760" y="1269720"/>
              <a:ext cx="319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 Box 20"/>
            <p:cNvSpPr/>
            <p:nvPr/>
          </p:nvSpPr>
          <p:spPr>
            <a:xfrm>
              <a:off x="6909120" y="1198440"/>
              <a:ext cx="319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Text Box 21"/>
            <p:cNvSpPr/>
            <p:nvPr/>
          </p:nvSpPr>
          <p:spPr>
            <a:xfrm>
              <a:off x="6045840" y="1125360"/>
              <a:ext cx="319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8" name="Group 40"/>
          <p:cNvGrpSpPr/>
          <p:nvPr/>
        </p:nvGrpSpPr>
        <p:grpSpPr>
          <a:xfrm>
            <a:off x="5433840" y="1555920"/>
            <a:ext cx="287280" cy="1799640"/>
            <a:chOff x="5433840" y="1555920"/>
            <a:chExt cx="287280" cy="1799640"/>
          </a:xfrm>
        </p:grpSpPr>
        <p:sp>
          <p:nvSpPr>
            <p:cNvPr id="649" name="Line 41"/>
            <p:cNvSpPr/>
            <p:nvPr/>
          </p:nvSpPr>
          <p:spPr>
            <a:xfrm flipH="1">
              <a:off x="5577840" y="1843200"/>
              <a:ext cx="1800" cy="1512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Oval 42"/>
            <p:cNvSpPr/>
            <p:nvPr/>
          </p:nvSpPr>
          <p:spPr>
            <a:xfrm>
              <a:off x="5433840" y="1555920"/>
              <a:ext cx="287280" cy="28728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1" name="Text Box 43"/>
          <p:cNvSpPr/>
          <p:nvPr/>
        </p:nvSpPr>
        <p:spPr>
          <a:xfrm>
            <a:off x="5577840" y="3355920"/>
            <a:ext cx="3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44"/>
          <p:cNvSpPr/>
          <p:nvPr/>
        </p:nvSpPr>
        <p:spPr>
          <a:xfrm>
            <a:off x="5145840" y="3355920"/>
            <a:ext cx="3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45"/>
          <p:cNvSpPr/>
          <p:nvPr/>
        </p:nvSpPr>
        <p:spPr>
          <a:xfrm>
            <a:off x="5074920" y="1484280"/>
            <a:ext cx="261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46"/>
          <p:cNvSpPr/>
          <p:nvPr/>
        </p:nvSpPr>
        <p:spPr>
          <a:xfrm>
            <a:off x="5793840" y="1484280"/>
            <a:ext cx="261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47"/>
          <p:cNvSpPr/>
          <p:nvPr/>
        </p:nvSpPr>
        <p:spPr>
          <a:xfrm>
            <a:off x="5290920" y="1268280"/>
            <a:ext cx="261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48"/>
          <p:cNvSpPr/>
          <p:nvPr/>
        </p:nvSpPr>
        <p:spPr>
          <a:xfrm>
            <a:off x="5651280" y="1268280"/>
            <a:ext cx="261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49"/>
          <p:cNvSpPr/>
          <p:nvPr/>
        </p:nvSpPr>
        <p:spPr>
          <a:xfrm>
            <a:off x="5691960" y="3716280"/>
            <a:ext cx="3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50"/>
          <p:cNvSpPr/>
          <p:nvPr/>
        </p:nvSpPr>
        <p:spPr>
          <a:xfrm>
            <a:off x="5145840" y="3789360"/>
            <a:ext cx="3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51"/>
          <p:cNvSpPr/>
          <p:nvPr/>
        </p:nvSpPr>
        <p:spPr>
          <a:xfrm>
            <a:off x="680400" y="122400"/>
            <a:ext cx="1099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验电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52"/>
          <p:cNvSpPr/>
          <p:nvPr/>
        </p:nvSpPr>
        <p:spPr>
          <a:xfrm>
            <a:off x="395280" y="5300640"/>
            <a:ext cx="8497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Arial"/>
              </a:rPr>
              <a:t>思考</a:t>
            </a:r>
            <a:r>
              <a:rPr b="1" lang="en-US" sz="3200" spc="-1" strike="noStrike">
                <a:solidFill>
                  <a:srgbClr val="996633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996633"/>
                </a:solidFill>
                <a:latin typeface="Arial"/>
              </a:rPr>
              <a:t>是否只有当带电体与导体棒的上端直接接触时</a:t>
            </a:r>
            <a:r>
              <a:rPr b="1" lang="en-US" sz="3200" spc="-1" strike="noStrike">
                <a:solidFill>
                  <a:srgbClr val="996633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996633"/>
                </a:solidFill>
                <a:latin typeface="Arial"/>
              </a:rPr>
              <a:t>金属箔片才开始张开</a:t>
            </a:r>
            <a:r>
              <a:rPr b="1" lang="en-US" sz="3200" spc="-1" strike="noStrike">
                <a:solidFill>
                  <a:srgbClr val="996633"/>
                </a:solidFill>
                <a:latin typeface="Arial"/>
              </a:rPr>
              <a:t>?</a:t>
            </a:r>
            <a:r>
              <a:rPr b="1" lang="zh-CN" sz="3200" spc="-1" strike="noStrike">
                <a:solidFill>
                  <a:srgbClr val="996633"/>
                </a:solidFill>
                <a:latin typeface="Arial"/>
              </a:rPr>
              <a:t>解释看到的现象</a:t>
            </a:r>
            <a:r>
              <a:rPr b="1" lang="en-US" sz="3200" spc="-1" strike="noStrike">
                <a:solidFill>
                  <a:srgbClr val="996633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Text Box 2"/>
          <p:cNvSpPr/>
          <p:nvPr/>
        </p:nvSpPr>
        <p:spPr>
          <a:xfrm>
            <a:off x="108000" y="938160"/>
            <a:ext cx="896472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验电器的主要作用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检验导体是否带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检验导体所带电性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3"/>
          <p:cNvSpPr/>
          <p:nvPr/>
        </p:nvSpPr>
        <p:spPr>
          <a:xfrm>
            <a:off x="1258920" y="44280"/>
            <a:ext cx="6480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验电器与静电计在作用上的不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4"/>
          <p:cNvSpPr/>
          <p:nvPr/>
        </p:nvSpPr>
        <p:spPr>
          <a:xfrm>
            <a:off x="0" y="2565360"/>
            <a:ext cx="896472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静电计也称作指针式验电器，这说明它完全具备验电器的各种作用。由于静电计的特殊结构，使得它又具备验电器不能替代的某些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定量测量两导体间的电势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定量测量某导体的电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小  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-360" y="836640"/>
            <a:ext cx="878508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自然界存在两者电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正电荷：丝绸摩擦过的玻璃棒所带的电荷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负电荷：毛皮摩擦过的橡胶棒所带的电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使物体带电的方式带电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摩擦起电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应起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近异远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接触起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电荷守恒定律：一个与外界没有电荷交换的系统，电荷的代数和总是保持不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6" name="Object 6"/>
              <p:cNvSpPr txBox="1"/>
              <p:nvPr/>
            </p:nvSpPr>
            <p:spPr>
              <a:xfrm>
                <a:off x="34920" y="4392720"/>
                <a:ext cx="79218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、元电荷：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电荷量</m:t>
                    </m:r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sup>
                    </m:sSup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称为元电荷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Object 8"/>
              <p:cNvSpPr txBox="1"/>
              <p:nvPr/>
            </p:nvSpPr>
            <p:spPr>
              <a:xfrm>
                <a:off x="71280" y="5164200"/>
                <a:ext cx="874872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、电子和质子的电荷量均为</m:t>
                        </m:r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，所有带电体的电荷量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或者等于</m:t>
                        </m:r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，或者是</m:t>
                        </m:r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的整数倍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6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使一个物体带电的方式有三种，它们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在这三种方式中，电荷既没有被创造，也没有被消灭，只是从一个物体转移到另一个物体，或者从物体的一部分移到另一部分，而且电荷的总量不变，这个结论也被称之为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定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将不带电的导体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带有负电荷的导体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接触后，在导体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中的质子数 （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增加       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减少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不变       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先增加后减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28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在原子物理中，常用元电荷作为电量的单位，元电荷的电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______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一个电子的电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_____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一个质子的电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______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任何带电粒子，所带电量或者等于电子或质子的电量，或者是它们电量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__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最早测出元电荷的数值的是美国物理学家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这位科学家还测出了电子电量和质量的比值，叫做电子的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3"/>
          <p:cNvSpPr/>
          <p:nvPr/>
        </p:nvSpPr>
        <p:spPr>
          <a:xfrm>
            <a:off x="179280" y="2708280"/>
            <a:ext cx="8642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科学家在研究原子、原子核及基本粒子时，为了方便，常常用元电荷作为电量的单位，关于元电荷，下列论述正确的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把质子或电子叫元电荷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60×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-19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电量叫元电荷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电子带有最小的负电荷，其电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绝对值叫元电荷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质子带有最小的正电荷，其电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绝对值叫元电荷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4"/>
          <p:cNvSpPr/>
          <p:nvPr/>
        </p:nvSpPr>
        <p:spPr>
          <a:xfrm>
            <a:off x="179280" y="4292640"/>
            <a:ext cx="208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Arial"/>
                <a:ea typeface="华文行楷"/>
              </a:rPr>
              <a:t> 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5"/>
          <p:cNvSpPr/>
          <p:nvPr/>
        </p:nvSpPr>
        <p:spPr>
          <a:xfrm>
            <a:off x="179280" y="4724280"/>
            <a:ext cx="208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Arial"/>
                <a:ea typeface="华文行楷"/>
              </a:rPr>
              <a:t> 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6"/>
          <p:cNvSpPr/>
          <p:nvPr/>
        </p:nvSpPr>
        <p:spPr>
          <a:xfrm>
            <a:off x="179280" y="5589720"/>
            <a:ext cx="208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Arial"/>
                <a:ea typeface="华文行楷"/>
              </a:rPr>
              <a:t> 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/>
          </p:nvPr>
        </p:nvSpPr>
        <p:spPr>
          <a:xfrm>
            <a:off x="0" y="692280"/>
            <a:ext cx="9144000" cy="42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把两个完全相同的金属球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接触一下，再分开一段距离，发现两球之间相互排斥，则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两球原来的带电情况可能是 （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带有等量异种电荷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带有等量同种电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带有不等量异种电荷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一个带电，另一个不带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3"/>
          <p:cNvSpPr/>
          <p:nvPr/>
        </p:nvSpPr>
        <p:spPr>
          <a:xfrm>
            <a:off x="-252360" y="2239920"/>
            <a:ext cx="20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66"/>
                </a:solidFill>
                <a:latin typeface="Arial"/>
                <a:ea typeface="华文行楷"/>
              </a:rPr>
              <a:t> </a:t>
            </a:r>
            <a:r>
              <a:rPr b="1" lang="en-US" sz="7200" spc="-1" strike="noStrike">
                <a:solidFill>
                  <a:srgbClr val="ff0066"/>
                </a:solidFill>
                <a:latin typeface="Arial"/>
              </a:rPr>
              <a:t>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4"/>
          <p:cNvSpPr/>
          <p:nvPr/>
        </p:nvSpPr>
        <p:spPr>
          <a:xfrm>
            <a:off x="-252360" y="2781360"/>
            <a:ext cx="20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66"/>
                </a:solidFill>
                <a:latin typeface="Arial"/>
                <a:ea typeface="华文行楷"/>
              </a:rPr>
              <a:t> </a:t>
            </a:r>
            <a:r>
              <a:rPr b="1" lang="en-US" sz="7200" spc="-1" strike="noStrike">
                <a:solidFill>
                  <a:srgbClr val="ff0066"/>
                </a:solidFill>
                <a:latin typeface="Arial"/>
              </a:rPr>
              <a:t>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5"/>
          <p:cNvSpPr/>
          <p:nvPr/>
        </p:nvSpPr>
        <p:spPr>
          <a:xfrm>
            <a:off x="-252360" y="3284640"/>
            <a:ext cx="20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66"/>
                </a:solidFill>
                <a:latin typeface="Arial"/>
                <a:ea typeface="华文行楷"/>
              </a:rPr>
              <a:t> </a:t>
            </a:r>
            <a:r>
              <a:rPr b="1" lang="en-US" sz="7200" spc="-1" strike="noStrike">
                <a:solidFill>
                  <a:srgbClr val="ff0066"/>
                </a:solidFill>
                <a:latin typeface="Arial"/>
              </a:rPr>
              <a:t>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Text Box 2"/>
          <p:cNvSpPr/>
          <p:nvPr/>
        </p:nvSpPr>
        <p:spPr>
          <a:xfrm>
            <a:off x="501480" y="1268280"/>
            <a:ext cx="8642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有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个塑料小球，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间都是相互吸引的，如果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带正电，则 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球均带负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球带负电，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球带正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球中必有一个带负电，而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个不带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球都不带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3"/>
          <p:cNvSpPr/>
          <p:nvPr/>
        </p:nvSpPr>
        <p:spPr>
          <a:xfrm>
            <a:off x="324000" y="3789360"/>
            <a:ext cx="20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66"/>
                </a:solidFill>
                <a:latin typeface="Arial"/>
                <a:ea typeface="华文行楷"/>
              </a:rPr>
              <a:t> </a:t>
            </a:r>
            <a:r>
              <a:rPr b="1" lang="en-US" sz="7200" spc="-1" strike="noStrike">
                <a:solidFill>
                  <a:srgbClr val="ff0066"/>
                </a:solidFill>
                <a:latin typeface="Arial"/>
              </a:rPr>
              <a:t>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8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4"/>
          <p:cNvSpPr/>
          <p:nvPr/>
        </p:nvSpPr>
        <p:spPr>
          <a:xfrm>
            <a:off x="395280" y="682560"/>
            <a:ext cx="828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华文新魏"/>
              </a:rPr>
              <a:t>初中学过自然界有几种电荷，它们间的相互作用如何？电荷的多少用什么表示？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5"/>
          <p:cNvSpPr/>
          <p:nvPr/>
        </p:nvSpPr>
        <p:spPr>
          <a:xfrm>
            <a:off x="395280" y="2556000"/>
            <a:ext cx="828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华文新魏"/>
              </a:rPr>
              <a:t>一般情况下物体不带电，不带电的物体内是否存在电荷？如何使物体带电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6"/>
          <p:cNvSpPr/>
          <p:nvPr/>
        </p:nvSpPr>
        <p:spPr>
          <a:xfrm>
            <a:off x="539640" y="529128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华文新魏"/>
              </a:rPr>
              <a:t>摩擦起电的实质是什么？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华文新魏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7"/>
          <p:cNvSpPr/>
          <p:nvPr/>
        </p:nvSpPr>
        <p:spPr>
          <a:xfrm>
            <a:off x="395280" y="1619280"/>
            <a:ext cx="828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自然界只存在两种电荷，同种电荷互相排斥，异种电荷相互吸引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电荷的多少是用电荷量来表示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8"/>
          <p:cNvSpPr/>
          <p:nvPr/>
        </p:nvSpPr>
        <p:spPr>
          <a:xfrm>
            <a:off x="468360" y="3419640"/>
            <a:ext cx="828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不带电的物体内存在电荷，且存在等量正、负电荷，在物体内中和，对外不显电性。用摩擦的方法可以使物体带电，用丝绸摩擦过的玻璃棒带正电，用毛皮摩擦过的硬橡胶棒带负电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9"/>
          <p:cNvSpPr/>
          <p:nvPr/>
        </p:nvSpPr>
        <p:spPr>
          <a:xfrm>
            <a:off x="468360" y="5796000"/>
            <a:ext cx="82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一个物体失去一些电子而带正电，另一个物体得到这些电子而带负电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6"/>
          <p:cNvSpPr/>
          <p:nvPr/>
        </p:nvSpPr>
        <p:spPr>
          <a:xfrm>
            <a:off x="324000" y="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华文新魏"/>
              </a:rPr>
              <a:t>一、电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7"/>
          <p:cNvSpPr/>
          <p:nvPr/>
        </p:nvSpPr>
        <p:spPr>
          <a:xfrm>
            <a:off x="1042920" y="907920"/>
            <a:ext cx="64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电荷是一种物质属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9"/>
          <p:cNvSpPr/>
          <p:nvPr/>
        </p:nvSpPr>
        <p:spPr>
          <a:xfrm>
            <a:off x="324000" y="1700280"/>
            <a:ext cx="84978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、自然界中有两种电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）正电荷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丝绸摩擦过的玻璃棒所带的电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）负电荷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毛皮摩擦过的橡胶棒所带的电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0"/>
          <p:cNvSpPr/>
          <p:nvPr/>
        </p:nvSpPr>
        <p:spPr>
          <a:xfrm>
            <a:off x="395280" y="5516640"/>
            <a:ext cx="81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行楷"/>
              </a:rPr>
              <a:t>同种电荷相互排斥，异种电荷相互吸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16"/>
          <p:cNvGrpSpPr/>
          <p:nvPr/>
        </p:nvGrpSpPr>
        <p:grpSpPr>
          <a:xfrm>
            <a:off x="6804000" y="2276640"/>
            <a:ext cx="792000" cy="825120"/>
            <a:chOff x="6804000" y="2276640"/>
            <a:chExt cx="792000" cy="825120"/>
          </a:xfrm>
        </p:grpSpPr>
        <p:sp>
          <p:nvSpPr>
            <p:cNvPr id="547" name="Oval 11"/>
            <p:cNvSpPr/>
            <p:nvPr/>
          </p:nvSpPr>
          <p:spPr>
            <a:xfrm>
              <a:off x="6804000" y="2276640"/>
              <a:ext cx="792000" cy="79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 Box 14"/>
            <p:cNvSpPr/>
            <p:nvPr/>
          </p:nvSpPr>
          <p:spPr>
            <a:xfrm>
              <a:off x="6948360" y="2276640"/>
              <a:ext cx="576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00ff"/>
                  </a:solidFill>
                  <a:latin typeface="Arial"/>
                  <a:ea typeface="华文行楷"/>
                </a:rPr>
                <a:t>+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Group 17"/>
          <p:cNvGrpSpPr/>
          <p:nvPr/>
        </p:nvGrpSpPr>
        <p:grpSpPr>
          <a:xfrm>
            <a:off x="6877080" y="3716280"/>
            <a:ext cx="792000" cy="1081080"/>
            <a:chOff x="6877080" y="3716280"/>
            <a:chExt cx="792000" cy="1081080"/>
          </a:xfrm>
        </p:grpSpPr>
        <p:sp>
          <p:nvSpPr>
            <p:cNvPr id="550" name="Oval 13"/>
            <p:cNvSpPr/>
            <p:nvPr/>
          </p:nvSpPr>
          <p:spPr>
            <a:xfrm>
              <a:off x="6877080" y="4005000"/>
              <a:ext cx="792000" cy="7923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Text Box 15"/>
            <p:cNvSpPr/>
            <p:nvPr/>
          </p:nvSpPr>
          <p:spPr>
            <a:xfrm>
              <a:off x="7021440" y="3716280"/>
              <a:ext cx="502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00ff"/>
                  </a:solidFill>
                  <a:latin typeface="Arial"/>
                  <a:ea typeface="华文行楷"/>
                </a:rPr>
                <a:t>_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2"/>
          <p:cNvSpPr/>
          <p:nvPr/>
        </p:nvSpPr>
        <p:spPr>
          <a:xfrm>
            <a:off x="250920" y="112536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新魏"/>
              </a:rPr>
              <a:t>原子的构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3"/>
          <p:cNvSpPr/>
          <p:nvPr/>
        </p:nvSpPr>
        <p:spPr>
          <a:xfrm>
            <a:off x="611280" y="184464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原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4"/>
          <p:cNvSpPr/>
          <p:nvPr/>
        </p:nvSpPr>
        <p:spPr>
          <a:xfrm>
            <a:off x="3348000" y="155736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原子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5"/>
          <p:cNvSpPr/>
          <p:nvPr/>
        </p:nvSpPr>
        <p:spPr>
          <a:xfrm>
            <a:off x="3348000" y="234936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核外电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6"/>
          <p:cNvSpPr/>
          <p:nvPr/>
        </p:nvSpPr>
        <p:spPr>
          <a:xfrm>
            <a:off x="5867280" y="119700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质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7"/>
          <p:cNvSpPr/>
          <p:nvPr/>
        </p:nvSpPr>
        <p:spPr>
          <a:xfrm>
            <a:off x="5938920" y="198900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中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8"/>
          <p:cNvSpPr/>
          <p:nvPr/>
        </p:nvSpPr>
        <p:spPr>
          <a:xfrm flipV="1">
            <a:off x="2268360" y="1844280"/>
            <a:ext cx="1079640" cy="289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9"/>
          <p:cNvSpPr/>
          <p:nvPr/>
        </p:nvSpPr>
        <p:spPr>
          <a:xfrm>
            <a:off x="2268360" y="2133720"/>
            <a:ext cx="1008360" cy="503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10"/>
          <p:cNvSpPr/>
          <p:nvPr/>
        </p:nvSpPr>
        <p:spPr>
          <a:xfrm flipV="1">
            <a:off x="4788000" y="1557000"/>
            <a:ext cx="115236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11"/>
          <p:cNvSpPr/>
          <p:nvPr/>
        </p:nvSpPr>
        <p:spPr>
          <a:xfrm>
            <a:off x="4788000" y="1916280"/>
            <a:ext cx="1152360" cy="433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12"/>
          <p:cNvSpPr/>
          <p:nvPr/>
        </p:nvSpPr>
        <p:spPr>
          <a:xfrm>
            <a:off x="6588000" y="119700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996633"/>
                </a:solidFill>
                <a:latin typeface="Arial"/>
                <a:ea typeface="华文新魏"/>
              </a:rPr>
              <a:t>正电</a:t>
            </a:r>
            <a:r>
              <a:rPr b="1" lang="zh-CN" sz="3200" spc="-1" strike="noStrike">
                <a:solidFill>
                  <a:srgbClr val="996633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13"/>
          <p:cNvSpPr/>
          <p:nvPr/>
        </p:nvSpPr>
        <p:spPr>
          <a:xfrm>
            <a:off x="6588000" y="198900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Arial"/>
                <a:ea typeface="华文新魏"/>
              </a:rPr>
              <a:t>（不带电</a:t>
            </a:r>
            <a:r>
              <a:rPr b="1" lang="zh-CN" sz="3200" spc="-1" strike="noStrike">
                <a:solidFill>
                  <a:srgbClr val="996633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18"/>
          <p:cNvSpPr/>
          <p:nvPr/>
        </p:nvSpPr>
        <p:spPr>
          <a:xfrm>
            <a:off x="395280" y="299736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新魏"/>
              </a:rPr>
              <a:t>核外电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19"/>
          <p:cNvSpPr/>
          <p:nvPr/>
        </p:nvSpPr>
        <p:spPr>
          <a:xfrm>
            <a:off x="396720" y="357336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离原子核较远的电子容易受到外界的作用而脱离原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20"/>
          <p:cNvSpPr/>
          <p:nvPr/>
        </p:nvSpPr>
        <p:spPr>
          <a:xfrm>
            <a:off x="0" y="0"/>
            <a:ext cx="8893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物质的微观结构是怎样的？摩擦起电的原因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21"/>
          <p:cNvSpPr/>
          <p:nvPr/>
        </p:nvSpPr>
        <p:spPr>
          <a:xfrm>
            <a:off x="250920" y="4941720"/>
            <a:ext cx="860400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摩擦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电子从一个物体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新魏"/>
              </a:rPr>
              <a:t>转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到另一个物体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得到电子：带负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失去电子：带正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22"/>
          <p:cNvSpPr/>
          <p:nvPr/>
        </p:nvSpPr>
        <p:spPr>
          <a:xfrm>
            <a:off x="755640" y="227664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Arial"/>
                <a:ea typeface="华文新魏"/>
              </a:rPr>
              <a:t>（中性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23"/>
          <p:cNvSpPr/>
          <p:nvPr/>
        </p:nvSpPr>
        <p:spPr>
          <a:xfrm>
            <a:off x="3419640" y="2852640"/>
            <a:ext cx="23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996633"/>
                </a:solidFill>
                <a:latin typeface="Arial"/>
                <a:ea typeface="华文新魏"/>
              </a:rPr>
              <a:t>负电</a:t>
            </a:r>
            <a:r>
              <a:rPr b="1" lang="zh-CN" sz="3200" spc="-1" strike="noStrike">
                <a:solidFill>
                  <a:srgbClr val="996633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24"/>
          <p:cNvSpPr/>
          <p:nvPr/>
        </p:nvSpPr>
        <p:spPr>
          <a:xfrm>
            <a:off x="3348000" y="105264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996633"/>
                </a:solidFill>
                <a:latin typeface="Arial"/>
                <a:ea typeface="华文新魏"/>
              </a:rPr>
              <a:t>正电</a:t>
            </a:r>
            <a:r>
              <a:rPr b="1" lang="zh-CN" sz="3200" spc="-1" strike="noStrike">
                <a:solidFill>
                  <a:srgbClr val="996633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Text Box 7"/>
          <p:cNvSpPr/>
          <p:nvPr/>
        </p:nvSpPr>
        <p:spPr>
          <a:xfrm>
            <a:off x="285840" y="164304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感应起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/>
          </p:nvPr>
        </p:nvSpPr>
        <p:spPr>
          <a:xfrm>
            <a:off x="499680" y="5143680"/>
            <a:ext cx="8280360" cy="129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r>
              <a:rPr b="1" lang="zh-CN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感应起电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：利用静电感应使物体带电，叫做感应起电．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3"/>
          <p:cNvSpPr/>
          <p:nvPr/>
        </p:nvSpPr>
        <p:spPr>
          <a:xfrm>
            <a:off x="928800" y="3500280"/>
            <a:ext cx="705780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规律：</a:t>
            </a:r>
            <a:r>
              <a:rPr b="1" lang="zh-CN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近端感应异种电荷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      </a:t>
            </a:r>
            <a:r>
              <a:rPr b="1" lang="zh-CN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远端感应同种电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4"/>
          <p:cNvSpPr/>
          <p:nvPr/>
        </p:nvSpPr>
        <p:spPr>
          <a:xfrm>
            <a:off x="428760" y="2286000"/>
            <a:ext cx="8448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静电感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把电荷移近不带电的导体，可以使导体带电的现象，叫做静电感应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ext Box 6"/>
          <p:cNvSpPr/>
          <p:nvPr/>
        </p:nvSpPr>
        <p:spPr>
          <a:xfrm>
            <a:off x="0" y="0"/>
            <a:ext cx="3960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接触带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Group 57"/>
          <p:cNvGrpSpPr/>
          <p:nvPr/>
        </p:nvGrpSpPr>
        <p:grpSpPr>
          <a:xfrm>
            <a:off x="1258920" y="2060640"/>
            <a:ext cx="4794120" cy="1452960"/>
            <a:chOff x="1258920" y="2060640"/>
            <a:chExt cx="4794120" cy="1452960"/>
          </a:xfrm>
        </p:grpSpPr>
        <p:sp>
          <p:nvSpPr>
            <p:cNvPr id="577" name="Line 8"/>
            <p:cNvSpPr/>
            <p:nvPr/>
          </p:nvSpPr>
          <p:spPr>
            <a:xfrm>
              <a:off x="3408480" y="2849400"/>
              <a:ext cx="26445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Text Box 9"/>
            <p:cNvSpPr/>
            <p:nvPr/>
          </p:nvSpPr>
          <p:spPr>
            <a:xfrm>
              <a:off x="3840120" y="2060640"/>
              <a:ext cx="1782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接触后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Text Box 10"/>
            <p:cNvSpPr/>
            <p:nvPr/>
          </p:nvSpPr>
          <p:spPr>
            <a:xfrm>
              <a:off x="3902040" y="2932200"/>
              <a:ext cx="178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再分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Text Box 11"/>
            <p:cNvSpPr/>
            <p:nvPr/>
          </p:nvSpPr>
          <p:spPr>
            <a:xfrm>
              <a:off x="1258920" y="2522520"/>
              <a:ext cx="94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66"/>
                  </a:solidFill>
                  <a:latin typeface="Arial"/>
                </a:rPr>
                <a:t>+Q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Oval 17"/>
            <p:cNvSpPr/>
            <p:nvPr/>
          </p:nvSpPr>
          <p:spPr>
            <a:xfrm>
              <a:off x="2333520" y="2324160"/>
              <a:ext cx="1013040" cy="9874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29"/>
            <p:cNvSpPr/>
            <p:nvPr/>
          </p:nvSpPr>
          <p:spPr>
            <a:xfrm>
              <a:off x="1258920" y="2324160"/>
              <a:ext cx="1012680" cy="9874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6600"/>
                  </a:solidFill>
                  <a:latin typeface="黑体"/>
                  <a:ea typeface="黑体"/>
                </a:rPr>
                <a:t>+Q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Group 61"/>
          <p:cNvGrpSpPr/>
          <p:nvPr/>
        </p:nvGrpSpPr>
        <p:grpSpPr>
          <a:xfrm>
            <a:off x="1258920" y="3736800"/>
            <a:ext cx="5340240" cy="1567440"/>
            <a:chOff x="1258920" y="3736800"/>
            <a:chExt cx="5340240" cy="1567440"/>
          </a:xfrm>
        </p:grpSpPr>
        <p:sp>
          <p:nvSpPr>
            <p:cNvPr id="584" name="Line 31"/>
            <p:cNvSpPr/>
            <p:nvPr/>
          </p:nvSpPr>
          <p:spPr>
            <a:xfrm>
              <a:off x="3697200" y="4635360"/>
              <a:ext cx="2347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Text Box 32"/>
            <p:cNvSpPr/>
            <p:nvPr/>
          </p:nvSpPr>
          <p:spPr>
            <a:xfrm>
              <a:off x="3922560" y="3736800"/>
              <a:ext cx="2651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接触后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Text Box 33"/>
            <p:cNvSpPr/>
            <p:nvPr/>
          </p:nvSpPr>
          <p:spPr>
            <a:xfrm>
              <a:off x="3948120" y="4722840"/>
              <a:ext cx="2651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再分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Oval 34"/>
            <p:cNvSpPr/>
            <p:nvPr/>
          </p:nvSpPr>
          <p:spPr>
            <a:xfrm>
              <a:off x="1258920" y="4013280"/>
              <a:ext cx="1001520" cy="10350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+</a:t>
              </a:r>
              <a:r>
                <a:rPr b="1" lang="en-US" sz="3200" spc="-1" strike="noStrike">
                  <a:solidFill>
                    <a:srgbClr val="ff6600"/>
                  </a:solidFill>
                  <a:latin typeface="黑体"/>
                  <a:ea typeface="黑体"/>
                </a:rPr>
                <a:t>Q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35"/>
            <p:cNvSpPr/>
            <p:nvPr/>
          </p:nvSpPr>
          <p:spPr>
            <a:xfrm>
              <a:off x="2446200" y="4013280"/>
              <a:ext cx="1000440" cy="10350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-3Q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Group 62"/>
          <p:cNvGrpSpPr/>
          <p:nvPr/>
        </p:nvGrpSpPr>
        <p:grpSpPr>
          <a:xfrm>
            <a:off x="6137280" y="4013280"/>
            <a:ext cx="2251080" cy="1036440"/>
            <a:chOff x="6137280" y="4013280"/>
            <a:chExt cx="2251080" cy="1036440"/>
          </a:xfrm>
        </p:grpSpPr>
        <p:sp>
          <p:nvSpPr>
            <p:cNvPr id="590" name="Oval 43"/>
            <p:cNvSpPr/>
            <p:nvPr/>
          </p:nvSpPr>
          <p:spPr>
            <a:xfrm>
              <a:off x="6137280" y="4013280"/>
              <a:ext cx="1000080" cy="10350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-Q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Oval 44"/>
            <p:cNvSpPr/>
            <p:nvPr/>
          </p:nvSpPr>
          <p:spPr>
            <a:xfrm>
              <a:off x="7388280" y="4014720"/>
              <a:ext cx="1000080" cy="10350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-Q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Text Box 52"/>
          <p:cNvSpPr/>
          <p:nvPr/>
        </p:nvSpPr>
        <p:spPr>
          <a:xfrm>
            <a:off x="395280" y="5445000"/>
            <a:ext cx="7920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电荷从一个物体转移到另一个物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56"/>
          <p:cNvSpPr/>
          <p:nvPr/>
        </p:nvSpPr>
        <p:spPr>
          <a:xfrm>
            <a:off x="395280" y="620640"/>
            <a:ext cx="8353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两个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Arial"/>
                <a:ea typeface="华文新魏"/>
              </a:rPr>
              <a:t>完全相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的带电导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接触后再分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二者将原来所带电量的总和平均分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Group 60"/>
          <p:cNvGrpSpPr/>
          <p:nvPr/>
        </p:nvGrpSpPr>
        <p:grpSpPr>
          <a:xfrm>
            <a:off x="6191280" y="2257560"/>
            <a:ext cx="2197080" cy="1050840"/>
            <a:chOff x="6191280" y="2257560"/>
            <a:chExt cx="2197080" cy="1050840"/>
          </a:xfrm>
        </p:grpSpPr>
        <p:sp>
          <p:nvSpPr>
            <p:cNvPr id="595" name="Oval 13"/>
            <p:cNvSpPr/>
            <p:nvPr/>
          </p:nvSpPr>
          <p:spPr>
            <a:xfrm>
              <a:off x="6191280" y="2257560"/>
              <a:ext cx="1044720" cy="9871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6600"/>
                  </a:solidFill>
                  <a:latin typeface="黑体"/>
                  <a:ea typeface="黑体"/>
                </a:rPr>
                <a:t>　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6" name="Object 15"/>
                <p:cNvSpPr txBox="1"/>
                <p:nvPr/>
              </p:nvSpPr>
              <p:spPr>
                <a:xfrm>
                  <a:off x="6372360" y="2276640"/>
                  <a:ext cx="482400" cy="101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97" name="Oval 58"/>
            <p:cNvSpPr/>
            <p:nvPr/>
          </p:nvSpPr>
          <p:spPr>
            <a:xfrm>
              <a:off x="7343640" y="2276640"/>
              <a:ext cx="1044720" cy="9871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6600"/>
                  </a:solidFill>
                  <a:latin typeface="黑体"/>
                  <a:ea typeface="黑体"/>
                </a:rPr>
                <a:t>　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8" name="Object 59"/>
                <p:cNvSpPr txBox="1"/>
                <p:nvPr/>
              </p:nvSpPr>
              <p:spPr>
                <a:xfrm>
                  <a:off x="7524720" y="2295360"/>
                  <a:ext cx="482760" cy="101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Text Box 2"/>
          <p:cNvSpPr/>
          <p:nvPr/>
        </p:nvSpPr>
        <p:spPr>
          <a:xfrm>
            <a:off x="539640" y="105264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种起电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3"/>
          <p:cNvSpPr/>
          <p:nvPr/>
        </p:nvSpPr>
        <p:spPr>
          <a:xfrm>
            <a:off x="0" y="0"/>
            <a:ext cx="58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  <a:ea typeface="华文新魏"/>
              </a:rPr>
              <a:t>二、电荷守恒定律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4"/>
          <p:cNvSpPr/>
          <p:nvPr/>
        </p:nvSpPr>
        <p:spPr>
          <a:xfrm>
            <a:off x="395280" y="2708280"/>
            <a:ext cx="87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２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起电的本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5"/>
          <p:cNvSpPr/>
          <p:nvPr/>
        </p:nvSpPr>
        <p:spPr>
          <a:xfrm>
            <a:off x="539640" y="177336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摩擦起电、感应起电、接触起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6"/>
          <p:cNvSpPr/>
          <p:nvPr/>
        </p:nvSpPr>
        <p:spPr>
          <a:xfrm>
            <a:off x="395280" y="3429000"/>
            <a:ext cx="87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无论是哪种起电方式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其本质都是将正、负电荷分开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使电荷发生转移，并不是创造电荷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Text Box 4"/>
          <p:cNvSpPr/>
          <p:nvPr/>
        </p:nvSpPr>
        <p:spPr>
          <a:xfrm>
            <a:off x="324000" y="692280"/>
            <a:ext cx="820728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表述一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电荷既不能创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也不能消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它只能从一个物体转移到另一个物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或从物体的一部分转移到另一部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转移的过程中，系统的电荷总数保持不变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5"/>
          <p:cNvSpPr/>
          <p:nvPr/>
        </p:nvSpPr>
        <p:spPr>
          <a:xfrm>
            <a:off x="250920" y="3530520"/>
            <a:ext cx="8207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表述二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个与外界没有电荷交换的系统，电荷的代数和总是保持不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6"/>
          <p:cNvSpPr/>
          <p:nvPr/>
        </p:nvSpPr>
        <p:spPr>
          <a:xfrm>
            <a:off x="0" y="0"/>
            <a:ext cx="58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  <a:ea typeface="华文新魏"/>
              </a:rPr>
              <a:t>二、电荷守恒定律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4"/>
          <p:cNvSpPr/>
          <p:nvPr/>
        </p:nvSpPr>
        <p:spPr>
          <a:xfrm>
            <a:off x="34920" y="74520"/>
            <a:ext cx="9036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）电荷的多少如何表示？它的单位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5"/>
          <p:cNvSpPr/>
          <p:nvPr/>
        </p:nvSpPr>
        <p:spPr>
          <a:xfrm>
            <a:off x="0" y="3560040"/>
            <a:ext cx="871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）元电荷的数值是多少？它的数值最早是由哪位物理学家测定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6"/>
          <p:cNvSpPr/>
          <p:nvPr/>
        </p:nvSpPr>
        <p:spPr>
          <a:xfrm>
            <a:off x="0" y="206064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）什么是元电荷？一个电子就是一个元电荷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7"/>
          <p:cNvSpPr/>
          <p:nvPr/>
        </p:nvSpPr>
        <p:spPr>
          <a:xfrm>
            <a:off x="34920" y="4710240"/>
            <a:ext cx="871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）什么是比荷？电子的比荷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8"/>
          <p:cNvSpPr/>
          <p:nvPr/>
        </p:nvSpPr>
        <p:spPr>
          <a:xfrm>
            <a:off x="395280" y="620640"/>
            <a:ext cx="86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电荷量：电荷的多少，简称电量。单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库仑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2" name="Group 20"/>
          <p:cNvGrpSpPr/>
          <p:nvPr/>
        </p:nvGrpSpPr>
        <p:grpSpPr>
          <a:xfrm>
            <a:off x="395280" y="4176720"/>
            <a:ext cx="5256360" cy="547920"/>
            <a:chOff x="395280" y="4176720"/>
            <a:chExt cx="5256360" cy="547920"/>
          </a:xfrm>
        </p:grpSpPr>
        <mc:AlternateContent>
          <mc:Choice xmlns:a14="http://schemas.microsoft.com/office/drawing/2010/main" Requires="a14">
            <p:sp>
              <p:nvSpPr>
                <p:cNvPr id="613" name="Object 10"/>
                <p:cNvSpPr txBox="1"/>
                <p:nvPr/>
              </p:nvSpPr>
              <p:spPr>
                <a:xfrm>
                  <a:off x="2870280" y="4176720"/>
                  <a:ext cx="2781360" cy="54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60</m:t>
                      </m:r>
                      <m:r>
                        <m:t xml:space="preserve">×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9</m:t>
                          </m:r>
                        </m:sup>
                      </m:sSup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14" name="Rectangle 11"/>
            <p:cNvSpPr/>
            <p:nvPr/>
          </p:nvSpPr>
          <p:spPr>
            <a:xfrm>
              <a:off x="395280" y="4205520"/>
              <a:ext cx="36352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元电荷的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5" name="Rectangle 13"/>
          <p:cNvSpPr/>
          <p:nvPr/>
        </p:nvSpPr>
        <p:spPr>
          <a:xfrm>
            <a:off x="755640" y="2478240"/>
            <a:ext cx="626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个电子所带电量为元电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6" name="Object 16"/>
              <p:cNvSpPr txBox="1"/>
              <p:nvPr/>
            </p:nvSpPr>
            <p:spPr>
              <a:xfrm>
                <a:off x="324000" y="5661000"/>
                <a:ext cx="84834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电子的比荷为：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sup>
                        </m:sSup>
                        <m:r>
                          <m:t xml:space="preserve">C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p>
                    </m:sSup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7" name="Rectangle 17"/>
          <p:cNvSpPr/>
          <p:nvPr/>
        </p:nvSpPr>
        <p:spPr>
          <a:xfrm>
            <a:off x="1222200" y="5114880"/>
            <a:ext cx="792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带电体的电荷量与质量的比值叫做比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18"/>
          <p:cNvSpPr/>
          <p:nvPr/>
        </p:nvSpPr>
        <p:spPr>
          <a:xfrm>
            <a:off x="5435640" y="4205160"/>
            <a:ext cx="3851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美国科学家密立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9"/>
          <p:cNvSpPr/>
          <p:nvPr/>
        </p:nvSpPr>
        <p:spPr>
          <a:xfrm>
            <a:off x="360360" y="1125360"/>
            <a:ext cx="88200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比较电荷带电的多少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要比较的是其电荷量的绝对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电荷量的正负不表示电荷量的大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只代表电荷的性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21"/>
          <p:cNvSpPr/>
          <p:nvPr/>
        </p:nvSpPr>
        <p:spPr>
          <a:xfrm>
            <a:off x="682560" y="2909880"/>
            <a:ext cx="7634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所有带电体所带电荷量只能是元电荷的整数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4" dur="5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6T13:00:45Z</dcterms:created>
  <dc:creator>新课标第一网xkb1.com; lyd</dc:creator>
  <dc:description>新课标第一网xkb1.com不用注册，免费下载！</dc:description>
  <cp:keywords>新课标第一网xkb1.com</cp:keywords>
  <dc:language>en-US</dc:language>
  <cp:lastModifiedBy>a</cp:lastModifiedBy>
  <dcterms:modified xsi:type="dcterms:W3CDTF">2015-03-17T05:53:53Z</dcterms:modified>
  <cp:revision>119</cp:revision>
  <dc:subject>新课标第一网xkb1.com</dc:subject>
  <dc:title>新课标第一网xkb1.com</dc:title>
</cp:coreProperties>
</file>