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59C-F796-4B8E-BDC4-6797809C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00F-7D89-40DE-AE79-10DC5A6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8BE20-3496-49BB-948D-57053932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75EF0-E1B0-479D-BC00-0F423F11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5EA3B-BB27-41A1-97F7-8369899A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372CD-99AF-463B-A335-B8A4CEDF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2F40C-56A0-4D59-9D5C-E75CA7F6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8A36D-678A-41DE-9C05-C362000D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6A548-142C-4F6E-9FC8-7EE94655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480FD-7E18-4C26-BB82-EF450038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54847-0E9A-42CC-9C8E-FFB836A0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864AE-076C-4CE6-A31F-E078B7F1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C0B-574B-4F1B-8734-9A52D22E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7AFFA-C39A-4FA6-99EC-2809D163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C468C-D614-40FF-994D-DB139B47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53EFE-3CEE-4625-B4C1-EDF5ABBD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70334-5ABF-49B3-9CFD-EA3471CD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32BEC-EC58-41B8-B4DA-DE3DA340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0D89F-9BDE-4517-A47E-A17BF932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FA2B9-0545-46C9-B18C-D5CAE5C2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2BFDB-3020-4363-BAF3-B90A4F45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D3057-EB40-43C1-A0EA-406481BF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DA8F9-60CB-4B0B-8F33-5FADC13B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823-2AA8-4280-A9A8-DC7432D8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A1229-6173-4BF0-9E63-8EC5573E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D2729-D6F2-4EDE-A2E7-D0A4D06F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5718A-DD87-4568-AC27-2955B8EE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8CF36-F5A0-4231-9CC4-E890D59A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94AC0-C5DB-4399-8F72-CD5A71FD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D9A92-8D6D-4880-A3A7-09FD382C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C4C24-2BA1-4DB5-847D-50E04185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8B98A-085C-497F-9073-3EDE8FCB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1619A-A8BC-4981-9B74-661A8C47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35E5A-1FA8-4AD9-96E4-EFD1D3B9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567D-9681-4FA5-ACDB-C6557F7B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06522-362C-40B1-9FC3-76A3E1E3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2565E-A4B5-4385-8474-1526E2FA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BE810-8101-48A9-AE70-82B8C2E2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1A8B6-4979-4349-8152-CFCBCEC2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7B7DF-1C3B-4178-A9AC-AB349E20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D5427-E838-4657-882E-B29C2E14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7D21A-8EA4-4252-9CD2-B382258B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9DE63-3A0D-4FD2-B0C0-D892B00C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12004-46FA-4326-927F-387E5835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AF7FC-03BE-400F-9130-1A800169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653A-16FE-4125-B9C5-5632C110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6D204-58DE-49DA-90B3-ADD87934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78AE7-3454-4759-86F0-8DBC035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913F4-A211-4D2A-BDB0-F8CDA569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366DD-F65F-4CD2-9AE3-24ED3EF3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8C195-3ACE-4AFE-8557-BBFA46D3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6E386-8865-42A7-BE4F-325D8262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E14E1-1EC0-4F18-90A0-2B30673C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92F05-689D-4938-87C8-FDC5BBC4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50958-6ED0-4965-87DE-1C749FDE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6F129-2835-42F9-93AE-8F6D7237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3F9C-EE0A-487C-ABE6-34C0A993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0BFB6-7A27-491D-A366-10AE84B6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5C392-BDCA-4488-A074-CCA80EA2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3A895-F32A-4DD0-88E2-88974DB1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4AB3B-AC6A-4D1F-ACEB-81138CDC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B79A3-B108-495F-84E0-164CAC63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DA49A-1FF7-48B2-BEF9-788612F0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45C81-3B06-4F83-ABFB-F45BD7A9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5A232-5A51-4DE9-ABE2-B204D99E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3D8BE-510E-4323-9685-D7CF46A7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AF643-C81F-4DCF-BA35-98040B79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DAC7-AEBB-447F-BB13-DCF100D7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2ACFC-B0E9-4C88-BCBE-D27B3CFF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DB442-A294-4D13-9A2C-98AC18C6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49524-E4A9-4770-A7C1-EEC0AAC8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75F37B-98DA-4D29-ACF5-605C43B6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DCA45-4DED-475A-9615-ABCF6571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CE4D1-6AE4-46AE-9556-5185DF53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7F538-B1D6-4358-B11A-6E19BEDC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1510C-D3DE-4A8E-BADF-68DAFA4C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7E66B-474C-4A8C-AD2F-281512A4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47AB-A4D8-4B12-A241-FF224A4A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602D-3CC7-47CF-B551-227B909D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FF6F-1B61-4F80-95B2-02826E51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51D-90A9-45C4-BE65-2D6A05D6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F315-AD2C-428C-AA3E-0D544FFD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6FBD-440C-4223-8477-A8D7D555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50AB-83A7-46BE-B4F5-6C2457DA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A277-472B-4334-87A8-56B1E247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0941-D9DE-449D-96F2-11B070DC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4A140-48DD-41B6-8464-31C46DEC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DACDD-6794-4D1C-9A21-3B468DB9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86794-F888-4528-828E-1304B66C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DA6DA-EE80-493C-8E5C-F26CABB7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07375-7ABC-421B-AB76-CE1A3DBD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9E0-1A63-46FB-B077-823CE308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7E933-C6D5-4CF6-8A50-D1E4420E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BC6D0-5FC3-4AB4-85AB-52B11CAC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5CF31-EA6C-4EB1-91D4-968FA28E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43EA0-36DD-436A-B5B3-6566FC7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1997C-F1FD-428E-8B7B-878DDB42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C5329-333E-47C5-941D-41396EF5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7863B-1AE9-4BF2-8C0B-37A3A33B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69AE-4912-4154-BC5B-4C653F1F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DEB4B-D759-476E-8B89-AD781E6E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5DE0-C863-48F3-81CC-B8B89021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EB5-F705-423C-B998-3D848D34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AE8D-21F7-4A50-8400-77601715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8C552-CFA9-4027-8C81-26E3AD18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CBCD-67A9-44CA-928E-0884356D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3E73-1869-4CD3-B784-510E8468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1ED3-C647-4748-B9BC-385D5FB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D49B1-3D95-4DE9-870F-2ECAC0BF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8F296-50FD-48AD-BAEC-4902F8EF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523C-CF03-432E-A07B-A472C6F6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9EB78-76AA-4831-98BF-F9D49569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04893-700A-401D-A58D-9EBCA5BA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C12-D79A-457C-86F8-32D71EF4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4B6C4-243A-4480-B868-1023860F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91E81-8F40-4611-9D33-2AB0DFFD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32363-2FCF-4AC2-B256-3D287950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CCD8-24DA-416C-BA08-ECBBDBEF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C58A5-F473-4C5C-8945-16AF692A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BDDB6-E282-4F27-A3DF-1C43A4B8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222A9-B3E8-4B90-BF82-8AB58461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77C8B-0925-4052-821F-1236BAEB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B075-EAEB-45D5-AED1-E1B51C51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48406-974A-461A-B3E0-5E957032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6EC-09F7-460B-8E11-DAAEDA67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0F533-4E42-4D49-9766-3C8233C5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FA377-3242-4CF9-920E-0A8F2C53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529A4-310B-41C5-A6F4-71D7C902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61626-7FC5-48FB-A4CD-7AB93F20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C520B-DBBC-466F-BE10-12224338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8A5D0-752F-4715-9B3F-2975E135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0E70B-DAF8-406B-ABB8-4DB68232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09AC9-2E66-4A83-8583-FECF26F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9AE6B-6CBD-4174-B7EF-1F1FE366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1A500-C1E0-4A4D-98CC-7B346EE9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41C-29E0-497B-A4A5-FF83D2FB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F2177-5707-43E7-9A24-25EB3F8B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F2289-57C8-41E1-96DD-3ED3156A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474FB-BC5E-4E06-8928-98975B78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04A1-3DD7-4690-A074-1D1D1335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D53CB-C50E-4838-B6BE-8309899D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AA010-4D3D-483E-91C7-69D80F81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3A599-032C-42E1-9690-382A3CFA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4FC0C-7F9B-419B-B24B-20B15501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021FD-7A85-4221-AF0F-45E8310C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4A680-B661-413D-A9B9-95C66A90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EDA-8534-4314-8279-ABD849DC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2D258-E48D-4C5B-9882-740EC95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C0104-2727-4547-ACA2-BA596C2E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E8395-5C41-4AF2-A9C3-5F945DD3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5A0DE-A6C4-4DC5-B2A9-3786DDC9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CCC30-F02E-45B7-B974-040EEA20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1CE6E-492E-4AA3-89C0-309D8CF9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EA0A5-7382-4852-8155-E8D646B7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FABF4-78E0-45C5-804A-D13B6B91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0061A-A01F-48EA-9DD5-363CD5B1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5CB79-EF0D-4FDA-B93D-40625483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F93-1285-48D1-8C99-1B70CC4F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2DF3B-0D8C-42B4-8283-7B2B6EC8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8853B-B9E0-4601-944E-9E79A9AD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91867-2757-44B4-A327-741673CD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7BDA7-8137-436A-93B5-F45ABF20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09BD5-F704-4A55-AF48-B28CF75D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F3237-2096-4C05-8192-84B90C7F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F331C-26E3-4E3C-8E7E-AA418957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5F96A-3C0D-427E-93C6-F5FC7F0C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5B53D-563C-4D48-9252-FB6E94F4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CEDF2-91C8-4763-973F-1F26546C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F3E4-8CA9-48BD-AE92-92FF71AA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51CA-2B13-49ED-80FF-AA41FC2EEF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4780-DF14-4D8B-87D9-95B916BA2D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0E41-79B7-449F-9943-575680B972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77EE-EF48-4DE8-8E15-AE3D92E425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756E-6F88-4022-8727-D95EB57992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837C-6AB0-404F-8DF8-28FDDFD4AB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1AF9-6996-4BB3-B529-CDB5DA6DA7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C5EC-725F-48F8-94B7-67AC564FE4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13A7-354D-4EBE-ADE2-C49CB43110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FAA5-99A7-4D42-9219-057F8DF98A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E7D7-5A8A-43A0-BE52-49FB97012C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8C27-9090-4ECA-B0CA-C0F206B394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48FB-BF5B-45C2-B504-2E1B91770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D4CE-DD15-4FD1-9646-CC5F226D47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377A-5121-4D36-8AF9-3046EDD978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DDB8-F1C0-4CB2-85DA-5C89EF8CE3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E061-E18F-44D5-B7A6-E258AB5FF6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FCA9-C5E3-415D-B000-90DAD11039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9CE8-5B46-4817-B458-D8590AEDDB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52EC-6B6E-42AE-ACA9-70B53DF365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7F51-4D86-4395-969E-12D68F95FC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19BA-3809-4C03-A27E-8235148435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3F6A-6E91-4664-B91A-ABCC3F37B3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0D00-DA2B-4E58-B66D-22DB161F91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708D-E87F-4A97-8068-D7B1166863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18840" y="255600"/>
            <a:ext cx="79563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第五章       电流和电路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第五章 电流和电路</a:t>
            </a:r>
            <a:br>
              <a:rPr sz="4400"/>
            </a:b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第一节   电荷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认识摩擦起电现象，正负电荷的规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知道两种电荷相互作用的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知道验电器的原理、中和现象、电荷 量的意义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市场上出售一种能滚动的毛刷，当毛刷在毛料衣服上刷动时，可以将灰尘及微小脏物吸入刷内，这是因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用丝线悬挂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个通草球，其中任意两个靠近时都相互吸引，则（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三个小球只有一个带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三个小球都带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三个小球中肯定有一个不带电，另外两个带异种电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三个小球中肯定有一个不带电，另外两个带同种电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带正电的玻璃棒与已经带了电的验电器金属球接触时，验电器的金属箔片先闭合后张开。下列说法正确的是（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验电器原来带正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验电器原来带负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玻璃棒上的电子向验电器上移动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验电器上的电子向玻璃棒上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一、摩擦起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物体具有吸引轻小物体的性质，我们就说该物体带了电或者带了电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摩擦起电：用摩擦的方法使物体带电叫摩擦起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带了电的物体叫带电体，有吸引轻小物体的性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二、两种电荷及相互作用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自然界中只存在两种电荷，即正电荷和负电荷，规定：用丝绸摩擦过的玻璃棒所带的电荷叫正电荷，用毛皮摩擦过的橡胶棒所带电荷叫负电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电荷间相互作用的规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种电荷互相排斥，异种电荷互相吸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三、验电器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构造：金属球、金属箔、金属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作用：检验物体是否带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原理：同种电荷互相排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且所带电荷量越多金属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张开的角度越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检验方法：让物体接触验电器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金属球若金属箔片张开，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明物体 带了电。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四、小结：检验物体是否带电的方法：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用验电器来检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能否吸引轻小物体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电荷之间相互作用的性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五、电荷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定义：电荷的多少叫电荷量。符号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单位：库仑，符号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六、中和现象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等量的异种电荷放在一起完全抵消的现象叫中和现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中和现象并不是电荷的消失，而是电荷发生了转移，使正、负电荷抵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七、课堂练习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下列物体一定带负电的是（　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与玻璃棒摩擦过的丝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与带正电的物体接触后的验电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失去电子的塑料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与带正电的物体相吸的轻小物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明用一带电体去靠近悬吊在丝线上的泡沫塑料小球，观察到小球先被吸引，与带电体接触后又立即被带电体推开，你知道原因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6:14:37Z</dcterms:created>
  <dc:creator>《初中物理在线》课件库 www.czwlzx.com</dc:creator>
  <dc:description>《初中物理在线》课件库 www.czwlzx.com</dc:description>
  <dc:language>en-US</dc:language>
  <cp:lastModifiedBy>a</cp:lastModifiedBy>
  <dcterms:modified xsi:type="dcterms:W3CDTF">2015-03-17T06:11:10Z</dcterms:modified>
  <cp:revision>16</cp:revision>
  <dc:subject/>
  <dc:title>第五章       电流和电路 第一节   电荷  </dc:title>
</cp:coreProperties>
</file>