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0FF-F380-4EAC-9124-B88509C3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9A9-9350-46D7-91F1-6F5AB5FA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871FB-23F2-4B04-94B5-0643A951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0DA23-DFAC-43C8-826B-85CC2A5A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1AAB1-4FB6-4BB4-B6CF-D1775612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0772D-19D4-4C2B-9FAC-FF45FE3A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72AC1-7855-4D84-9716-54BEBA2E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3D29C-9A0F-4B9C-98DF-42F65BBA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00772-0EE9-4CBA-864B-37DD1EA3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C1287-7773-4029-B663-2F1ACF55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1D1CB-732E-4011-A4E9-0B6B90C4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CB6C4-A6DE-4DBF-A3F8-DC06276B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602-80C3-465A-B227-FC6B7AE7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56EC5-2C6D-4BC8-B52A-F78C7B10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3C27F-8B5D-42A6-A6F3-741BCCA1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D662F-14FD-45D9-840B-0C8287CD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C69D4-2AB1-4D4F-80B2-654F164F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1E794-DCC2-4174-BD30-950FE8D9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61AC5-C644-4660-A59C-6F8FDDA3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F58B7-1D6D-4658-8060-58F302B5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5B75A-684A-481B-ADF7-18D45C4B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1B92F-5E1F-4770-BB05-075AB393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A20E9-D5B9-4D3E-8613-BC17F5FC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E55-0959-4A92-B264-D5314924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783E7-8206-4B12-9DE0-E138FE4C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1CE17-BA18-47ED-A68A-5F46BA0A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51195-05EC-43A2-8780-1ACEDA6E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AA207-5DE8-4B95-9048-9E703FC3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C0597-492C-488A-B0D4-92ABC6E8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F2EAD-7AA7-4F8B-BFF5-D7F7AE72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6C929-66A2-47DE-B037-B9252580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28AD1-53D1-4485-8173-DDFCD85D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9681A-62F1-448A-8A71-B43B0264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3AA55-7924-4722-824E-F6FFA95E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7BD2-0CDD-47AA-B355-591BB07B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494FC-C748-4DC5-9223-1C7B8E84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8AF40-0F75-4C87-A6A2-706EBDE2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4757A-66FE-4A6A-AB8C-1F4D774D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0DDC0-C182-4EAC-8ED9-9E7F604C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B1F9E-0E8A-4769-BBEE-90A0A8E6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90522-8E84-4DEC-B294-C52A4566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4D176-CBA4-4264-84C5-73B1B72E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035ED-5C2B-4FA1-807C-F76D7486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80E6B-060B-4599-A192-2D14FDF8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5106A-864C-4AC4-B921-33D2A0F3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A961-FC4E-46FC-9F8E-8AE96977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B91FB-FA17-46A8-A9F7-68E4778B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C21F5-5437-47C6-A942-3D6E74DE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03943-7D81-4B3E-8302-A95AC800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59933-4DC9-4718-8440-E18679A4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E94D1-F47E-4AFF-8B67-A5FA73C3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678C4-D6A8-4485-8B78-84E5A902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B85EB-38C8-4CD2-8A8D-CCB9F39D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28EE8-5147-4852-992F-A31119D0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B4C23-EE37-4633-AE56-A1FB82C7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AAD44-2F6E-43F4-A438-52B3EA92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4F61-CAA3-4EC6-88D5-6A97E0DB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CCD66-1B34-4629-8927-C7A35EF9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02EAC-EC8F-45C2-AE0C-5C44617B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C5517-3FD4-45F7-8746-185384E5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2C5B5-F813-4F42-9B22-8140C66D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406CE-A9AB-459A-8816-8DC6ECDF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C3729-A15E-495F-B239-8A46066B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F3F66-922F-42E7-AAF4-27DDE36E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32E4B-27B5-44BC-8843-EEDB2D91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7E2C7-5B7A-4783-936A-33AAD659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BD092-2322-4FBE-93C0-977097B0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EC9C-C6DA-4309-BFDA-D0E3DCFC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565B5D-E92E-4A69-8F0D-5A328428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6FBB4-AB27-4D10-9EDB-1DCFF963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F962D-BA8F-40EA-A3FD-334919EA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46BDA6-7501-487F-8ED8-B507DF22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85820-4093-4B65-9C2A-B10EAA7F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33CC3-900B-418F-83D9-836E0D87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65EED-A6FB-416F-A734-C2D91772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F562C-1A77-4880-8360-F1BA21BE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B65BA-CD43-447B-978D-AB914E5A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E206-C631-4EC6-8F60-3866CAA0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2872-6331-4AA5-8815-CAB05FE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C53F-A97B-4712-AC2B-F4E85069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7A8-1988-425F-B75C-59DA5925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903C-A459-4160-ADCA-BE6FC326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4FD8-808D-4385-B9CD-600114BD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9315-0F08-4D4A-BA20-271ED79C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AAE1-C8D8-40CB-BD23-E8BFE219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A370-12FC-4628-B245-D36C8DAA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5E13-AD7B-4CAA-AC1B-DEE233D2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E120-25F0-4B0B-B5A0-60C490B0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D6D3E-9C46-4F88-A0BE-66EDADDA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3E78-F81E-4713-8DCB-6B55667B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2E8AA-0E1B-4C0A-9979-03933FD0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DE4-1E6C-46D9-B4A7-111BEC6D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C2D8-7B50-4749-9409-01649373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53BD-011B-40E9-8C1C-403C0B62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D314-CC6D-489D-B1ED-084A7156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0B68F-820D-456C-B525-EAE53B67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142DD-5C7A-416A-B66A-B93DBA8A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2AEBA-452F-4773-B670-1EFE6E2E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267A2-7D38-4170-A5B0-6C397301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73AE0-2D73-4CE7-B195-245B80E1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40A91-817C-4480-B61F-63AF3CC4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C214-227E-45ED-BF0C-0B2720BD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5C2-F1FD-46F1-9AC8-CA72AEA4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CCB63-E603-4160-80F0-D227B0BB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DA072-AAC8-497A-879D-3E360053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6FBFA-8780-4CF7-AB07-3AFDAA77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50FC4-928B-4273-8C58-A4EE0D62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B9A14-091B-47A9-8817-C25F5C47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8ADD2-B9D1-4CCB-9508-36AEC88D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D8E8B-BBC0-4FEA-BA85-758C9AC4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242B3-2164-4373-9DF7-FFCF669F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9BAA-A000-4E38-B020-EC8ADE45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4A21B-D214-4982-8122-6199BEA0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49D-EC9D-4279-9404-74BECEE4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53D42-D4FB-462E-846A-95F0439F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10D7C-6224-4F28-850E-B7F4025E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E550-E3B2-4391-8931-05C78C51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E1953-ED25-44A5-8253-18C36AC5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56C0D-D002-408D-B11D-2D9BA118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72819-74F9-4918-876A-F7AA0E26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0C6ED-A04C-4C07-A97A-EEF3862C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69CD1-2E50-4B1E-822B-02753446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7167-A643-429B-8BEE-2B203E93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841B1-D2E2-4AD4-AEC5-4E7EE9CA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D7A-BC7D-472D-BEC8-19A9591C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C7CA-D571-4928-B13F-517A8B82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2E53A-9E5F-4F3F-9A16-1A2A52B7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2A5C7-9CBD-4F24-A09D-8DAECD67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253CA-6DE2-405D-8E39-FA81E436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A0E8B-EC5A-48E0-BCC3-84317FCB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58499-41F4-4037-849B-171843B7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2A49D-63F2-417C-874D-A12E9EE2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9882B-DEF2-4C47-B280-A56E530F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4D717-7AF2-4A1A-B4F4-91574BB3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9F381-3C73-41E2-B372-DF64CBF2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139-40FF-4D5F-9A9C-9F8EB73E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044ED-9041-48C4-9200-EE7331A2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B1FFE-14A2-4EFE-B9A2-942E590A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3FA2C-5505-4678-BA82-717E5908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5BD83-2E78-4AFC-8498-07B0BE31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5DCB7-287D-4BCA-9024-FBC13572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0B185-2B33-4CF1-ACB9-483400FB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890F4-3DCC-4ECD-8798-33D24E64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61D6C-7D8F-4BEB-B6E9-393160B2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31713-4422-495B-9F80-28233038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9CAEE-B286-4FED-8615-8AACB2AB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BCF-7C3B-42CC-9552-CDBF7F08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651B6-2310-491E-8017-157EEEF8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EA659-CCA0-4FAE-982D-BBC5642E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F0DAB-80AB-4288-9737-2554C440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46BB6-2AB4-4BAF-BA4B-536D626C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41671-97C9-42E3-9102-A3A7C59B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0717D-5D4A-4AED-B225-935C371D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F38AD-37B1-4C24-9853-CEF1A782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4A5E4-8282-4E5B-A8A5-1A41E057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00872-10E9-4A8F-923F-D6C379EA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37BD6-1081-47F8-AA57-2CC8886E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472-4F9F-42C0-885E-49B1B81D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9A304-C686-4774-ADF1-4F74473E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C2278-1B8F-4D74-B740-E3F08FA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5EBA7-D89E-4B44-B3E4-11405E43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5A44B-A6A9-43FE-A4CE-683AA99B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1503E-8769-41E0-AF47-4B9A2832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0293C-59A9-41A7-A0A8-DF24C3DD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3C186-377D-43E5-B9D5-957C0314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C095B-EF4D-41B5-90B5-2EA93AFA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E463B-7B18-4633-865A-D4BC666A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3CA7C-2B8A-476D-B209-14F1CFC8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68DF-D752-4343-8C27-0C3CE9BF4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F5B2-71C7-4278-9055-ED95FE5ACC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416C-F189-42B5-985B-62F4E34FC4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2BD-FB28-483F-B2B7-E08E19532C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F71D-7CF7-49EF-B3E6-8DBFB46A03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84A5-6B4B-4628-8531-F9DA43F186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0E03-8B7A-4D08-B081-93B6E60A7B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D700-92B6-41A4-BD28-80FFB72283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B9F0-C04B-4069-8AE8-56BC7C2265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46D6-1870-4373-A86B-53011B62EC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40BC-D8B3-4198-B647-3F49293401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3669-EEC7-44CD-B89A-0D955C5054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E276-9E09-4297-B0A6-B0A289F288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98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00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01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04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7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D014-A0D4-4411-AF04-9D89BE125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4C2F-E197-4E55-9393-7ABA970EF7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9E9E-3508-4E6D-9846-E0E3BB1398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D09F-C436-4419-9AC1-8100A4C740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984B-8479-4A89-97D4-D207E83C8A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7C24-108A-4F3D-BEAF-CFD00A2A09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DC92-5B77-4F57-AE00-0322E8D060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EA73-E39C-4D69-B89F-18DE4EACD8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DBFE-8034-4A1E-9156-E2BEA0C258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6E2A-315B-4154-BF95-7263CE807A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D3EA-4F7A-4D0D-92C0-225E51C790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EF55-1FA1-415E-BB56-B9759E6DB4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52B-CD84-498F-BE74-BBE4F2B0B6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5"/>
          <p:cNvSpPr/>
          <p:nvPr/>
        </p:nvSpPr>
        <p:spPr>
          <a:xfrm>
            <a:off x="3505320" y="44197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</a:rPr>
              <a:t>杨振宁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2" name="WordArt 6"/>
          <p:cNvSpPr txBox="1"/>
          <p:nvPr/>
        </p:nvSpPr>
        <p:spPr>
          <a:xfrm>
            <a:off x="1219320" y="685800"/>
            <a:ext cx="4724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楷体"/>
              </a:rPr>
              <a:t>邓稼先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楷体"/>
              <a:ea typeface="华文楷体"/>
            </a:endParaRPr>
          </a:p>
        </p:txBody>
      </p:sp>
      <p:pic>
        <p:nvPicPr>
          <p:cNvPr id="603" name="Picture 10" descr="djx3"/>
          <p:cNvPicPr/>
          <p:nvPr/>
        </p:nvPicPr>
        <p:blipFill>
          <a:blip r:embed="rId1"/>
          <a:stretch/>
        </p:blipFill>
        <p:spPr>
          <a:xfrm>
            <a:off x="6553080" y="533520"/>
            <a:ext cx="2239920" cy="3733560"/>
          </a:xfrm>
          <a:prstGeom prst="rect">
            <a:avLst/>
          </a:prstGeom>
          <a:ln w="203040">
            <a:solidFill>
              <a:srgbClr val="f8f8f8"/>
            </a:solidFill>
            <a:miter/>
          </a:ln>
        </p:spPr>
      </p:pic>
      <p:pic>
        <p:nvPicPr>
          <p:cNvPr id="604" name="Picture 11" descr="杨振宁"/>
          <p:cNvPicPr/>
          <p:nvPr/>
        </p:nvPicPr>
        <p:blipFill>
          <a:blip r:embed="rId2"/>
          <a:stretch/>
        </p:blipFill>
        <p:spPr>
          <a:xfrm>
            <a:off x="380880" y="2971800"/>
            <a:ext cx="2378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6"/>
          <p:cNvSpPr/>
          <p:nvPr/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00"/>
                </a:solidFill>
                <a:latin typeface="黑体"/>
                <a:ea typeface="黑体"/>
              </a:rPr>
              <a:t>这是</a:t>
            </a:r>
            <a:r>
              <a:rPr b="1" lang="en-US" sz="3000" spc="-1" strike="noStrike">
                <a:solidFill>
                  <a:srgbClr val="00ff00"/>
                </a:solidFill>
                <a:latin typeface="黑体"/>
                <a:ea typeface="黑体"/>
              </a:rPr>
              <a:t>1898</a:t>
            </a:r>
            <a:r>
              <a:rPr b="1" lang="zh-CN" sz="3000" spc="-1" strike="noStrike">
                <a:solidFill>
                  <a:srgbClr val="00ff00"/>
                </a:solidFill>
                <a:latin typeface="黑体"/>
                <a:ea typeface="黑体"/>
              </a:rPr>
              <a:t>年中日甲午战争中几幅照片，那是任人宰割的时代，是有亡国灭种的危险的时代。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5" name="Picture 7" descr="01"/>
          <p:cNvPicPr/>
          <p:nvPr/>
        </p:nvPicPr>
        <p:blipFill>
          <a:blip r:embed="rId1"/>
          <a:stretch/>
        </p:blipFill>
        <p:spPr>
          <a:xfrm>
            <a:off x="380880" y="1447920"/>
            <a:ext cx="4267440" cy="25048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8" descr="YZ8"/>
          <p:cNvPicPr/>
          <p:nvPr/>
        </p:nvPicPr>
        <p:blipFill>
          <a:blip r:embed="rId2"/>
          <a:stretch/>
        </p:blipFill>
        <p:spPr>
          <a:xfrm>
            <a:off x="4724280" y="1447920"/>
            <a:ext cx="4038840" cy="2286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9" descr="11"/>
          <p:cNvPicPr/>
          <p:nvPr/>
        </p:nvPicPr>
        <p:blipFill>
          <a:blip r:embed="rId3"/>
          <a:stretch/>
        </p:blipFill>
        <p:spPr>
          <a:xfrm>
            <a:off x="457200" y="388620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0" descr="81"/>
          <p:cNvPicPr/>
          <p:nvPr/>
        </p:nvPicPr>
        <p:blipFill>
          <a:blip r:embed="rId4"/>
          <a:stretch/>
        </p:blipFill>
        <p:spPr>
          <a:xfrm>
            <a:off x="4724280" y="3863880"/>
            <a:ext cx="4038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3" descr="0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601992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4"/>
          <p:cNvSpPr/>
          <p:nvPr/>
        </p:nvSpPr>
        <p:spPr>
          <a:xfrm>
            <a:off x="457200" y="5335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八国联军攻陷的北京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7" descr="YZ8"/>
          <p:cNvPicPr/>
          <p:nvPr/>
        </p:nvPicPr>
        <p:blipFill>
          <a:blip r:embed="rId1"/>
          <a:stretch/>
        </p:blipFill>
        <p:spPr>
          <a:xfrm>
            <a:off x="457200" y="533520"/>
            <a:ext cx="8381880" cy="579096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8"/>
          <p:cNvSpPr/>
          <p:nvPr/>
        </p:nvSpPr>
        <p:spPr>
          <a:xfrm>
            <a:off x="3886200" y="6094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甲午战争黄海大战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3" descr="11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4"/>
          <p:cNvSpPr/>
          <p:nvPr/>
        </p:nvSpPr>
        <p:spPr>
          <a:xfrm>
            <a:off x="609480" y="5335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幼圆"/>
              </a:rPr>
              <a:t>日军屠杀大连、旅顺居民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3" descr="8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436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4"/>
          <p:cNvSpPr/>
          <p:nvPr/>
        </p:nvSpPr>
        <p:spPr>
          <a:xfrm>
            <a:off x="762120" y="0"/>
            <a:ext cx="807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533520" y="60948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被带上枷锁的中国人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533520" y="24382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先概述我国近一百多年的历史，是为了说明邓稼先是对中华民族从“任人宰割”到“站起来了”这一巨大转变做出贡献的科学家，是对历史的发展产生巨大影响的历史人物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175248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幼圆"/>
                <a:ea typeface="幼圆"/>
              </a:rPr>
              <a:t>在写邓稼先之前</a:t>
            </a:r>
            <a:r>
              <a:rPr b="1" lang="en-US" sz="4400" spc="-1" strike="noStrike">
                <a:solidFill>
                  <a:srgbClr val="00ff00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00ff00"/>
                </a:solidFill>
                <a:latin typeface="幼圆"/>
                <a:ea typeface="幼圆"/>
              </a:rPr>
              <a:t>为什么先概述我国近一百多年以来的历史</a:t>
            </a:r>
            <a:r>
              <a:rPr b="1" lang="en-US" sz="4400" spc="-1" strike="noStrike">
                <a:solidFill>
                  <a:srgbClr val="00ff00"/>
                </a:solidFill>
                <a:latin typeface="幼圆"/>
                <a:ea typeface="幼圆"/>
              </a:rPr>
              <a:t>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40" name="Picture 4" descr="often_055"/>
          <p:cNvPicPr/>
          <p:nvPr/>
        </p:nvPicPr>
        <p:blipFill>
          <a:blip r:embed="rId1"/>
          <a:stretch/>
        </p:blipFill>
        <p:spPr>
          <a:xfrm>
            <a:off x="457200" y="457200"/>
            <a:ext cx="1290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982_第一颗原子弹"/>
          <p:cNvPicPr/>
          <p:nvPr/>
        </p:nvPicPr>
        <p:blipFill>
          <a:blip r:embed="rId1"/>
          <a:srcRect l="0" t="0" r="199" b="0"/>
          <a:stretch/>
        </p:blipFill>
        <p:spPr>
          <a:xfrm>
            <a:off x="533520" y="289080"/>
            <a:ext cx="4495680" cy="65689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3"/>
          <p:cNvSpPr/>
          <p:nvPr/>
        </p:nvSpPr>
        <p:spPr>
          <a:xfrm>
            <a:off x="5867280" y="457200"/>
            <a:ext cx="281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1964</a:t>
            </a:r>
            <a:r>
              <a:rPr b="0" lang="zh-CN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年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10</a:t>
            </a:r>
            <a:r>
              <a:rPr b="0" lang="zh-CN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月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16</a:t>
            </a:r>
            <a:r>
              <a:rPr b="0" lang="zh-CN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日中国爆炸了第一颗原子弹。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3"/>
          <p:cNvSpPr/>
          <p:nvPr/>
        </p:nvSpPr>
        <p:spPr>
          <a:xfrm>
            <a:off x="5867280" y="11430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964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年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0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月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6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日中国爆炸了第一颗原子弹。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44" name="Picture 4" descr="k129061210981825292"/>
          <p:cNvPicPr/>
          <p:nvPr/>
        </p:nvPicPr>
        <p:blipFill>
          <a:blip r:embed="rId1"/>
          <a:stretch/>
        </p:blipFill>
        <p:spPr>
          <a:xfrm>
            <a:off x="609480" y="380880"/>
            <a:ext cx="4953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5867280" y="685800"/>
            <a:ext cx="281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1967</a:t>
            </a:r>
            <a:r>
              <a:rPr b="0" lang="zh-CN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年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6</a:t>
            </a:r>
            <a:r>
              <a:rPr b="0" lang="zh-CN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月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17</a:t>
            </a:r>
            <a:r>
              <a:rPr b="0" lang="zh-CN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日中国爆炸了第一颗氢弹。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46" name="Picture 3" descr="yz1"/>
          <p:cNvPicPr/>
          <p:nvPr/>
        </p:nvPicPr>
        <p:blipFill>
          <a:blip r:embed="rId1"/>
          <a:stretch/>
        </p:blipFill>
        <p:spPr>
          <a:xfrm>
            <a:off x="457200" y="457200"/>
            <a:ext cx="516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228600" y="3808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8f8f8"/>
                </a:solidFill>
                <a:latin typeface="Times New Roman"/>
                <a:ea typeface="黑体"/>
              </a:rPr>
              <a:t>为什么要拿美国科学家奥本海默与邓稼先作比较？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48" name="Picture 3" descr="yz4"/>
          <p:cNvPicPr/>
          <p:nvPr/>
        </p:nvPicPr>
        <p:blipFill>
          <a:blip r:embed="rId1"/>
          <a:stretch/>
        </p:blipFill>
        <p:spPr>
          <a:xfrm>
            <a:off x="762120" y="2209680"/>
            <a:ext cx="3128760" cy="43434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ABHM"/>
          <p:cNvPicPr/>
          <p:nvPr/>
        </p:nvPicPr>
        <p:blipFill>
          <a:blip r:embed="rId2"/>
          <a:stretch/>
        </p:blipFill>
        <p:spPr>
          <a:xfrm>
            <a:off x="5029200" y="2209680"/>
            <a:ext cx="2814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733560" y="4572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ahoma"/>
                <a:ea typeface="隶书"/>
              </a:rPr>
              <a:t>人物介绍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380880" y="167652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    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邓稼先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1924—1986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），安徽省怀宁县人，中国研制和发展核武器的重要技术领导人，为我国成功研制原子弹、氢弹和新型核武器做出了重大贡献。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1999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年党中央、国务院、中央军委给他追授了“两弹一星功勋奖章”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07" name="Picture 4" descr="邓稼先"/>
          <p:cNvPicPr/>
          <p:nvPr/>
        </p:nvPicPr>
        <p:blipFill>
          <a:blip r:embed="rId1"/>
          <a:stretch/>
        </p:blipFill>
        <p:spPr>
          <a:xfrm>
            <a:off x="533520" y="228600"/>
            <a:ext cx="2133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685800" y="2286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邓稼先与奥本海默进行了比较：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385920" y="1066680"/>
            <a:ext cx="3433320" cy="2098800"/>
            <a:chOff x="385920" y="1066680"/>
            <a:chExt cx="3433320" cy="2098800"/>
          </a:xfrm>
        </p:grpSpPr>
        <p:sp>
          <p:nvSpPr>
            <p:cNvPr id="652" name="Text Box 4"/>
            <p:cNvSpPr/>
            <p:nvPr/>
          </p:nvSpPr>
          <p:spPr>
            <a:xfrm>
              <a:off x="385920" y="1066680"/>
              <a:ext cx="1218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职务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3" name="Text Box 5"/>
            <p:cNvSpPr/>
            <p:nvPr/>
          </p:nvSpPr>
          <p:spPr>
            <a:xfrm>
              <a:off x="385920" y="1752480"/>
              <a:ext cx="1218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功劳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4" name="Rectangle 6"/>
            <p:cNvSpPr/>
            <p:nvPr/>
          </p:nvSpPr>
          <p:spPr>
            <a:xfrm>
              <a:off x="715680" y="24620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学术水平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5" name="AutoShape 7"/>
            <p:cNvSpPr/>
            <p:nvPr/>
          </p:nvSpPr>
          <p:spPr>
            <a:xfrm>
              <a:off x="2416680" y="1219320"/>
              <a:ext cx="405720" cy="1904760"/>
            </a:xfrm>
            <a:custGeom>
              <a:avLst/>
              <a:gdLst>
                <a:gd name="textAreaLeft" fmla="*/ 0 w 405720"/>
                <a:gd name="textAreaRight" fmla="*/ 146520 w 40572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6" name="Rectangle 8"/>
            <p:cNvSpPr/>
            <p:nvPr/>
          </p:nvSpPr>
          <p:spPr>
            <a:xfrm>
              <a:off x="3029040" y="19288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相当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7" name="Group 9"/>
          <p:cNvGrpSpPr/>
          <p:nvPr/>
        </p:nvGrpSpPr>
        <p:grpSpPr>
          <a:xfrm>
            <a:off x="5083200" y="938160"/>
            <a:ext cx="3076200" cy="2490840"/>
            <a:chOff x="5083200" y="938160"/>
            <a:chExt cx="3076200" cy="2490840"/>
          </a:xfrm>
        </p:grpSpPr>
        <p:sp>
          <p:nvSpPr>
            <p:cNvPr id="658" name="Rectangle 10"/>
            <p:cNvSpPr/>
            <p:nvPr/>
          </p:nvSpPr>
          <p:spPr>
            <a:xfrm>
              <a:off x="5083200" y="9381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国籍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9" name="Rectangle 11"/>
            <p:cNvSpPr/>
            <p:nvPr/>
          </p:nvSpPr>
          <p:spPr>
            <a:xfrm>
              <a:off x="5288040" y="185256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文化背景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0" name="Rectangle 12"/>
            <p:cNvSpPr/>
            <p:nvPr/>
          </p:nvSpPr>
          <p:spPr>
            <a:xfrm>
              <a:off x="5083200" y="2690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性格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1" name="AutoShape 13"/>
            <p:cNvSpPr/>
            <p:nvPr/>
          </p:nvSpPr>
          <p:spPr>
            <a:xfrm>
              <a:off x="6705720" y="1066680"/>
              <a:ext cx="457200" cy="23623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2" name="Rectangle 14"/>
            <p:cNvSpPr/>
            <p:nvPr/>
          </p:nvSpPr>
          <p:spPr>
            <a:xfrm>
              <a:off x="7369200" y="19288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不同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3" name="Group 15"/>
          <p:cNvGrpSpPr/>
          <p:nvPr/>
        </p:nvGrpSpPr>
        <p:grpSpPr>
          <a:xfrm>
            <a:off x="411120" y="3681360"/>
            <a:ext cx="3990960" cy="2719440"/>
            <a:chOff x="411120" y="3681360"/>
            <a:chExt cx="3990960" cy="2719440"/>
          </a:xfrm>
        </p:grpSpPr>
        <p:sp>
          <p:nvSpPr>
            <p:cNvPr id="664" name="Rectangle 16"/>
            <p:cNvSpPr/>
            <p:nvPr/>
          </p:nvSpPr>
          <p:spPr>
            <a:xfrm>
              <a:off x="411120" y="46720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奥本海默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5" name="AutoShape 17"/>
            <p:cNvSpPr/>
            <p:nvPr/>
          </p:nvSpPr>
          <p:spPr>
            <a:xfrm>
              <a:off x="2057400" y="3733920"/>
              <a:ext cx="457200" cy="2666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6880"/>
                <a:gd name="textAreaBottom" fmla="*/ 25974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002040" y="368136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锋芒毕露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7" name="Rectangle 19"/>
            <p:cNvSpPr/>
            <p:nvPr/>
          </p:nvSpPr>
          <p:spPr>
            <a:xfrm>
              <a:off x="3002040" y="46720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善于辞令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8" name="Rectangle 20"/>
            <p:cNvSpPr/>
            <p:nvPr/>
          </p:nvSpPr>
          <p:spPr>
            <a:xfrm>
              <a:off x="3002040" y="56624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复杂的人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9" name="Group 21"/>
          <p:cNvGrpSpPr/>
          <p:nvPr/>
        </p:nvGrpSpPr>
        <p:grpSpPr>
          <a:xfrm>
            <a:off x="4880880" y="3429000"/>
            <a:ext cx="3837960" cy="2964600"/>
            <a:chOff x="4880880" y="3429000"/>
            <a:chExt cx="3837960" cy="2964600"/>
          </a:xfrm>
        </p:grpSpPr>
        <p:sp>
          <p:nvSpPr>
            <p:cNvPr id="670" name="Rectangle 22"/>
            <p:cNvSpPr/>
            <p:nvPr/>
          </p:nvSpPr>
          <p:spPr>
            <a:xfrm>
              <a:off x="4880880" y="444420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邓稼先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1" name="AutoShape 23"/>
            <p:cNvSpPr/>
            <p:nvPr/>
          </p:nvSpPr>
          <p:spPr>
            <a:xfrm>
              <a:off x="6167160" y="3429000"/>
              <a:ext cx="478440" cy="2886480"/>
            </a:xfrm>
            <a:custGeom>
              <a:avLst/>
              <a:gdLst>
                <a:gd name="textAreaLeft" fmla="*/ 305640 w 478440"/>
                <a:gd name="textAreaRight" fmla="*/ 478800 w 478440"/>
                <a:gd name="textAreaTop" fmla="*/ 75240 h 2886480"/>
                <a:gd name="textAreaBottom" fmla="*/ 2811240 h 288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2" name="Rectangle 24"/>
            <p:cNvSpPr/>
            <p:nvPr/>
          </p:nvSpPr>
          <p:spPr>
            <a:xfrm>
              <a:off x="6725160" y="3511080"/>
              <a:ext cx="1993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最不引人注意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3" name="Rectangle 25"/>
            <p:cNvSpPr/>
            <p:nvPr/>
          </p:nvSpPr>
          <p:spPr>
            <a:xfrm>
              <a:off x="7137720" y="48600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忠厚平实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4" name="Rectangle 26"/>
            <p:cNvSpPr/>
            <p:nvPr/>
          </p:nvSpPr>
          <p:spPr>
            <a:xfrm>
              <a:off x="6877080" y="5690160"/>
              <a:ext cx="121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纯”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75" name="Rectangle 27"/>
          <p:cNvSpPr/>
          <p:nvPr/>
        </p:nvSpPr>
        <p:spPr>
          <a:xfrm>
            <a:off x="4800600" y="5181480"/>
            <a:ext cx="1371600" cy="1434600"/>
          </a:xfrm>
          <a:prstGeom prst="rect">
            <a:avLst/>
          </a:prstGeom>
          <a:solidFill>
            <a:srgbClr val="6699ff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奉献精神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034640"/>
            <a:ext cx="7772400" cy="31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对比中得出怎样的结论</a:t>
            </a:r>
            <a:r>
              <a:rPr b="0" lang="zh-CN" sz="5400" spc="-1" strike="noStrike">
                <a:solidFill>
                  <a:srgbClr val="ffff00"/>
                </a:solidFill>
                <a:latin typeface="Tahoma"/>
              </a:rPr>
              <a:t>？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说说你对它的理解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邓稼先是中国几千年传统文化所孕育出来的有最高奉献精神的儿子。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是指</a:t>
            </a:r>
            <a:r>
              <a:rPr b="0" lang="zh-CN" sz="3600" spc="-1" strike="noStrike">
                <a:solidFill>
                  <a:srgbClr val="00ffff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邓稼先与锋芒毕露的奥本海默截然不同，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是一个最不要引人注目的人物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，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忠厚平实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，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真诚坦白，从不骄人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，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没有小心眼，一生喜欢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‘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纯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’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字所代表的品格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，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最有中国农民的质朴气质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。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ahoma"/>
                <a:ea typeface="幼圆"/>
              </a:rPr>
              <a:t>中国几千年的传统文化讲究人与人之间关系和谐，和睦相处，讲究为人忠厚、谦虚、真诚、朴实。邓稼先汲取了中国传统文化中的优秀部分，并变成了自己的气质品格。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6" descr="sunset_043"/>
          <p:cNvPicPr/>
          <p:nvPr/>
        </p:nvPicPr>
        <p:blipFill>
          <a:blip r:embed="rId1"/>
          <a:stretch/>
        </p:blipFill>
        <p:spPr>
          <a:xfrm>
            <a:off x="304920" y="45720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62520" y="685440"/>
            <a:ext cx="44956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ffff99"/>
                </a:solidFill>
                <a:latin typeface="Tahoma"/>
                <a:ea typeface="幼圆"/>
              </a:rPr>
              <a:t>邓稼先是中国共产党的理想党员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ffff99"/>
                </a:solidFill>
                <a:latin typeface="Tahoma"/>
                <a:ea typeface="幼圆"/>
              </a:rPr>
              <a:t>，是指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他没有私心，人们绝对相信他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，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文革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中能说服两派群众组织，能说服工宣队、军宣队。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中国共产党的宗旨是全心全意为人民服务，邓稼先就是把这些奉为自己的行动准则，因此他是理想的党员。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9343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如果稼先再次选择他的人生的话，他仍会走他已走过的道路。这是他的性格与品质。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试说说你对这两句话的理解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305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为中华民族的崛起，为广大人民的利益，奉献自己的一生，这是邓稼先的人生。走这样的人生道路，是邓稼先的性格与品质决定的。所以作者说，如果邓稼先再次选择人还会这么走。这两句话总写出了邓稼先的伟大之处。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684" name="Picture 4" descr="often_055"/>
          <p:cNvPicPr/>
          <p:nvPr/>
        </p:nvPicPr>
        <p:blipFill>
          <a:blip r:embed="rId1"/>
          <a:stretch/>
        </p:blipFill>
        <p:spPr>
          <a:xfrm>
            <a:off x="380880" y="380880"/>
            <a:ext cx="1216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495360" y="152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黑体"/>
              </a:rPr>
              <a:t>为什么作者能写出这样一篇朴实无华而感人至深的文章？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152280" y="990720"/>
            <a:ext cx="8991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首先，作为一位杰出的物理学家，杨振宁深知邓稼先在科学界的位置、价值以及他为中华民族核武器事业所建立的卓著功勋，从而给予客观公正而具有权威的评价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其次，作为与邓有半个世纪深交的朋友，杨对邓的经历、品质、性格及文化素养有充分的了解，于是从邓稼先一生的事迹里选出几件典型材料来反映他的个性特征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更重要的是作为一个有共同血缘的同胞，杨对邓身上体现出来的同祖国共命运、休戚与共的民族情结，执着追求，自强不息的精神以及在民族优秀文化孕育下形成的质朴内秀，甘于奉献的品格，有着深刻的认同，于是在提示人物超群拔类的特质时，也鲜明地表明了自己的价值取向。这就是中华民族魂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6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343080" y="152280"/>
            <a:ext cx="8458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邓稼先和杨振宁有着长达半个世纪的深厚友谊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本文是一篇</a:t>
            </a:r>
            <a:r>
              <a:rPr b="1" i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回忆性散文</a:t>
            </a:r>
            <a:r>
              <a:rPr b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，又是一篇典范的</a:t>
            </a:r>
            <a:r>
              <a:rPr b="1" i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物传记</a:t>
            </a:r>
            <a:r>
              <a:rPr b="1" lang="zh-CN" sz="4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。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</a:t>
            </a:r>
            <a:r>
              <a:rPr b="1" i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人物传记</a:t>
            </a:r>
            <a:r>
              <a:rPr b="1" i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记录人物生平的文字，它往往通过一些特殊事件来刻画人物的特殊贡献、精神品质和高尚情操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3" descr="杨振宁和邓稼先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46483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杨振宁和邓稼先在芝加哥大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7" descr="RIVER_15"/>
          <p:cNvPicPr/>
          <p:nvPr/>
        </p:nvPicPr>
        <p:blipFill>
          <a:blip r:embed="rId1"/>
          <a:stretch/>
        </p:blipFill>
        <p:spPr>
          <a:xfrm>
            <a:off x="380880" y="457200"/>
            <a:ext cx="2133720" cy="205272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2"/>
          <p:cNvSpPr/>
          <p:nvPr/>
        </p:nvSpPr>
        <p:spPr>
          <a:xfrm>
            <a:off x="457200" y="38088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整体感知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: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1116000" y="37162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简单叙述六个部分的内容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124080" y="3045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隶书"/>
              </a:rPr>
              <a:t>内容赏析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419040" y="547560"/>
            <a:ext cx="872496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第一部分：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展示历史背景。通过列举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1898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年西方列强对中国的瓜分情况，让读者管窥百年中国的屈辱历史。然而一个世纪后，中国人站起来了，就在这新中国刚刚诞生的早晨，新中国带着从黑夜走出的人们，披着朝阳的霞光，迎来了从海外归来的一位对祖国母亲有拳拳之心的儿子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邓稼先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124080" y="3808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隶书"/>
              </a:rPr>
              <a:t>内容赏析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552600" y="533520"/>
            <a:ext cx="803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二部分：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简述邓稼先的生平。写了他不平凡的人生经历，特别是对中国核武器设计研究所做出的巨大贡献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438120" y="2362320"/>
            <a:ext cx="8553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      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第三部分：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写了邓稼先与奥本海默的比较，以凸现邓稼先的人品。奥本海默是一位出类拔萃、锋芒毕露、在美国家喻户晓的原子弹工程领导人。邓稼先是一位能力超群、忠厚朴实、最不要引人注目的人物。因此，作者说，邓稼先是最有中国农民的朴实气质的人，是中国几千年传统文化所孕育出来的最有奉献精神的儿子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124080" y="45720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隶书"/>
              </a:rPr>
              <a:t>内容赏析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027"/>
          <p:cNvSpPr/>
          <p:nvPr/>
        </p:nvSpPr>
        <p:spPr>
          <a:xfrm>
            <a:off x="914400" y="1600200"/>
            <a:ext cx="7924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第四部分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通过写邓稼先的诚恳周到及领导中国原子弹工程所创造出来的成就，激起了作者复杂的情感，作者为民族而自豪，为稼先而骄傲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09960" y="0"/>
            <a:ext cx="3124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ahoma"/>
                <a:ea typeface="隶书"/>
              </a:rPr>
              <a:t>内容赏析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457200" y="46483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第六部分：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是一首唱给邓稼先的赞歌和挽歌，同时也是一首唱给祖国的颂歌和恋歌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80880" y="536400"/>
            <a:ext cx="838224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五部分：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高度赞扬了邓稼先对自己所从事的工作的坚定、执著与勇敢。通过回顾学生时代课本中的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吊古战场文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，描绘了沙漠戈壁的荒凉与凄惋，同时也指出了从事这项伟大工作需具备超凡的直觉判断、严谨的逻辑思维、果敢的胆识、坚定的信心，以及在工作过程中遇到的困难又令常人难以想像，且常常伴有生命危险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02:55:25Z</dcterms:created>
  <dc:creator>孙伯君</dc:creator>
  <dc:description/>
  <dc:language>en-US</dc:language>
  <cp:lastModifiedBy>a</cp:lastModifiedBy>
  <dcterms:modified xsi:type="dcterms:W3CDTF">2015-03-16T08:42:39Z</dcterms:modified>
  <cp:revision>79</cp:revision>
  <dc:subject/>
  <dc:title>PowerPoint 演示文稿</dc:title>
</cp:coreProperties>
</file>