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53B-016E-40D7-81F6-0F02C3B8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9167-8D27-4BC4-BFB3-905B9D84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88754-39FB-46B3-A81A-AEC34BB4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7FA04-6114-47A0-9CAA-BA9580F1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4CFCA-BB64-40AF-923A-82D65BE9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C83EB-B471-48F4-9F70-8038C222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C15BE-2BE4-42D6-A448-9972443A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C292D-B249-4C74-822B-415365FE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29463-4A5C-4184-8BA2-F198EA37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1FFB4-2B15-42A1-BF90-921181DE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8F735-DBAF-48F2-82CE-34716682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94EA8-585F-4926-9630-56F544A3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4C4B-A237-41B1-9921-94715316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1E318-9CB2-41FD-99DB-4A14524A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F089D-4B14-4095-9A95-B607F3AF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D53C4-BC91-426A-9FEF-20515C36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60AC4-2F0E-49C2-9635-A78A6A4F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37590-E60F-4938-83AD-37CCC97F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0ECED-099B-4EE7-AE1F-0B789242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D2508-FA2F-4EC2-8237-D4450FED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44F44-9889-4A45-89C8-F07CB777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DC9E9-2E80-43B1-A747-D038E839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1A0D1-58F1-4847-AE2E-D7443245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2E25-E00B-4DBA-A9AC-F975681B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9E114-0BC0-4DF7-AE1D-3013C3B4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8C3CC-818B-4941-853B-0B4E8588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B56AF-C7CC-4053-9A86-3F4FB83F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09E17-F056-40CE-9886-698FD549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D455B-762C-4933-8CC5-F184A054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AD31B-3473-4E7F-AAD6-59F190F9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1D168-9CC9-4A4B-8ECF-0610B263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1CFE9-C373-42C6-AD8E-F1A82F72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3B799-1DC1-47EC-AE63-781B3070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D473C-193C-4B71-9FEF-D4EBEE09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B8A7-31B2-4A3D-B04A-AA4837BF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D51A0-10D8-4EBB-B277-0688CEEA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6BFAF-B760-4A03-AA74-9B79B2D2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19078-6AFA-4C0A-962B-9C32B539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3E051-40F7-4968-B0C3-DFE34A0D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22D28-772C-4135-83C5-A9A18055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62F03-D82C-488F-A36C-9D2ED297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A4D1F-C9E5-4F6C-8CB3-BB23123F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9D2A7-9E70-4860-92FD-4996F039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E5B21-6E64-4B40-B3A5-2CDB054B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BCF13-0242-42E2-9870-72EC6F43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5416-7030-410F-8FB1-3D9045AA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A0D26-43F2-4DEB-9C6D-D1708931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92114-2527-49BF-8A77-3663FB3E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FB3C3-21EF-4482-ABED-3B06D33C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DF577-34D2-4C17-8E0E-00FC7001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0A416-74EE-49F8-BAFE-9896DD92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ADA3A-6BD6-496B-AD04-3FD783B0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B19FAB-FA1E-46B9-80EB-EDB1CB20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3305A7-4B2E-487C-B25F-3E36D5B0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92709-5795-4B0E-8A24-F404CFFF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8BE201-B5F2-4BD0-A7DF-F81BD055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26E2-C33D-47CC-AE63-75DB34D5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21768-E03E-4262-9F55-E34BE4D8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2D063-A883-47C8-924A-E2E02BD7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251B20-C2B6-4D26-8420-153C524A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41FD9-0855-4BFC-A9CC-7A6EBE64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D2C122-6B0D-4A54-9D20-CD80490B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C0B121-BB00-41A4-8575-BFC47023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B764EC-9B88-4A3F-8C2E-124AFE20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D219-C613-4D2C-9067-5D964783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783F-E921-47D5-95F6-72BA71CC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D32B-1E0E-435F-94E3-632674BF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FD31-7DB8-4ED8-987F-254BC42F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98F5-D417-4515-86B2-E05CDD8B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C3D4-3430-4854-B5B8-D6A20DDC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DAD0-E777-401E-9920-7CACAAB0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C045-42C8-4E66-AF67-B127DE54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4C6B-1998-4ABD-990A-718B38A3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7017-373F-4FA0-9104-C4A1E2F3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88B4B-8355-41D5-9A80-F49840E5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40A19-C27A-47C0-AD4A-974640FE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48B2B-8E9A-4D42-8404-F6F6239D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B3F02-6A2C-4266-A7F3-8C33C022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59F92-F7CF-4A6F-8B96-93AAD2E6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3A2-193A-4DC1-9051-69864D13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0CADD-0D09-4FB6-86BC-7B34874B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C304B-8DB9-4675-A5A3-B5AF0D88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D3F51-B129-4C24-8496-41E63DD4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4C3BE-FB5E-40E6-8F7C-C305CF2C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F35D7-317B-429A-B432-C5782D12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95449-10AB-44A5-AA13-DC382E7E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89641-9E49-4AE3-8304-8FBA6307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18256-4873-47BD-893A-1272B9A8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AAB39-95AE-4DA9-A472-6590C432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13D87-11EB-4284-AAB3-DD2BA629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EB49-B13F-42ED-A957-D8EAA840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BFEA1-B390-4537-8765-063C9350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6576B-9AF0-424B-9862-3585EADF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8E0E0-AB11-48F7-8CD6-BC2B097D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FFB6A-1157-4128-A164-C464D8C6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298B6-9BB8-4B76-8200-AE649A3A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09A66-D063-4E4C-A195-3C6FE457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D61F9-8F55-49F4-88CE-DF27281F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26C8E-C8D0-49AF-B0CF-6ECA904E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65E39-3534-4FCF-A491-F6193DD3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D7B84-3EE6-40CC-8F0F-63DDD65C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4A00-86CA-4CC8-BE0C-58A2A362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D746B-EA82-478D-885C-24554D5C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5E82F-5746-4E2B-A7A2-E68308BA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E4FFB-F06E-40EA-8A6B-B92D4706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9C3BF-30CA-42A3-AB7F-15359079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CEBAA-E2C2-44A1-873B-EE331601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A4EBF-FA74-4290-A277-AE092D12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1AA1A-C5AB-4535-9721-07E9B706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1222F-AE56-48AB-B59D-052FDBC9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F6934-6DFF-430E-9183-1F73F07C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5BAAA-C4E6-422D-A945-1099D9DF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A60E-BC9E-4B57-911F-AF402AFA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3958C-9C51-4E8D-A845-48FB1751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A0D36-5A9A-4707-AD22-429D269A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94147-BA28-46A9-89C0-99308892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E1A9B-603C-4A36-B4B7-42711512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A3EF8-588F-41DC-94FB-B13E3725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4DA71-DD23-4669-929E-13C12485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3363A-5553-4A22-94A7-C7A8027A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838C6-407D-44D4-8341-B880087C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80695-62BE-4193-830E-9633F07F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B371F-79E5-4BE8-8838-5D5C6689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618-FFAA-428C-9EE1-BCA0F77E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A5B81-D36C-4A86-819B-93EF6F24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C775B-9557-4370-AAAC-A70A024E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4B55D-CF6A-46D5-8C87-C0B34948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223B5-5CD6-4B2E-BB6B-1D490E48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48867-88F6-4545-9C7D-1157D5B9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64273-9BF0-4305-85D0-DC638949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FD5F9-6AF4-41E1-A304-DEEB4ACD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3A86E-3309-4192-B31D-42B3E352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F31C4-F59F-4619-BDC4-3EEC47DD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A3DAF-F989-4B9C-8D07-093201FA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0188-44B5-41A5-B985-33758D06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D1634-4508-42D2-964E-98D297BA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DEE0C-2AE9-4C42-8640-55B78B80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A7724-73E9-4E96-A403-B662DA0E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9D85B-6D33-494F-A8A4-AE4697C7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FE332-3753-4704-91B0-E561D28B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22193-89AB-4FEA-8FE6-E1F3B8C3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B5184-4F18-42AA-A681-21DA968E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77936-44AD-4EFB-9091-6552A8BB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F163F-4755-45B3-B95A-CA6F944C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49243-51EC-40F1-88FF-F8F13AF0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B2F-4056-4944-A092-30813DEF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01D2C-A936-4F96-AA37-B27B0EC7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C8860-5785-4182-86A5-3ADF2C25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9A71F-F6DE-4AC9-AC9D-F60EA8CA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7ABC2-6352-41CA-B1D4-B98512D5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612CE-CC79-4184-A827-47AA66AD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1A604-C413-48B1-AB38-924E15F3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E4EA9-A3D9-4D5F-A40D-068104F3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3DF5A-AAFA-4772-B92A-E1EAD99F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BB074-8773-4B4C-9151-01FDBB47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849FA-4112-4EEB-B467-0F75BEDF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252D-7387-4874-BF4B-15460C82F4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C886-68BC-426C-9A54-C508A67B01A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BD7B-D9BF-4091-87C6-C990E0B1B7E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F5EA-C29A-4C43-937A-152C7571513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3536-1F3A-4D43-B7BC-278AA51E3D6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DC94-6946-403C-9FA9-17E3C5617C4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2CDC-7992-4810-9ACC-FAD070ADBFB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437C-A3FE-41C4-ADDE-872F1AE71C5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02E3-ED44-43A3-86FD-107DCCAF8DA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259D-7A29-4219-9CDA-FC85641D956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F7DF-BFDB-4E54-A2BF-7E73A52EB3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233F-25A1-461B-B850-259E301AD9D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2075-AE18-4074-9BE8-D115E3DA1ED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94EE-9F75-42BA-A7EE-A88C32FED67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B127-8C0C-4D7D-8252-02550B8F168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1F43-1DA9-44BC-95B0-261C40C605B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B3EC-58F5-4B60-9362-861131E171A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23A5-F838-46A3-9563-BE6A31DA868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B751-632B-45E5-966D-F0CE5A1AB7F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6DB1-A31B-4963-89C3-6CF1BF2F275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BA84-AE03-4290-A645-DCF88F7E9CB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3D0A-E818-4E79-99BD-D4E8DDAA0FE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56D0-79C6-421B-B8FB-201524698B5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8387-78F8-497C-9F5B-49239A9A869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CDEB-2DAB-4E9F-A540-BA8C797E284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圆角矩形 4"/>
          <p:cNvSpPr/>
          <p:nvPr/>
        </p:nvSpPr>
        <p:spPr>
          <a:xfrm rot="2709000">
            <a:off x="911520" y="-1399320"/>
            <a:ext cx="9657000" cy="9661320"/>
          </a:xfrm>
          <a:custGeom>
            <a:avLst/>
            <a:gdLst>
              <a:gd name="textAreaLeft" fmla="*/ 0 w 9657000"/>
              <a:gd name="textAreaRight" fmla="*/ 9657360 w 9657000"/>
              <a:gd name="textAreaTop" fmla="*/ 0 h 9661320"/>
              <a:gd name="textAreaBottom" fmla="*/ 9661680 h 9661320"/>
            </a:gdLst>
            <a:ahLst/>
            <a:rect l="textAreaLeft" t="textAreaTop" r="textAreaRight" b="textAreaBottom"/>
            <a:pathLst>
              <a:path w="9662232" h="9662041">
                <a:moveTo>
                  <a:pt x="810646" y="5631839"/>
                </a:moveTo>
                <a:lnTo>
                  <a:pt x="4051389" y="8855635"/>
                </a:lnTo>
                <a:cubicBezTo>
                  <a:pt x="3943397" y="8966582"/>
                  <a:pt x="3792361" y="9035181"/>
                  <a:pt x="3625303" y="9035181"/>
                </a:cubicBezTo>
                <a:lnTo>
                  <a:pt x="1236733" y="9035181"/>
                </a:lnTo>
                <a:cubicBezTo>
                  <a:pt x="906931" y="9035181"/>
                  <a:pt x="639573" y="8767823"/>
                  <a:pt x="639573" y="8438021"/>
                </a:cubicBezTo>
                <a:lnTo>
                  <a:pt x="639573" y="6049451"/>
                </a:lnTo>
                <a:cubicBezTo>
                  <a:pt x="639573" y="5886708"/>
                  <a:pt x="704675" y="5739170"/>
                  <a:pt x="810646" y="5631839"/>
                </a:cubicBezTo>
                <a:close/>
                <a:moveTo>
                  <a:pt x="0" y="4825433"/>
                </a:moveTo>
                <a:lnTo>
                  <a:pt x="4800196" y="0"/>
                </a:lnTo>
                <a:lnTo>
                  <a:pt x="9662232" y="4836608"/>
                </a:lnTo>
                <a:lnTo>
                  <a:pt x="4862035" y="9662041"/>
                </a:lnTo>
                <a:lnTo>
                  <a:pt x="4051389" y="8855635"/>
                </a:lnTo>
                <a:cubicBezTo>
                  <a:pt x="4157361" y="8748304"/>
                  <a:pt x="4222463" y="8600765"/>
                  <a:pt x="4222463" y="8438021"/>
                </a:cubicBezTo>
                <a:lnTo>
                  <a:pt x="4222463" y="6049451"/>
                </a:lnTo>
                <a:cubicBezTo>
                  <a:pt x="4222463" y="5719649"/>
                  <a:pt x="3955105" y="5452291"/>
                  <a:pt x="3625303" y="5452291"/>
                </a:cubicBezTo>
                <a:lnTo>
                  <a:pt x="1236733" y="5452291"/>
                </a:lnTo>
                <a:cubicBezTo>
                  <a:pt x="1069675" y="5452291"/>
                  <a:pt x="918638" y="5520891"/>
                  <a:pt x="810646" y="5631839"/>
                </a:cubicBezTo>
                <a:lnTo>
                  <a:pt x="0" y="4825433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4" name="Group 3"/>
          <p:cNvGrpSpPr/>
          <p:nvPr/>
        </p:nvGrpSpPr>
        <p:grpSpPr>
          <a:xfrm>
            <a:off x="965520" y="2033280"/>
            <a:ext cx="2790720" cy="2790720"/>
            <a:chOff x="965520" y="2033280"/>
            <a:chExt cx="2790720" cy="2790720"/>
          </a:xfrm>
        </p:grpSpPr>
        <p:sp>
          <p:nvSpPr>
            <p:cNvPr id="535" name="圆角矩形 2"/>
            <p:cNvSpPr/>
            <p:nvPr/>
          </p:nvSpPr>
          <p:spPr>
            <a:xfrm rot="2709000">
              <a:off x="1380240" y="2448360"/>
              <a:ext cx="1968840" cy="196704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圆角矩形 6"/>
            <p:cNvSpPr/>
            <p:nvPr/>
          </p:nvSpPr>
          <p:spPr>
            <a:xfrm rot="2709000">
              <a:off x="1373400" y="2442240"/>
              <a:ext cx="1974240" cy="1972440"/>
            </a:xfrm>
            <a:custGeom>
              <a:avLst/>
              <a:gdLst>
                <a:gd name="textAreaLeft" fmla="*/ 0 w 1974240"/>
                <a:gd name="textAreaRight" fmla="*/ 1974600 w 1974240"/>
                <a:gd name="textAreaTop" fmla="*/ 0 h 1972440"/>
                <a:gd name="textAreaBottom" fmla="*/ 1972440 h 1972440"/>
              </a:gdLst>
              <a:ahLst/>
              <a:rect l="textAreaLeft" t="textAreaTop" r="textAreaRight" b="textAreaBottom"/>
              <a:pathLst>
                <a:path w="2777564" h="2777564">
                  <a:moveTo>
                    <a:pt x="126227" y="157202"/>
                  </a:moveTo>
                  <a:cubicBezTo>
                    <a:pt x="125134" y="158295"/>
                    <a:pt x="124048" y="159394"/>
                    <a:pt x="123267" y="160791"/>
                  </a:cubicBezTo>
                  <a:lnTo>
                    <a:pt x="2628063" y="2652488"/>
                  </a:lnTo>
                  <a:cubicBezTo>
                    <a:pt x="2709969" y="2569531"/>
                    <a:pt x="2760287" y="2455498"/>
                    <a:pt x="2760287" y="2329712"/>
                  </a:cubicBezTo>
                  <a:lnTo>
                    <a:pt x="2760287" y="483567"/>
                  </a:lnTo>
                  <a:cubicBezTo>
                    <a:pt x="2760287" y="228660"/>
                    <a:pt x="2553645" y="22018"/>
                    <a:pt x="2298737" y="22018"/>
                  </a:cubicBezTo>
                  <a:lnTo>
                    <a:pt x="452593" y="22018"/>
                  </a:lnTo>
                  <a:cubicBezTo>
                    <a:pt x="325139" y="22018"/>
                    <a:pt x="209751" y="73678"/>
                    <a:pt x="126227" y="157202"/>
                  </a:cubicBezTo>
                  <a:close/>
                  <a:moveTo>
                    <a:pt x="135591" y="135591"/>
                  </a:moveTo>
                  <a:cubicBezTo>
                    <a:pt x="219366" y="51816"/>
                    <a:pt x="335100" y="0"/>
                    <a:pt x="462937" y="0"/>
                  </a:cubicBezTo>
                  <a:lnTo>
                    <a:pt x="2314627" y="0"/>
                  </a:lnTo>
                  <a:cubicBezTo>
                    <a:pt x="2570300" y="0"/>
                    <a:pt x="2777564" y="207264"/>
                    <a:pt x="2777564" y="462937"/>
                  </a:cubicBezTo>
                  <a:lnTo>
                    <a:pt x="2777564" y="2314627"/>
                  </a:lnTo>
                  <a:cubicBezTo>
                    <a:pt x="2777564" y="2570300"/>
                    <a:pt x="2570300" y="2777564"/>
                    <a:pt x="2314627" y="2777564"/>
                  </a:cubicBezTo>
                  <a:lnTo>
                    <a:pt x="462937" y="2777564"/>
                  </a:lnTo>
                  <a:cubicBezTo>
                    <a:pt x="207264" y="2777564"/>
                    <a:pt x="0" y="2570300"/>
                    <a:pt x="0" y="2314627"/>
                  </a:cubicBezTo>
                  <a:lnTo>
                    <a:pt x="0" y="462937"/>
                  </a:lnTo>
                  <a:cubicBezTo>
                    <a:pt x="0" y="335101"/>
                    <a:pt x="51816" y="219366"/>
                    <a:pt x="135591" y="135591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7" name="TextBox 10"/>
          <p:cNvSpPr/>
          <p:nvPr/>
        </p:nvSpPr>
        <p:spPr>
          <a:xfrm>
            <a:off x="1389240" y="3043080"/>
            <a:ext cx="194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LO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12"/>
          <p:cNvSpPr/>
          <p:nvPr/>
        </p:nvSpPr>
        <p:spPr>
          <a:xfrm>
            <a:off x="4686480" y="177480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13"/>
          <p:cNvSpPr/>
          <p:nvPr/>
        </p:nvSpPr>
        <p:spPr>
          <a:xfrm>
            <a:off x="5788080" y="5786280"/>
            <a:ext cx="296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在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1"/>
          <p:cNvSpPr/>
          <p:nvPr/>
        </p:nvSpPr>
        <p:spPr>
          <a:xfrm>
            <a:off x="5003640" y="429264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面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矩形 7"/>
          <p:cNvSpPr/>
          <p:nvPr/>
        </p:nvSpPr>
        <p:spPr>
          <a:xfrm>
            <a:off x="2792520" y="0"/>
            <a:ext cx="6351480" cy="6858000"/>
          </a:xfrm>
          <a:custGeom>
            <a:avLst/>
            <a:gdLst>
              <a:gd name="textAreaLeft" fmla="*/ 0 w 6351480"/>
              <a:gd name="textAreaRight" fmla="*/ 6351840 w 635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6350881" h="6858000">
                <a:moveTo>
                  <a:pt x="6932" y="0"/>
                </a:moveTo>
                <a:lnTo>
                  <a:pt x="6350881" y="0"/>
                </a:lnTo>
                <a:lnTo>
                  <a:pt x="6350881" y="6858000"/>
                </a:lnTo>
                <a:lnTo>
                  <a:pt x="0" y="6858000"/>
                </a:lnTo>
                <a:cubicBezTo>
                  <a:pt x="94478" y="6815102"/>
                  <a:pt x="182596" y="6754408"/>
                  <a:pt x="260303" y="6676908"/>
                </a:cubicBezTo>
                <a:lnTo>
                  <a:pt x="2861394" y="4082772"/>
                </a:lnTo>
                <a:cubicBezTo>
                  <a:pt x="3220541" y="3724586"/>
                  <a:pt x="3221319" y="3143073"/>
                  <a:pt x="2863133" y="2783926"/>
                </a:cubicBezTo>
                <a:lnTo>
                  <a:pt x="268996" y="182835"/>
                </a:lnTo>
                <a:cubicBezTo>
                  <a:pt x="190879" y="104508"/>
                  <a:pt x="102139" y="43226"/>
                  <a:pt x="6932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圆角矩形 8"/>
          <p:cNvSpPr/>
          <p:nvPr/>
        </p:nvSpPr>
        <p:spPr>
          <a:xfrm rot="2697600">
            <a:off x="720720" y="1595160"/>
            <a:ext cx="3666960" cy="36669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9"/>
          <p:cNvSpPr/>
          <p:nvPr/>
        </p:nvSpPr>
        <p:spPr>
          <a:xfrm>
            <a:off x="1122480" y="292104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0"/>
          <p:cNvSpPr/>
          <p:nvPr/>
        </p:nvSpPr>
        <p:spPr>
          <a:xfrm>
            <a:off x="4973760" y="98100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11"/>
          <p:cNvSpPr/>
          <p:nvPr/>
        </p:nvSpPr>
        <p:spPr>
          <a:xfrm>
            <a:off x="5908680" y="5877000"/>
            <a:ext cx="296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在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13"/>
          <p:cNvSpPr/>
          <p:nvPr/>
        </p:nvSpPr>
        <p:spPr>
          <a:xfrm>
            <a:off x="5918040" y="349884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面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圆角矩形 2"/>
          <p:cNvSpPr/>
          <p:nvPr/>
        </p:nvSpPr>
        <p:spPr>
          <a:xfrm rot="19139400">
            <a:off x="-744120" y="4196880"/>
            <a:ext cx="1593720" cy="1706760"/>
          </a:xfrm>
          <a:custGeom>
            <a:avLst/>
            <a:gdLst>
              <a:gd name="textAreaLeft" fmla="*/ 0 w 1593720"/>
              <a:gd name="textAreaRight" fmla="*/ 1594080 w 1593720"/>
              <a:gd name="textAreaTop" fmla="*/ 0 h 1706760"/>
              <a:gd name="textAreaBottom" fmla="*/ 1707120 h 1706760"/>
            </a:gdLst>
            <a:ahLst/>
            <a:rect l="textAreaLeft" t="textAreaTop" r="textAreaRight" b="textAreaBottom"/>
            <a:pathLst>
              <a:path w="1597651" h="1706458">
                <a:moveTo>
                  <a:pt x="1512441" y="46160"/>
                </a:moveTo>
                <a:cubicBezTo>
                  <a:pt x="1565088" y="98806"/>
                  <a:pt x="1597651" y="171537"/>
                  <a:pt x="1597651" y="251874"/>
                </a:cubicBezTo>
                <a:lnTo>
                  <a:pt x="1597651" y="1415534"/>
                </a:lnTo>
                <a:cubicBezTo>
                  <a:pt x="1597651" y="1576207"/>
                  <a:pt x="1467400" y="1706458"/>
                  <a:pt x="1306727" y="1706458"/>
                </a:cubicBezTo>
                <a:lnTo>
                  <a:pt x="143066" y="1706458"/>
                </a:lnTo>
                <a:cubicBezTo>
                  <a:pt x="90797" y="1706458"/>
                  <a:pt x="41747" y="1692673"/>
                  <a:pt x="0" y="1667407"/>
                </a:cubicBezTo>
                <a:lnTo>
                  <a:pt x="1449792" y="0"/>
                </a:lnTo>
                <a:cubicBezTo>
                  <a:pt x="1473203" y="11824"/>
                  <a:pt x="1494048" y="27766"/>
                  <a:pt x="1512441" y="46160"/>
                </a:cubicBezTo>
                <a:close/>
              </a:path>
            </a:pathLst>
          </a:custGeom>
          <a:solidFill>
            <a:srgbClr val="f9a1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圆角矩形 3"/>
          <p:cNvSpPr/>
          <p:nvPr/>
        </p:nvSpPr>
        <p:spPr>
          <a:xfrm rot="19139400">
            <a:off x="625320" y="2894040"/>
            <a:ext cx="1744920" cy="174456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圆角矩形 4"/>
          <p:cNvSpPr/>
          <p:nvPr/>
        </p:nvSpPr>
        <p:spPr>
          <a:xfrm rot="19139400">
            <a:off x="2152440" y="1564920"/>
            <a:ext cx="1744560" cy="1746360"/>
          </a:xfrm>
          <a:custGeom>
            <a:avLst/>
            <a:gdLst>
              <a:gd name="textAreaLeft" fmla="*/ 84960 w 1744560"/>
              <a:gd name="textAreaRight" fmla="*/ 1659600 w 1744560"/>
              <a:gd name="textAreaTop" fmla="*/ 84960 h 1746360"/>
              <a:gd name="textAreaBottom" fmla="*/ 1661400 h 1746360"/>
            </a:gdLst>
            <a:ahLst/>
            <a:rect l="textAreaLeft" t="textAreaTop" r="textAreaRight" b="textAreaBottom"/>
            <a:pathLst>
              <a:path w="21600" h="21622">
                <a:moveTo>
                  <a:pt x="3600" y="0"/>
                </a:moveTo>
                <a:arcTo wR="3600" hR="3600" stAng="16200000" swAng="-5400000"/>
                <a:lnTo>
                  <a:pt x="0" y="18022"/>
                </a:lnTo>
                <a:arcTo wR="3600" hR="3600" stAng="10800000" swAng="-5400000"/>
                <a:lnTo>
                  <a:pt x="18000" y="216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圆角矩形 5"/>
          <p:cNvSpPr/>
          <p:nvPr/>
        </p:nvSpPr>
        <p:spPr>
          <a:xfrm rot="19139400">
            <a:off x="369720" y="5684400"/>
            <a:ext cx="1744920" cy="1744920"/>
          </a:xfrm>
          <a:custGeom>
            <a:avLst/>
            <a:gdLst>
              <a:gd name="textAreaLeft" fmla="*/ 0 w 1744920"/>
              <a:gd name="textAreaRight" fmla="*/ 1745280 w 1744920"/>
              <a:gd name="textAreaTop" fmla="*/ 0 h 1744920"/>
              <a:gd name="textAreaBottom" fmla="*/ 1745280 h 1744920"/>
            </a:gdLst>
            <a:ahLst/>
            <a:rect l="textAreaLeft" t="textAreaTop" r="textAreaRight" b="textAreaBottom"/>
            <a:pathLst>
              <a:path w="1745509" h="1745508">
                <a:moveTo>
                  <a:pt x="1660299" y="85209"/>
                </a:moveTo>
                <a:cubicBezTo>
                  <a:pt x="1712946" y="137856"/>
                  <a:pt x="1745509" y="210587"/>
                  <a:pt x="1745509" y="290924"/>
                </a:cubicBezTo>
                <a:lnTo>
                  <a:pt x="1745509" y="1454584"/>
                </a:lnTo>
                <a:cubicBezTo>
                  <a:pt x="1745509" y="1615257"/>
                  <a:pt x="1615258" y="1745508"/>
                  <a:pt x="1454585" y="1745508"/>
                </a:cubicBezTo>
                <a:lnTo>
                  <a:pt x="1417657" y="1745508"/>
                </a:lnTo>
                <a:lnTo>
                  <a:pt x="0" y="512870"/>
                </a:lnTo>
                <a:lnTo>
                  <a:pt x="0" y="290924"/>
                </a:lnTo>
                <a:cubicBezTo>
                  <a:pt x="0" y="130251"/>
                  <a:pt x="130251" y="0"/>
                  <a:pt x="290924" y="0"/>
                </a:cubicBezTo>
                <a:lnTo>
                  <a:pt x="1454585" y="0"/>
                </a:lnTo>
                <a:cubicBezTo>
                  <a:pt x="1534921" y="0"/>
                  <a:pt x="1607652" y="32563"/>
                  <a:pt x="1660299" y="85209"/>
                </a:cubicBezTo>
                <a:close/>
              </a:path>
            </a:pathLst>
          </a:cu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圆角矩形 6"/>
          <p:cNvSpPr/>
          <p:nvPr/>
        </p:nvSpPr>
        <p:spPr>
          <a:xfrm rot="19139400">
            <a:off x="1886040" y="4365360"/>
            <a:ext cx="1746000" cy="174600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圆角矩形 7"/>
          <p:cNvSpPr/>
          <p:nvPr/>
        </p:nvSpPr>
        <p:spPr>
          <a:xfrm rot="19139400">
            <a:off x="3412800" y="3038040"/>
            <a:ext cx="1746360" cy="174456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9"/>
          <p:cNvSpPr/>
          <p:nvPr/>
        </p:nvSpPr>
        <p:spPr>
          <a:xfrm>
            <a:off x="4440240" y="1557360"/>
            <a:ext cx="406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历经多少轮回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11"/>
          <p:cNvSpPr/>
          <p:nvPr/>
        </p:nvSpPr>
        <p:spPr>
          <a:xfrm>
            <a:off x="8761320" y="0"/>
            <a:ext cx="2034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12"/>
          <p:cNvSpPr/>
          <p:nvPr/>
        </p:nvSpPr>
        <p:spPr>
          <a:xfrm>
            <a:off x="8400960" y="0"/>
            <a:ext cx="2034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13"/>
          <p:cNvSpPr/>
          <p:nvPr/>
        </p:nvSpPr>
        <p:spPr>
          <a:xfrm>
            <a:off x="5219640" y="417204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r>
              <a:rPr b="0" lang="en-US" sz="4400" spc="-1" strike="noStrike">
                <a:solidFill>
                  <a:srgbClr val="00b0f0"/>
                </a:solidFill>
                <a:latin typeface="Calibri"/>
                <a:ea typeface="微软雅黑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Box 14"/>
          <p:cNvSpPr/>
          <p:nvPr/>
        </p:nvSpPr>
        <p:spPr>
          <a:xfrm>
            <a:off x="5148360" y="5786280"/>
            <a:ext cx="296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蓝与白的前世今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将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现在</a:t>
            </a:r>
            <a:r>
              <a:rPr b="0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过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圆角矩形 4"/>
          <p:cNvSpPr/>
          <p:nvPr/>
        </p:nvSpPr>
        <p:spPr>
          <a:xfrm>
            <a:off x="3708360" y="189000"/>
            <a:ext cx="142920" cy="1443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144360"/>
              <a:gd name="textAreaBottom" fmla="*/ 137520 h 144360"/>
            </a:gdLst>
            <a:ahLst/>
            <a:rect l="textAreaLeft" t="textAreaTop" r="textAreaRight" b="textAreaBottom"/>
            <a:pathLst>
              <a:path w="21600" h="21817">
                <a:moveTo>
                  <a:pt x="3600" y="0"/>
                </a:moveTo>
                <a:arcTo wR="3600" hR="3600" stAng="16200000" swAng="-5400000"/>
                <a:lnTo>
                  <a:pt x="0" y="18217"/>
                </a:lnTo>
                <a:arcTo wR="3600" hR="3600" stAng="10800000" swAng="-5400000"/>
                <a:lnTo>
                  <a:pt x="18000" y="21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圆角矩形 6"/>
          <p:cNvSpPr/>
          <p:nvPr/>
        </p:nvSpPr>
        <p:spPr>
          <a:xfrm>
            <a:off x="3747960" y="0"/>
            <a:ext cx="289080" cy="28728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圆角矩形 1"/>
          <p:cNvSpPr/>
          <p:nvPr/>
        </p:nvSpPr>
        <p:spPr>
          <a:xfrm>
            <a:off x="4211640" y="404640"/>
            <a:ext cx="216000" cy="216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圆角矩形 3"/>
          <p:cNvSpPr/>
          <p:nvPr/>
        </p:nvSpPr>
        <p:spPr>
          <a:xfrm>
            <a:off x="4579920" y="141120"/>
            <a:ext cx="560520" cy="479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圆角矩形 2"/>
          <p:cNvSpPr/>
          <p:nvPr/>
        </p:nvSpPr>
        <p:spPr>
          <a:xfrm>
            <a:off x="4363920" y="557280"/>
            <a:ext cx="216000" cy="2160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圆角矩形 7"/>
          <p:cNvSpPr/>
          <p:nvPr/>
        </p:nvSpPr>
        <p:spPr>
          <a:xfrm>
            <a:off x="5651640" y="141120"/>
            <a:ext cx="614160" cy="614520"/>
          </a:xfrm>
          <a:custGeom>
            <a:avLst/>
            <a:gdLst>
              <a:gd name="textAreaLeft" fmla="*/ 29880 w 614160"/>
              <a:gd name="textAreaRight" fmla="*/ 584280 w 614160"/>
              <a:gd name="textAreaTop" fmla="*/ 29880 h 614520"/>
              <a:gd name="textAreaBottom" fmla="*/ 584640 h 61452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圆角矩形 8"/>
          <p:cNvSpPr/>
          <p:nvPr/>
        </p:nvSpPr>
        <p:spPr>
          <a:xfrm>
            <a:off x="5189400" y="630360"/>
            <a:ext cx="462240" cy="461880"/>
          </a:xfrm>
          <a:prstGeom prst="roundRect">
            <a:avLst>
              <a:gd name="adj" fmla="val 16667"/>
            </a:avLst>
          </a:prstGeom>
          <a:solidFill>
            <a:srgbClr val="f9a1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圆角矩形 9"/>
          <p:cNvSpPr/>
          <p:nvPr/>
        </p:nvSpPr>
        <p:spPr>
          <a:xfrm>
            <a:off x="8748720" y="2693880"/>
            <a:ext cx="349200" cy="351000"/>
          </a:xfrm>
          <a:custGeom>
            <a:avLst/>
            <a:gdLst>
              <a:gd name="textAreaLeft" fmla="*/ 16920 w 349200"/>
              <a:gd name="textAreaRight" fmla="*/ 332280 w 349200"/>
              <a:gd name="textAreaTop" fmla="*/ 16920 h 351000"/>
              <a:gd name="textAreaBottom" fmla="*/ 334080 h 351000"/>
            </a:gdLst>
            <a:ahLst/>
            <a:rect l="textAreaLeft" t="textAreaTop" r="textAreaRight" b="textAreaBottom"/>
            <a:pathLst>
              <a:path w="21600" h="21711">
                <a:moveTo>
                  <a:pt x="3600" y="0"/>
                </a:moveTo>
                <a:arcTo wR="3600" hR="3600" stAng="16200000" swAng="-5400000"/>
                <a:lnTo>
                  <a:pt x="0" y="18111"/>
                </a:lnTo>
                <a:arcTo wR="3600" hR="3600" stAng="10800000" swAng="-5400000"/>
                <a:lnTo>
                  <a:pt x="18000" y="217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圆角矩形 10"/>
          <p:cNvSpPr/>
          <p:nvPr/>
        </p:nvSpPr>
        <p:spPr>
          <a:xfrm>
            <a:off x="8402760" y="1916280"/>
            <a:ext cx="614160" cy="615960"/>
          </a:xfrm>
          <a:custGeom>
            <a:avLst/>
            <a:gdLst>
              <a:gd name="textAreaLeft" fmla="*/ 29880 w 614160"/>
              <a:gd name="textAreaRight" fmla="*/ 584280 w 614160"/>
              <a:gd name="textAreaTop" fmla="*/ 29880 h 615960"/>
              <a:gd name="textAreaBottom" fmla="*/ 586080 h 615960"/>
            </a:gdLst>
            <a:ahLst/>
            <a:rect l="textAreaLeft" t="textAreaTop" r="textAreaRight" b="textAreaBottom"/>
            <a:pathLst>
              <a:path w="21600" h="21663">
                <a:moveTo>
                  <a:pt x="3600" y="0"/>
                </a:moveTo>
                <a:arcTo wR="3600" hR="3600" stAng="16200000" swAng="-5400000"/>
                <a:lnTo>
                  <a:pt x="0" y="18063"/>
                </a:lnTo>
                <a:arcTo wR="3600" hR="3600" stAng="10800000" swAng="-5400000"/>
                <a:lnTo>
                  <a:pt x="18000" y="21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圆角矩形 11"/>
          <p:cNvSpPr/>
          <p:nvPr/>
        </p:nvSpPr>
        <p:spPr>
          <a:xfrm>
            <a:off x="6551640" y="34920"/>
            <a:ext cx="614160" cy="614520"/>
          </a:xfrm>
          <a:custGeom>
            <a:avLst/>
            <a:gdLst>
              <a:gd name="textAreaLeft" fmla="*/ 29880 w 614160"/>
              <a:gd name="textAreaRight" fmla="*/ 584280 w 614160"/>
              <a:gd name="textAreaTop" fmla="*/ 29880 h 614520"/>
              <a:gd name="textAreaBottom" fmla="*/ 584640 h 61452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圆角矩形 12"/>
          <p:cNvSpPr/>
          <p:nvPr/>
        </p:nvSpPr>
        <p:spPr>
          <a:xfrm>
            <a:off x="7297560" y="339840"/>
            <a:ext cx="309600" cy="309600"/>
          </a:xfrm>
          <a:prstGeom prst="roundRect">
            <a:avLst>
              <a:gd name="adj" fmla="val 16667"/>
            </a:avLst>
          </a:prstGeom>
          <a:solidFill>
            <a:srgbClr val="78db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圆角矩形 13"/>
          <p:cNvSpPr/>
          <p:nvPr/>
        </p:nvSpPr>
        <p:spPr>
          <a:xfrm>
            <a:off x="7451640" y="96840"/>
            <a:ext cx="614520" cy="614520"/>
          </a:xfrm>
          <a:prstGeom prst="roundRect">
            <a:avLst>
              <a:gd name="adj" fmla="val 16667"/>
            </a:avLst>
          </a:prstGeom>
          <a:solidFill>
            <a:srgbClr val="de6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圆角矩形 14"/>
          <p:cNvSpPr/>
          <p:nvPr/>
        </p:nvSpPr>
        <p:spPr>
          <a:xfrm>
            <a:off x="8691480" y="19080"/>
            <a:ext cx="385920" cy="3855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圆角矩形 15"/>
          <p:cNvSpPr/>
          <p:nvPr/>
        </p:nvSpPr>
        <p:spPr>
          <a:xfrm>
            <a:off x="8329680" y="404640"/>
            <a:ext cx="687240" cy="687600"/>
          </a:xfrm>
          <a:custGeom>
            <a:avLst/>
            <a:gdLst>
              <a:gd name="textAreaLeft" fmla="*/ 33480 w 687240"/>
              <a:gd name="textAreaRight" fmla="*/ 653760 w 687240"/>
              <a:gd name="textAreaTop" fmla="*/ 33480 h 687600"/>
              <a:gd name="textAreaBottom" fmla="*/ 654120 h 68760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圆角矩形 17"/>
          <p:cNvSpPr/>
          <p:nvPr/>
        </p:nvSpPr>
        <p:spPr>
          <a:xfrm>
            <a:off x="8691480" y="1378080"/>
            <a:ext cx="289080" cy="288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圆角矩形 5"/>
          <p:cNvSpPr/>
          <p:nvPr/>
        </p:nvSpPr>
        <p:spPr>
          <a:xfrm>
            <a:off x="3924360" y="44280"/>
            <a:ext cx="287280" cy="289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9080"/>
              <a:gd name="textAreaBottom" fmla="*/ 275040 h 289080"/>
            </a:gdLst>
            <a:ahLst/>
            <a:rect l="textAreaLeft" t="textAreaTop" r="textAreaRight" b="textAreaBottom"/>
            <a:pathLst>
              <a:path w="21600" h="21735">
                <a:moveTo>
                  <a:pt x="3600" y="0"/>
                </a:moveTo>
                <a:arcTo wR="3600" hR="3600" stAng="16200000" swAng="-5400000"/>
                <a:lnTo>
                  <a:pt x="0" y="18135"/>
                </a:lnTo>
                <a:arcTo wR="3600" hR="3600" stAng="10800000" swAng="-5400000"/>
                <a:lnTo>
                  <a:pt x="18000" y="217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圆角矩形 18"/>
          <p:cNvSpPr/>
          <p:nvPr/>
        </p:nvSpPr>
        <p:spPr>
          <a:xfrm>
            <a:off x="6245280" y="512640"/>
            <a:ext cx="614160" cy="5446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圆角矩形 19"/>
          <p:cNvSpPr/>
          <p:nvPr/>
        </p:nvSpPr>
        <p:spPr>
          <a:xfrm>
            <a:off x="7759800" y="1173240"/>
            <a:ext cx="728640" cy="728640"/>
          </a:xfrm>
          <a:prstGeom prst="roundRect">
            <a:avLst>
              <a:gd name="adj" fmla="val 16667"/>
            </a:avLst>
          </a:prstGeom>
          <a:solidFill>
            <a:srgbClr val="78db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圆角矩形 16"/>
          <p:cNvSpPr/>
          <p:nvPr/>
        </p:nvSpPr>
        <p:spPr>
          <a:xfrm>
            <a:off x="8370720" y="1057320"/>
            <a:ext cx="316080" cy="3157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圆角矩形 20"/>
          <p:cNvSpPr/>
          <p:nvPr/>
        </p:nvSpPr>
        <p:spPr>
          <a:xfrm>
            <a:off x="8848800" y="3121200"/>
            <a:ext cx="307800" cy="3078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圆角矩形 21"/>
          <p:cNvSpPr/>
          <p:nvPr/>
        </p:nvSpPr>
        <p:spPr>
          <a:xfrm>
            <a:off x="8402760" y="3273480"/>
            <a:ext cx="461880" cy="46188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圆角矩形 22"/>
          <p:cNvSpPr/>
          <p:nvPr/>
        </p:nvSpPr>
        <p:spPr>
          <a:xfrm>
            <a:off x="8802720" y="3754440"/>
            <a:ext cx="363600" cy="363600"/>
          </a:xfrm>
          <a:prstGeom prst="roundRect">
            <a:avLst>
              <a:gd name="adj" fmla="val 16667"/>
            </a:avLst>
          </a:prstGeom>
          <a:solidFill>
            <a:srgbClr val="78db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圆角矩形 24"/>
          <p:cNvSpPr/>
          <p:nvPr/>
        </p:nvSpPr>
        <p:spPr>
          <a:xfrm>
            <a:off x="8242200" y="6364440"/>
            <a:ext cx="287280" cy="285480"/>
          </a:xfrm>
          <a:prstGeom prst="roundRect">
            <a:avLst>
              <a:gd name="adj" fmla="val 16667"/>
            </a:avLst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圆角矩形 25"/>
          <p:cNvSpPr/>
          <p:nvPr/>
        </p:nvSpPr>
        <p:spPr>
          <a:xfrm>
            <a:off x="7997760" y="6561000"/>
            <a:ext cx="289080" cy="289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圆角矩形 26"/>
          <p:cNvSpPr/>
          <p:nvPr/>
        </p:nvSpPr>
        <p:spPr>
          <a:xfrm>
            <a:off x="8402760" y="6716880"/>
            <a:ext cx="174600" cy="1746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圆角矩形 27"/>
          <p:cNvSpPr/>
          <p:nvPr/>
        </p:nvSpPr>
        <p:spPr>
          <a:xfrm>
            <a:off x="8744040" y="5877000"/>
            <a:ext cx="307800" cy="3078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圆角矩形 28"/>
          <p:cNvSpPr/>
          <p:nvPr/>
        </p:nvSpPr>
        <p:spPr>
          <a:xfrm>
            <a:off x="8386920" y="6049800"/>
            <a:ext cx="306360" cy="308160"/>
          </a:xfrm>
          <a:custGeom>
            <a:avLst/>
            <a:gdLst>
              <a:gd name="textAreaLeft" fmla="*/ 14760 w 306360"/>
              <a:gd name="textAreaRight" fmla="*/ 291600 w 306360"/>
              <a:gd name="textAreaTop" fmla="*/ 14760 h 308160"/>
              <a:gd name="textAreaBottom" fmla="*/ 293400 h 308160"/>
            </a:gdLst>
            <a:ahLst/>
            <a:rect l="textAreaLeft" t="textAreaTop" r="textAreaRight" b="textAreaBottom"/>
            <a:pathLst>
              <a:path w="21600" h="21727">
                <a:moveTo>
                  <a:pt x="3600" y="0"/>
                </a:moveTo>
                <a:arcTo wR="3600" hR="3600" stAng="16200000" swAng="-5400000"/>
                <a:lnTo>
                  <a:pt x="0" y="18127"/>
                </a:lnTo>
                <a:arcTo wR="3600" hR="3600" stAng="10800000" swAng="-5400000"/>
                <a:lnTo>
                  <a:pt x="18000" y="217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2d4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圆角矩形 29"/>
          <p:cNvSpPr/>
          <p:nvPr/>
        </p:nvSpPr>
        <p:spPr>
          <a:xfrm>
            <a:off x="8558280" y="6203880"/>
            <a:ext cx="550800" cy="550800"/>
          </a:xfrm>
          <a:prstGeom prst="roundRect">
            <a:avLst>
              <a:gd name="adj" fmla="val 16667"/>
            </a:avLst>
          </a:prstGeom>
          <a:solidFill>
            <a:srgbClr val="50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圆角矩形 30"/>
          <p:cNvSpPr/>
          <p:nvPr/>
        </p:nvSpPr>
        <p:spPr>
          <a:xfrm>
            <a:off x="8520120" y="4087800"/>
            <a:ext cx="365040" cy="36504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圆角矩形 23"/>
          <p:cNvSpPr/>
          <p:nvPr/>
        </p:nvSpPr>
        <p:spPr>
          <a:xfrm>
            <a:off x="8537400" y="4394160"/>
            <a:ext cx="581040" cy="581040"/>
          </a:xfrm>
          <a:prstGeom prst="roundRect">
            <a:avLst>
              <a:gd name="adj" fmla="val 16667"/>
            </a:avLst>
          </a:prstGeom>
          <a:solidFill>
            <a:srgbClr val="2f1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圆角矩形 31"/>
          <p:cNvSpPr/>
          <p:nvPr/>
        </p:nvSpPr>
        <p:spPr>
          <a:xfrm>
            <a:off x="8705880" y="5064120"/>
            <a:ext cx="384120" cy="38412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圆角矩形 32"/>
          <p:cNvSpPr/>
          <p:nvPr/>
        </p:nvSpPr>
        <p:spPr>
          <a:xfrm>
            <a:off x="8632800" y="5467320"/>
            <a:ext cx="461880" cy="4096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圆角矩形 33"/>
          <p:cNvSpPr/>
          <p:nvPr/>
        </p:nvSpPr>
        <p:spPr>
          <a:xfrm>
            <a:off x="8370720" y="5159520"/>
            <a:ext cx="289080" cy="288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1" name="Group 35"/>
          <p:cNvGrpSpPr/>
          <p:nvPr/>
        </p:nvGrpSpPr>
        <p:grpSpPr>
          <a:xfrm>
            <a:off x="1835280" y="1916280"/>
            <a:ext cx="4608360" cy="830160"/>
            <a:chOff x="1835280" y="1916280"/>
            <a:chExt cx="4608360" cy="830160"/>
          </a:xfrm>
        </p:grpSpPr>
        <p:grpSp>
          <p:nvGrpSpPr>
            <p:cNvPr id="592" name="Group 36"/>
            <p:cNvGrpSpPr/>
            <p:nvPr/>
          </p:nvGrpSpPr>
          <p:grpSpPr>
            <a:xfrm>
              <a:off x="1835280" y="1916280"/>
              <a:ext cx="800280" cy="830160"/>
              <a:chOff x="1835280" y="1916280"/>
              <a:chExt cx="800280" cy="830160"/>
            </a:xfrm>
          </p:grpSpPr>
          <p:sp>
            <p:nvSpPr>
              <p:cNvPr id="593" name="圆角矩形 37"/>
              <p:cNvSpPr/>
              <p:nvPr/>
            </p:nvSpPr>
            <p:spPr>
              <a:xfrm>
                <a:off x="1915560" y="2025360"/>
                <a:ext cx="720000" cy="721080"/>
              </a:xfrm>
              <a:custGeom>
                <a:avLst/>
                <a:gdLst>
                  <a:gd name="textAreaLeft" fmla="*/ 34920 w 720000"/>
                  <a:gd name="textAreaRight" fmla="*/ 685080 w 720000"/>
                  <a:gd name="textAreaTop" fmla="*/ 34920 h 721080"/>
                  <a:gd name="textAreaBottom" fmla="*/ 686160 h 721080"/>
                </a:gdLst>
                <a:ahLst/>
                <a:rect l="textAreaLeft" t="textAreaTop" r="textAreaRight" b="textAreaBottom"/>
                <a:pathLst>
                  <a:path w="21600" h="21632">
                    <a:moveTo>
                      <a:pt x="3600" y="0"/>
                    </a:moveTo>
                    <a:arcTo wR="3600" hR="3600" stAng="16200000" swAng="-5400000"/>
                    <a:lnTo>
                      <a:pt x="0" y="18032"/>
                    </a:lnTo>
                    <a:arcTo wR="3600" hR="3600" stAng="10800000" swAng="-5400000"/>
                    <a:lnTo>
                      <a:pt x="18000" y="2163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圆角矩形 36"/>
              <p:cNvSpPr/>
              <p:nvPr/>
            </p:nvSpPr>
            <p:spPr>
              <a:xfrm>
                <a:off x="1835280" y="1916280"/>
                <a:ext cx="720000" cy="721080"/>
              </a:xfrm>
              <a:custGeom>
                <a:avLst/>
                <a:gdLst>
                  <a:gd name="textAreaLeft" fmla="*/ 34920 w 720000"/>
                  <a:gd name="textAreaRight" fmla="*/ 685080 w 720000"/>
                  <a:gd name="textAreaTop" fmla="*/ 34920 h 721080"/>
                  <a:gd name="textAreaBottom" fmla="*/ 686160 h 721080"/>
                </a:gdLst>
                <a:ahLst/>
                <a:rect l="textAreaLeft" t="textAreaTop" r="textAreaRight" b="textAreaBottom"/>
                <a:pathLst>
                  <a:path w="21600" h="21632">
                    <a:moveTo>
                      <a:pt x="3600" y="0"/>
                    </a:moveTo>
                    <a:arcTo wR="3600" hR="3600" stAng="16200000" swAng="-5400000"/>
                    <a:lnTo>
                      <a:pt x="0" y="18032"/>
                    </a:lnTo>
                    <a:arcTo wR="3600" hR="3600" stAng="10800000" swAng="-5400000"/>
                    <a:lnTo>
                      <a:pt x="18000" y="2163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TextBox 38"/>
              <p:cNvSpPr/>
              <p:nvPr/>
            </p:nvSpPr>
            <p:spPr>
              <a:xfrm>
                <a:off x="1841400" y="1932120"/>
                <a:ext cx="743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PART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0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6" name="直接连接符 41"/>
            <p:cNvSpPr/>
            <p:nvPr/>
          </p:nvSpPr>
          <p:spPr>
            <a:xfrm>
              <a:off x="2771280" y="2736000"/>
              <a:ext cx="3672360" cy="10440"/>
            </a:xfrm>
            <a:prstGeom prst="line">
              <a:avLst/>
            </a:prstGeom>
            <a:ln w="2844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7" name="Group 41"/>
          <p:cNvGrpSpPr/>
          <p:nvPr/>
        </p:nvGrpSpPr>
        <p:grpSpPr>
          <a:xfrm>
            <a:off x="1827360" y="2997360"/>
            <a:ext cx="4646520" cy="828360"/>
            <a:chOff x="1827360" y="2997360"/>
            <a:chExt cx="4646520" cy="828360"/>
          </a:xfrm>
        </p:grpSpPr>
        <p:grpSp>
          <p:nvGrpSpPr>
            <p:cNvPr id="598" name="Group 42"/>
            <p:cNvGrpSpPr/>
            <p:nvPr/>
          </p:nvGrpSpPr>
          <p:grpSpPr>
            <a:xfrm>
              <a:off x="1827360" y="2997360"/>
              <a:ext cx="839160" cy="828360"/>
              <a:chOff x="1827360" y="2997360"/>
              <a:chExt cx="839160" cy="828360"/>
            </a:xfrm>
          </p:grpSpPr>
          <p:sp>
            <p:nvSpPr>
              <p:cNvPr id="599" name="圆角矩形 46"/>
              <p:cNvSpPr/>
              <p:nvPr/>
            </p:nvSpPr>
            <p:spPr>
              <a:xfrm>
                <a:off x="1946520" y="3106080"/>
                <a:ext cx="720000" cy="719640"/>
              </a:xfrm>
              <a:prstGeom prst="roundRect">
                <a:avLst>
                  <a:gd name="adj" fmla="val 16667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圆角矩形 47"/>
              <p:cNvSpPr/>
              <p:nvPr/>
            </p:nvSpPr>
            <p:spPr>
              <a:xfrm>
                <a:off x="1866240" y="2997360"/>
                <a:ext cx="720000" cy="719640"/>
              </a:xfrm>
              <a:prstGeom prst="roundRect">
                <a:avLst>
                  <a:gd name="adj" fmla="val 16667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TextBox 48"/>
              <p:cNvSpPr/>
              <p:nvPr/>
            </p:nvSpPr>
            <p:spPr>
              <a:xfrm>
                <a:off x="1827360" y="3013200"/>
                <a:ext cx="78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PART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0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2" name="直接连接符 45"/>
            <p:cNvSpPr/>
            <p:nvPr/>
          </p:nvSpPr>
          <p:spPr>
            <a:xfrm>
              <a:off x="2802240" y="3815280"/>
              <a:ext cx="3671640" cy="10440"/>
            </a:xfrm>
            <a:prstGeom prst="line">
              <a:avLst/>
            </a:prstGeom>
            <a:ln w="2844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3" name="Group 47"/>
          <p:cNvGrpSpPr/>
          <p:nvPr/>
        </p:nvGrpSpPr>
        <p:grpSpPr>
          <a:xfrm>
            <a:off x="1857240" y="4076640"/>
            <a:ext cx="4646880" cy="828720"/>
            <a:chOff x="1857240" y="4076640"/>
            <a:chExt cx="4646880" cy="828720"/>
          </a:xfrm>
        </p:grpSpPr>
        <p:grpSp>
          <p:nvGrpSpPr>
            <p:cNvPr id="604" name="Group 48"/>
            <p:cNvGrpSpPr/>
            <p:nvPr/>
          </p:nvGrpSpPr>
          <p:grpSpPr>
            <a:xfrm>
              <a:off x="1857240" y="4076640"/>
              <a:ext cx="839160" cy="828720"/>
              <a:chOff x="1857240" y="4076640"/>
              <a:chExt cx="839160" cy="828720"/>
            </a:xfrm>
          </p:grpSpPr>
          <p:sp>
            <p:nvSpPr>
              <p:cNvPr id="605" name="圆角矩形 52"/>
              <p:cNvSpPr/>
              <p:nvPr/>
            </p:nvSpPr>
            <p:spPr>
              <a:xfrm>
                <a:off x="1976400" y="4185360"/>
                <a:ext cx="720000" cy="720000"/>
              </a:xfrm>
              <a:prstGeom prst="roundRect">
                <a:avLst>
                  <a:gd name="adj" fmla="val 16667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圆角矩形 53"/>
              <p:cNvSpPr/>
              <p:nvPr/>
            </p:nvSpPr>
            <p:spPr>
              <a:xfrm>
                <a:off x="1896120" y="4076640"/>
                <a:ext cx="720000" cy="720000"/>
              </a:xfrm>
              <a:prstGeom prst="roundRect">
                <a:avLst>
                  <a:gd name="adj" fmla="val 16667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TextBox 54"/>
              <p:cNvSpPr/>
              <p:nvPr/>
            </p:nvSpPr>
            <p:spPr>
              <a:xfrm>
                <a:off x="1857240" y="4092480"/>
                <a:ext cx="78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PART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0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8" name="直接连接符 51"/>
            <p:cNvSpPr/>
            <p:nvPr/>
          </p:nvSpPr>
          <p:spPr>
            <a:xfrm>
              <a:off x="2832120" y="4894920"/>
              <a:ext cx="3672000" cy="10440"/>
            </a:xfrm>
            <a:prstGeom prst="line">
              <a:avLst/>
            </a:prstGeom>
            <a:ln w="2844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9" name="TextBox 55"/>
          <p:cNvSpPr/>
          <p:nvPr/>
        </p:nvSpPr>
        <p:spPr>
          <a:xfrm>
            <a:off x="3226680" y="2060640"/>
            <a:ext cx="22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蓝与白</a:t>
            </a:r>
            <a:r>
              <a:rPr b="0" lang="en-US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相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Box 56"/>
          <p:cNvSpPr/>
          <p:nvPr/>
        </p:nvSpPr>
        <p:spPr>
          <a:xfrm>
            <a:off x="3271320" y="3049560"/>
            <a:ext cx="22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蓝与白</a:t>
            </a:r>
            <a:r>
              <a:rPr b="0" lang="en-US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相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57"/>
          <p:cNvSpPr/>
          <p:nvPr/>
        </p:nvSpPr>
        <p:spPr>
          <a:xfrm>
            <a:off x="3271320" y="4160880"/>
            <a:ext cx="22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蓝与白</a:t>
            </a:r>
            <a:r>
              <a:rPr b="0" lang="en-US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相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矩形 1"/>
          <p:cNvSpPr/>
          <p:nvPr/>
        </p:nvSpPr>
        <p:spPr>
          <a:xfrm rot="19387200">
            <a:off x="-1095120" y="-590400"/>
            <a:ext cx="4500720" cy="2158920"/>
          </a:xfrm>
          <a:custGeom>
            <a:avLst/>
            <a:gdLst>
              <a:gd name="textAreaLeft" fmla="*/ 0 w 4500720"/>
              <a:gd name="textAreaRight" fmla="*/ 4501080 w 450072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4505489" h="2162815">
                <a:moveTo>
                  <a:pt x="1622595" y="0"/>
                </a:moveTo>
                <a:lnTo>
                  <a:pt x="4505489" y="2162815"/>
                </a:lnTo>
                <a:lnTo>
                  <a:pt x="0" y="2162815"/>
                </a:lnTo>
                <a:lnTo>
                  <a:pt x="1622595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矩形 2"/>
          <p:cNvSpPr/>
          <p:nvPr/>
        </p:nvSpPr>
        <p:spPr>
          <a:xfrm rot="19387200">
            <a:off x="7658280" y="6256080"/>
            <a:ext cx="1830240" cy="534960"/>
          </a:xfrm>
          <a:custGeom>
            <a:avLst/>
            <a:gdLst>
              <a:gd name="textAreaLeft" fmla="*/ 0 w 1830240"/>
              <a:gd name="textAreaRight" fmla="*/ 1830600 w 183024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828892" h="535756">
                <a:moveTo>
                  <a:pt x="1828892" y="0"/>
                </a:moveTo>
                <a:lnTo>
                  <a:pt x="1426955" y="535756"/>
                </a:lnTo>
                <a:lnTo>
                  <a:pt x="714128" y="535756"/>
                </a:lnTo>
                <a:lnTo>
                  <a:pt x="0" y="0"/>
                </a:lnTo>
                <a:lnTo>
                  <a:pt x="1828892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直接连接符 4"/>
          <p:cNvSpPr/>
          <p:nvPr/>
        </p:nvSpPr>
        <p:spPr>
          <a:xfrm>
            <a:off x="4427640" y="1484280"/>
            <a:ext cx="4321080" cy="0"/>
          </a:xfrm>
          <a:prstGeom prst="line">
            <a:avLst/>
          </a:prstGeom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5"/>
          <p:cNvSpPr/>
          <p:nvPr/>
        </p:nvSpPr>
        <p:spPr>
          <a:xfrm>
            <a:off x="5243040" y="755640"/>
            <a:ext cx="22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蓝与白</a:t>
            </a:r>
            <a:r>
              <a:rPr b="0" lang="en-US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分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6" name="Group 6"/>
          <p:cNvGrpSpPr/>
          <p:nvPr/>
        </p:nvGrpSpPr>
        <p:grpSpPr>
          <a:xfrm>
            <a:off x="1469880" y="2467080"/>
            <a:ext cx="876600" cy="865080"/>
            <a:chOff x="1469880" y="2467080"/>
            <a:chExt cx="876600" cy="865080"/>
          </a:xfrm>
        </p:grpSpPr>
        <p:sp>
          <p:nvSpPr>
            <p:cNvPr id="617" name="同心圆 8"/>
            <p:cNvSpPr/>
            <p:nvPr/>
          </p:nvSpPr>
          <p:spPr>
            <a:xfrm>
              <a:off x="1469880" y="2467080"/>
              <a:ext cx="876600" cy="865080"/>
            </a:xfrm>
            <a:custGeom>
              <a:avLst/>
              <a:gdLst>
                <a:gd name="textAreaLeft" fmla="*/ 0 w 876600"/>
                <a:gd name="textAreaRight" fmla="*/ 876960 w 8766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1872208" h="1847798">
                  <a:moveTo>
                    <a:pt x="1080120" y="0"/>
                  </a:moveTo>
                  <a:cubicBezTo>
                    <a:pt x="1528835" y="68181"/>
                    <a:pt x="1872208" y="455941"/>
                    <a:pt x="1872208" y="923899"/>
                  </a:cubicBezTo>
                  <a:cubicBezTo>
                    <a:pt x="1872208" y="1391858"/>
                    <a:pt x="1528835" y="1779617"/>
                    <a:pt x="1080120" y="1847798"/>
                  </a:cubicBezTo>
                  <a:lnTo>
                    <a:pt x="1080120" y="1367018"/>
                  </a:lnTo>
                  <a:cubicBezTo>
                    <a:pt x="1268486" y="1308200"/>
                    <a:pt x="1404156" y="1131893"/>
                    <a:pt x="1404156" y="923899"/>
                  </a:cubicBezTo>
                  <a:cubicBezTo>
                    <a:pt x="1404156" y="715905"/>
                    <a:pt x="1268486" y="539598"/>
                    <a:pt x="1080120" y="480780"/>
                  </a:cubicBezTo>
                  <a:lnTo>
                    <a:pt x="1080120" y="0"/>
                  </a:lnTo>
                  <a:close/>
                  <a:moveTo>
                    <a:pt x="792088" y="0"/>
                  </a:moveTo>
                  <a:lnTo>
                    <a:pt x="792088" y="480780"/>
                  </a:lnTo>
                  <a:cubicBezTo>
                    <a:pt x="603722" y="539598"/>
                    <a:pt x="468052" y="715905"/>
                    <a:pt x="468052" y="923899"/>
                  </a:cubicBezTo>
                  <a:cubicBezTo>
                    <a:pt x="468052" y="1131893"/>
                    <a:pt x="603722" y="1308200"/>
                    <a:pt x="792088" y="1367018"/>
                  </a:cubicBezTo>
                  <a:lnTo>
                    <a:pt x="792088" y="1847798"/>
                  </a:lnTo>
                  <a:cubicBezTo>
                    <a:pt x="343373" y="1779617"/>
                    <a:pt x="0" y="1391858"/>
                    <a:pt x="0" y="923899"/>
                  </a:cubicBezTo>
                  <a:cubicBezTo>
                    <a:pt x="0" y="455941"/>
                    <a:pt x="343373" y="68181"/>
                    <a:pt x="792088" y="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TextBox 10"/>
            <p:cNvSpPr/>
            <p:nvPr/>
          </p:nvSpPr>
          <p:spPr>
            <a:xfrm>
              <a:off x="1716480" y="2637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9d9d9"/>
                  </a:solidFill>
                  <a:latin typeface="HelveticaNeueLT Std Blk Ex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9" name="Group 9"/>
          <p:cNvGrpSpPr/>
          <p:nvPr/>
        </p:nvGrpSpPr>
        <p:grpSpPr>
          <a:xfrm>
            <a:off x="1469880" y="3619440"/>
            <a:ext cx="876600" cy="865080"/>
            <a:chOff x="1469880" y="3619440"/>
            <a:chExt cx="876600" cy="865080"/>
          </a:xfrm>
        </p:grpSpPr>
        <p:sp>
          <p:nvSpPr>
            <p:cNvPr id="620" name="同心圆 8"/>
            <p:cNvSpPr/>
            <p:nvPr/>
          </p:nvSpPr>
          <p:spPr>
            <a:xfrm>
              <a:off x="1469880" y="3619440"/>
              <a:ext cx="876600" cy="865080"/>
            </a:xfrm>
            <a:custGeom>
              <a:avLst/>
              <a:gdLst>
                <a:gd name="textAreaLeft" fmla="*/ 0 w 876600"/>
                <a:gd name="textAreaRight" fmla="*/ 876960 w 8766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1872208" h="1847798">
                  <a:moveTo>
                    <a:pt x="1080120" y="0"/>
                  </a:moveTo>
                  <a:cubicBezTo>
                    <a:pt x="1528835" y="68181"/>
                    <a:pt x="1872208" y="455941"/>
                    <a:pt x="1872208" y="923899"/>
                  </a:cubicBezTo>
                  <a:cubicBezTo>
                    <a:pt x="1872208" y="1391858"/>
                    <a:pt x="1528835" y="1779617"/>
                    <a:pt x="1080120" y="1847798"/>
                  </a:cubicBezTo>
                  <a:lnTo>
                    <a:pt x="1080120" y="1367018"/>
                  </a:lnTo>
                  <a:cubicBezTo>
                    <a:pt x="1268486" y="1308200"/>
                    <a:pt x="1404156" y="1131893"/>
                    <a:pt x="1404156" y="923899"/>
                  </a:cubicBezTo>
                  <a:cubicBezTo>
                    <a:pt x="1404156" y="715905"/>
                    <a:pt x="1268486" y="539598"/>
                    <a:pt x="1080120" y="480780"/>
                  </a:cubicBezTo>
                  <a:lnTo>
                    <a:pt x="1080120" y="0"/>
                  </a:lnTo>
                  <a:close/>
                  <a:moveTo>
                    <a:pt x="792088" y="0"/>
                  </a:moveTo>
                  <a:lnTo>
                    <a:pt x="792088" y="480780"/>
                  </a:lnTo>
                  <a:cubicBezTo>
                    <a:pt x="603722" y="539598"/>
                    <a:pt x="468052" y="715905"/>
                    <a:pt x="468052" y="923899"/>
                  </a:cubicBezTo>
                  <a:cubicBezTo>
                    <a:pt x="468052" y="1131893"/>
                    <a:pt x="603722" y="1308200"/>
                    <a:pt x="792088" y="1367018"/>
                  </a:cubicBezTo>
                  <a:lnTo>
                    <a:pt x="792088" y="1847798"/>
                  </a:lnTo>
                  <a:cubicBezTo>
                    <a:pt x="343373" y="1779617"/>
                    <a:pt x="0" y="1391858"/>
                    <a:pt x="0" y="923899"/>
                  </a:cubicBezTo>
                  <a:cubicBezTo>
                    <a:pt x="0" y="455941"/>
                    <a:pt x="343373" y="68181"/>
                    <a:pt x="792088" y="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TextBox 14"/>
            <p:cNvSpPr/>
            <p:nvPr/>
          </p:nvSpPr>
          <p:spPr>
            <a:xfrm>
              <a:off x="1721880" y="37688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9d9d9"/>
                  </a:solidFill>
                  <a:latin typeface="HelveticaNeueLT Std Blk Ex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2" name="Group 12"/>
          <p:cNvGrpSpPr/>
          <p:nvPr/>
        </p:nvGrpSpPr>
        <p:grpSpPr>
          <a:xfrm>
            <a:off x="1490760" y="4724280"/>
            <a:ext cx="876240" cy="865440"/>
            <a:chOff x="1490760" y="4724280"/>
            <a:chExt cx="876240" cy="865440"/>
          </a:xfrm>
        </p:grpSpPr>
        <p:sp>
          <p:nvSpPr>
            <p:cNvPr id="623" name="同心圆 8"/>
            <p:cNvSpPr/>
            <p:nvPr/>
          </p:nvSpPr>
          <p:spPr>
            <a:xfrm>
              <a:off x="1490760" y="4724280"/>
              <a:ext cx="876240" cy="865440"/>
            </a:xfrm>
            <a:custGeom>
              <a:avLst/>
              <a:gdLst>
                <a:gd name="textAreaLeft" fmla="*/ 0 w 876240"/>
                <a:gd name="textAreaRight" fmla="*/ 876600 w 876240"/>
                <a:gd name="textAreaTop" fmla="*/ 0 h 865440"/>
                <a:gd name="textAreaBottom" fmla="*/ 865800 h 865440"/>
              </a:gdLst>
              <a:ahLst/>
              <a:rect l="textAreaLeft" t="textAreaTop" r="textAreaRight" b="textAreaBottom"/>
              <a:pathLst>
                <a:path w="1872208" h="1847798">
                  <a:moveTo>
                    <a:pt x="1080120" y="0"/>
                  </a:moveTo>
                  <a:cubicBezTo>
                    <a:pt x="1528835" y="68181"/>
                    <a:pt x="1872208" y="455941"/>
                    <a:pt x="1872208" y="923899"/>
                  </a:cubicBezTo>
                  <a:cubicBezTo>
                    <a:pt x="1872208" y="1391858"/>
                    <a:pt x="1528835" y="1779617"/>
                    <a:pt x="1080120" y="1847798"/>
                  </a:cubicBezTo>
                  <a:lnTo>
                    <a:pt x="1080120" y="1367018"/>
                  </a:lnTo>
                  <a:cubicBezTo>
                    <a:pt x="1268486" y="1308200"/>
                    <a:pt x="1404156" y="1131893"/>
                    <a:pt x="1404156" y="923899"/>
                  </a:cubicBezTo>
                  <a:cubicBezTo>
                    <a:pt x="1404156" y="715905"/>
                    <a:pt x="1268486" y="539598"/>
                    <a:pt x="1080120" y="480780"/>
                  </a:cubicBezTo>
                  <a:lnTo>
                    <a:pt x="1080120" y="0"/>
                  </a:lnTo>
                  <a:close/>
                  <a:moveTo>
                    <a:pt x="792088" y="0"/>
                  </a:moveTo>
                  <a:lnTo>
                    <a:pt x="792088" y="480780"/>
                  </a:lnTo>
                  <a:cubicBezTo>
                    <a:pt x="603722" y="539598"/>
                    <a:pt x="468052" y="715905"/>
                    <a:pt x="468052" y="923899"/>
                  </a:cubicBezTo>
                  <a:cubicBezTo>
                    <a:pt x="468052" y="1131893"/>
                    <a:pt x="603722" y="1308200"/>
                    <a:pt x="792088" y="1367018"/>
                  </a:cubicBezTo>
                  <a:lnTo>
                    <a:pt x="792088" y="1847798"/>
                  </a:lnTo>
                  <a:cubicBezTo>
                    <a:pt x="343373" y="1779617"/>
                    <a:pt x="0" y="1391858"/>
                    <a:pt x="0" y="923899"/>
                  </a:cubicBezTo>
                  <a:cubicBezTo>
                    <a:pt x="0" y="455941"/>
                    <a:pt x="343373" y="68181"/>
                    <a:pt x="792088" y="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TextBox 17"/>
            <p:cNvSpPr/>
            <p:nvPr/>
          </p:nvSpPr>
          <p:spPr>
            <a:xfrm>
              <a:off x="1739160" y="48830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9d9d9"/>
                  </a:solidFill>
                  <a:latin typeface="HelveticaNeueLT Std Blk Ex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5" name="矩形 18"/>
          <p:cNvSpPr/>
          <p:nvPr/>
        </p:nvSpPr>
        <p:spPr>
          <a:xfrm>
            <a:off x="2373480" y="3125880"/>
            <a:ext cx="4711680" cy="123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矩形 19"/>
          <p:cNvSpPr/>
          <p:nvPr/>
        </p:nvSpPr>
        <p:spPr>
          <a:xfrm>
            <a:off x="2367000" y="3295800"/>
            <a:ext cx="4710240" cy="45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矩形 20"/>
          <p:cNvSpPr/>
          <p:nvPr/>
        </p:nvSpPr>
        <p:spPr>
          <a:xfrm>
            <a:off x="2376360" y="4270320"/>
            <a:ext cx="4710240" cy="123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矩形 21"/>
          <p:cNvSpPr/>
          <p:nvPr/>
        </p:nvSpPr>
        <p:spPr>
          <a:xfrm>
            <a:off x="2368440" y="4441680"/>
            <a:ext cx="4711680" cy="44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矩形 22"/>
          <p:cNvSpPr/>
          <p:nvPr/>
        </p:nvSpPr>
        <p:spPr>
          <a:xfrm>
            <a:off x="2381400" y="5345280"/>
            <a:ext cx="4711680" cy="12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矩形 23"/>
          <p:cNvSpPr/>
          <p:nvPr/>
        </p:nvSpPr>
        <p:spPr>
          <a:xfrm>
            <a:off x="2374920" y="5514840"/>
            <a:ext cx="4710240" cy="46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矩形 24"/>
          <p:cNvSpPr/>
          <p:nvPr/>
        </p:nvSpPr>
        <p:spPr>
          <a:xfrm rot="19387200">
            <a:off x="5744880" y="5616360"/>
            <a:ext cx="3956040" cy="536400"/>
          </a:xfrm>
          <a:custGeom>
            <a:avLst/>
            <a:gdLst>
              <a:gd name="textAreaLeft" fmla="*/ 0 w 3956040"/>
              <a:gd name="textAreaRight" fmla="*/ 3956400 w 3956040"/>
              <a:gd name="textAreaTop" fmla="*/ 0 h 536400"/>
              <a:gd name="textAreaBottom" fmla="*/ 536760 h 536400"/>
            </a:gdLst>
            <a:ahLst/>
            <a:rect l="textAreaLeft" t="textAreaTop" r="textAreaRight" b="textAreaBottom"/>
            <a:pathLst>
              <a:path w="3956149" h="535757">
                <a:moveTo>
                  <a:pt x="3956149" y="1"/>
                </a:moveTo>
                <a:lnTo>
                  <a:pt x="3554213" y="535756"/>
                </a:lnTo>
                <a:lnTo>
                  <a:pt x="714130" y="535757"/>
                </a:lnTo>
                <a:lnTo>
                  <a:pt x="0" y="0"/>
                </a:lnTo>
                <a:lnTo>
                  <a:pt x="3956149" y="1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636" name="圆角矩形 15"/>
            <p:cNvSpPr/>
            <p:nvPr/>
          </p:nvSpPr>
          <p:spPr>
            <a:xfrm rot="2748000">
              <a:off x="301680" y="211320"/>
              <a:ext cx="493560" cy="4867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378064" h="1359908">
                  <a:moveTo>
                    <a:pt x="8208" y="70304"/>
                  </a:moveTo>
                  <a:cubicBezTo>
                    <a:pt x="51645" y="26867"/>
                    <a:pt x="111653" y="0"/>
                    <a:pt x="177935" y="0"/>
                  </a:cubicBezTo>
                  <a:lnTo>
                    <a:pt x="1138033" y="0"/>
                  </a:lnTo>
                  <a:cubicBezTo>
                    <a:pt x="1270598" y="0"/>
                    <a:pt x="1378064" y="107466"/>
                    <a:pt x="1378064" y="240031"/>
                  </a:cubicBezTo>
                  <a:lnTo>
                    <a:pt x="1378064" y="1200129"/>
                  </a:lnTo>
                  <a:cubicBezTo>
                    <a:pt x="1378064" y="1261775"/>
                    <a:pt x="1354825" y="1317994"/>
                    <a:pt x="1315969" y="1359908"/>
                  </a:cubicBezTo>
                  <a:lnTo>
                    <a:pt x="1079065" y="1129541"/>
                  </a:lnTo>
                  <a:lnTo>
                    <a:pt x="1086335" y="1091030"/>
                  </a:lnTo>
                  <a:lnTo>
                    <a:pt x="1086335" y="450590"/>
                  </a:lnTo>
                  <a:cubicBezTo>
                    <a:pt x="1086335" y="362162"/>
                    <a:pt x="1014649" y="290476"/>
                    <a:pt x="926220" y="290476"/>
                  </a:cubicBezTo>
                  <a:lnTo>
                    <a:pt x="285780" y="290476"/>
                  </a:lnTo>
                  <a:cubicBezTo>
                    <a:pt x="265344" y="290476"/>
                    <a:pt x="245802" y="294304"/>
                    <a:pt x="228154" y="302110"/>
                  </a:cubicBezTo>
                  <a:lnTo>
                    <a:pt x="0" y="80252"/>
                  </a:lnTo>
                  <a:cubicBezTo>
                    <a:pt x="2212" y="76462"/>
                    <a:pt x="5169" y="73342"/>
                    <a:pt x="8208" y="70304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custGeom>
              <a:avLst/>
              <a:gdLst>
                <a:gd name="textAreaLeft" fmla="*/ -360 w 493560"/>
                <a:gd name="textAreaRight" fmla="*/ 493560 w 493560"/>
                <a:gd name="textAreaTop" fmla="*/ 0 h 486360"/>
                <a:gd name="textAreaBottom" fmla="*/ 486360 h 486360"/>
              </a:gdLst>
              <a:ahLst/>
              <a:rect l="textAreaLeft" t="textAreaTop" r="textAreaRight" b="textAreaBottom"/>
              <a:pathLst>
                <a:path w="1378064" h="1359908">
                  <a:moveTo>
                    <a:pt x="8208" y="70304"/>
                  </a:moveTo>
                  <a:cubicBezTo>
                    <a:pt x="51645" y="26867"/>
                    <a:pt x="111653" y="0"/>
                    <a:pt x="177935" y="0"/>
                  </a:cubicBezTo>
                  <a:lnTo>
                    <a:pt x="1138033" y="0"/>
                  </a:lnTo>
                  <a:cubicBezTo>
                    <a:pt x="1270598" y="0"/>
                    <a:pt x="1378064" y="107466"/>
                    <a:pt x="1378064" y="240031"/>
                  </a:cubicBezTo>
                  <a:lnTo>
                    <a:pt x="1378064" y="1200129"/>
                  </a:lnTo>
                  <a:cubicBezTo>
                    <a:pt x="1378064" y="1261775"/>
                    <a:pt x="1354825" y="1317994"/>
                    <a:pt x="1315969" y="1359908"/>
                  </a:cubicBezTo>
                  <a:lnTo>
                    <a:pt x="1079065" y="1129541"/>
                  </a:lnTo>
                  <a:lnTo>
                    <a:pt x="1086335" y="1091030"/>
                  </a:lnTo>
                  <a:lnTo>
                    <a:pt x="1086335" y="450590"/>
                  </a:lnTo>
                  <a:cubicBezTo>
                    <a:pt x="1086335" y="362162"/>
                    <a:pt x="1014649" y="290476"/>
                    <a:pt x="926220" y="290476"/>
                  </a:cubicBezTo>
                  <a:lnTo>
                    <a:pt x="285780" y="290476"/>
                  </a:lnTo>
                  <a:cubicBezTo>
                    <a:pt x="265344" y="290476"/>
                    <a:pt x="245802" y="294304"/>
                    <a:pt x="228154" y="302110"/>
                  </a:cubicBezTo>
                  <a:lnTo>
                    <a:pt x="0" y="80252"/>
                  </a:lnTo>
                  <a:cubicBezTo>
                    <a:pt x="2212" y="76462"/>
                    <a:pt x="5169" y="73342"/>
                    <a:pt x="8208" y="70304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8" name="TextBox 6"/>
          <p:cNvSpPr/>
          <p:nvPr/>
        </p:nvSpPr>
        <p:spPr>
          <a:xfrm>
            <a:off x="1258920" y="13176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今生无缘，来生再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直角三角形 5"/>
          <p:cNvSpPr/>
          <p:nvPr/>
        </p:nvSpPr>
        <p:spPr>
          <a:xfrm rot="16200000">
            <a:off x="7308000" y="5021640"/>
            <a:ext cx="197964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0" name="Group 10"/>
          <p:cNvGrpSpPr/>
          <p:nvPr/>
        </p:nvGrpSpPr>
        <p:grpSpPr>
          <a:xfrm>
            <a:off x="1116000" y="1773360"/>
            <a:ext cx="5959440" cy="3875040"/>
            <a:chOff x="1116000" y="1773360"/>
            <a:chExt cx="5959440" cy="3875040"/>
          </a:xfrm>
        </p:grpSpPr>
        <p:sp>
          <p:nvSpPr>
            <p:cNvPr id="641" name="矩形 10"/>
            <p:cNvSpPr/>
            <p:nvPr/>
          </p:nvSpPr>
          <p:spPr>
            <a:xfrm>
              <a:off x="1116000" y="1773360"/>
              <a:ext cx="5959440" cy="3875040"/>
            </a:xfrm>
            <a:prstGeom prst="rect">
              <a:avLst/>
            </a:prstGeom>
            <a:noFill/>
            <a:ln w="38160">
              <a:solidFill>
                <a:srgbClr val="00b0f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TextBox 11"/>
            <p:cNvSpPr/>
            <p:nvPr/>
          </p:nvSpPr>
          <p:spPr>
            <a:xfrm>
              <a:off x="1653840" y="2156040"/>
              <a:ext cx="2441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故事章节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TextBox 12"/>
            <p:cNvSpPr/>
            <p:nvPr/>
          </p:nvSpPr>
          <p:spPr>
            <a:xfrm>
              <a:off x="3024000" y="4053240"/>
              <a:ext cx="309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b0f0"/>
                  </a:solidFill>
                  <a:latin typeface="Calibri"/>
                  <a:ea typeface="微软雅黑"/>
                </a:rPr>
                <a:t>过渡页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4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1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燕尾形 2"/>
          <p:cNvSpPr/>
          <p:nvPr/>
        </p:nvSpPr>
        <p:spPr>
          <a:xfrm>
            <a:off x="216000" y="6524640"/>
            <a:ext cx="377640" cy="333360"/>
          </a:xfrm>
          <a:custGeom>
            <a:avLst/>
            <a:gdLst>
              <a:gd name="textAreaLeft" fmla="*/ 0 w 377640"/>
              <a:gd name="textAreaRight" fmla="*/ 378000 w 377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燕尾形 3"/>
          <p:cNvSpPr/>
          <p:nvPr/>
        </p:nvSpPr>
        <p:spPr>
          <a:xfrm>
            <a:off x="522360" y="6524640"/>
            <a:ext cx="377640" cy="333360"/>
          </a:xfrm>
          <a:custGeom>
            <a:avLst/>
            <a:gdLst>
              <a:gd name="textAreaLeft" fmla="*/ 0 w 377640"/>
              <a:gd name="textAreaRight" fmla="*/ 378000 w 377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燕尾形 4"/>
          <p:cNvSpPr/>
          <p:nvPr/>
        </p:nvSpPr>
        <p:spPr>
          <a:xfrm>
            <a:off x="131436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燕尾形 5"/>
          <p:cNvSpPr/>
          <p:nvPr/>
        </p:nvSpPr>
        <p:spPr>
          <a:xfrm>
            <a:off x="160164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燕尾形 6"/>
          <p:cNvSpPr/>
          <p:nvPr/>
        </p:nvSpPr>
        <p:spPr>
          <a:xfrm>
            <a:off x="2448000" y="6524640"/>
            <a:ext cx="377640" cy="333360"/>
          </a:xfrm>
          <a:custGeom>
            <a:avLst/>
            <a:gdLst>
              <a:gd name="textAreaLeft" fmla="*/ 0 w 377640"/>
              <a:gd name="textAreaRight" fmla="*/ 378000 w 377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燕尾形 7"/>
          <p:cNvSpPr/>
          <p:nvPr/>
        </p:nvSpPr>
        <p:spPr>
          <a:xfrm>
            <a:off x="273672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燕尾形 8"/>
          <p:cNvSpPr/>
          <p:nvPr/>
        </p:nvSpPr>
        <p:spPr>
          <a:xfrm>
            <a:off x="3529080" y="6505560"/>
            <a:ext cx="377640" cy="331920"/>
          </a:xfrm>
          <a:custGeom>
            <a:avLst/>
            <a:gdLst>
              <a:gd name="textAreaLeft" fmla="*/ 0 w 377640"/>
              <a:gd name="textAreaRight" fmla="*/ 378000 w 37764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燕尾形 9"/>
          <p:cNvSpPr/>
          <p:nvPr/>
        </p:nvSpPr>
        <p:spPr>
          <a:xfrm>
            <a:off x="3833640" y="6505560"/>
            <a:ext cx="378000" cy="331920"/>
          </a:xfrm>
          <a:custGeom>
            <a:avLst/>
            <a:gdLst>
              <a:gd name="textAreaLeft" fmla="*/ 0 w 378000"/>
              <a:gd name="textAreaRight" fmla="*/ 378360 w 37800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燕尾形 10"/>
          <p:cNvSpPr/>
          <p:nvPr/>
        </p:nvSpPr>
        <p:spPr>
          <a:xfrm>
            <a:off x="4626000" y="6505560"/>
            <a:ext cx="377640" cy="331920"/>
          </a:xfrm>
          <a:custGeom>
            <a:avLst/>
            <a:gdLst>
              <a:gd name="textAreaLeft" fmla="*/ 0 w 377640"/>
              <a:gd name="textAreaRight" fmla="*/ 378000 w 37764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燕尾形 11"/>
          <p:cNvSpPr/>
          <p:nvPr/>
        </p:nvSpPr>
        <p:spPr>
          <a:xfrm>
            <a:off x="4915080" y="6505560"/>
            <a:ext cx="377640" cy="331920"/>
          </a:xfrm>
          <a:custGeom>
            <a:avLst/>
            <a:gdLst>
              <a:gd name="textAreaLeft" fmla="*/ 0 w 377640"/>
              <a:gd name="textAreaRight" fmla="*/ 378000 w 37764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燕尾形 12"/>
          <p:cNvSpPr/>
          <p:nvPr/>
        </p:nvSpPr>
        <p:spPr>
          <a:xfrm>
            <a:off x="5761080" y="6505560"/>
            <a:ext cx="377640" cy="331920"/>
          </a:xfrm>
          <a:custGeom>
            <a:avLst/>
            <a:gdLst>
              <a:gd name="textAreaLeft" fmla="*/ 0 w 377640"/>
              <a:gd name="textAreaRight" fmla="*/ 378000 w 37764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燕尾形 13"/>
          <p:cNvSpPr/>
          <p:nvPr/>
        </p:nvSpPr>
        <p:spPr>
          <a:xfrm>
            <a:off x="6048360" y="6505560"/>
            <a:ext cx="378000" cy="331920"/>
          </a:xfrm>
          <a:custGeom>
            <a:avLst/>
            <a:gdLst>
              <a:gd name="textAreaLeft" fmla="*/ 0 w 378000"/>
              <a:gd name="textAreaRight" fmla="*/ 378360 w 37800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燕尾形 14"/>
          <p:cNvSpPr/>
          <p:nvPr/>
        </p:nvSpPr>
        <p:spPr>
          <a:xfrm>
            <a:off x="684036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燕尾形 15"/>
          <p:cNvSpPr/>
          <p:nvPr/>
        </p:nvSpPr>
        <p:spPr>
          <a:xfrm>
            <a:off x="7147080" y="6524640"/>
            <a:ext cx="377640" cy="333360"/>
          </a:xfrm>
          <a:custGeom>
            <a:avLst/>
            <a:gdLst>
              <a:gd name="textAreaLeft" fmla="*/ 0 w 377640"/>
              <a:gd name="textAreaRight" fmla="*/ 378000 w 377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燕尾形 16"/>
          <p:cNvSpPr/>
          <p:nvPr/>
        </p:nvSpPr>
        <p:spPr>
          <a:xfrm>
            <a:off x="793908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燕尾形 17"/>
          <p:cNvSpPr/>
          <p:nvPr/>
        </p:nvSpPr>
        <p:spPr>
          <a:xfrm>
            <a:off x="822636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矩形 20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矩形 21"/>
          <p:cNvSpPr/>
          <p:nvPr/>
        </p:nvSpPr>
        <p:spPr>
          <a:xfrm>
            <a:off x="0" y="333360"/>
            <a:ext cx="9144000" cy="93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Group 21"/>
          <p:cNvGrpSpPr/>
          <p:nvPr/>
        </p:nvGrpSpPr>
        <p:grpSpPr>
          <a:xfrm>
            <a:off x="1601640" y="1512720"/>
            <a:ext cx="5959800" cy="3875400"/>
            <a:chOff x="1601640" y="1512720"/>
            <a:chExt cx="5959800" cy="3875400"/>
          </a:xfrm>
        </p:grpSpPr>
        <p:sp>
          <p:nvSpPr>
            <p:cNvPr id="665" name="矩形 36"/>
            <p:cNvSpPr/>
            <p:nvPr/>
          </p:nvSpPr>
          <p:spPr>
            <a:xfrm>
              <a:off x="1601640" y="1512720"/>
              <a:ext cx="5959800" cy="3875400"/>
            </a:xfrm>
            <a:prstGeom prst="rect">
              <a:avLst/>
            </a:prstGeom>
            <a:noFill/>
            <a:ln w="38160">
              <a:solidFill>
                <a:srgbClr val="00b0f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TextBox 37"/>
            <p:cNvSpPr/>
            <p:nvPr/>
          </p:nvSpPr>
          <p:spPr>
            <a:xfrm>
              <a:off x="1690560" y="2039400"/>
              <a:ext cx="2441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故事章节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TextBox 38"/>
            <p:cNvSpPr/>
            <p:nvPr/>
          </p:nvSpPr>
          <p:spPr>
            <a:xfrm>
              <a:off x="3060720" y="3936600"/>
              <a:ext cx="309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b0f0"/>
                  </a:solidFill>
                  <a:latin typeface="Calibri"/>
                  <a:ea typeface="微软雅黑"/>
                </a:rPr>
                <a:t>过渡页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8" name="TextBox 24"/>
          <p:cNvSpPr/>
          <p:nvPr/>
        </p:nvSpPr>
        <p:spPr>
          <a:xfrm>
            <a:off x="1314360" y="599112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感谢您，曾经出现在我的生命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Group 2"/>
          <p:cNvGrpSpPr/>
          <p:nvPr/>
        </p:nvGrpSpPr>
        <p:grpSpPr>
          <a:xfrm>
            <a:off x="2783520" y="660600"/>
            <a:ext cx="3576960" cy="3317400"/>
            <a:chOff x="2783520" y="660600"/>
            <a:chExt cx="3576960" cy="3317400"/>
          </a:xfrm>
        </p:grpSpPr>
        <p:sp>
          <p:nvSpPr>
            <p:cNvPr id="670" name="圆角矩形 15"/>
            <p:cNvSpPr/>
            <p:nvPr/>
          </p:nvSpPr>
          <p:spPr>
            <a:xfrm rot="2748000">
              <a:off x="3521880" y="1154160"/>
              <a:ext cx="2360880" cy="2329200"/>
            </a:xfrm>
            <a:custGeom>
              <a:avLst/>
              <a:gdLst>
                <a:gd name="textAreaLeft" fmla="*/ 0 w 2360880"/>
                <a:gd name="textAreaRight" fmla="*/ 2361240 w 2360880"/>
                <a:gd name="textAreaTop" fmla="*/ 0 h 2329200"/>
                <a:gd name="textAreaBottom" fmla="*/ 2329560 h 2329200"/>
              </a:gdLst>
              <a:ahLst/>
              <a:rect l="textAreaLeft" t="textAreaTop" r="textAreaRight" b="textAreaBottom"/>
              <a:pathLst>
                <a:path w="1378064" h="1359908">
                  <a:moveTo>
                    <a:pt x="8208" y="70304"/>
                  </a:moveTo>
                  <a:cubicBezTo>
                    <a:pt x="51645" y="26867"/>
                    <a:pt x="111653" y="0"/>
                    <a:pt x="177935" y="0"/>
                  </a:cubicBezTo>
                  <a:lnTo>
                    <a:pt x="1138033" y="0"/>
                  </a:lnTo>
                  <a:cubicBezTo>
                    <a:pt x="1270598" y="0"/>
                    <a:pt x="1378064" y="107466"/>
                    <a:pt x="1378064" y="240031"/>
                  </a:cubicBezTo>
                  <a:lnTo>
                    <a:pt x="1378064" y="1200129"/>
                  </a:lnTo>
                  <a:cubicBezTo>
                    <a:pt x="1378064" y="1261775"/>
                    <a:pt x="1354825" y="1317994"/>
                    <a:pt x="1315969" y="1359908"/>
                  </a:cubicBezTo>
                  <a:lnTo>
                    <a:pt x="1079065" y="1129541"/>
                  </a:lnTo>
                  <a:lnTo>
                    <a:pt x="1086335" y="1091030"/>
                  </a:lnTo>
                  <a:lnTo>
                    <a:pt x="1086335" y="450590"/>
                  </a:lnTo>
                  <a:cubicBezTo>
                    <a:pt x="1086335" y="362162"/>
                    <a:pt x="1014649" y="290476"/>
                    <a:pt x="926220" y="290476"/>
                  </a:cubicBezTo>
                  <a:lnTo>
                    <a:pt x="285780" y="290476"/>
                  </a:lnTo>
                  <a:cubicBezTo>
                    <a:pt x="265344" y="290476"/>
                    <a:pt x="245802" y="294304"/>
                    <a:pt x="228154" y="302110"/>
                  </a:cubicBezTo>
                  <a:lnTo>
                    <a:pt x="0" y="80252"/>
                  </a:lnTo>
                  <a:cubicBezTo>
                    <a:pt x="2212" y="76462"/>
                    <a:pt x="5169" y="73342"/>
                    <a:pt x="8208" y="70304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圆角矩形 15"/>
            <p:cNvSpPr/>
            <p:nvPr/>
          </p:nvSpPr>
          <p:spPr>
            <a:xfrm flipH="1" rot="18852000">
              <a:off x="3260520" y="1155240"/>
              <a:ext cx="2360880" cy="2329200"/>
            </a:xfrm>
            <a:custGeom>
              <a:avLst/>
              <a:gdLst>
                <a:gd name="textAreaLeft" fmla="*/ 360 w 2360880"/>
                <a:gd name="textAreaRight" fmla="*/ 2361600 w 2360880"/>
                <a:gd name="textAreaTop" fmla="*/ 0 h 2329200"/>
                <a:gd name="textAreaBottom" fmla="*/ 2329560 h 2329200"/>
              </a:gdLst>
              <a:ahLst/>
              <a:rect l="textAreaLeft" t="textAreaTop" r="textAreaRight" b="textAreaBottom"/>
              <a:pathLst>
                <a:path w="1378064" h="1359908">
                  <a:moveTo>
                    <a:pt x="8208" y="70304"/>
                  </a:moveTo>
                  <a:cubicBezTo>
                    <a:pt x="51645" y="26867"/>
                    <a:pt x="111653" y="0"/>
                    <a:pt x="177935" y="0"/>
                  </a:cubicBezTo>
                  <a:lnTo>
                    <a:pt x="1138033" y="0"/>
                  </a:lnTo>
                  <a:cubicBezTo>
                    <a:pt x="1270598" y="0"/>
                    <a:pt x="1378064" y="107466"/>
                    <a:pt x="1378064" y="240031"/>
                  </a:cubicBezTo>
                  <a:lnTo>
                    <a:pt x="1378064" y="1200129"/>
                  </a:lnTo>
                  <a:cubicBezTo>
                    <a:pt x="1378064" y="1261775"/>
                    <a:pt x="1354825" y="1317994"/>
                    <a:pt x="1315969" y="1359908"/>
                  </a:cubicBezTo>
                  <a:lnTo>
                    <a:pt x="1079065" y="1129541"/>
                  </a:lnTo>
                  <a:lnTo>
                    <a:pt x="1086335" y="1091030"/>
                  </a:lnTo>
                  <a:lnTo>
                    <a:pt x="1086335" y="450590"/>
                  </a:lnTo>
                  <a:cubicBezTo>
                    <a:pt x="1086335" y="362162"/>
                    <a:pt x="1014649" y="290476"/>
                    <a:pt x="926220" y="290476"/>
                  </a:cubicBezTo>
                  <a:lnTo>
                    <a:pt x="285780" y="290476"/>
                  </a:lnTo>
                  <a:cubicBezTo>
                    <a:pt x="265344" y="290476"/>
                    <a:pt x="245802" y="294304"/>
                    <a:pt x="228154" y="302110"/>
                  </a:cubicBezTo>
                  <a:lnTo>
                    <a:pt x="0" y="80252"/>
                  </a:lnTo>
                  <a:cubicBezTo>
                    <a:pt x="2212" y="76462"/>
                    <a:pt x="5169" y="73342"/>
                    <a:pt x="8208" y="70304"/>
                  </a:cubicBezTo>
                  <a:close/>
                </a:path>
              </a:pathLst>
            </a:custGeom>
            <a:solidFill>
              <a:srgbClr val="00b0f0"/>
            </a:solidFill>
            <a:ln w="324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2" name="TextBox 4"/>
          <p:cNvSpPr/>
          <p:nvPr/>
        </p:nvSpPr>
        <p:spPr>
          <a:xfrm>
            <a:off x="3862440" y="201600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995560" y="450864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f0"/>
                </a:solidFill>
                <a:latin typeface="Calibri"/>
                <a:ea typeface="微软雅黑"/>
              </a:rPr>
              <a:t>大结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6"/>
          <p:cNvSpPr/>
          <p:nvPr/>
        </p:nvSpPr>
        <p:spPr>
          <a:xfrm>
            <a:off x="3024360" y="5238720"/>
            <a:ext cx="30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  <a:ea typeface="微软雅黑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7"/>
          <p:cNvSpPr/>
          <p:nvPr/>
        </p:nvSpPr>
        <p:spPr>
          <a:xfrm>
            <a:off x="2195640" y="4270320"/>
            <a:ext cx="4711680" cy="123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8"/>
          <p:cNvSpPr/>
          <p:nvPr/>
        </p:nvSpPr>
        <p:spPr>
          <a:xfrm>
            <a:off x="2484360" y="3892680"/>
            <a:ext cx="41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f0"/>
                </a:solidFill>
                <a:latin typeface="Calibri"/>
                <a:ea typeface="微软雅黑"/>
              </a:rPr>
              <a:t>人生只若如初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7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8T06:56:12Z</dcterms:created>
  <dc:creator>Administrator</dc:creator>
  <dc:description/>
  <cp:keywords/>
  <dc:language>en-US</dc:language>
  <cp:lastModifiedBy>a</cp:lastModifiedBy>
  <dcterms:modified xsi:type="dcterms:W3CDTF">2015-03-17T05:37:33Z</dcterms:modified>
  <cp:revision>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