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453-7E60-408A-80FB-F720E278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B37-B29F-4A07-B3DB-90BE8D8C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4EF3C-3C46-4DCF-A3FF-38E9CC3A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D1E71-6A80-4E07-8682-625D635C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9FC4C-323F-4EFF-919D-FF1E20D7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187F0-B3B9-4555-A2DD-969E62C0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0E8AA-F526-41D3-9151-EA592CD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67684-F548-4AD1-8FDE-079431B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1F2A0-F810-4692-A4E6-25F3E9C6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B0B9C-677C-4796-93DD-3FECE2B9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FC0C0-81A7-4769-9840-DACB4344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9A18F-7A4F-4AF8-BCB1-3A961180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B65-2DDE-4078-82E9-7AC038FB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9EC91-20E4-42FA-80D7-E134E240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AF27C-E45C-478B-BE5E-20E7DF46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94B66-B389-4CD4-B345-3FEBDF17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51F2B-E3AA-43ED-BE16-8CA1F7B1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68A27-6309-4EFC-845C-D0EA40F1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B8E5C-97D9-4878-86C9-DADAA19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F89C7-EAC0-46AC-8DD7-A3B86BF7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13AF3-8621-4FD8-8E22-78E6F5A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B30D5-FF3A-48C5-9F73-8577BB4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54DEA-0A58-44F6-B055-8166818F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E20-FD0F-4658-AB15-3662C5C6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BE9F0-77B0-4161-8D9C-4F672809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B67FB-115F-4981-97E7-B92F28F4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9BBC9-7466-4752-9D57-4ABDCF08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41CC5-FD92-48BF-8905-DFA1D256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FAA73-138A-4545-A0D6-00E02B0A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FAF67-4CF4-4FFB-9606-27215D0D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E59BD-9AA2-437F-ABEB-E5204DC3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E7384-B1D2-47DE-89C7-F5ACF8F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B6045-13BE-4CD7-B048-892189FA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49CCB-84E1-480C-B089-CCEFE376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7572-9412-47CE-A798-FD172C10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F9109-9708-4DB8-9AAD-4B727515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D93D8-CBC6-43AA-8E92-871C1E69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B13FC-8F25-4113-AFE2-3D388481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C9A62-74E7-4231-88A2-A6965828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8F736-BA35-42F3-A676-6F4CFAC6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9DD16-71E7-439C-98D1-BDF8F45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95E13-F59D-4ECC-BA7C-DD8E3972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76761-B2F5-4AB8-9521-E3B98716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4F68B-F91F-42B4-834E-5692D77F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E83F8-58DE-43D7-A1B1-BF35CD62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D671-6896-4F8C-A3D8-E8184992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D6322-1D93-43F7-A0CB-B1977371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44D52-480F-4AF8-A709-26572842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15EFE-1DC5-483C-BEB1-A146A391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99D8A-0166-4C99-A10E-ED84CECF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EF9B2-941B-4A0E-BB88-A4B3B2BB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F20FD-DE7B-416B-A37E-5304B551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9D61B-5D27-446D-B050-3F1AD19D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B90BD-1397-403C-A6C5-AD5667A8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C40AB-544A-45DF-977C-1D03378E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9CCDB-0C59-41FB-B6D7-32BDF967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0E8D-A496-4995-B5F2-2C9F5148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7C6EB-0C0B-4FF5-BDC9-DD0C9DF9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4CCDC-DF5C-4BC9-B84A-5B35D9E4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85DDB-622D-44B8-989F-4AD40BEE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CDAED-C5D4-4F50-B0CA-11FDB21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C118E-61F9-4EC8-9C2D-8A5DD5B1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E87B9-3BD1-459D-9850-6FC7CD85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5600D-A26C-44A5-A2A6-68A7A33C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C34EB-F222-41F3-869E-05835D83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6F9F9-8ACC-4A25-B9AF-6B221B23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A76C6-20C4-481D-939E-DA5F6106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C73B-3B37-4D49-8F2D-4B3D5DDA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59AF5-851F-4968-AE59-36A3BF68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BF594-F003-4BC2-B0E6-F506F025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502DA-A5CA-4266-84BB-1B8CF95F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8BDA7-C828-44F3-B730-592A1597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E9FAC-19C3-4630-87B0-1A9EC867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5CB72-6E2E-413F-8B8C-EF7417E8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F40DA-3A3E-427A-BB65-67DA2438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44BE7-780A-45EF-BA4A-186FA82E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C0757-0625-4C44-80FF-2C5B1A2A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BED1-F151-4244-8932-9E099844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4EE7-8480-4D91-81D1-1887FB7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DE8-310C-48EC-9266-0BE8DA63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3DA-1E46-448D-BF90-4D30137E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83FA-D0A9-40E1-8723-A0591F8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F49E-0F35-44A3-A3A7-5CCA88C5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7AA3-5551-41C2-9FED-8622169D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6E4A-2C41-4626-879B-0EF2328C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DD32-161F-4523-8528-65771344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E8FD-3F93-46A1-8C92-EB852C11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26A9-3863-4237-813B-9578826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F0F5-4E73-4F45-88CB-B25E670E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087FD-7EF4-4528-98D0-D15C79DD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279A-CAFA-47AC-84C9-6C850995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207-7091-463A-BC8F-B5586161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BE76-24E1-4C8D-B0DF-DB9A078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E9CD-702E-4ADB-B231-334C50B3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1ADC-FC0F-42F8-B876-33EA4F6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0360-EA3D-43C2-80F9-1EA7593B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A44B-F0D3-44F8-AC35-66BF3E5D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DE34-8D77-421D-8481-BCFD1214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1325-699C-48C3-A427-AD9147BC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E228-C72D-4D4F-87EB-87B3839C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EAF4-A696-41E3-B64F-24448C9A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0EB10-0246-4D99-B5A5-C280995A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B9B-261C-42A9-B71E-5DF8CFB7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DF61-BF1C-4266-86BD-CF05BAD6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6CE59-EB15-448B-8218-A190345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702CA-9E99-4C29-9D18-CC4BA3E0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B018-9B67-4D6A-B718-498B7620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70A0-C2FE-4DE4-B16D-730AF9B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967F-9389-44D2-BFF9-1F826DF7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A39D-D457-4EFF-BB4D-646C5148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C940E-D917-4A8C-8FD3-544275EA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E7FF5-6DBA-4227-A68A-6AECF9F8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CBEE0-9D36-4EC5-9A86-12082D7E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C9A7-0604-4D3D-9C5B-8CA90968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A59A6-3348-4366-88F5-62847338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4EE8-8731-432D-A978-484E4CE0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BB7BC-A85B-456A-B228-8B45F367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D782B-0C99-47FB-AA89-471E19A1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1D13A-57F9-499E-8390-8570FC73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AB79E-E7A5-4F3B-AEDF-187FB323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D0C0D-25CF-4F27-ACCA-0738D0A8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64750-7053-4BF7-90CF-1D0218FA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C1BD-CE7B-43C8-BE08-3C23D09F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F09A-CFDC-4E96-9476-76080E93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1CF-AC66-49FD-8649-92A97DA6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A198-A86F-4AB3-BC9B-B0074638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259FD-88F7-4227-BC66-B07F19A7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9A32B-1788-4AB7-9AC1-EB148C65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3BC84-4436-4B90-A828-183580F2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35D66-F0D9-4DC7-A63F-B09AA53F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4844-1450-4BBE-9B21-8223EBF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722F-2F3E-4C4F-A0E2-4928D1E6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6C2EF-29F3-4D60-972C-E1B6B34C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B4676-2AA1-4FB9-8EDF-ACDFBD28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CD27F-9AA2-4CDA-8B2E-6FC7172C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198-E9CD-47A4-BCD0-4E1274C2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17202-45DB-45E0-B01F-0792B018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75B3-9E52-45C2-9E9A-83FBA547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3FA5D-CF2F-4508-AC48-E9C72872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E13EE-00FE-414F-9170-9AB2370A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25180-02AC-404B-B788-43C5A4C9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637B5-BFF5-41F0-AD90-AACD7FD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D16D3-4C8A-4366-A4E6-4AA6C0E9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1C96-3B4F-4530-B94B-F0E16C04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B59EE-3C7C-4D08-A912-CBF118EF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716D-2BE1-4420-BD97-7CB1E1B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698-0493-45FD-A73B-8B27AC3A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B3562-0646-493E-975B-E415DF87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E2C3A-09F1-4993-BA45-D6F7ADA1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2FB3C-9D95-4D62-A727-E074B136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547D-2AC8-4EED-B209-52167862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92511-0858-4C8D-8A21-6B7D1CF7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C0A0D-EC08-49AF-8BDA-194B366B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0A3BD-0526-45C2-B770-5EABE647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080DD-1CD1-474A-9C91-83566FD7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D1B30-95A4-4A4A-B452-63E4715E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C67A8-59F8-479A-A9EA-8C877D9D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1B4-D149-4D9C-84AC-E5E598D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37149-73BF-477D-81D4-1EA0F1C0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081AB-3DAF-418A-B6ED-9FFD0C4B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EB1EA-7385-4D54-8556-23B84A8B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3EBC4-7FB6-4247-9DDC-EAC5B904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2B59C-F8E9-442D-8F8E-7E716461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43C46-0D21-46E2-B899-80FF8857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986AB-3069-4EAC-AEFE-57779A46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0D917-1886-43FA-8D65-91D9403A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E62BA-D3E3-4421-A58F-D5FB9AF1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CD5A6-F6E7-44B7-886F-0F542B5B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我的文件\素材文件\3D小人\8.JPG"/>
          <p:cNvPicPr/>
          <p:nvPr/>
        </p:nvPicPr>
        <p:blipFill>
          <a:blip r:embed="rId2"/>
          <a:srcRect l="0" t="10264" r="7692" b="12823"/>
          <a:stretch/>
        </p:blipFill>
        <p:spPr>
          <a:xfrm>
            <a:off x="7429680" y="0"/>
            <a:ext cx="1714320" cy="1071720"/>
          </a:xfrm>
          <a:prstGeom prst="rect">
            <a:avLst/>
          </a:prstGeom>
          <a:ln w="0">
            <a:noFill/>
          </a:ln>
        </p:spPr>
      </p:pic>
      <p:sp>
        <p:nvSpPr>
          <p:cNvPr id="1" name="任意多边形 6"/>
          <p:cNvSpPr/>
          <p:nvPr/>
        </p:nvSpPr>
        <p:spPr>
          <a:xfrm>
            <a:off x="0" y="-15840"/>
            <a:ext cx="7858080" cy="1087560"/>
          </a:xfrm>
          <a:custGeom>
            <a:avLst/>
            <a:gdLst>
              <a:gd name="textAreaLeft" fmla="*/ 0 w 7858080"/>
              <a:gd name="textAreaRight" fmla="*/ 7858440 w 785808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7500958" h="3429024">
                <a:moveTo>
                  <a:pt x="0" y="0"/>
                </a:moveTo>
                <a:lnTo>
                  <a:pt x="7500958" y="0"/>
                </a:lnTo>
                <a:cubicBezTo>
                  <a:pt x="7118923" y="833988"/>
                  <a:pt x="7081776" y="2775409"/>
                  <a:pt x="7500958" y="3429024"/>
                </a:cubicBezTo>
                <a:lnTo>
                  <a:pt x="0" y="342902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87e2"/>
              </a:gs>
              <a:gs pos="100000">
                <a:srgbClr val="94c0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0F2A-694B-4991-8F6F-8352B228E544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F556-E74F-4777-8C18-509BA8662C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9312-A6F3-461B-93E6-78DAC911D3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B1D5-845D-460F-86EA-91FF810CF7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7F64-3140-47BD-BF9A-24A87D8EC1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417-0EF9-42E9-BECD-8B78172C85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FCCA-E975-45ED-B8FE-FC9B7AF8DE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0B01-89E9-4671-BF82-267858C476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3756-42CC-41DD-9A12-BD15A6FA49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1CC3-B2EE-4E03-AAA6-A45F6C89A6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89D9-A9C5-43E7-89E5-3E62A8372A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2E81-4EDE-4B31-8EBB-298B02BCFD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819F-B0DF-48C8-A405-B89EC86E63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:\我的文件\素材文件\3D小人\8.JPG"/>
          <p:cNvPicPr/>
          <p:nvPr/>
        </p:nvPicPr>
        <p:blipFill>
          <a:blip r:embed="rId2"/>
          <a:srcRect l="27275" t="0" r="0" b="0"/>
          <a:stretch/>
        </p:blipFill>
        <p:spPr>
          <a:xfrm>
            <a:off x="0" y="0"/>
            <a:ext cx="5334120" cy="5500800"/>
          </a:xfrm>
          <a:prstGeom prst="rect">
            <a:avLst/>
          </a:prstGeom>
          <a:ln w="0">
            <a:noFill/>
          </a:ln>
        </p:spPr>
      </p:pic>
      <p:sp>
        <p:nvSpPr>
          <p:cNvPr id="85" name="任意多边形 5"/>
          <p:cNvSpPr/>
          <p:nvPr/>
        </p:nvSpPr>
        <p:spPr>
          <a:xfrm>
            <a:off x="2571840" y="0"/>
            <a:ext cx="6572160" cy="6858000"/>
          </a:xfrm>
          <a:custGeom>
            <a:avLst/>
            <a:gdLst>
              <a:gd name="textAreaLeft" fmla="*/ 0 w 6572160"/>
              <a:gd name="textAreaRight" fmla="*/ 6572520 w 65721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6572360" h="5000660">
                <a:moveTo>
                  <a:pt x="857320" y="0"/>
                </a:moveTo>
                <a:lnTo>
                  <a:pt x="6572360" y="0"/>
                </a:lnTo>
                <a:lnTo>
                  <a:pt x="6572360" y="5000660"/>
                </a:lnTo>
                <a:lnTo>
                  <a:pt x="0" y="5000660"/>
                </a:lnTo>
                <a:cubicBezTo>
                  <a:pt x="642817" y="4346076"/>
                  <a:pt x="1643873" y="3303515"/>
                  <a:pt x="1786760" y="2470072"/>
                </a:cubicBezTo>
                <a:cubicBezTo>
                  <a:pt x="1929647" y="1636629"/>
                  <a:pt x="1513584" y="705005"/>
                  <a:pt x="857320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4"/>
          <p:cNvSpPr/>
          <p:nvPr/>
        </p:nvSpPr>
        <p:spPr>
          <a:xfrm>
            <a:off x="3000240" y="0"/>
            <a:ext cx="6143760" cy="6858000"/>
          </a:xfrm>
          <a:custGeom>
            <a:avLst/>
            <a:gdLst>
              <a:gd name="textAreaLeft" fmla="*/ 0 w 6143760"/>
              <a:gd name="textAreaRight" fmla="*/ 6144120 w 614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6143700" h="5000660">
                <a:moveTo>
                  <a:pt x="428660" y="0"/>
                </a:moveTo>
                <a:lnTo>
                  <a:pt x="6143700" y="0"/>
                </a:lnTo>
                <a:lnTo>
                  <a:pt x="6143700" y="5000660"/>
                </a:lnTo>
                <a:lnTo>
                  <a:pt x="0" y="5000660"/>
                </a:lnTo>
                <a:cubicBezTo>
                  <a:pt x="642817" y="4346076"/>
                  <a:pt x="1501004" y="3303515"/>
                  <a:pt x="1572447" y="2470072"/>
                </a:cubicBezTo>
                <a:cubicBezTo>
                  <a:pt x="1643890" y="1636629"/>
                  <a:pt x="1084924" y="705005"/>
                  <a:pt x="428660" y="0"/>
                </a:cubicBezTo>
                <a:close/>
              </a:path>
            </a:pathLst>
          </a:cu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3"/>
          <p:cNvSpPr/>
          <p:nvPr/>
        </p:nvSpPr>
        <p:spPr>
          <a:xfrm>
            <a:off x="3429000" y="0"/>
            <a:ext cx="5715000" cy="685800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15040" h="5000660">
                <a:moveTo>
                  <a:pt x="0" y="0"/>
                </a:moveTo>
                <a:lnTo>
                  <a:pt x="5715040" y="0"/>
                </a:lnTo>
                <a:lnTo>
                  <a:pt x="5715040" y="5000660"/>
                </a:lnTo>
                <a:lnTo>
                  <a:pt x="0" y="5000660"/>
                </a:lnTo>
                <a:cubicBezTo>
                  <a:pt x="642817" y="4346076"/>
                  <a:pt x="1358135" y="3303515"/>
                  <a:pt x="1358135" y="2470072"/>
                </a:cubicBezTo>
                <a:cubicBezTo>
                  <a:pt x="1358135" y="1636629"/>
                  <a:pt x="656264" y="705005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4b9fe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94CE-6C1F-4D94-AF3F-18883922B2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BFF6-3646-48CF-BE64-A5F76A7AD1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E20C-1F08-476A-BCEB-E491B9D0DF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EAEE-DC00-4905-B85D-A0B7A8A88C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F43-FBA0-43E9-BDD9-EB86FEA68A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2CAB-8369-4296-AFB3-21FB49222C3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7308-1271-4DAB-8AE3-E97E202C5D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D84A-78B1-42D0-A53C-039474E522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B65E-2172-42E5-AB6C-F8DCDC6E0A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A764-91AC-4EC1-AB87-F8B16A35AE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0C13-6921-4566-B171-21B1A26EC1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F602-AFCC-4D2A-8E10-F477618CD7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34D-2465-455C-8EDE-F864B84A5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55640" y="1701720"/>
            <a:ext cx="46818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860720" y="2781000"/>
            <a:ext cx="41576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5869080" y="2349360"/>
            <a:ext cx="2786040" cy="503280"/>
            <a:chOff x="5869080" y="2349360"/>
            <a:chExt cx="2786040" cy="503280"/>
          </a:xfrm>
        </p:grpSpPr>
        <p:sp>
          <p:nvSpPr>
            <p:cNvPr id="583" name="Rectangle 10"/>
            <p:cNvSpPr/>
            <p:nvPr/>
          </p:nvSpPr>
          <p:spPr>
            <a:xfrm>
              <a:off x="5869080" y="2349360"/>
              <a:ext cx="27860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8" descr="Unbenannt-2"/>
            <p:cNvPicPr/>
            <p:nvPr/>
          </p:nvPicPr>
          <p:blipFill>
            <a:blip r:embed="rId1"/>
            <a:stretch/>
          </p:blipFill>
          <p:spPr>
            <a:xfrm>
              <a:off x="6094080" y="2420640"/>
              <a:ext cx="28116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360" y="2565360"/>
            <a:ext cx="4748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细黑"/>
              </a:rPr>
              <a:t>感谢您的关注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58:23Z</dcterms:created>
  <dc:creator/>
  <dc:description/>
  <cp:keywords/>
  <dc:language>en-US</dc:language>
  <cp:lastModifiedBy>a</cp:lastModifiedBy>
  <cp:lastPrinted>1899-12-30T00:00:00Z</cp:lastPrinted>
  <dcterms:modified xsi:type="dcterms:W3CDTF">2015-02-10T01:59:1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