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move the slide</a:t>
            </a:r>
            <a:endParaRPr b="0" lang="en-US" sz="4400" spc="-1" strike="noStrike">
              <a:solidFill>
                <a:srgbClr val="4d4d4d"/>
              </a:solidFill>
              <a:latin typeface="Microsoft Sans Serif"/>
            </a:endParaRPr>
          </a:p>
        </p:txBody>
      </p:sp>
      <p:sp>
        <p:nvSpPr>
          <p:cNvPr id="5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877A-4434-4CBA-8EA3-394D93BEE6EA}"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625E-056E-4B7D-83B5-A8DCF41A8B76}"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6454-2238-4030-A6C9-733C893CAB54}"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C58E-DEA6-47A2-BC9C-654BF90A0C08}"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1B93C5-ABAB-4DA8-A4AA-D2E583EDB9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F4EBA8-5312-4891-BE8A-5448803DFC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1DFC1-433C-4848-A70A-4D3CC6EDF1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02F6B-2A01-46A2-A109-1188F2CFF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CCC3F0-6102-4BB2-9740-C8023D58B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0D76AB-E2F1-4F6E-A1D6-CF1F32D7B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2CE6A-23C7-4E1C-875E-2465D4ECF2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4E9418-3C88-4ED2-83B7-FECACDBBD0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555280-2AFD-48FD-B28C-2980D75B59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C5FB19-1E01-41D9-B3DB-3371CDB212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8FDCA8-7D83-4CE9-8FA0-35175F2ABB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E31A86-58C0-4A55-B2E2-23CB777F4F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E7F9D-BD31-420A-AF99-C5B11F26D0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90F696-8DAF-4D74-9696-D7148FE88E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E533E-319F-4813-9D58-CDDD798ED3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1B7C88-BFB3-46BF-85FF-A015D974FA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108671-FA13-4021-B5D8-331CEFB2B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0B33A-6CE8-4205-86A7-ABA7F194B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0884A3-08E1-4549-8DE8-9EC882325D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31B69B-59D8-435D-B77C-6F76EF6BC6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22AA1D-8E69-472D-837F-0666B64430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0E3BA8-7920-49D5-8FFC-2C65201844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728CE9-9CC8-4B23-9680-66C04E20A6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3630C1-F78D-4726-9F23-D6807F2454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C3AEFE-A38B-4617-9D93-C3EF899E29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D44562-CD80-4A17-8E18-F7268919F3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538D29-EFAF-4F5F-9272-8742E20F5B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C5368A-6CDA-45A6-9C20-739E7240C7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9C02CF-5296-44CC-88C3-FC1C7E589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2FC8B-D8BC-4C41-831B-3921F3C71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FEF2C-649D-4E9E-9AE9-0894F3451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8454E8-384C-425D-8D50-E45FE0EBA4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CE3711-537F-4AF6-A47E-D170245543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62DADD-50A0-4106-9BB8-32DD5D8864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9A4345-B489-4D18-8287-8CC957B47D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64072B-2A83-43AE-B073-34C6B7BD82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A8F7AF-1C27-4529-AD09-008C844C0D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F88EA4-0597-4099-82EC-456CD0A4AC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8B6E8B-AF3E-468D-A787-3593D8C735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A379A5-52EA-4A32-893E-D8CC77587B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258878-20E5-4B64-A815-6F1DC51D1C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7C390-D066-44E6-887E-240C204C4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23BD11-7348-4B5E-B643-1881DA57BA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2F11DD-408A-4119-8CCD-CDAF0951F4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E606BD-670A-4A6A-9396-33923CA5BA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52FC38-11DB-4FAD-8030-9F97F6CDA7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3AE52E-08ED-48A5-8324-4A77771B7E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594B95-1367-4046-921E-DCAFB79A0E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CA73F7-BDA3-402F-AA4C-AEE71E0117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B89F3C-F2A6-4F15-B104-DA83244C44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A7CD60-3F02-426D-93CA-5ED6C75F71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B9B238-38C2-4AC6-A7AD-31EDAEAA4C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C3D77-AA81-4CAC-99FC-87C6C8EAB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73907F-8196-41E9-BD86-180D5CC290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8D7B0F-7D66-4AD0-B5D3-8882290335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33B001-7569-4984-9CC8-8AC72471C1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0230F3-ECAF-439F-890B-0D9F2B5CCC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5C6FDB-305D-422C-A97D-E885A41336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938BC3-0E2A-4EB7-8754-D3916ED6C9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FE884B-2331-4CC7-8141-6ECD45BFA8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6AD270-BF5D-4B5D-BF05-21A0A1799E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350AAB-B049-457E-A730-05DE1EF77F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346A91-5569-4377-BED6-86BF84D01C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99D48-BECC-45CE-8AF9-A585C208E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052C95-F1C5-4821-A4F7-DAF7CD0E3D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A033FA-3384-4D2C-8911-B7747037FB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3864B0-2472-4D2B-8086-F0E8873979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B140DC-BBD6-4F20-85D9-74CFF43A4F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B5ADCA-8EB6-4D5A-802D-B52E1C3C74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9F271E-E377-4440-BBF1-16693F9D4D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0BBFF2-3771-4AF9-A9B8-8009CC30D8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9C737C-D0AE-4D6F-9607-3B703746464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DB3A40-40FB-494B-A45F-5FF9EBEBBAD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6317-19CC-4FE3-9CF8-D8EB46F7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591C8-8162-4E06-AF9B-8D4520AD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2706-7E79-4A6B-A947-9AA8C11F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34D5C-DBB3-42FE-AC78-8AECF519E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E0DF3-1806-43D5-A6B2-06BE9CA92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AD2E-759A-4CBB-A049-32DECB708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658F0-08B0-4616-AFC4-5B3E91299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4B120-50D1-4B71-86E0-59C3D8337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CC995-9242-4598-A29A-78483A032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6A908-3936-4EBD-A275-FC92D1DA6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A0D35-667B-495F-8011-A157E34B6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D136D-F35D-486A-BF96-BD9AD5A2F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CA55B-21DE-4059-9607-E3498C433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33419-8522-4567-97DE-BA4FBD4B8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5038A-414E-4653-82A9-4961B042F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F40AF-09F4-4C20-B404-233014AC6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82B17-9EBA-44A4-86DA-4F7F6D435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EC996-723F-4241-9D64-E9A20742A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8D962-D0C3-423C-BBB1-3560620F3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9791A-5A96-4212-B198-5CC1D43FC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795003-2683-44D2-9B6A-CF4224BF17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35ECE-06DD-410B-B369-86D6C21E8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4D6B2B-30ED-40A6-8DAF-98759DAC6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53BDE4-DFE0-4444-BD63-07B2861EB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097B9B-D35E-48C3-B702-9B6D30F2E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94F50-4C8A-4CC9-B4E4-207802119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6E963-EF52-4D6E-A0F2-496305D31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0239B-68BA-4FC8-869C-28FD0D7C3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A2B8A-CC25-4496-B4C5-23C58C9C5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15E04-8E19-4735-BC54-EE9CCDC68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170ED7-1111-4A83-8638-B9B9907989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12E563-A951-4C35-9217-6AF8A34D01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83DB7B-83BB-4752-8A77-144D715D30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DAE73-5F91-4948-9EA2-09635B36F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B6D5D-350F-4D97-9A00-C20ACDC34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A3FE47-A5CE-4AD6-B623-A0E9DA487A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2EEEF-EDEC-4831-A271-F8440A4E1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5DE2B0-75D6-4BE2-9AB7-D3FEA1740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D4494-38F4-4D12-82EF-83BE2566D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EEAD3-B1B7-46FC-A5D6-9AF9A967A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784C5-1A12-46BE-9C17-BCF70636D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DED69-1288-4842-85C7-48AC7EE71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5FD6AF-681E-4668-AED9-745A4D529F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088149-5479-4DDC-9CB2-888D3C102B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DBA645-B996-4BD1-912B-A177083972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0588A-2DFD-4F78-B47B-BE69D682C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2F6B6-2945-4D1F-BC46-C7AD98F15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ABD57-74A8-4EE2-BDD8-3E99C4C030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65A07D-75D7-4563-AC00-EC3C2FA28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2C5ED0-CD13-49AE-BE98-D40178E670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C0A65-0441-4B88-9E87-FA90C54D3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F28C4-0A1D-47AB-A55D-8E1B595BB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E00AE-A161-442B-ADE0-A5209C4FF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E52C93-CD5A-4C11-8FE5-273B14DBEA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9DB8E6-CC50-413B-A79D-D773B7EB48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0A3FEC-0A57-438E-83B9-7BE378B52A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BDA6C8-6836-4372-B485-6573687A31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FC5192-B5E3-440C-84ED-3E6604886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B5581F-FD31-4F4F-97A3-43C07954EA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9A03B2-AFB1-473F-A8EF-0735C0E0A5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A27247-5822-4695-A395-F92870F84F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8DEB8E-BB28-417E-B562-38AF71C37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8E4237-B868-481C-BA76-529D7E2F73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BB850-6B92-499F-9C6A-89A57DA7A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E0C30-B8B7-4727-89E7-66A09E414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DE0959-AB24-4602-A210-8FEA23A342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BBB092-F639-4F83-8D57-56456D3DB7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4F38F2-1D13-4EF5-A0F4-99AC6E9084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4A19EC-E7D5-492D-9E84-A0DB3A87ED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47C3A-1920-4468-8FD6-84C05034F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FDAAA6-6198-4E3D-9E5E-BCF7CE17A4F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807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895120"/>
            <a:ext cx="7315200" cy="3886200"/>
          </a:xfrm>
          <a:prstGeom prst="rect">
            <a:avLst/>
          </a:prstGeom>
          <a:noFill/>
          <a:ln w="0">
            <a:noFill/>
          </a:ln>
        </p:spPr>
        <p:txBody>
          <a:bodyPr lIns="90000" rIns="90000" tIns="46800" bIns="46800" anchor="t">
            <a:normAutofit fontScale="94000"/>
          </a:bodyPr>
          <a:p>
            <a:pPr marL="322200" indent="-3222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8400" indent="-268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7424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50408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E366-B6BB-42BE-8368-ED3F0F9E488B}"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36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FD29-0180-41A4-9612-6F280EF3A8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2AF9-AA11-4B2C-9460-2961D72549D2}"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C5CD-C7AE-4C6D-B924-411BB13DA7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C176-10B4-4C9B-AE1A-B4F90DD3D0D1}"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44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E828-8429-4A77-BC62-3ACDDD1C8F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04F4-23F0-4D96-A4CD-818CB06D8259}"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4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B6B8-C2AA-40DE-8656-B8C0D5000E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4C3F-839A-4308-ACF2-D2BE9C1ECCF7}"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53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22A3-E7A2-499F-ACB5-81B2EFAF40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0325-5FB6-4AA3-9F93-18A0D8622093}"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805C-9ECB-441A-9919-41B26DEAA5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807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80" name="PlaceHolder 2"/>
          <p:cNvSpPr>
            <a:spLocks noGrp="1"/>
          </p:cNvSpPr>
          <p:nvPr>
            <p:ph type="body"/>
          </p:nvPr>
        </p:nvSpPr>
        <p:spPr>
          <a:xfrm>
            <a:off x="990720" y="2895120"/>
            <a:ext cx="7315200" cy="3886200"/>
          </a:xfrm>
          <a:prstGeom prst="rect">
            <a:avLst/>
          </a:prstGeom>
          <a:noFill/>
          <a:ln w="0">
            <a:noFill/>
          </a:ln>
        </p:spPr>
        <p:txBody>
          <a:bodyPr lIns="90000" rIns="90000" tIns="46800" bIns="46800" anchor="t">
            <a:normAutofit fontScale="94000"/>
          </a:bodyPr>
          <a:p>
            <a:pPr marL="322200" indent="-3222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8400" indent="-268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7424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50408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9131-62D0-4C60-8E36-B92819EEAFF2}"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4957-45A3-4B88-AB9F-2360AF5D7E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1789-4FE8-4C6A-9A52-4001D974183F}"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16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261C-0AC3-4D92-836C-222DC6FD65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6EF7-8680-49FC-958E-9E1119EFBF1E}"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E076-FBEE-4773-A3AA-E01ADFAEAC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0179-EFA8-499C-A36D-25E88709637B}"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4920-728A-41E2-8123-7AE6F9DA88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9AEE-6625-4F2D-85B0-B92C671CFB7F}"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ACA0-A025-4147-9775-E22A53037C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E7C7-799E-4D18-A61D-117ED6479FAA}"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32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CD81-EC48-440D-9C0F-34BC968C76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miletemplates.co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43000" y="2104920"/>
            <a:ext cx="7772400" cy="704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4d4d4d"/>
              </a:solidFill>
              <a:latin typeface="Microsoft Sans Serif"/>
            </a:endParaRPr>
          </a:p>
        </p:txBody>
      </p:sp>
      <p:sp>
        <p:nvSpPr>
          <p:cNvPr id="576" name="PlaceHolder 2"/>
          <p:cNvSpPr>
            <a:spLocks noGrp="1"/>
          </p:cNvSpPr>
          <p:nvPr>
            <p:ph type="subTitle"/>
          </p:nvPr>
        </p:nvSpPr>
        <p:spPr>
          <a:xfrm>
            <a:off x="1143000" y="2733480"/>
            <a:ext cx="7772400" cy="533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90720" y="19807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4d4d4d"/>
              </a:solidFill>
              <a:latin typeface="黑体"/>
              <a:ea typeface="黑体"/>
            </a:endParaRPr>
          </a:p>
        </p:txBody>
      </p:sp>
      <p:sp>
        <p:nvSpPr>
          <p:cNvPr id="578" name="PlaceHolder 2"/>
          <p:cNvSpPr>
            <a:spLocks noGrp="1"/>
          </p:cNvSpPr>
          <p:nvPr>
            <p:ph/>
          </p:nvPr>
        </p:nvSpPr>
        <p:spPr>
          <a:xfrm>
            <a:off x="990720" y="2895120"/>
            <a:ext cx="7315200" cy="3886200"/>
          </a:xfrm>
          <a:prstGeom prst="rect">
            <a:avLst/>
          </a:prstGeom>
          <a:noFill/>
          <a:ln w="0">
            <a:noFill/>
          </a:ln>
        </p:spPr>
        <p:txBody>
          <a:bodyPr anchor="t">
            <a:normAutofit/>
          </a:bodyPr>
          <a:p>
            <a:pPr marL="343080" indent="-343080">
              <a:lnSpc>
                <a:spcPct val="80000"/>
              </a:lnSpc>
              <a:spcBef>
                <a:spcPts val="34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ea typeface="Gulim"/>
              </a:rPr>
              <a:t>Your Text here</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p:txBody>
      </p:sp>
      <p:sp>
        <p:nvSpPr>
          <p:cNvPr id="579" name="Rectangle 3"/>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baseline="-25000">
                <a:solidFill>
                  <a:srgbClr val="fedd02"/>
                </a:solidFill>
                <a:uFillTx/>
                <a:latin typeface="Microsoft Sans Serif"/>
                <a:ea typeface="宋体"/>
                <a:hlinkClick r:id="rId1"/>
              </a:rPr>
              <a:t>More Free PowerPoint Templates at SmileTemplates.co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4d4d4d"/>
              </a:solidFill>
              <a:latin typeface="Microsoft Sans Serif"/>
              <a:ea typeface="宋体"/>
            </a:endParaRPr>
          </a:p>
        </p:txBody>
      </p:sp>
      <p:sp>
        <p:nvSpPr>
          <p:cNvPr id="581"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582" name="Rectangle 3"/>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cd891c"/>
                </a:solidFill>
                <a:latin typeface="Microsoft Sans Serif"/>
                <a:ea typeface="宋体"/>
              </a:rPr>
              <a:t>More Free PowerPoint Templates at SmileTemplates.co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3" name="Group 2"/>
          <p:cNvGrpSpPr/>
          <p:nvPr/>
        </p:nvGrpSpPr>
        <p:grpSpPr>
          <a:xfrm>
            <a:off x="0" y="0"/>
            <a:ext cx="8466120" cy="6858000"/>
            <a:chOff x="0" y="0"/>
            <a:chExt cx="8466120" cy="6858000"/>
          </a:xfrm>
        </p:grpSpPr>
        <p:sp>
          <p:nvSpPr>
            <p:cNvPr id="584"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4d4d4d"/>
                </a:solidFill>
                <a:latin typeface="Arial"/>
              </a:endParaRPr>
            </a:p>
          </p:txBody>
        </p:sp>
        <p:pic>
          <p:nvPicPr>
            <p:cNvPr id="585"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586"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SmileTemplates.com</dc:creator>
  <dc:description/>
  <dc:language>en-US</dc:language>
  <cp:lastModifiedBy>a</cp:lastModifiedBy>
  <dcterms:modified xsi:type="dcterms:W3CDTF">2015-02-10T01:59:33Z</dcterms:modified>
  <cp:revision>125</cp:revision>
  <dc:subject/>
  <dc:title>Name of presentation</dc:title>
</cp:coreProperties>
</file>