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E2A6-D916-4A76-8098-9FA479C5E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8B16-F85A-402D-B295-283650EA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0A9834-8A14-454A-AF92-78A38B4F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E6D37D-9739-48DB-969A-2501A394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8CFE98-5D62-4404-8F0B-295395EC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3C8A1E-B6A5-4F44-9E4D-FE74A3AB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85272E-F618-4B20-877B-1A482CCF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6BA3F3-3114-4D4B-9DD6-E771F5CE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DE5178-4270-488C-AE22-08C40D72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702BF9-3BD3-44BF-98DD-543FB7C3C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A57861-8B4A-471D-ADF1-0094BB766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6EF1A2-9AD5-45A7-9297-AC1DE81E0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7603-1767-4F12-9AA8-DA6B29D46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157152-5E37-47F0-88CE-4E8AFCD6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547F12-F744-4A2E-BB4C-52180C26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F34FB9-C84C-40E4-A306-BF798785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94DF9A-580E-40D2-8FF8-D90BC4E0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AAF70A-321F-44F1-B14A-4332ECD0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DC3F82-52A9-4806-A82D-29088235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FD9753-93E2-40B7-AA91-D9F2C4FC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80DEB-C1AD-49B6-A1CC-E2D04E05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A31509-2840-45F7-A766-2342677F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6BF343-6FCC-4533-B156-92FC404A7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5722-2616-4341-92C7-11977CF9E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67CB04-FB33-45EC-9917-D83068226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E70BF1-AC26-4131-A2FA-726231701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E27FA4-0BA9-4646-B6C8-39730B9C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D7094-698B-4036-898E-14026614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BCF1C4-D7E0-4430-911D-0CA13D6D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3F3374-6660-4993-A5B5-485C6EEA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EA4CF9-66E5-4CCC-A5C4-E45B0F73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DE47E6-BCF5-4089-BFE3-2C9ECA29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7EDF6-2C00-48EF-BF11-BA8D242F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204EB-5C32-4B0D-88B3-7B629401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06012-CB4A-42D5-ABCC-4E26E6876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DC82CF-BEFE-425F-870C-0D5B9878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0D5598-0B87-4982-B13E-B3EB5CFA9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0F7CC-1D36-4359-889F-E4A28759A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D4DA53-C965-42B0-8A8E-171703E4C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D226E4-3621-4623-9AEE-994A6464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1DD09D-8323-4B92-8F2C-624114D1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BE522C-11A2-4A73-9D23-3CE64359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2249A4-4095-4BEC-AC98-A9CD6B43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A69904-EF90-42F3-9066-2C5AB949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FF79DA-EA56-4D7B-B208-69B55A37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20A5-AD60-44A2-8D13-4E96018BF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BEAC09-AC81-4C3A-A5DB-5EB786C8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5DB861-6353-45E9-9F1B-060927E8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A3F663-5552-49C1-8583-F8EE77A3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024E02-DEC5-429E-B7C6-907E954C9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D8CFB6-8BC5-4DFB-A937-5878878D5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86D54E-EFE4-46C3-BEF2-DC3586116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1AE906-4B36-4BD9-8D41-27C891B9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874DC0-8CD1-4575-B706-D994487B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D379DE-752B-49D2-B068-724ABB49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BBFE54-6FC4-47E3-8604-C32AF72F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827B-8AC9-4581-AF04-A498F662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2E6AC2-7C50-4D56-ADB5-6C3CEFE1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B87095-5D5C-486E-ACB7-0BB25CCA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3B271F-0ED8-4279-8E6B-161A8A2D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6E8256-7B8F-400F-BBDA-87CEAD6A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76BDA3-5F86-4864-80EB-53B8DBBD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0595F9-AABA-4FA0-AC16-8C5852B97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0B376D-3414-4177-BF8F-3AB0E71D2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A40B90-381E-4EE3-A140-0A3DFCE79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EABCD0-546C-4F24-A7D1-74AD3079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1B2006-3C7A-44B6-8AA0-9668F3AB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E0F1-0974-4E79-BADF-CD174609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AE239A-9AA8-49D4-8599-E994D198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2B8E15-1E21-44A5-8396-31E8DB19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30AB76-1CBB-4825-90A5-C6D329A4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DED4BA-2C0B-419F-87A8-4292036E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6871D4-5602-4A78-8223-AEA3E29F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A988C2-3C39-4B2F-AE3C-137D30AC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7EBDD9-CC87-47E5-8667-F3E14508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A0209B-60E1-480A-BF49-4C540902C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CEBDA7-19A8-4435-94E9-9DB6A0BE5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C361-02A9-47B8-B430-2B71E3EA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5A5F-6DA2-4544-8D7E-8589F136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8AF4-8E14-48C1-90BF-E3018D88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7AA8-E907-43CB-BC8B-84DC52EF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4D77-5EC1-45E9-9CEC-950B688E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4A75-F45E-41ED-AC8F-B0AF7A8E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1C37-ED7B-4D8B-BEE1-BCCB4B84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7CF9-F46D-4038-B258-E1A3C6157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88257-4EE6-436E-9EF9-40BDC8C82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9FA2B-03BB-4ABF-9F65-7D913DED2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D40EE-9140-45ED-9B2F-19612CF4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81342-A099-4902-AAB0-9969BC82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C91A2-13CE-47B4-8A3B-0448DD8B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18CFE-E9D1-4863-9972-D40C8C93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358E-BDD5-4A8A-B8B7-A5C75504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F4FAF-322A-46CC-AA37-44AEBF18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C4573-B388-4008-B035-5AC1CD35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30FF3-7412-40E5-BED1-9BEF8B97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3F98F-9A26-464F-BFFC-CB0EF588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ED940-EBA9-4C0F-97ED-DC1F4E56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4ADD7-2C22-454B-ADFC-491EE21A8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DBA90-0D64-4F38-BBD3-D860D1BC8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3CBB4-EDA1-48DA-BCDA-4097532D5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3598D-8FB2-41F9-A8A6-095C510F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E7738-2B7F-43DC-8DBA-B072BB4E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FB45-69DD-4DAC-A7CC-075F0AA2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BF1E4-7432-4310-9784-7DEF5607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FB315-9A27-4C9A-8625-C1061241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AD9F6-6C18-4AFF-A340-FCDE82B9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AFDD9-1DC2-411A-AC43-A88821E5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C23C2-B12C-452C-9569-356C0597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8ADF6-F422-47A2-8ACE-34970328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8273C-7E7E-400D-8432-A19416EA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25784-CE46-4AC0-9AFC-520A74E04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BE145-CFCD-4B33-824A-7D1CC26E5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51203-6C0C-4464-8BFF-63AAD8554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DE6D-C3B2-4A69-B8C2-397B1BA4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B2ABB-E4DE-49C9-B19D-CBCB0460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678AB-E72C-45A2-BE44-D297BBF1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6085E-9BA5-48DD-9F76-BC4E5C41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86BB0-C0A0-4F88-947A-9548EE1F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271E3-3D62-4E32-A1B4-C69E0AAE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E1BE1-A57A-4437-9C21-D6C7EE7A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EE016-A903-404F-8554-C4BD8044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DABC2-8F07-4939-8476-B83EBF5B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896F8-9512-4CE8-A863-5658AC19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59D60-1D81-40BC-90B0-D19862CBE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14E5-3280-4424-816C-B2B11C8E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C9C5A-222A-4A2F-B81F-A44DBD66F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1EBD6-C98E-4E95-BD44-7991C4B96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9CA7F-C97E-4F90-9124-37EB8BD6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5DA62-7E85-4D5A-8669-E172B448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E5584-F92A-4D4D-89CC-1BE613C9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F49BD-1AAD-4540-800F-577F78EB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7B12B-2ABF-4158-B048-D0D84E61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8B60C-E18A-4BC8-9ED0-B3E8414C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56A7C-FB3A-4430-86A0-0C33A6EB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98715-F688-4CE5-BA19-75CE7A9B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1B1F-5ACF-4D74-BD7F-5687E68E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6D43D-4EB0-418B-B5FE-0BEEFB69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F70AE-9FA0-4551-B3F8-C9A105899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30D5F-1598-4CC5-8FFD-5CDE750F3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EC850-6EA3-483C-A950-6F80A8AD4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4B8F4-36A8-43E1-AC39-652A3861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02734-5304-4FB1-BE9A-77D8F8F7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0DC3D-1A5A-429B-AC45-82860719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E1A68-A625-416E-BFBE-E134B171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81AA1-EDB9-4D5F-B144-440FE099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23DEB-D3FF-482F-8495-098D8F1D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4C45-5C38-4742-99F7-020F1F39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C04D1-9DA2-43BD-AED5-466300F3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5F03A-DC76-42ED-B964-F4517B90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32A81-3CDD-4D2C-A9B0-2BA65EDD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74FA4-A859-49B3-9782-DFC365426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E5AFD-2968-4005-A79D-3CDEB6EB9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4138B-E4C1-4BA3-B259-79275E72C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F930C-145E-4149-87CD-D0C1E230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6CF7B-CD14-4B1C-937C-507CF560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8F0EC-BFF4-4725-B551-A5876415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E05FB-C8F3-427A-B609-7D22AD0A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65E4-01C0-4667-A605-130378D8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EC591-8639-45DA-BDDA-FEFE8B7B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D1B24-AAB3-4FE5-8594-0FEA9356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B2B24-D2AE-4403-B76C-FCD6AEC2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F546D-7DA4-4ACF-8863-D6380709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EDEE0-BF20-4361-BBAC-0D649DE8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A5824-0A44-43C3-ACFB-525A26DF4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C8214-B780-4924-AA18-00E8E312D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527CF-AC7F-4FE6-B0AD-89341A7DB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0A9994-5D36-4FD6-965F-6DCFF6EF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1AFE6-5ABB-433D-937D-A4269AD7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6FEE-18FB-49A6-9236-822E740E79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A70C-01FC-4239-8E5C-F54EAD98FA1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7923-4494-4174-9232-DC103A5991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CF97-C261-478C-8405-CFB8BABC5F5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28AB-9E5C-48EA-8F32-C80EDFB0CA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8875-7530-4588-AB79-39C00FF1F95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1DCD-FB4A-44DE-9F92-7C5BB0C81A2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E613-DA06-4EF7-95D2-35D97D72144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CF3D-D345-4C41-8154-FDD8A3B92C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D0DE-675B-4CFB-BECB-10825490A49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706B-708E-4DF4-8473-95F0D48F99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2E24-235A-4A46-A5D3-A5BAF261201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1EFA-9822-456B-B107-68DBFF7AFE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95DA-B00F-4A3F-8A58-8C75A642B6F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C18D-AA9A-4DA8-9BDD-00CC8BB67DD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0128-C493-4457-9AE2-F35561E27A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0420-225C-494A-94DD-63AC202843C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ADB7-B79F-40E7-ACDA-83555F16C0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1678-5979-4FDC-BC65-4DD6665AA04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AA14-B074-49FF-8C66-6052C1F37E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A38F2-ECDD-4D96-B48F-B013A7C8285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D48E-CD79-499D-B859-730A80B5EA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053A-C01C-4600-879E-5CCF810CE86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F2CA-D50D-4055-A8E3-49FAC91867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0D09-7A0A-4CBB-A7ED-69458F8ABCD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E562-A263-49AA-ABB4-8E4E94B65A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职业生涯规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539280" y="3886200"/>
            <a:ext cx="72327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AutoShape 2"/>
          <p:cNvSpPr/>
          <p:nvPr/>
        </p:nvSpPr>
        <p:spPr>
          <a:xfrm>
            <a:off x="3132000" y="2133720"/>
            <a:ext cx="2664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f4c9"/>
              </a:gs>
              <a:gs pos="50000">
                <a:srgbClr val="99cc00"/>
              </a:gs>
              <a:gs pos="100000">
                <a:srgbClr val="e9f4c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3"/>
          <p:cNvSpPr/>
          <p:nvPr/>
        </p:nvSpPr>
        <p:spPr>
          <a:xfrm>
            <a:off x="3514680" y="2205000"/>
            <a:ext cx="210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前         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4"/>
          <p:cNvSpPr/>
          <p:nvPr/>
        </p:nvSpPr>
        <p:spPr>
          <a:xfrm>
            <a:off x="3132000" y="2852640"/>
            <a:ext cx="2664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f4c7"/>
              </a:gs>
              <a:gs pos="50000">
                <a:srgbClr val="99cc00"/>
              </a:gs>
              <a:gs pos="100000">
                <a:srgbClr val="e9f4c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5"/>
          <p:cNvSpPr/>
          <p:nvPr/>
        </p:nvSpPr>
        <p:spPr>
          <a:xfrm>
            <a:off x="3587760" y="2925720"/>
            <a:ext cx="18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自 我 分 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6"/>
          <p:cNvSpPr/>
          <p:nvPr/>
        </p:nvSpPr>
        <p:spPr>
          <a:xfrm>
            <a:off x="3132000" y="3573360"/>
            <a:ext cx="2664000" cy="455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f4c7"/>
              </a:gs>
              <a:gs pos="50000">
                <a:srgbClr val="99cc00"/>
              </a:gs>
              <a:gs pos="100000">
                <a:srgbClr val="e9f4c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7"/>
          <p:cNvSpPr/>
          <p:nvPr/>
        </p:nvSpPr>
        <p:spPr>
          <a:xfrm>
            <a:off x="3659040" y="3645000"/>
            <a:ext cx="174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环 境 分 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8"/>
          <p:cNvSpPr/>
          <p:nvPr/>
        </p:nvSpPr>
        <p:spPr>
          <a:xfrm>
            <a:off x="3132000" y="4292640"/>
            <a:ext cx="2664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f4c7"/>
              </a:gs>
              <a:gs pos="50000">
                <a:srgbClr val="99cc00"/>
              </a:gs>
              <a:gs pos="100000">
                <a:srgbClr val="e9f4c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9"/>
          <p:cNvSpPr/>
          <p:nvPr/>
        </p:nvSpPr>
        <p:spPr>
          <a:xfrm>
            <a:off x="3371760" y="4365720"/>
            <a:ext cx="22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生 涯 规 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10"/>
          <p:cNvSpPr/>
          <p:nvPr/>
        </p:nvSpPr>
        <p:spPr>
          <a:xfrm>
            <a:off x="3132000" y="5013360"/>
            <a:ext cx="2664000" cy="45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f4c7"/>
              </a:gs>
              <a:gs pos="50000">
                <a:srgbClr val="99cc00"/>
              </a:gs>
              <a:gs pos="100000">
                <a:srgbClr val="e9f4c7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1"/>
          <p:cNvSpPr/>
          <p:nvPr/>
        </p:nvSpPr>
        <p:spPr>
          <a:xfrm>
            <a:off x="3371760" y="5086440"/>
            <a:ext cx="22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实 施 方 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Group 12"/>
          <p:cNvGrpSpPr/>
          <p:nvPr/>
        </p:nvGrpSpPr>
        <p:grpSpPr>
          <a:xfrm>
            <a:off x="2484360" y="765000"/>
            <a:ext cx="4103640" cy="799200"/>
            <a:chOff x="2484360" y="765000"/>
            <a:chExt cx="4103640" cy="799200"/>
          </a:xfrm>
        </p:grpSpPr>
        <p:sp>
          <p:nvSpPr>
            <p:cNvPr id="587" name="AutoShape 13"/>
            <p:cNvSpPr/>
            <p:nvPr/>
          </p:nvSpPr>
          <p:spPr>
            <a:xfrm>
              <a:off x="2484360" y="765000"/>
              <a:ext cx="410364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7e9ff"/>
                </a:gs>
                <a:gs pos="50000">
                  <a:srgbClr val="0099ff"/>
                </a:gs>
                <a:gs pos="100000">
                  <a:srgbClr val="c7e9f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 Box 14"/>
            <p:cNvSpPr/>
            <p:nvPr/>
          </p:nvSpPr>
          <p:spPr>
            <a:xfrm>
              <a:off x="2753280" y="860760"/>
              <a:ext cx="3238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目   录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Group 2"/>
          <p:cNvGrpSpPr/>
          <p:nvPr/>
        </p:nvGrpSpPr>
        <p:grpSpPr>
          <a:xfrm>
            <a:off x="466560" y="333360"/>
            <a:ext cx="3313080" cy="1150920"/>
            <a:chOff x="466560" y="333360"/>
            <a:chExt cx="3313080" cy="1150920"/>
          </a:xfrm>
        </p:grpSpPr>
        <p:sp>
          <p:nvSpPr>
            <p:cNvPr id="590" name="AutoShape 3"/>
            <p:cNvSpPr/>
            <p:nvPr/>
          </p:nvSpPr>
          <p:spPr>
            <a:xfrm>
              <a:off x="567360" y="333360"/>
              <a:ext cx="3212280" cy="1150920"/>
            </a:xfrm>
            <a:prstGeom prst="leftArrow">
              <a:avLst>
                <a:gd name="adj1" fmla="val 50000"/>
                <a:gd name="adj2" fmla="val 69776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AutoShape 4"/>
            <p:cNvSpPr/>
            <p:nvPr/>
          </p:nvSpPr>
          <p:spPr>
            <a:xfrm>
              <a:off x="466560" y="333360"/>
              <a:ext cx="3212280" cy="1023480"/>
            </a:xfrm>
            <a:prstGeom prst="leftArrow">
              <a:avLst>
                <a:gd name="adj1" fmla="val 50000"/>
                <a:gd name="adj2" fmla="val 78465"/>
              </a:avLst>
            </a:prstGeom>
            <a:gradFill rotWithShape="0">
              <a:gsLst>
                <a:gs pos="0">
                  <a:srgbClr val="ccff3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前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AutoShape 5">
            <a:hlinkClick r:id="rId1" action="ppaction://hlinksldjump"/>
          </p:cNvPr>
          <p:cNvSpPr/>
          <p:nvPr/>
        </p:nvSpPr>
        <p:spPr>
          <a:xfrm>
            <a:off x="7956720" y="6308640"/>
            <a:ext cx="10080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0099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回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 3"/>
          <p:cNvGrpSpPr/>
          <p:nvPr/>
        </p:nvGrpSpPr>
        <p:grpSpPr>
          <a:xfrm>
            <a:off x="466560" y="333360"/>
            <a:ext cx="3313080" cy="1150920"/>
            <a:chOff x="466560" y="333360"/>
            <a:chExt cx="3313080" cy="1150920"/>
          </a:xfrm>
        </p:grpSpPr>
        <p:sp>
          <p:nvSpPr>
            <p:cNvPr id="595" name="AutoShape 4"/>
            <p:cNvSpPr/>
            <p:nvPr/>
          </p:nvSpPr>
          <p:spPr>
            <a:xfrm>
              <a:off x="567360" y="333360"/>
              <a:ext cx="3212280" cy="1150920"/>
            </a:xfrm>
            <a:prstGeom prst="leftArrow">
              <a:avLst>
                <a:gd name="adj1" fmla="val 50000"/>
                <a:gd name="adj2" fmla="val 69776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AutoShape 5"/>
            <p:cNvSpPr/>
            <p:nvPr/>
          </p:nvSpPr>
          <p:spPr>
            <a:xfrm>
              <a:off x="466560" y="333360"/>
              <a:ext cx="3212280" cy="1023480"/>
            </a:xfrm>
            <a:prstGeom prst="leftArrow">
              <a:avLst>
                <a:gd name="adj1" fmla="val 50000"/>
                <a:gd name="adj2" fmla="val 78465"/>
              </a:avLst>
            </a:prstGeom>
            <a:gradFill rotWithShape="0">
              <a:gsLst>
                <a:gs pos="0">
                  <a:srgbClr val="ccff3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自我分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AutoShape 6">
            <a:hlinkClick r:id="rId1" action="ppaction://hlinksldjump"/>
          </p:cNvPr>
          <p:cNvSpPr/>
          <p:nvPr/>
        </p:nvSpPr>
        <p:spPr>
          <a:xfrm>
            <a:off x="7956720" y="6308640"/>
            <a:ext cx="10080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0099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回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Group 3"/>
          <p:cNvGrpSpPr/>
          <p:nvPr/>
        </p:nvGrpSpPr>
        <p:grpSpPr>
          <a:xfrm>
            <a:off x="466560" y="333360"/>
            <a:ext cx="3313080" cy="1150920"/>
            <a:chOff x="466560" y="333360"/>
            <a:chExt cx="3313080" cy="1150920"/>
          </a:xfrm>
        </p:grpSpPr>
        <p:sp>
          <p:nvSpPr>
            <p:cNvPr id="600" name="AutoShape 4"/>
            <p:cNvSpPr/>
            <p:nvPr/>
          </p:nvSpPr>
          <p:spPr>
            <a:xfrm>
              <a:off x="567360" y="333360"/>
              <a:ext cx="3212280" cy="1150920"/>
            </a:xfrm>
            <a:prstGeom prst="leftArrow">
              <a:avLst>
                <a:gd name="adj1" fmla="val 50000"/>
                <a:gd name="adj2" fmla="val 69776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AutoShape 5"/>
            <p:cNvSpPr/>
            <p:nvPr/>
          </p:nvSpPr>
          <p:spPr>
            <a:xfrm>
              <a:off x="466560" y="333360"/>
              <a:ext cx="3212280" cy="1023480"/>
            </a:xfrm>
            <a:prstGeom prst="leftArrow">
              <a:avLst>
                <a:gd name="adj1" fmla="val 50000"/>
                <a:gd name="adj2" fmla="val 78465"/>
              </a:avLst>
            </a:prstGeom>
            <a:gradFill rotWithShape="0">
              <a:gsLst>
                <a:gs pos="0">
                  <a:srgbClr val="ccff3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环境分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AutoShape 6"/>
          <p:cNvSpPr/>
          <p:nvPr/>
        </p:nvSpPr>
        <p:spPr>
          <a:xfrm>
            <a:off x="7956720" y="6308640"/>
            <a:ext cx="10080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0099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回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3"/>
          <p:cNvGrpSpPr/>
          <p:nvPr/>
        </p:nvGrpSpPr>
        <p:grpSpPr>
          <a:xfrm>
            <a:off x="466560" y="333360"/>
            <a:ext cx="3313080" cy="1150920"/>
            <a:chOff x="466560" y="333360"/>
            <a:chExt cx="3313080" cy="1150920"/>
          </a:xfrm>
        </p:grpSpPr>
        <p:sp>
          <p:nvSpPr>
            <p:cNvPr id="605" name="AutoShape 4"/>
            <p:cNvSpPr/>
            <p:nvPr/>
          </p:nvSpPr>
          <p:spPr>
            <a:xfrm>
              <a:off x="567360" y="333360"/>
              <a:ext cx="3212280" cy="1150920"/>
            </a:xfrm>
            <a:prstGeom prst="leftArrow">
              <a:avLst>
                <a:gd name="adj1" fmla="val 50000"/>
                <a:gd name="adj2" fmla="val 69776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AutoShape 5"/>
            <p:cNvSpPr/>
            <p:nvPr/>
          </p:nvSpPr>
          <p:spPr>
            <a:xfrm>
              <a:off x="466560" y="333360"/>
              <a:ext cx="3212280" cy="1023480"/>
            </a:xfrm>
            <a:prstGeom prst="leftArrow">
              <a:avLst>
                <a:gd name="adj1" fmla="val 50000"/>
                <a:gd name="adj2" fmla="val 78465"/>
              </a:avLst>
            </a:prstGeom>
            <a:gradFill rotWithShape="0">
              <a:gsLst>
                <a:gs pos="0">
                  <a:srgbClr val="ccff3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涯规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7" name="AutoShape 6"/>
          <p:cNvSpPr/>
          <p:nvPr/>
        </p:nvSpPr>
        <p:spPr>
          <a:xfrm>
            <a:off x="7956720" y="6308640"/>
            <a:ext cx="10080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0099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回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Group 3"/>
          <p:cNvGrpSpPr/>
          <p:nvPr/>
        </p:nvGrpSpPr>
        <p:grpSpPr>
          <a:xfrm>
            <a:off x="466560" y="333360"/>
            <a:ext cx="3313080" cy="1150920"/>
            <a:chOff x="466560" y="333360"/>
            <a:chExt cx="3313080" cy="1150920"/>
          </a:xfrm>
        </p:grpSpPr>
        <p:sp>
          <p:nvSpPr>
            <p:cNvPr id="610" name="AutoShape 4"/>
            <p:cNvSpPr/>
            <p:nvPr/>
          </p:nvSpPr>
          <p:spPr>
            <a:xfrm>
              <a:off x="567360" y="333360"/>
              <a:ext cx="3212280" cy="1150920"/>
            </a:xfrm>
            <a:prstGeom prst="leftArrow">
              <a:avLst>
                <a:gd name="adj1" fmla="val 50000"/>
                <a:gd name="adj2" fmla="val 69776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AutoShape 5"/>
            <p:cNvSpPr/>
            <p:nvPr/>
          </p:nvSpPr>
          <p:spPr>
            <a:xfrm>
              <a:off x="466560" y="333360"/>
              <a:ext cx="3212280" cy="1023480"/>
            </a:xfrm>
            <a:prstGeom prst="leftArrow">
              <a:avLst>
                <a:gd name="adj1" fmla="val 50000"/>
                <a:gd name="adj2" fmla="val 78465"/>
              </a:avLst>
            </a:prstGeom>
            <a:gradFill rotWithShape="0">
              <a:gsLst>
                <a:gs pos="0">
                  <a:srgbClr val="ccff3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实施方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AutoShape 6"/>
          <p:cNvSpPr/>
          <p:nvPr/>
        </p:nvSpPr>
        <p:spPr>
          <a:xfrm>
            <a:off x="7956720" y="6308640"/>
            <a:ext cx="10080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0099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回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1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5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4T11:27:38Z</dcterms:created>
  <dc:creator/>
  <dc:description/>
  <cp:keywords/>
  <dc:language>en-US</dc:language>
  <cp:lastModifiedBy>a</cp:lastModifiedBy>
  <cp:lastPrinted>1899-12-30T00:00:00Z</cp:lastPrinted>
  <dcterms:modified xsi:type="dcterms:W3CDTF">2015-02-10T01:59:58Z</dcterms:modified>
  <cp:revision>1</cp:revision>
  <dc:subject/>
  <dc:title>职业生涯规划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