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E6E-40A9-475B-8333-B6E31419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5988-B389-4D26-B8AD-5D208BF8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F77E0-D33D-4B73-BCE6-B5997406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BB778-D41C-4487-8AEC-08B1BC80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2CDF3-0F5B-4978-9363-0408FA70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39531-56BA-4DB6-9AA5-B346D79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E727C-1A30-4D89-8A04-7AD4473A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10714-4B87-45CA-8CA4-391CE23B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CD2E7-BD14-4BAB-81DB-EE72985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BBE89-B846-4162-AEF4-587A5BBB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6F534-2498-4058-B932-D3520A8D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12D5F-1B5B-48D1-B914-8F060192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6DED-92EE-4801-ABB0-1061940A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FBA30-5031-4DEF-8A14-75B83791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FF0BF-6B81-4987-9CA2-E08FAB24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0B77-12EA-42BD-B6CF-6C2FD4B3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44BCC-55C8-4DFA-AD1D-C170229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B6147-E49A-4055-82D0-5CC5FCB3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42D6A-0E86-438A-AD6F-A965C2B1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CEBD9-9834-43B8-B7AA-97346E8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02F4E-AE94-473D-BD6C-680922EC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7AF4B-93BD-4E55-A681-1168B1B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210AA-D321-4CB1-B1D8-F5D4011C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F63-D2B1-4356-B0A7-1EC5082D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FBC6A-2FC3-4FD5-B6F4-FC6956A0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B3917-FF7C-4315-BA79-CD7B223E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63533-91E2-4631-A92A-6C48811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06FF1-9B40-4339-A389-2188E887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4A13D-E90B-4598-9244-806A8522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E700D-0B46-4AE6-A57E-0425FAC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3EAA2-994F-4561-AD78-BBF45963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AD0E5-B585-4DAE-B5EC-C7EE00A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10C7C-6D3C-4CEF-8BD2-143194A2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DCB52-4FDD-474E-8571-FC852C0A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5EB9-1072-42B0-8A23-8A4D8239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01F05-57E4-49F8-850F-0515D59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0A4BA-0FBC-4508-B377-876C84E3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A44EB-F975-4774-B5DB-4F2BAF70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0010B-6D93-46E5-B603-AB621757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BADC9-488A-47AD-AC84-8D6C6F7E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3FEC4-2797-4117-AD2C-3526650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0C741-5BC7-4208-AB58-438084BB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0F2E4-0FB8-4545-B615-923F22C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8AFA5-1F9E-4055-910E-B7DC30EB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158DE-6AD5-472C-87D0-17863321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0C90-F177-432A-9BB4-4F7526BE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4319A-56E8-4DC9-895B-97FC0285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0E53B-423D-43D5-A375-D5D6A176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5D766-E97C-4CF0-B31C-6E58576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1BCCB-8FB2-4AE0-8F3C-01EAE221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B2054-F847-46DE-9439-2C81885D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2BE95-2B6F-4CFB-B575-45506F8C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CFBE7-013A-4DEB-8E11-EB03CE63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CF430-8D72-4922-9DFD-35B3D9B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F5C4D-16D2-407A-8AC6-A36FDD57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0BF04-8D96-4FA0-87D7-5120F9A9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E4FB-FDDA-46F8-A079-2FCB4328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68B78-7B28-4ABD-9381-C5CB94B8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92F60-4D35-4EF0-A06F-49E5561F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3F441C-9665-4827-8A0E-2B0C508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559A4-A8C2-447C-9718-A64FBA64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59AA7-6D47-40BD-8E4B-9A476A3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DF960-CCA3-49B2-AB6B-1036F04D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F0B42-A16F-4323-83BA-507B5F84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E8F3-9D04-4379-AAB1-3570B8AC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BC87-2BCA-4B87-AFCA-D33ACF2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7400-0B0C-41C1-A6A0-58850207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89F6-9BAE-4029-B46C-972D5615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9117-F19A-46BE-AD44-B383A479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5631-9E8F-435F-A3DC-394CF647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F03D-F27A-440E-B133-7053435B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1EDF-EA81-4C7E-81B1-536633D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CAEB-8B61-46E8-94CB-2A01646E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FC37-7CB4-43E4-92F6-898B908B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259E0-6A56-4602-913D-63323C45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4A84-32E4-427C-B64B-4F0DD1C5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5581-8421-48F0-AAA8-C3EE7BC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E6F2E-219B-42CF-813D-FD61EAF6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BE5F4-C710-4C68-A230-4B010F93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4BA-F8A3-477D-BAA7-C9D0B30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B0BC-EB87-4DF4-889F-04C95300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DB3C-6BC7-4A7C-9317-EBC14D1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AED5-E6E1-467E-B38B-4118CAB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E455-2315-436C-9411-6224E167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B11AE-7FFE-41BE-8D06-BD8410EA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1A48-BC56-4AF9-8ED1-12922470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D354-859A-4867-88D7-33D61171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CB2A-621C-4222-AC93-1BB12D5A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C78E7-92A2-41A7-BF84-FE693D5C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9C7A-7111-4906-B8AF-84CC7CCF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D31-BD4D-4E97-B454-648D76BB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FC99-67D9-41F3-B593-DB1A27DD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4C7D-C1C3-4982-8C92-6120FD18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08812-A0D2-442C-8F13-6E74259B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20FE3-FB7C-441B-85CF-CC86614F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623C-4318-4558-A725-8D23263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7FE63-0E8A-496F-8281-585A9957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22E3-6474-4E6A-BD15-1D70586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8F28C-6ADB-4EE2-8500-843F85C9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DA118-EEE6-497E-9234-C2A09E48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C4C4-BF14-4B87-AC33-511B04A5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89A-B04A-41CA-BEC6-B50702D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7F75D-90F2-4A3A-B47D-82FE5FA2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90C57-6371-468A-B92B-499D7E7B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A180-A2B7-443C-88A0-CDE25196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9872-1974-4AD1-82F3-3AECAA23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A2A4A-7170-49F7-ADAB-9BFDAC3D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133F-7D85-43F7-B933-30BED7AC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87D5-DA28-4FBC-A1B4-357269EB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121F-8C6C-4F2D-BB58-1617583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B151-A240-4CB0-B23A-E7136AF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F864-DAD1-4066-A841-760ABF42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256-A974-4D44-8946-C7CE47C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3F93-A16A-46B8-811C-4650BD5E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2340B-526B-4A49-BC68-E0519708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EF7D-958D-42B7-8B22-B193E3BE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2B3B6-21DB-4FF3-A0DA-987D1CA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EA79-A6EC-4B0B-A297-2E2513C7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A38A9-4BCB-4121-9747-1CF5DEE3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F7C8-3FDB-4557-A9BC-DF870F5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8268F-F302-4CB1-B320-08788ED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979E5-1BA0-4D94-B47C-6115201C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FDA64-FF79-4102-9F4A-3EDFBCB5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905-5F79-437D-9314-317D39C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2D621-5DC9-460B-8E77-95CDA91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FE0E-AFE9-4450-8E2C-AD421176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DC168-0D4F-4203-972A-6F3714CE7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EF24-9EAE-4622-963E-9A11A201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ACCF5-5978-45B4-BD1F-0E6F66E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B783F-4E0F-4092-A14D-517DF2AC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27174-25CE-4049-AED2-4398BE9E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D384-32DD-4681-ADD4-DDA6FF20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CBFA7-ECB9-4A7C-9FE0-5B519914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2B6C7-803D-4C4B-95D7-04F059A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161-C630-4BF2-B833-09BB8EE6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E4C13-AE77-4DF8-BD4B-3D76237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B902C-2373-44ED-97DF-C53DBEF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488F5-7918-4AED-A413-A03BB25D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C07A3-51FE-48C1-B048-610655F3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C553-D0EE-449E-B0EF-1C47120C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D3800-9DFA-4A4D-A139-A1C16E8F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8891-F7BF-4549-A6FF-42ED7928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B7A7-EB5A-41A9-AF51-BBAF3793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CF09D-1523-47A3-BEE5-3150581A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065C1-4F86-4DE2-83E8-BF28C739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21F-079D-4D32-9982-2467CEF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4421-D227-42B0-A3D3-AF44413E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274B2-6A6E-4EF5-94FF-9EFE244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139A6-E199-4192-AB8B-819E8BD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C5E84-2866-4F4B-9243-FAEFC7F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B242C-56E7-4AEB-B648-6E1E0E1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7E095-B673-4BA9-87AA-3595E9B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E9D21-E8C8-4E28-BE47-BA1AAB8F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29785-E9A8-40BE-BFA3-B6EB5AD3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84EFE-F1F0-4C60-A9B3-EE5E4350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F86E9-83A1-478F-A518-2078B74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711A-8427-40DB-AC86-333E669BC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D3DB-B63E-4D83-855B-1BF23EFEB0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AC6F-AC84-433A-B298-0A7C90CED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5F2-FAF3-4C95-8611-97D0A93ACD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EBB0-E7D9-4CBA-9EFA-D354683D6D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B38-29F2-4532-91B4-57848F28EE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7E18-7FA2-4FB9-95B6-EFF22A5B0C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4F2B-3681-4E8E-A759-168D567A40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AB8A-E6E7-451C-914E-AC20AF8F57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36B0-1B23-48D8-B871-6745F68C75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6DAE-54E8-473F-99B8-6C0CA9B915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5487-CB43-4729-B019-DB032DBB81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2815-76F0-4A6B-B114-F668F07E1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44AE-DC27-49C7-BAA3-ED30DE31C8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BA23-CF23-41B6-A435-4DB19B8F6D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85AF-E527-44E0-B5B8-5092FD8EC3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EB73-47C7-4B41-AE23-32B629C187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F2AF-0B95-4266-98EE-83576FB655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D20D-03A1-41CD-9F34-9C4CABF3EF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564E-4723-4C5A-BD82-0948DDBE71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CC7-8381-4E65-9379-99737F32A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4401-B6DF-40B6-90D7-67A1F5C4FC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F73C-4E6A-47AD-B17F-47FD0A6CC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F508-46BA-494E-9A50-AB59C62A9D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A3F-AF7B-4125-ABF7-F883271D74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智利柯尔诺德裴恩山＆拉哥裴赫湖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2697120" y="17733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Arial"/>
                <a:ea typeface="隶书"/>
              </a:rPr>
              <a:t>答谢中书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611280" y="836640"/>
            <a:ext cx="82087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背诵课文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从哪些角度来写景？写出了自然景物的什么特点？表达了作者怎样的思想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抓住景物的灵魂，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万物的勃勃生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低、远近、动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变化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视觉、听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立体感受，来传达自己与自然相融合的生命愉悦，体现了作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酷爱自然、归隐林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志趣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179280" y="0"/>
            <a:ext cx="89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抒情赏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611280" y="665280"/>
            <a:ext cx="853272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迷你简启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总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山川之美，古来共谈，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是山川风物的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观形态，是作者对山川风物的愉悦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迷你简启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抒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ff0000"/>
              </a:buClr>
              <a:buFont typeface="迷你简启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实是欲界之仙都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：尽现在山水之中飘飘欲仙的自得之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ff0000"/>
              </a:buClr>
              <a:buFont typeface="迷你简启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自康乐以来，未复有能与其奇者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：期与谢灵运比肩，显自豪之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迷你简启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表达作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沉醉山水的愉悦之情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与古今知音共赏美景的得意之感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468360" y="2930040"/>
            <a:ext cx="8675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陶弘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2—5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梁时著名高道、炼丹家、医药家、文学家、学者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谢中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有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峰入云，清流见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名句，这是他一生品格的写照。他道儒释三教兼收，上识天文地理，下晓物产人事，琴棋书画，经书文学，无所不通。他曾经担任诸王的侍读，因看透了混浊的人世，后隐居句曲山，可是“国家每有吉凶征讨大事，无不前以咨询，月中常有数信，时人谓为‘‘山中宰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迷你简启体"/>
              </a:rPr>
              <a:t>答谢中书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迷你简启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迷你简启体"/>
              </a:rPr>
              <a:t>陶弘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684360" y="1457280"/>
            <a:ext cx="7991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山川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之美，古来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共谈。高峰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入云，清流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见底。两岸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石壁，五色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交辉。青林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翠竹，四时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俱备。晓雾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将歇，猿鸟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乱鸣；夕日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欲颓，沉鳞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竞跃。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实是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欲界之仙都。自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康乐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以来，未复有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能与其奇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4"/>
          <p:cNvSpPr/>
          <p:nvPr/>
        </p:nvSpPr>
        <p:spPr>
          <a:xfrm>
            <a:off x="684360" y="692280"/>
            <a:ext cx="7986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中书即谢征，陶弘景给谢征的这封回信，称道江南山水之美，笔笼山川，纸纳四时，文辞清丽，为六朝山水小品名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714240" y="4355280"/>
            <a:ext cx="7956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书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古人的书信又叫“尺牍”或曰“信札”，是一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用性文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中国古代的抒情散文即始于书信，书信的实用性和审美性的结合十分完美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430200" y="12798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山川之美，古来共谈。高峰入云，清流见底。两岸石壁，五色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交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青林翠竹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四时俱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晓雾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猿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鸣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夕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鳞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跃。实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欲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仙都。自康乐以来，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与其奇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1187280" y="3284640"/>
            <a:ext cx="6840720" cy="3110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俱备：都具备。        乱：随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夕日：夕阳。            欲：将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鳞：鱼，借代。        竞：争相。              复：再。                   其：这种。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奇者：奇丽的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71280" y="1628640"/>
            <a:ext cx="88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川之美，古来共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0" y="2852640"/>
            <a:ext cx="896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川景色的美丽，自古以来就是文人雅士共同谈论的话题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324000" y="620640"/>
            <a:ext cx="9144000" cy="55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高峰入云，清流见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岸石壁，五色交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青林翠竹，四时俱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1341360"/>
            <a:ext cx="94680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巍峨的山峰耸入云端，明净的溪流清澈见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岸的石壁色彩斑斓，交相辉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葱的林木，翠绿的竹丛，四季长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179280" y="1557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的薄雾将要消散的时候，猿、鸟的鸣叫声此起彼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夕阳快要落山的时候，潜游在水中的鱼儿争相跳出水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79280" y="6206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晓雾将歇，猿鸟乱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夕阳欲颓，沉鳞竞跃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179280" y="1197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是欲界之仙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康乐以来，未复有能与其奇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179280" y="1989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实在是人间的仙境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从南朝的谢灵运以来，就不再有人能够欣赏这种奇丽景色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3:06:22Z</dcterms:created>
  <dc:creator>陈剑军</dc:creator>
  <dc:description/>
  <dc:language>en-US</dc:language>
  <cp:lastModifiedBy>a</cp:lastModifiedBy>
  <dcterms:modified xsi:type="dcterms:W3CDTF">2015-02-10T11:44:59Z</dcterms:modified>
  <cp:revision>4</cp:revision>
  <dc:subject/>
  <dc:title>幻灯片 1</dc:title>
</cp:coreProperties>
</file>