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891-FAB3-4BC8-8AC8-1E2B3C5A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F56-E87E-4E6A-96C0-54D03DF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83442-15FB-48FC-8797-5946E783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B812C-4EE7-48CA-9003-0067606B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B686D-E92A-436C-979B-BAC43ED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27D1C-8A88-4D7F-A68F-44031CCD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5313B-2C5E-4E61-8442-D451E1B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B28D1-DFBA-492D-8929-00612F46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70550-89F9-4DBE-8A51-412678E2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1EACB-EFB1-4141-A2E5-A1D41A3A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12369-5091-4F39-8C9F-E22FA924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F82E6-833E-4376-AD5D-E263CDFE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D26-704A-4A1E-B99C-01A601C4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EEE04-9346-4401-97C3-023AE77A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58BDB-3581-4ADA-ABC7-44F25882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EEC8B-DB9E-4FB7-94E0-59894B93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D847B-27CF-4219-9E51-DC150238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2FE5B-1B82-4367-9C8C-FAD619B5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3FE18-DEF9-4640-ADF2-FDFB1E36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7A3F3-7D88-44B9-AB99-7CC1291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CA298-9A18-4A1A-97B0-592E0365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6877E-4E92-427C-81CC-94AD0E1E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04DFA-338C-4711-A9F1-56D546E3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FB2-683A-43D6-94E2-3FA535D3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56C50-2FAB-4F69-B734-50E4519F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D21B1-8CF6-41BE-A381-D36F0CA6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52E1E-3C6F-474C-A3CF-A3DCD09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2EBE1-4161-4817-89BD-1E9D45A5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F9D5A-F60E-48A0-B96D-5B6E23BD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16D44-10C6-441E-A571-0F2E8AB5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A5CE1-69CA-4321-8EF4-CED0E220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6FADE-AD85-4CDF-92A2-CD336845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59627-A74C-451A-8D3B-6A07734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552FB-0D81-4712-B4E6-BCFB60EA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A33F-17AA-45F6-82F6-A7A72E45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27D7C-F23A-4E31-B82E-C7C66766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53B2A-8180-42C5-8853-07B9856A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9EDB1-2CB4-44ED-86E2-ABDC362B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5054E-3E7F-4C18-A10D-D34789F3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6E2BC-BC90-41CC-95C3-47F98008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5B944-9BA9-47E0-B07B-9EC71D11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20863-011A-4C58-B9FB-B567A0C1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CC8DD-C07F-4862-B3D6-8BADF378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76A2E-40FC-4081-BE26-2EF47C3F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A93C0-B854-46CB-A3A4-9FE54905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FBAC-CE66-4E47-BE98-BB4BD260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CDAC5-901C-433E-A3F3-5D06D24A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792E8-A936-40AF-95EF-F9E0E79E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A29A2-AB23-45C2-A446-A531D18A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6DF67-0BF2-4147-BD11-37D24626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108A5-19E9-421C-8FF7-61CFE841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80F06-C1FC-45ED-9783-31063678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A9954-96DB-4997-9ADE-22EA01D4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82526-06F3-47E1-BF5D-26748023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19829-6BED-4679-95DE-C72FAE04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61552-E19B-43ED-AC6C-EEAD5F86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1495-8DDC-462E-A8E4-E9E6BEBB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7BF89-8801-4AF0-B514-97D06E5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27200-E3B7-466E-A476-4DC37C38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6AB8D-6B65-43AF-9716-26FB0B15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015BC-205C-4124-BA8F-03EC4877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FCD26-686D-4853-A715-68ED71C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FEE3F-A198-4363-A775-E907F28E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1E513-7A89-464B-8EAF-663E8201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920DF-2F97-4EFC-9AF7-979D004F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52505-D4E8-4C44-A740-CDD2E9A1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03F22-5B0D-48AF-847A-66B84D24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7435-09CE-417A-82BE-DC1E58D1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03EA9-E93E-4261-A383-6B934257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361C6-0313-4BE6-ACD5-91926636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C6717-CE6A-40E3-A5CA-B0766FE8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E79DB-42B6-4778-B017-842D3E8F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C8854-17DC-4BA3-BC3A-DD13C8E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992DF-A19A-40B2-AE45-7A9505D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C3227-DF2E-47A9-BF14-E77D0A0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0BC3D-F79F-4793-A621-7579CB59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D86E2-0B2B-40FC-9531-FDD4D9D2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8E69-DDAA-429E-90A6-9EB7C3F6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CD55-578B-43F8-B5C9-BBD8CF2A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A778-D1C5-40DC-9436-609C660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CC4-BB27-44F8-8743-6FA05915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1A77-7484-49DF-872C-A6B9365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071B-2916-401F-8733-1F7ED18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D6ED-4295-41A3-A817-310398A5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124D-EA4C-4723-A50F-562F724E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2035-5A50-4967-ACC3-06721335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E7AD-9B25-4B89-A978-ACCBBB10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F4D2-83A1-4A6E-8821-3198BAF9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4421-0477-4B7C-99C4-91FEE232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A501-0580-4501-AB8E-5A2B2BCC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AF9E-14AE-4C58-B2DD-CE79BC5A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57D-DE04-4DEA-B1D0-72A39595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6E4F-E99E-4F6B-9B4A-09921AAC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B0A6-9F3B-4140-9907-49FF765A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4F6B-4F97-4871-8F0F-DE72A83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A82D-41C1-466B-B39C-03FE1F9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41F0-3E2D-497D-A360-E6507017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DF99-D391-49F6-A9B7-C72C4452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C8B9-C860-43B9-9681-952E1BCF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1161-8EB5-4DD0-A80A-792A39EB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F423-32D5-418D-9A5C-99C9E488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875D1-CAC6-4129-A8A8-46E55B0C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D81-C53D-4C6F-B134-D5F6C13C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900E-AB05-4F99-AE55-8EC8FD49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3CC5-5975-47C5-955D-B8163D83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E605-FC04-463F-80C0-6A6DDA51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4888-2377-4632-81F2-02ECCBA0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2597D-14A7-4FEC-8C77-5D83514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00E1-EF06-4172-9C63-98C59FD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F338-E564-4C7A-86A2-0E80A980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9EC5-9685-4164-8EC2-7BCAF2C8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F928-929F-4D83-B759-D0FB43CA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609C-E0FC-43D8-945E-F71ADBEF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AB3-F729-4EF3-9527-7A295AF8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70B4-6678-48A1-A94E-A740E397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9166-8C67-48BB-B377-AB6048AD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AA42-4EBC-4458-9D66-70A8C950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E74BC-65E7-487F-A45F-1820C127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C5AF7-A2B5-4B0B-AE0A-3517147D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D2AA-6A20-4C69-8FF2-99A4E242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DDA6-D59B-44F9-99A3-3B363CF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4DB66-5969-4FC6-A7E5-F9460364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8289A-5890-4C3D-BAB7-9B3CD557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0155F-E6F3-4D65-A4BF-AB15F9F2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3A9-5D07-41A5-BF2E-EDD53D6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252AD-E14F-4125-B164-96C9977B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476D3-8E2B-4B3F-8182-A3D5A05D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AFB48-6DCB-47CF-A267-9E7478DF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D13B6-E03E-4BFC-9EAD-453A7606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3AB75-F9B5-4AC4-A7F8-DB81B152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B3850-58B3-419B-91DD-6E7CDFE0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1BB33-9B3E-4A4E-B04F-C6403926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5D172-F42A-47D5-8AAE-4042079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757D-570C-4E07-892B-A01AE889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DEA9C-67F4-4E99-95A0-FA46F798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A5F-83BD-41BD-9811-22C0254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2B252-8B48-421F-AEA4-C05DD874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594D-571D-4969-B411-7CB9341A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C8C87-967A-47CC-AD1B-2DA245CE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1655B-5224-4B08-A161-2BD87A85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038A5-67FE-4D90-993B-EC7CAC60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1E106-9293-4E02-AAAD-BF326B7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D72BF-2226-410A-9384-0D336AD8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399C-6567-497A-9E9C-C3825902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C13F1-B951-4C65-B0D2-06476896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F7045-1804-4FC2-988F-D198D2F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209-54DA-4728-BC06-52BAACE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4B3C2-153A-42DF-962C-57177817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29A2C-17E1-4DB8-A2E9-ACEAD0C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7A761-49E5-4A3C-862D-FE19D56D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19D7C-1804-4186-9E35-428BAA64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7BC6-9908-4962-8968-F3669D15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4965-FC0B-4827-A792-F7933BB9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0EBE6-2FEC-4C54-9757-19440EF8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284F-7CFD-48F4-A6BA-B726B203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EE930-0965-44BA-9791-582C6710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87775-48D7-4529-A901-535DD621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B1E-569D-4035-A28A-1C820BAB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5659-CEEF-486C-9758-AB48AC22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EC297-C4CD-470D-95D6-7595888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C3A58-7167-4A17-A677-4B134E61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0EB4B-02C4-4D15-9AA5-A658E8E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F9967-5506-4C45-9F0C-B4AFAF22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E81AA-BA5A-4ED9-BA53-EF59D769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10326-A7C7-4CD4-88F9-EFE28123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D588A-092E-48F9-B34B-2EC938BE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6DFFC-801B-4A5F-9A55-5A0A503D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AC819-991E-4DA0-88C6-D78DFA7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B077-9021-43EB-8A97-8366EBC35F4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1C2E-4F67-4FC5-A38B-6AE4C3580B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2535-431F-444E-BF7B-794355A4A3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37C4-F9A7-40E0-A8D6-D1263551E5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5DD2-2E12-4763-A238-B2C2AEAEF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FE35-D3B5-45F1-9A0C-15DAB2EBBD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9F6-8292-417D-B09C-4A2056CCAE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5148-3EE6-41F1-8BA9-05D4BC6995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5A74-B13D-451F-AF3C-53BF972520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789C-B9F8-43BA-851E-E36585923A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A551-44CC-446B-8E08-8CC98BA7D2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8635-B2B6-4D5D-9F1B-15E4975A07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EAD2-371F-4ADD-BA65-310CF663E7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C67E-B804-4ACF-BEB0-49AE1C8A1BF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CF0-E0DD-47CF-9106-9849741BD0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F138-CC02-4056-AE10-86FC1D8406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9DC5-A5BF-402D-AD62-82A372F1C8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41DE-99DE-4E03-A134-E38F06E8C8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D7E8-B0E1-40CC-A5AC-2817CFAD2A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7242-2BFE-413B-A38C-BE1838FFC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3355-5E60-46BC-B4A5-639FB6E9F0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6B04-8511-49BC-AF3C-D105286213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45E9-D0A3-456F-B2EB-616C4E7EB1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2ADE-6A0B-4F69-A8A2-46A7ECF1D5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57CF-CDFE-489B-A07E-F6574AA008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684-977D-435F-8483-9AC8C48E3A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rcRect l="21251" t="24185" r="22503" b="216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3"/>
          <p:cNvSpPr/>
          <p:nvPr/>
        </p:nvSpPr>
        <p:spPr>
          <a:xfrm>
            <a:off x="1252440" y="104940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大堰河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勤劳 、善良、仁 厚、慈爱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1252440" y="3182760"/>
            <a:ext cx="8958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我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怀念 、感激、憎恨 、赞美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990720" y="990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学习目标 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2209680" y="2133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333333"/>
                </a:solidFill>
                <a:latin typeface="隶书"/>
                <a:ea typeface="隶书"/>
              </a:rPr>
              <a:t>体会诗人真挚的感情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209680" y="2971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333333"/>
                </a:solidFill>
                <a:latin typeface="隶书"/>
                <a:ea typeface="隶书"/>
              </a:rPr>
              <a:t>培养联想、想象能力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2209680" y="38862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333333"/>
                </a:solidFill>
                <a:latin typeface="隶书"/>
                <a:ea typeface="隶书"/>
              </a:rPr>
              <a:t>了解修辞手法在诗中的运用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3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3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066680" y="1219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感情线索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752480" y="2209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第一层：（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1-3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节）   怀念与痛悼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752480" y="3048120"/>
            <a:ext cx="59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第二层：（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4-8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节）   眷恋与感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752480" y="39625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第三层：（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9-11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节）  同情与控诉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752480" y="495288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第四层：（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12-13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节） 讴歌与赞美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Oval 2"/>
          <p:cNvSpPr/>
          <p:nvPr/>
        </p:nvSpPr>
        <p:spPr>
          <a:xfrm>
            <a:off x="3962520" y="2819520"/>
            <a:ext cx="1218960" cy="1218960"/>
          </a:xfrm>
          <a:prstGeom prst="ellipse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抚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3505320" y="990720"/>
            <a:ext cx="2133360" cy="53316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搭 好灶 火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6400800" y="2000160"/>
            <a:ext cx="213372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拍 去炭灰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6400800" y="3143160"/>
            <a:ext cx="213372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尝过熟饭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6477120" y="426708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放好酱碗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505320" y="548640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补好破衣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1" name="Rectangle 8"/>
          <p:cNvSpPr/>
          <p:nvPr/>
        </p:nvSpPr>
        <p:spPr>
          <a:xfrm>
            <a:off x="762120" y="424800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包扎伤手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762120" y="312408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掐死虱子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762120" y="198108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拾起鸡蛋 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4572000" y="1676520"/>
            <a:ext cx="0" cy="91440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5" name="Line 12"/>
          <p:cNvSpPr/>
          <p:nvPr/>
        </p:nvSpPr>
        <p:spPr>
          <a:xfrm flipH="1">
            <a:off x="5257440" y="2286000"/>
            <a:ext cx="1143000" cy="685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6" name="Line 13"/>
          <p:cNvSpPr/>
          <p:nvPr/>
        </p:nvSpPr>
        <p:spPr>
          <a:xfrm flipH="1">
            <a:off x="5410080" y="3429000"/>
            <a:ext cx="990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7" name="Line 14"/>
          <p:cNvSpPr/>
          <p:nvPr/>
        </p:nvSpPr>
        <p:spPr>
          <a:xfrm flipH="1" flipV="1">
            <a:off x="5257440" y="3809520"/>
            <a:ext cx="1219320" cy="685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8" name="Line 15"/>
          <p:cNvSpPr/>
          <p:nvPr/>
        </p:nvSpPr>
        <p:spPr>
          <a:xfrm flipV="1">
            <a:off x="4572000" y="4343040"/>
            <a:ext cx="0" cy="1143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9" name="Line 16"/>
          <p:cNvSpPr/>
          <p:nvPr/>
        </p:nvSpPr>
        <p:spPr>
          <a:xfrm flipV="1">
            <a:off x="2819520" y="3885840"/>
            <a:ext cx="990360" cy="609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2895480" y="3429000"/>
            <a:ext cx="8384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2895480" y="2286000"/>
            <a:ext cx="914400" cy="609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rcRect l="22450" t="23334" r="23696" b="21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rcRect l="21251" t="23334" r="23749" b="23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rcRect l="21251" t="23334" r="22503" b="21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2"/>
          <p:cNvSpPr/>
          <p:nvPr/>
        </p:nvSpPr>
        <p:spPr>
          <a:xfrm>
            <a:off x="3962520" y="990720"/>
            <a:ext cx="1218960" cy="685800"/>
          </a:xfrm>
          <a:prstGeom prst="ellipse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590400" y="3429000"/>
            <a:ext cx="99072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洗衣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1886040" y="3429000"/>
            <a:ext cx="99036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洗菜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3257640" y="3429000"/>
            <a:ext cx="99036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切菜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4800600" y="3429000"/>
            <a:ext cx="99072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喂猪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6172200" y="3429000"/>
            <a:ext cx="99072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烧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7696080" y="3429000"/>
            <a:ext cx="99072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晒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H="1">
            <a:off x="1294920" y="1523880"/>
            <a:ext cx="2590920" cy="19051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3" name="Line 10"/>
          <p:cNvSpPr/>
          <p:nvPr/>
        </p:nvSpPr>
        <p:spPr>
          <a:xfrm flipH="1">
            <a:off x="2666880" y="1676520"/>
            <a:ext cx="152424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Line 11"/>
          <p:cNvSpPr/>
          <p:nvPr/>
        </p:nvSpPr>
        <p:spPr>
          <a:xfrm flipH="1">
            <a:off x="3962160" y="1828800"/>
            <a:ext cx="609480" cy="1600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4572000" y="1752480"/>
            <a:ext cx="533520" cy="16765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6" name="Line 15"/>
          <p:cNvSpPr/>
          <p:nvPr/>
        </p:nvSpPr>
        <p:spPr>
          <a:xfrm>
            <a:off x="5029200" y="1676520"/>
            <a:ext cx="144792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7" name="Line 17"/>
          <p:cNvSpPr/>
          <p:nvPr/>
        </p:nvSpPr>
        <p:spPr>
          <a:xfrm>
            <a:off x="5257800" y="1600200"/>
            <a:ext cx="2743200" cy="1828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21251" t="21665" r="22503" b="21673"/>
          <a:stretch/>
        </p:blipFill>
        <p:spPr>
          <a:xfrm>
            <a:off x="-380880" y="-380880"/>
            <a:ext cx="95248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00:28:35Z</dcterms:created>
  <dc:creator>万里国际学校</dc:creator>
  <dc:description/>
  <dc:language>en-US</dc:language>
  <cp:lastModifiedBy>a</cp:lastModifiedBy>
  <dcterms:modified xsi:type="dcterms:W3CDTF">2015-03-16T09:42:15Z</dcterms:modified>
  <cp:revision>4</cp:revision>
  <dc:subject/>
  <dc:title>没有幻灯片标题</dc:title>
</cp:coreProperties>
</file>