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lick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324-C649-4275-981C-4851C584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8FC-62D1-44FF-9945-9AB61F1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E6299-EC87-4EA5-8C18-0B8818A4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34639-AD91-47EB-B1AA-721AD7F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4FEB5-A460-47CD-918D-20308F1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98FF7-CDCD-4CCD-A77E-F61C025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BD333-589D-4517-81F2-F225C798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9A6BB-1D79-4B09-A41D-D57A235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FCB7F-2414-47E9-BDD0-EDF93D32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1B636-94B4-4529-BF63-DA764127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6F6DF-E36D-469F-A925-871F8AF9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00FAB-7D49-4A3E-9A9B-E2BCE35C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380-5CD9-4B8D-972F-4D7340B7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9E473-9471-4C03-80C2-24A9E01D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E71A0-9C61-4A0F-B4CC-CEF0BF8B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9D875-FD54-4B47-8814-EAF38890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AA6F-12DC-49D7-9B52-6463A80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1FB90-A199-46DF-9DEA-5783DD5B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B9BE6-887B-4445-AD9A-F1240ACF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C10B4-B445-41C7-9162-AD04968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D893-DD22-460A-8FC5-56D411B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EDE78-B092-4F58-94B3-54310D21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B466B-2FD4-44F7-BC04-20ED9E4A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C40-1CC5-43F1-83E9-EA61EB71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B453C-4DDE-4776-9DAD-4767A666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7680A-5F07-4FAD-820A-41FE6B2F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2BC12-FA6E-437F-BD14-52CCE15A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23D56-B02C-4658-BFBD-3D6DA11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06080-172E-48A0-A3E0-30BA77D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F191-A391-4319-8F95-852A7FC7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4640-5861-4AE2-911C-6E8FFF30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5041C-DBA0-437A-8814-C874156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39EC-4292-45BC-B2D5-17A509B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F8625-DBA4-4E81-B2CD-E98A91F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1D0F-943D-4DAC-A63F-A0DF2678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7604B-B301-4375-A809-D3F3D614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8818A-CD82-4A1C-8ADC-F776638B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F6B62-AE62-492C-A1AE-41C34C5D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52DAB-7A26-4EF9-B628-7C94A438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1F16-CD61-4E94-ACCC-8E466C6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06981-4ED7-41C3-89C8-3E1F60CC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1AE59-7DA3-49C9-811B-7047F2A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C6A98-616C-4635-A243-5DCE4A08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CB161-8BCB-40A8-B366-5599747D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473FF-7356-49E6-8D02-257EA438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0DAE-0127-43FE-B140-61CF1951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200BA-9F6F-4E72-BD61-21BFD86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08908-1A7E-497F-A1C7-22B49B97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8C7C3-8648-4B77-BDDA-298D81C2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413F1-70AD-40D7-9493-1DD3A85B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4DE53-33A5-43D0-A182-490877B2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32649-D105-46AC-8F23-36B68493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6A968-5285-4B08-AA6B-D407D724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36817-95D1-4F46-ACF7-D03ED741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F2EA5-2D7F-48F7-92CE-3FD0EB53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E5537-081A-45EF-B54E-58EF330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BC18-F341-4767-A20F-608747E7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E4177-AD89-4323-BFA4-D19C477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48149-EE68-44AA-A2E8-B87988E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9797E-D5CF-40E1-BD8D-A389DAEC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25F2B-4E1D-494B-9CB3-0A3A50CB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EBD24-E34A-4DAF-829A-005C2921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98C7A-DAB4-4B12-BB6A-1979344A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43316-3D35-44E4-B566-E24C6B2A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0E64-EC78-454D-8AA9-31AD60B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7049-E031-4355-BE8E-2E601735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627B-63C2-4120-885D-2F28DB67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8675-92EB-490F-A324-78D94D3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968-B4F0-405C-BF1F-66EDA2F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4AFA-BA11-42DE-96BB-C11B2E1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FEEA-DAEE-4DCE-ADD5-C42FA74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E35-1C71-470D-8C3B-FAAA355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B3C0-544C-44E1-93B6-0B718546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8C3A-85C0-48E3-8D9C-567D45EF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DE56-C95D-4BE8-8864-E1074051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14DA-A280-4E0C-8292-41AF654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C45B-6499-41E8-BA49-52E04F30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B6B3-2E1A-49E1-B753-96725B54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FF2B-75C4-4667-8334-0BC4E674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3B6-6E50-4595-A1FA-A96566E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0FDB-9A99-44DF-A54A-41B01849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8269-D299-45F0-8055-A09D636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4EB4-A925-4C79-B29B-D614BEF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40A0-7F92-43E2-B326-4175706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66B7-0210-4506-8037-CB542453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839D-5416-49AE-B5EA-B1A51EAD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30F6-45C1-4B2D-A2D5-30016C12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EEAB-6391-43E4-990A-8D312C9A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E693-E121-41BB-A325-4C1533A0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73E6-73F3-4E05-8378-C1D55F4D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158-1E70-403A-AABC-0F5CD51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1B9A-9217-4AEB-B4DA-78DA8FF9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A836-F2C6-4242-8542-3D9631A9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E2DD-AA93-4D06-BBBF-59C6EE3A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43D5-2D1E-46FF-B8EC-AA1C69B3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4D0B-D052-42CF-AEA3-12738F2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A360-5C64-4938-AC1B-1574886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F935-21DE-4B65-9F10-94E2283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021D-D9EB-42A1-8965-750DBD1D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76BE-445B-42B4-BF66-2BFBA422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7A2F-A0C5-4F63-B656-10088DDA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02F-83D2-4E85-88A9-B6DB597A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4D1C-3D35-47C9-9AA7-ACE20EB5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C71A-D745-4417-A871-CC500C1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36F3-B1DC-47F0-AE50-D32B96F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7B01-4198-4415-B8AC-E16F7E42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F82E6-8570-4611-A3F2-AE341621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0903-FC1E-4718-BB66-CFEA25B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FD49-F0B6-4749-B923-60E1B8A3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7480-7460-40B2-926D-E5D2135F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F101-AEB5-4131-A0D5-2F283347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9235-093A-4FF2-A361-775D2434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31B-C972-4ADB-B37D-D1A7F0E0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519E-078C-4954-ACF6-414A97FC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64579-9F7F-4092-9858-1D170542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877B8-ADA2-4FCE-B63A-979B6B2E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EDEF-B8B9-475B-9076-8FA28668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DC146-2CD7-496B-BB8B-82F9690C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A3B0-D0B2-463E-B143-612CC9C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3F20D-CDAB-464E-AF1B-6B6CA914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CFBBA-8154-48E2-AB47-B90152D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8F44-B70F-4467-8F3D-003683B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6BE8-E1DE-4BB3-8BA8-9C7E08D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29F-1A6D-4371-8D11-F703FBE7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4558C-73E7-4CA9-A530-39070D89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0D20B-DCA8-419D-9448-2E4C0287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9357-B7F1-4EC1-A686-8900301D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584E-7B5D-4753-A54A-3219B716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49949-6792-4202-AB37-0CE4227B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C8D5-CF82-4508-A4BB-134C000D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C470-C1E3-433E-ACD3-4B08E1F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DEB7-161E-4CC8-9300-32B10C85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E09DD-022F-4A9E-9737-09AD6C3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418CB-9100-47A3-9A47-A2AC676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17C-AE88-4BB5-9BCB-0E018EC7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09BFA-F89E-490D-8A94-B80FA9EF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38AA-74D6-4310-A721-6D89342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16AC1-E708-490C-B308-D655979C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705FA-640B-4A60-AD75-A67C8687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8041-4A3F-4261-82B2-B33A5665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70CF0-2D1F-4847-A206-0676543F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30C8C-8335-4218-83AB-8AE3CCE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1C1D7-C739-4FDA-ABC0-D1781B9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B7FEA-B9AE-4D9A-B27F-080A68A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1FE5-41D4-4172-AB8D-B9DAB77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699-7E5B-4A16-8501-019D351C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4DAC0-8F03-4645-950D-C00C8764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CDFC4-78B6-4230-AA5D-0BD510D4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CE2D-F038-49AC-80AD-117E60D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CCC2-31ED-4E36-8C39-67174DE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3C0CD-CE4D-446F-A7CC-EEE94431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D33B4-3F03-4882-AB11-940526DC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8B72A-E185-43C2-A9CC-45A6CFDD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F68D0-A47D-4328-9721-51DAD225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75DD1-4B3A-41CC-A61B-758D547A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BA8AA-6E4C-4361-BB73-051D507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FC55-B6C2-4B7B-BA09-0839E0162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933C-D1FB-45E4-9932-B7D0914602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452-60C0-4EEE-A3B4-41A1EA1661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8245-3C78-41C9-B689-A61A87F73E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C03-D09A-4C75-8E0C-061C67F46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A04-6CA4-4D34-A91A-E026BA34B6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C8D-DC13-4B0B-BD0D-6C3F33695A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9B16-241F-4C63-AB52-EE0FC56D61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3692-C117-4588-A633-A0DBB9E29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B60E-2ECE-4104-9E89-3CCB33A9A2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F17F-2EE3-4433-B543-EA5E38A6E0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E47D-F15C-461B-92A5-45FAB43F63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76E-A742-46E5-AB2B-CC15C65BE7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3D9-F2C8-49CC-90A7-85E09C283B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DF4-EB3C-4E1E-AFE6-DDAE77AD5B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7AAE-7EDC-4062-BA86-3AA0FD00C3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6CC6-0FC1-4031-90CB-7123E577E3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F38C-F4E3-40D9-8179-8EDBFDFF06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3BC-7568-40A4-B21D-C5CA11BA4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73A-102B-4A7C-A205-C2D0269E94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7B84-6E68-4FE7-96E4-792B686EA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1D0-B9A4-4CEE-814B-5F8C9A7335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01D7-BF21-4920-B9E3-2989ED0E9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AB60-6B27-4797-8932-260B7DAE6F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F11-A8CF-442C-8AB7-59F9B3FBC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E:\唐清贞\Pict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地震中的父与子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7101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3" name="Picture 3" descr="image002"/>
          <p:cNvPicPr/>
          <p:nvPr/>
        </p:nvPicPr>
        <p:blipFill>
          <a:blip r:embed="rId1"/>
          <a:stretch/>
        </p:blipFill>
        <p:spPr>
          <a:xfrm>
            <a:off x="914400" y="619200"/>
            <a:ext cx="3174840" cy="2809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image003"/>
          <p:cNvPicPr/>
          <p:nvPr/>
        </p:nvPicPr>
        <p:blipFill>
          <a:blip r:embed="rId2"/>
          <a:stretch/>
        </p:blipFill>
        <p:spPr>
          <a:xfrm>
            <a:off x="5057640" y="765000"/>
            <a:ext cx="2899080" cy="2737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image005"/>
          <p:cNvPicPr/>
          <p:nvPr/>
        </p:nvPicPr>
        <p:blipFill>
          <a:blip r:embed="rId3"/>
          <a:stretch/>
        </p:blipFill>
        <p:spPr>
          <a:xfrm>
            <a:off x="971640" y="3841920"/>
            <a:ext cx="3168720" cy="2539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image006"/>
          <p:cNvPicPr/>
          <p:nvPr/>
        </p:nvPicPr>
        <p:blipFill>
          <a:blip r:embed="rId4"/>
          <a:stretch/>
        </p:blipFill>
        <p:spPr>
          <a:xfrm>
            <a:off x="5076720" y="3889440"/>
            <a:ext cx="280836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click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5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mage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image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900000" y="1989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课文讲了一件什么事？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为什么说这对父与子了不起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             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重点体会：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不论发生了什么，我总会跟你在一起！</a:t>
            </a:r>
            <a:br>
              <a:rPr sz="4400"/>
            </a:b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不，爸爸，先让我的同学出去吧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71737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地震中的父与子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论发生了什么，我总会跟你在一起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父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时挖掘        爱的力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儿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与同伴生还         创造奇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 flipV="1">
            <a:off x="2195640" y="3075840"/>
            <a:ext cx="180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5219640" y="2997360"/>
            <a:ext cx="73080" cy="1584000"/>
          </a:xfrm>
          <a:custGeom>
            <a:avLst/>
            <a:gdLst>
              <a:gd name="textAreaLeft" fmla="*/ 0 w 73080"/>
              <a:gd name="textAreaRight" fmla="*/ 26280 w 7308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板书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小结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68360" y="2133720"/>
            <a:ext cx="777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本文讲了一件什么事？</a:t>
            </a:r>
            <a:br>
              <a:rPr sz="3200"/>
            </a:b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      在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年美国洛山矶大地震中，一位父亲坚持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小时，终于在一片废墟中救出自己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岁的儿子和儿子的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个同学，谱写了一首父亲的颂歌。本文讲的就是这件感人的故事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324000" y="692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、为什么说这对父子了不起？</a:t>
            </a:r>
            <a:br>
              <a:rPr sz="3200"/>
            </a:b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     这对父子内心充满了爱，父亲深爱儿子，面对废墟虽然悲痛欲绝，却决不放弃，不顾自己的安危终于救出儿子，他是一位意志坚强的非常有责任感的父亲。儿子对父亲无比信任，在危难中坚信会得到父亲 的救助，他把让同伴先获救当做应尽的责任。这对父子之所以了不起就是因为他们都是意志坚强、有爱心、有责任感的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学习了本课，请谈谈你受到了什么启发？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738936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360" y="-963720"/>
            <a:ext cx="7772400" cy="32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拓展知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什么是地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于地壳是一层层的岩石构成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壳内部的压力是很大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岩层在受到巨大的积压时会发生褶皱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褶皱厉害了就可能断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岩石断裂时会释放出巨大的能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大地猛烈地震动起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产生巨大的破坏力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山崩地裂房倒屋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绝大多数的地震就是这样形成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395280" y="33336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避震要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震时是跑还是躲，我国多数专家认为：震时就近躲避，震后迅速撤离到安全地方，是应急避震较好的办法。避震应选择室内结实、能掩护身体的物体下（旁）、易于形成三角空间的地方，开间小、有支撑的地方，室外开阔、安全的地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身体应采取的姿势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伏而待定，蹲下或坐下，尽量蜷曲身体，降低身体重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抓住桌腿等牢固的物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保护头颈、眼睛、掩住口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避开人流，不要乱挤乱拥，不要随便点灯火，因为空气中有易燃易爆气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2:00:47Z</dcterms:created>
  <dc:creator>学生</dc:creator>
  <dc:description/>
  <dc:language>en-US</dc:language>
  <cp:lastModifiedBy>a</cp:lastModifiedBy>
  <dcterms:modified xsi:type="dcterms:W3CDTF">2015-02-10T02:58:47Z</dcterms:modified>
  <cp:revision>18</cp:revision>
  <dc:subject/>
  <dc:title>地震中的父与子</dc:title>
</cp:coreProperties>
</file>