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2D4-33D2-4400-8A86-01023359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23B-1E99-4432-BA65-8F01946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C131-B36E-4C0C-AAB3-A8BC4442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D2563-2282-4452-B382-7E60E37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90485-41F9-49EE-9AF9-AF80B764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81802-9295-4355-B6A5-7B5BE89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C0A5A-3630-45D8-8C7C-99BC395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FABBA-1649-45E6-A3F5-57BAC34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34AA2-8A2A-4AC1-B32F-2D52DEE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FB63-4542-4CDF-A3B4-1D0A0D7B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E2BF1-5F9C-495C-A96E-CD257C49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9FE6C-F75A-43E2-AB48-331F7DED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92E-6506-42A2-8054-71968B95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18776-4549-453B-A3F4-222FF139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97D8F-B48C-496D-9EC3-4039C49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6F287-A562-4407-9E9C-CF39485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851F5-D918-46C8-BEAB-D9AEC1FA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70647-526D-42FA-BF2E-E44ECD2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4842F-2510-4447-B9C4-E29E5A9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E16AE-3EDC-425F-B830-0B23171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41E88-EA53-4CB2-822E-407AA06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5FF99-89F7-477E-AB9F-3FD651B8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3C1FB-9602-4AB9-BD24-E14AFB0F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C69-6A36-4400-8617-6CADDD68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45417-7125-4D49-8406-23C643A8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4A2F-5849-4C18-A7BF-F5EFF593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B3CBD-9C26-46EA-9630-B72A8DA3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D980-837D-4379-A0CC-9A5269C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6850F-888A-4892-820C-F3AFB881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6948A-6A7A-464A-92BA-49D6B85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DEC8D-B97A-4F63-BB04-26A99518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BCE68-3CE6-4A88-887E-D10F162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A6249-06FA-4E3D-804E-B6E7D8D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FBD7-78D9-45E2-881D-A9FF92B7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0E4-0FC0-436D-BDD5-14C700F3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DB1E5-E327-4EE9-85A4-4B38721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39FFD-E482-49DB-AC58-D054BAF9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0ABBF-2310-41CC-9753-242EAED9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B6634-AFC2-4366-96A3-9E7ADD0D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120DF-10E3-448A-A5DC-8E90C0D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BB7C-CC8B-4F03-8B7E-321ACBE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B6BFD-23B7-45A8-BE0B-CC3C956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96D9E-2D34-4D10-9EE0-D0B7485C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087D1-B173-48F1-AEAD-D001CAF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0E4D8-9281-4C6D-8967-135E91ED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846A-32B7-4F29-98E5-92E67919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A8EC2-9D88-4C22-A05F-F9487DD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7A16-CB87-4CDF-85E5-51A23D2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BE998-E4AA-422A-A0AD-52B56BC6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0F88C-3A58-4C1C-B6B1-DE6CE618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23652-B6BE-4EEE-8CE7-3530C6CB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AFB3F-0B1C-43B0-81AB-57D183AC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0C58D-4191-49B4-A056-70111B0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02599-82E3-4B06-92A8-194DBC6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EE86F-63EE-478C-8DAE-564233CC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71080-1F5D-4C3D-8B92-938E791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017-EB2B-4B01-B5E1-7C0630AF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9178A-9AD9-49B1-9F3C-C951E348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B935B-A083-4D6A-A449-C3F2FF0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02ACC-D6C8-4D80-837E-9A81F30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52CBE-6414-4B49-9516-1DF4768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E8713-C667-485F-BDF1-068FE9E0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041B6-B964-417D-81F6-A17467BF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53196-AD72-44AE-BA0E-B781DE39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7F8E-A337-40D7-ABEE-A92BEE0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8D54-F7EA-4EC1-837C-B9A31DEE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D855-D995-451A-9A3B-E4BA411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7393-AAA7-4BE4-B363-FBD7C66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E58-46EE-4903-9F80-828C8CAB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7E89-E984-4D9E-A80D-1A38357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0F01-F821-41B0-8798-175E344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1361-574A-410A-82A2-998A830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D3D-2312-4F1D-BBBC-6613745C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8AE-63BD-4BDC-85C2-8933C999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4CCB-182B-4E9C-BBF2-34E6BB7D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7912-0FB4-4FC7-8D71-2BD089B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77E5-287B-4AE8-AA00-5D4B9D2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62BF-7194-4C06-AEF4-2F59AF9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7B29-979E-4187-8FCA-DE99D39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A73-1351-4740-B838-3F4EB3F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AF04-3114-4C73-BB32-7E6CC4F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C42B-3C0C-4D99-887D-D1E45212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8074-863C-4E8F-9CFD-CC04CFD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E4F5-2146-41A9-860A-6CE6D5E5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82A4-140A-4294-89DD-52738F4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6792-B02C-4395-947D-3F9F6D08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7D5E-DA9F-4366-9F7A-654008C6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B1C7-C548-41EC-A5C1-7CFC28BF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FA2D-7226-42B3-B62C-21486416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E53B-36D9-413F-99E9-264788B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2B2-2BEF-4D27-A8A2-D2148B19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E4CE-0A58-4050-B48D-4D04805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926D-4FBD-43D3-B97C-473165A0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1CD2-F865-43A2-A510-61EDC76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A9F7-8FCE-4B4C-8BC8-DB7E305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8D97-F4A2-4B69-9E12-362E9B6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F157-6ED3-4E58-BA9F-4D38794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DF38-1107-4708-A84C-1FDA512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1392-61ED-47C7-B7F8-96B035A0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623C-6EE6-432E-A5DA-25BD8818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3953-C415-45D4-BF34-CEA0789C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927-BC64-42C3-8507-48CFB56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73F4-69E9-4CD8-9F99-CC2658F5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03DFB-6857-419C-8D35-80CD52E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A060-81CD-4E01-88D4-63A5646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1BA47-384B-439C-9086-A0139A3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C6AB-07F8-413B-8E8F-73A993A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01C4-62B5-4468-B5CD-8700190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CE0F-6BCC-48EF-93BC-D7B797D2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7CD8D-1754-42E9-ADBE-77F88E5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6EC5-D4D7-4B08-B4E6-037B92B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90CA-D3C6-45BC-B032-D619E130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334-B9DA-4701-AB07-4A34731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CC70-41CC-4F3F-9776-7746BAA0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7F28-0B8C-4FD0-8EF6-A5673DDB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9D2C-0E99-416E-AB6F-3FEEA75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7E56-6BE2-46FD-9F31-EA1E5E40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6999-454B-462F-A9B0-35FA794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61FB2-52A0-46EA-9073-2256DC23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8D0D-AEF6-4507-AC83-17D0FB3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A0124-E8A2-464C-8808-AAA793C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BF35-9AEF-47E5-9319-B7F8E89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7891-7DBA-437A-866D-A878DAD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7BE-C241-4082-9430-38B5529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325C-0ACB-4212-83AB-C85FAA7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631B1-61D6-4715-9D0C-3A434EED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125B-5017-495A-9115-31593321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5CB6-70BF-44E3-A85B-8ACBC0A4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A2276-46E7-4FC9-A99B-BEE2A99A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F583-1405-4114-A755-27AC217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C228-7D8F-48F6-A32F-8A3B250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7BEFB-A382-47B5-BC0D-DD37326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E476-4958-4ADA-8BEC-BEF51F5B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6F3F-9446-48EC-A1C0-A0AB264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31D-7595-42F1-BA87-EB0DC20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4BD0-CB67-4EC8-B088-F7572A2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F158-FE0D-4007-921E-6F6C22C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A781F-3C0D-4EE5-8E41-591BDC6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D79F-7089-4175-B670-5552986D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D9191-317E-41E2-9BA0-0AC15C7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63D1-253E-4876-A0E5-E65AF87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9570-A84F-4B3C-B6FA-552E7709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A739B-8166-4B77-9A70-39F5453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C36D-AAB4-404F-A3C1-6D8847A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244E0-FC3E-428D-81A3-763127C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135-B20E-4B89-9ABD-D3EC004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14BF-6CD3-46E7-806C-7F10F3E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8C69A-C633-4CA8-AD0A-8F70DE81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FD9B-939D-4302-AC73-C91AADE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2B0D-DC6D-483A-A048-30930CA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C807-19CE-4359-BB76-68B28682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508F-9443-441E-AD60-238A6C01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E2EE7-2792-40FC-924F-4C046B2B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13ED7-6EDC-4CF7-8E34-FEAECB86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17C37-05DD-4F7F-BB7C-5AC6C6D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9693-1D5D-49A7-BF93-C5ED362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AD3-88C5-458F-81F6-39D8E6CF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85D-BCC6-490E-B461-BED4AE09F2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EA7-9B1F-4F44-8001-933C2B978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7C64-A1C5-4348-9B12-A514BB7B53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B0F-8C13-438C-9A09-7C38AF3F8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65D0-E7DD-4C8A-B6C4-7C3D8F17C4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206-D05C-423E-9528-160F4AC9A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1E96-092A-4D20-BAB6-5054F9F2F4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CC6-0A1D-4F97-BC0B-8A12B14C0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D47-B3F4-430D-A30D-5AFCE2725E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8F6-E726-4102-BC7A-F5A35C9E6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711E-521B-4012-BE31-BB862C39DA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BD35-6400-4DD7-A89D-C0C795D83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1C3-D0AD-4C8F-AF6C-BCD75DF358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00B-01BA-4B6B-AF0A-935774B3E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7DF-CAEE-4FE8-9B99-C480ACDE04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97ED-E1A2-480F-AC6E-54587A537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6CD-4629-4400-9412-1A8569575C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2EB4-3E98-46A0-99C5-BDB0DE7BE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5D8-DCBC-4E7C-94D7-FEEC800AA4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F9D-D6DF-47B8-A1EB-C1D46C31F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265A-5FB2-4EB6-B483-8C4A821DFB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2B2-3A13-4DC3-997C-0CF186D39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769-7271-4E38-BF7F-05C367456D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265-699C-499D-A70C-FFB9C6BEB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2007051209452335124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609480" y="129528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飞船上的特殊乘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2" descr="ED048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304920" y="68580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飞船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指的是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特殊乘客的是指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特殊乘客经历太空旅行的特殊原因是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ER060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609480" y="533520"/>
            <a:ext cx="77724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特殊  比较  差异    遨游  淘汰  辐射    筛选  浩瀚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美味佳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051012kore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609480" y="18288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533520" y="68580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小的植物种子经过一番太空旅行，好像获得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魔力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可以有这么多美妙的变化和神奇的用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28600" y="6094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57200" y="228600"/>
            <a:ext cx="83818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是因为受宇宙射线的辐射，由于处于微重力、高真空的特殊环境，使一部分内部遗传物质产生了微妙的变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大自然的作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是经过科学家对太空植物种子的优选和优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科学的力量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BJ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15238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黑体"/>
              </a:rPr>
              <a:t>其实真正的魔法师是聪明勤劳的科学家们，是他们的知识和工作创造出一个个奇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DH159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53352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关于太空植物的变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066680"/>
          <a:ext cx="7924680" cy="548820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  <a:gridCol w="1676160"/>
                <a:gridCol w="1828800"/>
              </a:tblGrid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对植物的影响因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性状、品质等变异的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优势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茄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黄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葫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水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辣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115281607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28600" y="4572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这些优点从何而来？从太空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优点从太空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2280" y="2438280"/>
            <a:ext cx="495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除了食用，太空归来的这些特殊乘客还有很多用武之地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http://www.wsbedu.com</dc:creator>
  <dc:description>第一PPT模板网-WWW.1PPT.COM</dc:description>
  <dc:language>en-US</dc:language>
  <cp:lastModifiedBy>a</cp:lastModifiedBy>
  <dcterms:modified xsi:type="dcterms:W3CDTF">2015-01-23T02:54:30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