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9D3-734C-4253-A048-84FB9E4C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170-679B-4592-99A1-18C20D6D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F7EE6-FBD2-489E-A126-159C9AE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6B85E-76BE-4181-9E0F-BB58632A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55235-2F46-4C50-9B02-D754FA5F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CA938-603A-4987-988C-5DDBDA4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4CFA5-B8CF-4DF0-80FC-DB45C07C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5792F-FC41-4549-A13B-9DB7C829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BA156-BC78-4D76-BF2E-A557DA1F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B3CBB-B097-438C-8BFB-9AC80679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C3B9-9420-47B6-AC19-5D0BA377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06C42-9C5E-4A79-8F0C-F73813D1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EB9-F160-4E40-89A1-F61C8D0E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66859-39BA-49BC-82D3-9AE56AC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40BBD-37AE-4010-8B21-DF57F537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82FB4-4FE5-4AE2-9629-6C5348EA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9F0AC-20AE-4F27-B4CE-51ED415A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752BE-0426-449F-B3D6-9AFEA588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624AC-D6E0-4131-8474-D61D5654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828F1-2B27-4B64-93EB-8A73F963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86956-DCAD-4391-9581-D4ABD88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80099-8FEE-462D-8E30-09608E3F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82EC9-5A19-4AA9-9D60-89DD6E5F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111D-13AD-4486-B363-6071964B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684EB-B615-47FD-BD19-47BD588F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82436-A94E-4100-8BBC-0E62B8F1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F9A2A-A85F-4A1E-A6B3-EA69E16C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562D5-7C92-4437-AEEB-535A50F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4412B-3F50-41A1-8373-D5355D7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C8145-C79B-416C-B17F-2DBE02D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D57C2-E354-47A2-A860-C2CF1D2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8554A-4578-4FF0-A7E1-D856D73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7CF9D-FF4C-4BB6-AA17-C72CF0B5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60436-6AA3-4E9D-BEED-DB93BE80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A53A-2CAF-436C-A084-220B2232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9BBA1-C035-4938-B278-5496ED5D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48398-7CE5-448B-99B1-0EA42551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900EC-9962-41FF-96FD-045D406E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FE5C8-AE69-4AC1-AB57-C710895F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E112F-5EC9-4E84-B8C9-8B7038F2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F1D85-524A-4399-BEA3-14AD3501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26348-E2AF-4C8A-85BF-45C7E3AD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CA9B8-8593-411D-A15D-CEB76177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0F79B-5ACC-4DF3-959A-7AC64A66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BA867-2F92-45FD-B3C1-9BF8781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7D4E-8FC6-4670-B5AB-9B17D077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74896-A9B2-42DB-BB7D-84AD09F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8725E-1DB2-4E6F-B1B1-92D01675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4BAB6-1DBB-4391-B7F2-74F83B3E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86DAB-F47E-48A4-B8D6-807141C6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0AACF-55BC-42D6-BD59-316F50CB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509E5-CFFF-44EB-A91A-35A82275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75E0E-0BD8-4E8C-9939-BB2443B3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40C80-1C4F-40E0-968E-DFCEF6C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18F84-0ECE-40B0-8BBE-6581606E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95464-08AC-4AFC-B4DA-0F5B0EBB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C4DF-7621-488C-B063-69DDC4FE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1A33F-58BD-4261-8403-9405FE2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22328-F4B1-4D21-BC99-5687D976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A28DC-6592-443C-830C-3066D9DD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8C256-7B8E-4ACE-B139-BDD79937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594AE-ED30-4557-A0EC-746576E8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03EA2-8BDB-44A2-88E3-A56502C7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A45E3-1B36-4168-A686-E826B645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4B8B6-009E-4F9D-B958-394116AC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64EBE-4A76-49AB-A18C-C6DBEE99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8FFEF-D9E1-48BF-AC8F-4B3C28B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556D-B1B5-4D03-A4F3-AA05A8D8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C62B5-D29E-44CD-96B4-99CC1B0A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BFE29D-A80E-44A3-B5D2-6CC701D1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5955C-8331-49B7-9D8C-5F9B6591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D34D8-0054-451B-9A3B-7214767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6344E-5419-47FA-A4B0-873B6864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8089F-216D-4BA5-A1FB-BB128C7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5D4A7-EE87-4E99-B63C-604F15F7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76C39-F713-4817-B1F0-B89D11EB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5992B-5D22-47EA-8F0C-5D717213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448EB-5109-4E25-AB79-DD952D7C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012F-BAB6-4E6C-B2CB-4C0085EF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B0F87-753E-4C77-935C-3355D0D2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48779-0ED9-4EAD-AFF2-51EA1460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E2CA8-67FA-4A62-983C-57B2D7D8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30285-5C70-437B-9EBF-0BCE3463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D35BD-8D39-40D5-A3F5-7D588B88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53826-16D7-4BF8-A5E8-42C225A8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2BAC9-60C4-46D0-B8BA-F609C2F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46E35-2C29-45A3-9DC5-5BE450C7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43585-B9D8-4FB6-AE49-7720E703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0E705-5421-43F7-B459-3C2F3822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5F1D-4A91-4038-B53F-B854071E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7D705-7DF8-45B3-B611-FCF4A454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1FBD-B92E-4073-BAC3-A7D9F66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925-E304-4F8C-AB33-D7CBA8ED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E6E2-D71D-408C-9645-595EAEDA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40A9-A25A-4687-A822-000F6B73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117D-BC5B-4743-893E-CB75CD86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6A15-1AC2-4CBF-B36B-4757E8E6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B163-9709-4569-9A05-21DF1486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79F6-B368-42D7-AAF5-6C6FC7AB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BB49-3CE2-442E-A2CE-F6A13DBE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910E-136E-4B82-930A-926A198B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4CDF-B39F-43F6-9770-70380763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0C35-A10F-4209-BCA3-182E66BC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565-0379-444D-BFB9-B1500161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382BC-E086-4186-9B3F-57412DFC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1CCFE-D5C8-4F8F-A4E5-80D5A64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41B1-9FA6-4FCF-B9C9-3378878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4A0C-7265-4CFE-92AE-B988709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C864-F8D3-4A13-B7FE-EC03F3A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03C4-9C01-44C5-BF96-B2BECCB1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B742-5A46-43D7-9111-CD028578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0A26-F46B-4A66-87BE-CF2E171D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A1F6-050B-4DF3-A5DA-33926CC9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5C859-0BBC-4879-99D4-9E9F33D9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16C-60F5-44D0-AAFF-57091E8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F2122-AE47-445F-A76A-A1F7C98B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81275-F71C-4CCD-88DB-A52B6373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7AF4-3D3C-4659-BE21-539E02AC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1B62-3E24-462D-A650-EDFE419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74DF7-535B-4299-BB8B-7F987AF8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8BCA-4FF6-427C-8ABD-AFE6210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7C84-A977-4827-B7FC-864A7B14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9860-52C3-4803-AAA1-72FABBED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165E0-63A3-4CC0-8EE7-41D8D53E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51762-16FB-4C35-A64E-C45967DF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5A9-D2A5-4743-B441-AAC99C06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4B92A-F27F-47C9-945F-9BB44AB4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24C35-53FE-40C9-9403-C68EAB98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0BBE-943D-49DF-9A81-4B94DBAE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488E2-E01F-45C5-B3B8-5DB84313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89804-27F1-42B7-B261-E97F30EF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5FD28-1ED2-4D82-8680-A2B1D470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3514-FA26-47E2-AB89-25E516B5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AD53A-5DE0-4D8F-A6D6-F7721DA6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853B7-9CBA-4F40-AC1B-BC6EDEF6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5B511-89E8-4BD5-88FF-C7221CC8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B58-575D-4CD0-9665-B71CF5B1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8FBC7-D186-4AC2-8DA0-FA1C1F7D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4B31F-080F-4831-B9CD-68FF64B9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72DB9-2CF1-444F-A57A-4C937DFD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58995-84CF-42BE-AD49-DA3294AB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55221-C255-4ACB-ACC2-59726F29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A6091-C5E3-4D88-A29E-BB742337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7C99-D6FD-4D93-9F70-981AE7B3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15757-D09F-43A1-A35B-D9AE9DF3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E325-B71A-42CA-8FF7-699C82FD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705F-FCC0-40D2-BD54-5456C7B6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119-D630-420D-A36E-542AECF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7764-6C32-4BDE-808A-7E587D53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283E4-381A-4FE8-80FD-31805B76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6317D-66C2-43C8-AF37-69196458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840D2-0618-40A9-A7DA-F33183A8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79E5A-32FC-4804-8B3A-24DC3ACD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0FD17-E9BA-49FD-A3AA-02136254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F1BE5-C743-43D2-8FDB-20EA59E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D2FDF-7A58-4C64-959E-18C93056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6DC2C-48C3-4F35-8373-F54F34E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0E5E7-4062-4C3D-9126-5AFA547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B0A-7065-4F6E-BB68-64405022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5C9C7-D910-42D8-8643-C66C9DA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DF5BE-A7C5-45D5-9341-09608213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3A31-6B50-4F0D-BFC5-76987141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7E13-347B-4ABD-8C3F-3F3ED7B2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80972-60FB-498C-9453-B6BB22DF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D55FA-44DF-4E49-8A61-B28A5E32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BED8A-5BCC-44DB-B8D2-39ECC56A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137FE-CD3F-4A7B-B072-41597F4C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49169-D26C-46CB-BCE7-F65775F1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65F07-AAA9-4CAF-AE1A-B04C733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8F8-B6BE-45C1-A4DE-D1737201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DC364-E55D-4477-977B-03A20C7E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769D7-0992-426B-87F9-B525C0BD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95E91-2572-4486-A5CB-835AA3A6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FF0D8-5C13-4929-A402-D5274A49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124E2-3BFD-4A0D-B444-192D2F36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3A19A-96F9-4B4A-B88E-C681B113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FA753-6650-4C50-A7C1-28780769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079CB-EAE0-48A8-AE21-1DF6876D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B6F7D-957B-4F21-9919-9BC0A0B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1473A-6343-4E75-84E1-1F10BBFC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47F6-292F-43A1-BCAD-9601FA72B1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076A-F721-4EA0-914A-4E998ADBDEF3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9721-A800-45D8-A05B-F269B092527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0FC2-EBDD-40C8-B3CB-35E12DDEB705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406E-6C23-4194-BB5C-75BDA030FC4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A1CE-97D4-4BE2-9A7E-EEA8C6831ED6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EC06-B75B-4379-AA3F-4EC6080CF86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3242-9643-4E4B-9BEF-BF45D9591824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7E00-4DC5-4720-89A6-34096DBE3E2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E26C-0882-42B5-8E65-E76B92E6925B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5056-256F-4F21-BAAC-C50CDAB81B5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BBFB-60D4-4B8E-B78A-76CDCF7543EA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E49A-8CB6-42DB-B937-B6C51E6CB14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CA97-EFBE-4972-A887-BE05D69F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0998-9BBE-43A5-97AB-EBC1251119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B2E8-A086-486C-A482-05E4EBBB9F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5C55-2ABA-495F-8C3D-9E713A3F2A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2807-7AF0-4A16-8DA9-53A2CF143954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BD67-E720-4AFF-AD90-A0644C14F4E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90C8-DB46-4A1A-ADF6-F08839203914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DEA2-A7CF-487D-8504-FD859D6A144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6C28-B1A1-4C4A-BAFA-B41EC45EE783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96B7-6C6B-4ABB-9B63-8D18E18F869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688D-2182-4AF0-AE48-5AA242B6E608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B965-3867-4B6D-B381-C7F5FD65003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4E99-AE6E-464C-9888-361BA765DBAC}" type="datetime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3DEF-C6FF-4E1A-93B2-AE3416E1E64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953925153&amp;tn=baiduimagedetail&amp;word=&#26472;&#21033;&#20255;&amp;in=27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Picture 4" descr="2005101312444689373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5"/>
          <p:cNvSpPr/>
          <p:nvPr/>
        </p:nvSpPr>
        <p:spPr>
          <a:xfrm>
            <a:off x="395280" y="47628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  <a:ea typeface="华文新魏"/>
              </a:rPr>
              <a:t>人教课标版四年级上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Text Box 6"/>
          <p:cNvSpPr/>
          <p:nvPr/>
        </p:nvSpPr>
        <p:spPr>
          <a:xfrm>
            <a:off x="971640" y="522936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WordArt 11"/>
          <p:cNvSpPr txBox="1"/>
          <p:nvPr/>
        </p:nvSpPr>
        <p:spPr>
          <a:xfrm>
            <a:off x="1835280" y="2421000"/>
            <a:ext cx="583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飞船上的特殊乘客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609480" y="177336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Comic Sans MS"/>
                <a:ea typeface="华文彩云"/>
              </a:rPr>
              <a:t>未来的神奇世界要靠你们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2124000" y="357336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Comic Sans MS"/>
                <a:ea typeface="华文新魏"/>
              </a:rPr>
              <a:t>努力吧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神舟5号"/>
          <p:cNvPicPr/>
          <p:nvPr/>
        </p:nvPicPr>
        <p:blipFill>
          <a:blip r:embed="rId1"/>
          <a:stretch/>
        </p:blipFill>
        <p:spPr>
          <a:xfrm>
            <a:off x="1403280" y="549360"/>
            <a:ext cx="3611520" cy="54864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u=3747195429,3134845206&amp;gp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1295280"/>
            <a:ext cx="2577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9907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3"/>
          <p:cNvSpPr/>
          <p:nvPr/>
        </p:nvSpPr>
        <p:spPr>
          <a:xfrm>
            <a:off x="1295280" y="2590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词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3" name="Picture 4" descr="qing_big"/>
          <p:cNvPicPr/>
          <p:nvPr/>
        </p:nvPicPr>
        <p:blipFill>
          <a:blip r:embed="rId1"/>
          <a:stretch/>
        </p:blipFill>
        <p:spPr>
          <a:xfrm>
            <a:off x="152280" y="2133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笔1"/>
          <p:cNvPicPr/>
          <p:nvPr/>
        </p:nvPicPr>
        <p:blipFill>
          <a:blip r:embed="rId2"/>
          <a:stretch/>
        </p:blipFill>
        <p:spPr>
          <a:xfrm>
            <a:off x="714240" y="3780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3835"/>
          <p:cNvPicPr/>
          <p:nvPr/>
        </p:nvPicPr>
        <p:blipFill>
          <a:blip r:embed="rId3"/>
          <a:stretch/>
        </p:blipFill>
        <p:spPr>
          <a:xfrm>
            <a:off x="685800" y="2514600"/>
            <a:ext cx="666720" cy="85716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7"/>
          <p:cNvSpPr/>
          <p:nvPr/>
        </p:nvSpPr>
        <p:spPr>
          <a:xfrm>
            <a:off x="1295280" y="1676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    筛    辅      汰    肴     尿     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1371600" y="3276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异植株：在一些环境因素的影响下，植物种子的遗传物质发生了改变，由此发育而成的植株的一些特征也相应地发生了改变。这样的植株就是变异植株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美味佳肴：“肴”本来的意思是做熟的鱼肉，在本文中是指味道美好、营养丰富的太空蔬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914400" y="685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解句子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838080" y="1446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了食用，太空归来的这些特殊乘客还有很多用武之地呢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685800" y="2984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的植物种子经过一番太空旅行，好像获得了“魔力”，可以有这么多美妙的变化和神奇的用途。其实真正的魔法师是聪明勤劳的科学家们，是他们的知识和工作创造出一个个奇迹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7[3]"/>
          <p:cNvPicPr/>
          <p:nvPr/>
        </p:nvPicPr>
        <p:blipFill>
          <a:blip r:embed="rId1"/>
          <a:stretch/>
        </p:blipFill>
        <p:spPr>
          <a:xfrm>
            <a:off x="762120" y="5335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3"/>
          <p:cNvSpPr/>
          <p:nvPr/>
        </p:nvSpPr>
        <p:spPr>
          <a:xfrm>
            <a:off x="2665440" y="608760"/>
            <a:ext cx="42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空蔬菜与我们地球上的蔬菜有什么不同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2835000" y="2286000"/>
            <a:ext cx="325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形：更大、更长、颜色的变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味道：更鲜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营养：更丰富，抗病力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价值：药用、美化、绿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900000" y="126828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默读课文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2-5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自然段，想一想植物种子为什么要去作航天旅行呢？把你最感兴趣的语句勾画下来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4"/>
          <p:cNvSpPr/>
          <p:nvPr/>
        </p:nvSpPr>
        <p:spPr>
          <a:xfrm>
            <a:off x="900000" y="863640"/>
            <a:ext cx="7848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、为什么从太空回来的植物种子会发生变化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、太空蔬菜是怎么形的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、太空蔬菜与我们地球上的蔬菜有什么不同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4"/>
          <p:cNvSpPr/>
          <p:nvPr/>
        </p:nvSpPr>
        <p:spPr>
          <a:xfrm>
            <a:off x="612720" y="10112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外形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2195640" y="101124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更大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3708360" y="10112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更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5219640" y="10112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颜色的变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611280" y="220500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味道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2627280" y="2205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更鲜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539640" y="3500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营养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5796000" y="350028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更丰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2627280" y="350028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抗病力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539640" y="47242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其他价值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3708360" y="4683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药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5651640" y="46530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美化绿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4"/>
          <p:cNvSpPr/>
          <p:nvPr/>
        </p:nvSpPr>
        <p:spPr>
          <a:xfrm>
            <a:off x="26640" y="1916280"/>
            <a:ext cx="1521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  <a:ea typeface="黑体"/>
              </a:rPr>
              <a:t>科学家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2195640" y="14320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黑体"/>
              </a:rPr>
              <a:t>丰富的知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2270160" y="395136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黑体"/>
              </a:rPr>
              <a:t>辛勤的工作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5722920" y="2276640"/>
            <a:ext cx="388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  <a:ea typeface="黑体"/>
              </a:rPr>
              <a:t>创造出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ff"/>
                </a:solidFill>
                <a:latin typeface="Arial"/>
                <a:ea typeface="黑体"/>
              </a:rPr>
              <a:t>个个奇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AutoShape 8"/>
          <p:cNvSpPr/>
          <p:nvPr/>
        </p:nvSpPr>
        <p:spPr>
          <a:xfrm>
            <a:off x="1763640" y="1700280"/>
            <a:ext cx="360360" cy="273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6"/>
                </a:lnTo>
                <a:cubicBezTo>
                  <a:pt x="10800" y="10126"/>
                  <a:pt x="5400" y="11026"/>
                  <a:pt x="0" y="11026"/>
                </a:cubicBezTo>
                <a:cubicBezTo>
                  <a:pt x="5400" y="11026"/>
                  <a:pt x="10800" y="11926"/>
                  <a:pt x="10800" y="128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AutoShape 9"/>
          <p:cNvSpPr/>
          <p:nvPr/>
        </p:nvSpPr>
        <p:spPr>
          <a:xfrm>
            <a:off x="5219640" y="1700280"/>
            <a:ext cx="358920" cy="2808360"/>
          </a:xfrm>
          <a:custGeom>
            <a:avLst/>
            <a:gdLst>
              <a:gd name="textAreaLeft" fmla="*/ 0 w 358920"/>
              <a:gd name="textAreaRight" fmla="*/ 129600 w 3589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4:11:53Z</dcterms:created>
  <dc:creator>4</dc:creator>
  <dc:description>第一PPT模板网-WWW.1PPT.COM</dc:description>
  <dc:language>en-US</dc:language>
  <cp:lastModifiedBy>a</cp:lastModifiedBy>
  <dcterms:modified xsi:type="dcterms:W3CDTF">2015-01-23T02:54:48Z</dcterms:modified>
  <cp:revision>35</cp:revision>
  <dc:subject/>
  <dc:title>幻灯片 1</dc:title>
</cp:coreProperties>
</file>