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8.jpeg" ContentType="image/jpeg"/>
  <Override PartName="/ppt/media/whoosh.wav" ContentType="audio/x-wav"/>
  <Override PartName="/ppt/media/image5.png" ContentType="image/png"/>
  <Override PartName="/ppt/media/projctor.wav" ContentType="audio/x-wav"/>
  <Override PartName="/ppt/media/CAMERA.WAV" ContentType="audio/x-wav"/>
  <Override PartName="/ppt/media/drumroll.wav" ContentType="audio/x-wav"/>
  <Override PartName="/ppt/media/image3.jpeg" ContentType="image/jpeg"/>
  <Override PartName="/ppt/media/image7.gif" ContentType="image/gif"/>
  <Override PartName="/ppt/media/image6.gif" ContentType="image/gif"/>
  <Override PartName="/ppt/media/image4.jpeg" ContentType="image/jpeg"/>
  <Override PartName="/ppt/media/image2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TYPE.WAV" ContentType="audio/x-wav"/>
  <Override PartName="/ppt/media/image16.jpeg" ContentType="image/jpeg"/>
  <Override PartName="/ppt/media/chimes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CB9-F4B6-4D60-B5B5-B414119D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FB5-5383-41C4-8401-0A6ED991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B90C4-5600-4815-862B-C50CCFDF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3B2DC-53A7-473C-92E8-E7FE84A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11307-4FF5-4F41-9457-66950FC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320F3-C24C-4FCE-AEB3-3CB17E4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3133F-0F8E-4140-B6D7-AD5B792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477CB-AB52-4564-B3F4-901752B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5B1FB-378D-4A84-9175-4BDFA63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35A86-C7FD-476E-BAE4-1A734ADF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FF27B-26E4-4292-880D-2B51ECB8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144AE-B4F5-42E0-A932-4F952184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B25-E563-4818-8EE9-8C04E948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1BF4F-1EB1-47F1-8329-4575E81B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1FA68-6CAD-41D7-A38C-3A02ED63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E2404-002A-4348-BC94-225F2AD3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621A0-F0CB-433D-A1FD-76575C7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E6E52-EA67-415D-B92A-77080883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BB519-3B97-4B52-938B-A9E1931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DC4A-A4EE-4622-9F2D-98BAEE0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B4E9-07AC-4B1B-8EE4-40517411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05C7-10A9-4BBE-A7A0-1413C67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96185-C796-4683-B4C7-353F7D48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2FF-D09E-4D59-80E2-7DA48A95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9CD86-963E-46FA-B2E8-E6257FFC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BCA8-0DBC-48E2-B5A2-8A65B6FF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F645-4EF4-4415-8EC1-EA67110F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652CA-6793-4E6D-937C-D2C20852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5E03-851D-4BCB-AE11-DECC76F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888F2-7D9C-4E17-A61D-F5BDD27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A0433-9112-4063-8FFD-7292F3E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53B8C-E67F-4B2B-BF58-7AC8153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65DD1-E29E-416F-9177-70F134E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3995E-A476-4B32-8CE5-FA6A750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DA0-1ABC-4C5C-9AFF-35ACD604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4B0B-BDB6-421C-A122-1552E06A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8011B-FFC4-478D-BE37-C1CEB854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5E67-7A2D-4908-863A-2C2DED54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63819-4E80-4678-A2B7-7B1307AF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9A6C1-3E54-4741-B1B8-ACA1C6D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E4C9B-FFAF-4FAA-8930-9757BF5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557B-D949-4BF1-9697-B1530EDD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10527-6C34-4CD8-928A-89888E9C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B399E-D2C6-4437-BB8A-F06EE63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C4959-1161-47F4-AC1B-C07E9C3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96A-07E7-4F73-94A5-0755BBA2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A4771-EAF4-44AF-B8E2-8DA9632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61E4F-6575-4395-B4D8-400CCBC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E111B-B6A1-40C7-A38F-A94528F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86E44-D877-41DF-A518-8DF366A1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04DC7-4576-45AA-B1CE-54684ADA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8994E-1DB9-4BEB-9C61-E663B8B5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CACA7-AB38-46BA-BAA6-85B15DA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951AE-EDA0-4862-9B4E-EF57CA8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AFA35-E15C-406B-9BC8-B097ED79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74684-29CB-485A-AE50-24819DC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040C-01DD-44D2-9C50-314D3C6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BF4A8-398B-4ED9-9DC2-C16C3DC4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F2F60-8847-4B38-9F19-9F9C089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F1EAA-71E1-4039-8ACD-48837BE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1F466-6F60-4FD5-B92C-245430E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C56F4-E4BC-4122-A924-AF149CD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9A851-D74B-4DF9-B2F9-1B660706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2DD30-59B6-453C-B853-A033CDAF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633C0-CA54-40C1-BFCA-0313BB18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0CB71-79D5-4924-A4A8-C8D4D25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8F9F3-F4CE-41A1-A342-3ACC0D6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4F8-CAD3-4578-B7A8-65200E35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243F9-0439-4D2E-B6F7-E15FCAE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EE935-668F-4775-98BB-CC61573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C219A-4BC1-4704-B073-5F9BEB59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1B1F-86FF-4394-9F53-19F8BA6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EA337-D709-4F64-8876-C1153FF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1546B-B293-48B6-9547-E7662AE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656EF-2A10-4B9A-BC94-867E2D5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F161E-609D-41F2-AD5D-B3E0363D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FA4EB-99E2-47DB-B75E-323CDDFC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A9CA6-7CA2-473E-BCCF-D115251D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CD5-F086-4D25-BF56-98DB8A71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2840C-01F8-4A5C-A5BA-3AA39AAC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A2888-64FE-4295-AB66-77D5F94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462A7-953B-474A-82A5-BA520FAB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59814-62D7-41D2-93C3-CD25B85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0FADF-AC1B-4AB1-821D-B7FDBA5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E5F10-A8C5-4F69-8D89-FB4C59E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5352B-EDC2-415E-9B09-54D123C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6F443-6E76-4694-8416-1289E9F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5AC9B-D152-4C66-B89A-ABEE1EC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534A9-4B43-42C8-96DE-86C43EBA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1F72-BF93-4EFA-8CA6-C88275C0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CFF40-B99B-4F3E-BF8C-A09DE3C3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124-79D0-4CD0-A558-04033C0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7D0-1B3B-45AE-90CE-FCC86B0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0E0B-ACF8-4D4B-AB8D-46C6F62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9428-B638-40FA-8BB9-1F242B5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27A2-F398-46B1-8065-DE81BE1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9B4-1AF6-4FBB-B0AB-E60129F2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C2A-13F9-4590-A828-2B48A403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48CD-6EBA-41F5-8171-5CFDF64A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A3E9-0C00-411E-8865-1E25942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2359-88EB-4012-A790-72973EA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FE98-7BA8-4E2F-973B-FA3BC5B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BC91-AF9C-432C-AE35-0632EB1B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954-8A76-48A0-8020-4A39E112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D884-DFF1-461E-809E-887FE15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198E-D8C1-4FC9-BAF7-969BB972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060C-03B0-4525-87FE-CFD29AC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6D24-7C57-476A-A6F3-A2001761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1A1A-CA59-432A-8679-0E19B67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844B-9F05-42B6-963E-2AB12340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F226-5E9E-43FA-B81A-C730E3F4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F95F-C870-41D5-90DD-CE0A96B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8AA3-CD00-4CD0-82EA-FF6EB3D5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8BAD-78BD-4E74-A433-A3F3EC5D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CAD-A816-46E1-8FB5-E5BC7821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1F1B-BF5D-4140-898D-8A5F527D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E8FE-29D8-436A-A9A7-B944F05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69D4-03E6-4EB5-BF38-3C0B6EE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0920-1214-4BBA-98E1-D5410ED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0A49-682D-418A-8618-448EFAF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43DA-7311-4763-9CFF-B38B555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38DC-ACE8-438E-A15F-B981FE53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4D8F-124C-48C5-9ED3-0B8557E1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068E-0842-48BE-9ED8-F5D712AA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AC20-74E3-4533-9ED9-98453AA4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FDF-AB5B-4757-823A-1F1F819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D996-BAB5-4391-97BB-9CB817F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207B-1676-4AB5-9604-70AF6773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B29C-5A8D-4AF3-A346-63123BE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91B4-13FC-43DA-9ED9-C9571681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B024-86E8-4493-93AE-81F8E272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1F1C-B446-42CF-AE17-F498DE9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C0D5-041A-45CF-828B-5964FAF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8397-445B-4F6C-AB1F-73DF516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932E-C6A8-4110-B7D8-31900DF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E327-E3AF-419B-8B1E-C84F9F6B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A54-B5B4-44ED-BE18-59BDE58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1058-304B-4632-B485-82586363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7EF9-3AA1-4F45-9B17-600C1288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86D5-737B-4E39-BBD7-CFC3AD8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038B-48E9-440F-AD20-F430D2E6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EA55-31FF-48ED-978F-ED99D0F0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8A24-C56F-45B8-B315-41FB9E4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6B69-625B-45EB-82F2-3C851EAD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DACD-806F-450D-B778-7AD4A44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C8CB-9EC1-4429-B769-CC2482A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9B149-750C-4A4D-A88C-53F5BF5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90A-03AD-4D19-A4F7-A89FB68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8AA7-0916-4523-A06C-A19F4B1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9D70-26B1-4FFB-8CF4-BE41146E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14A3-554D-4104-B961-868C6D36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407C-93D7-4FC9-AE49-E24A71A2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F6C03-4EA9-4C6E-BB2E-5A95FFFA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5EFA-BED6-4551-92F2-538BF8C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D802-2F23-4FE8-B3A9-C676910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99371-0516-4CBD-A9C0-F789E4E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5B9C-653F-46AA-8A0A-1C68866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2AD49-06C2-4576-BB12-98CA2B9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18D-E68F-4CBB-A1FB-7109CF1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AE46-AF66-4C7C-AB3F-2922DE7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8879-91CE-4B7D-98D2-395ACBC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E85C-2D92-4888-9584-D036D3C9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1607-562D-4EF4-BF65-3AFCB65C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E5241-3ABA-4DC4-840D-D97F8A73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F041-426A-42C9-8CBF-AF43E32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45841-6700-4B86-9F8C-C4DEE716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20D0B-C9A5-4964-964F-EB3CF12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E5F00-0BAE-4854-8B06-D6A7DE0D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C959-00A0-4F3E-B35A-B45A15E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9EA-359D-4E5F-9499-6125982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A9243-7933-485E-900C-DC5BA4F6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5CF2-1D2A-44AD-A52A-AFD3E06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D3392-85CB-4658-BA42-3999B55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E754-9448-43A8-9CDF-203057F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1CD8-0AFA-47EE-9129-904CA6C4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41D8-499F-4F45-8D4E-F01F4ED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1612-96D7-4459-8ADD-C440F30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EBF8B-A97D-4B31-B18B-A36C0E50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3BE5E-0929-415B-BFAE-400D746B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AD3E-AF9C-49C1-84C2-0BE1FA1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DB93-F71F-488E-9B1D-50415BA09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2454-6577-4E25-A2BF-14852BD1E4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A8BB-84B1-4FEF-920D-F0DAE424A4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42E-24EB-4248-9AF6-4864E67D21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19F-A474-4B22-98CE-0650B0E6C3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DB8D-BE51-4FE0-A811-1EF7BD5A29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78C-346A-4B94-A676-0BC0A8639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36B-DA72-456F-902C-D2B27B0DE5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73A4-17AB-4AD4-B3D7-6073F1FC9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FE75-0DE0-49A4-85D6-B0CE5EF9C4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92B-DAF6-44DB-B1B8-819579DC8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B26-AC17-4FCA-8203-0E327F79F7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83D2-ABEB-46B4-B11F-B0150076D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4480-E2E9-4986-B180-52F9763A7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A53-116A-4E8B-9537-22386D3C25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560E-7C94-49C4-8613-9C7CA7758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4B99-BB44-42FD-B412-65409B95E3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22C-77FA-41FE-B49A-B77002083B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8F1C-766A-40F9-A887-1C1483147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6B6-2EA8-4FFE-8AF9-C4F6BA620F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840-F62C-4AA0-81EC-D6B23DB6D2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EEC-10F8-4CE1-92FA-7A0152066D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8F3F-668C-4FD8-A67C-68A6ECB07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271-1C10-4081-8CD7-8C8CB07C41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B6C-22DB-42C1-8139-1CEADA2CC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F78-72A4-4190-873C-A21B12CED9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D34-CFE2-4C56-B225-658684180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3"/>
          <p:cNvSpPr/>
          <p:nvPr/>
        </p:nvSpPr>
        <p:spPr>
          <a:xfrm>
            <a:off x="1523880" y="45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应是子规啼不到，故乡虽好不思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莫道还家便容易，人间多少事堪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43000" y="20574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天子重英豪，文章教尔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万般皆下品，唯有读书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4082400" y="5791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十年窗下无人问，一举成名天下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270320" y="495288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隶书"/>
                <a:ea typeface="隶书"/>
              </a:rPr>
              <a:t>穷居闹市无人问，富在深山有远亲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066680" y="34290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一士登甲科，九族光彩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隶书"/>
                <a:ea typeface="隶书"/>
              </a:rPr>
              <a:t>朝为田舍郎，暮登天子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儒林外史书貌07"/>
          <p:cNvPicPr/>
          <p:nvPr/>
        </p:nvPicPr>
        <p:blipFill>
          <a:blip r:embed="rId1"/>
          <a:stretch/>
        </p:blipFill>
        <p:spPr>
          <a:xfrm>
            <a:off x="7238880" y="4724280"/>
            <a:ext cx="1560600" cy="19051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0" y="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全书有一个中心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通过对科举制度的弊害和知识分子的精神生活的腐朽堕落的描绘，深刻地揭露和强烈地抨击了封建社会道德风俗的败坏和政治的黑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确实是一幅刻画入微、形象逼真的封建社会儒林百丑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鲁迅先生说：“迨吴敬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出，乃秉持公心，指擿时弊，机锋所向，尤在士林；其文又感而能谐，婉而多讽；于是说部中乃始有足称讽刺之书。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国小说史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这是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步思想和讽刺艺术的最好的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52280" y="472428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于时代的局限，作者在书中批判黑暗现实的同时，却把理想寄托在一些“品学兼优”的士大夫的身上，宣扬古礼古乐，这是应该加以批判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方正舒体"/>
              </a:rPr>
              <a:t>介绍与本课有关的小说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0" y="1371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进中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片断选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学道校士拔真才，胡屠户行凶查捷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小说描写广东学道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任后在广州主考两场生员，然后主考南海、番禺两县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童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考试，其中就有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范进当时已是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，从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整整考了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当花白着胡子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在考场里，引起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怜悯，因为范进与自己的遭遇非常相似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初考了许多年连秀才也没有考上，最后他做生意的一个朋友替他捐钱买了一个秀才资格，他才得以考上举人，最终考上进士。正因为如此，他才对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格外关照，结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在童试中考上第一名秀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紧接着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在乡试中考了第七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457200" y="1295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标题是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范进中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，可以说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中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是范进一生的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转折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中举前后他的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经济状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社会地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判若两人。试着讲讲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3"/>
          <p:cNvSpPr txBox="1"/>
          <p:nvPr/>
        </p:nvSpPr>
        <p:spPr>
          <a:xfrm>
            <a:off x="556272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变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2"/>
          <p:cNvSpPr/>
          <p:nvPr/>
        </p:nvSpPr>
        <p:spPr>
          <a:xfrm>
            <a:off x="6227640" y="2708280"/>
            <a:ext cx="649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3" descr="cxinfo_swf_36-4805_图像139"/>
          <p:cNvPicPr/>
          <p:nvPr/>
        </p:nvPicPr>
        <p:blipFill>
          <a:blip r:embed="rId1"/>
          <a:stretch/>
        </p:blipFill>
        <p:spPr>
          <a:xfrm>
            <a:off x="5257800" y="1905120"/>
            <a:ext cx="3124080" cy="404496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669" name="AutoShape 4"/>
          <p:cNvSpPr/>
          <p:nvPr/>
        </p:nvSpPr>
        <p:spPr>
          <a:xfrm>
            <a:off x="7308720" y="1197000"/>
            <a:ext cx="1366920" cy="2087640"/>
          </a:xfrm>
          <a:prstGeom prst="wedgeEllipseCallout">
            <a:avLst>
              <a:gd name="adj1" fmla="val -61032"/>
              <a:gd name="adj2" fmla="val 72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该死的畜牲！你中了甚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5"/>
          <p:cNvSpPr txBox="1"/>
          <p:nvPr/>
        </p:nvSpPr>
        <p:spPr>
          <a:xfrm>
            <a:off x="0" y="0"/>
            <a:ext cx="28954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671" name="WordArt 6"/>
          <p:cNvSpPr txBox="1"/>
          <p:nvPr/>
        </p:nvSpPr>
        <p:spPr>
          <a:xfrm>
            <a:off x="3581280" y="68580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胡屠户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450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胡屠户在范进中举前后的态度有什么不同？试分析该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0" y="860400"/>
          <a:ext cx="8785080" cy="6010200"/>
        </p:xfrm>
        <a:graphic>
          <a:graphicData uri="http://schemas.openxmlformats.org/drawingml/2006/table">
            <a:tbl>
              <a:tblPr/>
              <a:tblGrid>
                <a:gridCol w="2374920"/>
                <a:gridCol w="3244680"/>
                <a:gridCol w="316548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中举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　中举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范进的称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说话的态度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所带的礼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嫁女的解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相貌的评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才学的评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能否考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对亲家母称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74" name="Rectangle 44"/>
          <p:cNvSpPr/>
          <p:nvPr/>
        </p:nvSpPr>
        <p:spPr>
          <a:xfrm>
            <a:off x="108000" y="146160"/>
            <a:ext cx="7010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 Black"/>
                <a:ea typeface="黑体"/>
              </a:rPr>
              <a:t>范进中举前后胡屠户态度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312408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现世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5940360" y="1459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老爷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贤婿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2819520" y="21081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训斥　狗血喷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5943600" y="1959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恭维　奉承　讨好千恩万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2819520" y="2755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一副大肠　一瓶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5940360" y="2755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七八斤肉四五千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2819520" y="3284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倒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2819520" y="3400560"/>
            <a:ext cx="1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5867280" y="3352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养到３０多岁　　毕竟要嫁与个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25909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尖嘴猴腮　不三不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5"/>
          <p:cNvSpPr/>
          <p:nvPr/>
        </p:nvSpPr>
        <p:spPr>
          <a:xfrm>
            <a:off x="5867280" y="4191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品貌又高　张府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也没有这样的相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6"/>
          <p:cNvSpPr/>
          <p:nvPr/>
        </p:nvSpPr>
        <p:spPr>
          <a:xfrm>
            <a:off x="2514600" y="5029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不是你的文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舍与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7"/>
          <p:cNvSpPr/>
          <p:nvPr/>
        </p:nvSpPr>
        <p:spPr>
          <a:xfrm>
            <a:off x="617220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才学又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8"/>
          <p:cNvSpPr/>
          <p:nvPr/>
        </p:nvSpPr>
        <p:spPr>
          <a:xfrm>
            <a:off x="251460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癞蛤蟆就想天鹅屁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9"/>
          <p:cNvSpPr/>
          <p:nvPr/>
        </p:nvSpPr>
        <p:spPr>
          <a:xfrm>
            <a:off x="5791320" y="586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毕竟要嫁与个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0"/>
          <p:cNvSpPr/>
          <p:nvPr/>
        </p:nvSpPr>
        <p:spPr>
          <a:xfrm>
            <a:off x="259092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你那老不死的老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1"/>
          <p:cNvSpPr/>
          <p:nvPr/>
        </p:nvSpPr>
        <p:spPr>
          <a:xfrm>
            <a:off x="594360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你家老太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6" name="CAMER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304920" y="685800"/>
            <a:ext cx="8153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加点的词含有什么意味，体现了人物的什么心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屠户把银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手里紧紧的，把拳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来，道：“这个，你且收着。我原是贺你的，怎好又拿了回去？”范进道：“眼见得我这里还有这几两银子，若用完了，再来问老爹讨来用。”屠户连忙把拳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回去，往腰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1447920" y="502920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特写镜头写出其见财心喜而又假意退推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心理，讽刺意味十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1523880" y="56386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5"/>
          <p:cNvSpPr/>
          <p:nvPr/>
        </p:nvSpPr>
        <p:spPr>
          <a:xfrm>
            <a:off x="1600200" y="6248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45924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典型细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胡屠户在范进中举前后截然不同的两种态度形成了鲜明的对比，形象地表现出他的前倨后恭，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欺贫爱富、趋炎附势、嗜钱如命、庸俗自私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典型市侩的性格跃然纸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cxinfo_swf_36-4805_图像148"/>
          <p:cNvPicPr/>
          <p:nvPr/>
        </p:nvPicPr>
        <p:blipFill>
          <a:blip r:embed="rId1"/>
          <a:stretch/>
        </p:blipFill>
        <p:spPr>
          <a:xfrm>
            <a:off x="5105520" y="3505320"/>
            <a:ext cx="3595680" cy="294804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4"/>
          <p:cNvSpPr/>
          <p:nvPr/>
        </p:nvSpPr>
        <p:spPr>
          <a:xfrm>
            <a:off x="7315200" y="3200400"/>
            <a:ext cx="1657440" cy="1152360"/>
          </a:xfrm>
          <a:prstGeom prst="cloudCallout">
            <a:avLst>
              <a:gd name="adj1" fmla="val -32856"/>
              <a:gd name="adj2" fmla="val 125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文曲星打得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5"/>
          <p:cNvSpPr/>
          <p:nvPr/>
        </p:nvSpPr>
        <p:spPr>
          <a:xfrm>
            <a:off x="5029200" y="3429000"/>
            <a:ext cx="934920" cy="1081080"/>
          </a:xfrm>
          <a:prstGeom prst="wedgeEllipseCallout">
            <a:avLst>
              <a:gd name="adj1" fmla="val 91254"/>
              <a:gd name="adj2" fmla="val 9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权变权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6"/>
          <p:cNvSpPr txBox="1"/>
          <p:nvPr/>
        </p:nvSpPr>
        <p:spPr>
          <a:xfrm>
            <a:off x="0" y="0"/>
            <a:ext cx="28954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980280" y="3429000"/>
            <a:ext cx="322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胡屠户前倨后恭的不同态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正好反映出当时社会上那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炎附势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现象，时人对权贵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谀奉承，对寒士则加以白眼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583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文中对张乡绅和众邻居的描写，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0292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张静斋是城中望族，之前 与范进素不相识，为什么会来拜会范进，而且还又送银又送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众邻居在范进中举前后有什么变化？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cxinfo_swf_36-4805_图像151"/>
          <p:cNvPicPr/>
          <p:nvPr/>
        </p:nvPicPr>
        <p:blipFill>
          <a:blip r:embed="rId1"/>
          <a:stretch/>
        </p:blipFill>
        <p:spPr>
          <a:xfrm>
            <a:off x="5715000" y="2057400"/>
            <a:ext cx="2979720" cy="41083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706" name="AutoShape 5"/>
          <p:cNvSpPr/>
          <p:nvPr/>
        </p:nvSpPr>
        <p:spPr>
          <a:xfrm>
            <a:off x="7781760" y="2971800"/>
            <a:ext cx="1362240" cy="1212840"/>
          </a:xfrm>
          <a:prstGeom prst="wedgeEllipseCallout">
            <a:avLst>
              <a:gd name="adj1" fmla="val -47087"/>
              <a:gd name="adj2" fmla="val 12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幸会！幸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6"/>
          <p:cNvSpPr/>
          <p:nvPr/>
        </p:nvSpPr>
        <p:spPr>
          <a:xfrm>
            <a:off x="5867280" y="2057400"/>
            <a:ext cx="936720" cy="1359000"/>
          </a:xfrm>
          <a:prstGeom prst="wedgeEllipseCallout">
            <a:avLst>
              <a:gd name="adj1" fmla="val 48476"/>
              <a:gd name="adj2" fmla="val 12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世先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7"/>
          <p:cNvSpPr txBox="1"/>
          <p:nvPr/>
        </p:nvSpPr>
        <p:spPr>
          <a:xfrm>
            <a:off x="0" y="0"/>
            <a:ext cx="23623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57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张静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目的是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交新贵，巩固和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权势，从这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们可以看出当时官僚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间结党营私之风盛行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WordArt 3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11" name="Picture 4" descr="12范进中举"/>
          <p:cNvPicPr/>
          <p:nvPr/>
        </p:nvPicPr>
        <p:blipFill>
          <a:blip r:embed="rId1"/>
          <a:stretch/>
        </p:blipFill>
        <p:spPr>
          <a:xfrm>
            <a:off x="4800600" y="838080"/>
            <a:ext cx="3962520" cy="525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261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邻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范进中举前对他漠不关心，在他中举后都送了东西来。范进疯了也是众邻居来帮忙。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众邻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权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或敬畏或谄媚，对不幸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酷无情。这表现了封建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的世态炎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3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14" name="Picture 4" descr="art06"/>
          <p:cNvPicPr/>
          <p:nvPr/>
        </p:nvPicPr>
        <p:blipFill>
          <a:blip r:embed="rId1"/>
          <a:stretch/>
        </p:blipFill>
        <p:spPr>
          <a:xfrm>
            <a:off x="5867280" y="2971800"/>
            <a:ext cx="2895840" cy="3422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231840" y="2286000"/>
            <a:ext cx="1003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328"/>
                </a:solidFill>
                <a:latin typeface="Times New Roman"/>
                <a:ea typeface="方正舒体"/>
              </a:rPr>
              <a:t>中举了</a:t>
            </a:r>
            <a:r>
              <a:rPr b="1" lang="zh-CN" sz="5400" spc="-1" strike="noStrike">
                <a:solidFill>
                  <a:srgbClr val="f72328"/>
                </a:solidFill>
                <a:latin typeface="Times New Roman"/>
                <a:ea typeface="方正舒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295280" y="609480"/>
            <a:ext cx="7086600" cy="204372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春风得意马蹄疾，一日看尽长安花。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219320" y="1828800"/>
            <a:ext cx="7162560" cy="132300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328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插花游街、马蹄轻疾的风流，有衣锦还乡、袍笏加身的荣耀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晓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1219320" y="3733920"/>
            <a:ext cx="7162560" cy="1068840"/>
          </a:xfrm>
          <a:prstGeom prst="rect">
            <a:avLst/>
          </a:prstGeom>
          <a:solidFill>
            <a:srgbClr val="a7b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一日春光暗度黄金柳，雪意冲开了白玉梅。那时节走马在章台内，丝儿翠，笼定个百花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汤显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82760" y="76320"/>
            <a:ext cx="4952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范进中举前后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08000" y="762120"/>
          <a:ext cx="8856720" cy="5932440"/>
        </p:xfrm>
        <a:graphic>
          <a:graphicData uri="http://schemas.openxmlformats.org/drawingml/2006/table">
            <a:tbl>
              <a:tblPr/>
              <a:tblGrid>
                <a:gridCol w="1023840"/>
                <a:gridCol w="4179960"/>
                <a:gridCol w="365292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项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地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7" name="Text Box 29"/>
          <p:cNvSpPr/>
          <p:nvPr/>
        </p:nvSpPr>
        <p:spPr>
          <a:xfrm>
            <a:off x="1476360" y="1523880"/>
            <a:ext cx="3733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每日小菜饭　猪油两三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了两三天　没有早饭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得看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5638680" y="152388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拿蛋　送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　　　背米　捉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送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16002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茅草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2"/>
          <p:cNvSpPr/>
          <p:nvPr/>
        </p:nvSpPr>
        <p:spPr>
          <a:xfrm>
            <a:off x="548640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三进三间房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3"/>
          <p:cNvSpPr/>
          <p:nvPr/>
        </p:nvSpPr>
        <p:spPr>
          <a:xfrm>
            <a:off x="1600200" y="4038480"/>
            <a:ext cx="297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盘费去应考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钱打发报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4"/>
          <p:cNvSpPr/>
          <p:nvPr/>
        </p:nvSpPr>
        <p:spPr>
          <a:xfrm>
            <a:off x="5638680" y="3809880"/>
            <a:ext cx="3048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搬桌椅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屠户送四五千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纹银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5"/>
          <p:cNvSpPr/>
          <p:nvPr/>
        </p:nvSpPr>
        <p:spPr>
          <a:xfrm>
            <a:off x="1600200" y="530064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骂得狗血淋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理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6"/>
          <p:cNvSpPr/>
          <p:nvPr/>
        </p:nvSpPr>
        <p:spPr>
          <a:xfrm>
            <a:off x="5632560" y="522936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奉承恭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帮办各种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拜访拉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2" name="CAMERA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152280" y="251460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/>
          <p:cNvSpPr/>
          <p:nvPr/>
        </p:nvSpPr>
        <p:spPr>
          <a:xfrm>
            <a:off x="914400" y="1371600"/>
            <a:ext cx="539640" cy="4648320"/>
          </a:xfrm>
          <a:custGeom>
            <a:avLst/>
            <a:gdLst>
              <a:gd name="textAreaLeft" fmla="*/ 344880 w 539640"/>
              <a:gd name="textAreaRight" fmla="*/ 540000 w 539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6"/>
                </a:lnTo>
                <a:cubicBezTo>
                  <a:pt x="10800" y="9966"/>
                  <a:pt x="5400" y="10866"/>
                  <a:pt x="0" y="10866"/>
                </a:cubicBezTo>
                <a:cubicBezTo>
                  <a:pt x="5400" y="10866"/>
                  <a:pt x="10800" y="11766"/>
                  <a:pt x="10800" y="126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1447920" y="1295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371600" y="30481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胡屠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1447920" y="4572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众乡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1523880" y="571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张乡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3048120" y="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5292720" y="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0"/>
          <p:cNvSpPr/>
          <p:nvPr/>
        </p:nvSpPr>
        <p:spPr>
          <a:xfrm>
            <a:off x="2590920" y="8380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1"/>
          <p:cNvSpPr/>
          <p:nvPr/>
        </p:nvSpPr>
        <p:spPr>
          <a:xfrm>
            <a:off x="3048120" y="6094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家境贫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忍气吞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卑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卑怯畏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2"/>
          <p:cNvSpPr/>
          <p:nvPr/>
        </p:nvSpPr>
        <p:spPr>
          <a:xfrm>
            <a:off x="5105520" y="6858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中举发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顿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谦卑恭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3"/>
          <p:cNvSpPr/>
          <p:nvPr/>
        </p:nvSpPr>
        <p:spPr>
          <a:xfrm>
            <a:off x="6775560" y="907920"/>
            <a:ext cx="217440" cy="107964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7162920" y="1143000"/>
            <a:ext cx="161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热衷功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2590920" y="26668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6"/>
          <p:cNvSpPr/>
          <p:nvPr/>
        </p:nvSpPr>
        <p:spPr>
          <a:xfrm>
            <a:off x="3048120" y="24382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随意辱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粗俗势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厉声训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蛮横倨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5105520" y="266688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千种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万般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阿谀奉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8"/>
          <p:cNvSpPr/>
          <p:nvPr/>
        </p:nvSpPr>
        <p:spPr>
          <a:xfrm>
            <a:off x="6775560" y="2854440"/>
            <a:ext cx="217440" cy="107928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7569360" y="312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趋炎附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20"/>
          <p:cNvSpPr/>
          <p:nvPr/>
        </p:nvSpPr>
        <p:spPr>
          <a:xfrm>
            <a:off x="2666880" y="4495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1"/>
          <p:cNvSpPr/>
          <p:nvPr/>
        </p:nvSpPr>
        <p:spPr>
          <a:xfrm>
            <a:off x="3124080" y="4267080"/>
            <a:ext cx="201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视而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漠不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"/>
          <p:cNvSpPr/>
          <p:nvPr/>
        </p:nvSpPr>
        <p:spPr>
          <a:xfrm>
            <a:off x="5105520" y="4267080"/>
            <a:ext cx="20160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奔走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热心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6775560" y="436572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4"/>
          <p:cNvSpPr/>
          <p:nvPr/>
        </p:nvSpPr>
        <p:spPr>
          <a:xfrm>
            <a:off x="760428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嫌贫爱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5"/>
          <p:cNvSpPr/>
          <p:nvPr/>
        </p:nvSpPr>
        <p:spPr>
          <a:xfrm>
            <a:off x="5105520" y="5562720"/>
            <a:ext cx="208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登门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百般拉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6858000" y="5715000"/>
            <a:ext cx="141120" cy="685800"/>
          </a:xfrm>
          <a:custGeom>
            <a:avLst/>
            <a:gdLst>
              <a:gd name="textAreaLeft" fmla="*/ 0 w 141120"/>
              <a:gd name="textAreaRight" fmla="*/ 50760 w 1411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7"/>
          <p:cNvSpPr/>
          <p:nvPr/>
        </p:nvSpPr>
        <p:spPr>
          <a:xfrm>
            <a:off x="7569360" y="566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老奸巨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3510360" y="571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不屑一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WordArt 29"/>
          <p:cNvSpPr txBox="1"/>
          <p:nvPr/>
        </p:nvSpPr>
        <p:spPr>
          <a:xfrm>
            <a:off x="0" y="0"/>
            <a:ext cx="25146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形象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286000" y="11430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范进中举前后状况的变化，反映了封建社会科举制度对读书人命运的主宰，以及在这种制度下人与人之间的势利关系和世态的炎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思考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除上述对比外，人物本身“言”与“行”、“言”与“言”、“言”与“意”的对比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行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如：范进口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噫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好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中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语三叹，欢乐之情从口涌出。接着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往后一跤跌倒，牙关咬紧，不省人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这是乐而发狂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两相对比，产生强烈的讽刺效果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如：胡屠户两次贺喜的表演，同一地点，对同一对象，评价截然不同。前面是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自倒运，把个女儿嫁与你这现世宝，历年以来，不知累了我多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；后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现世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成了举人，成了老爷，语言立刻变化，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自己觉得女儿像有些福气的，毕竟要嫁与个老爷，今日果然不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言与言强烈对比，鞭挞得入木三分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言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意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对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如：张乡绅开口亲热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世兄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亲切的世兄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至亲骨肉一般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兄弟，这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而言中之意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适才看见题名录，贵房师高要县汤公，就是先祖的门生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意思是你的中举，还兴有我家的一份功劳，抬一抬，拉一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对照，揭示该人物丑恶的灵魂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czyuwen05_04_15_01"/>
          <p:cNvPicPr/>
          <p:nvPr/>
        </p:nvPicPr>
        <p:blipFill>
          <a:blip r:embed="rId1"/>
          <a:stretch/>
        </p:blipFill>
        <p:spPr>
          <a:xfrm>
            <a:off x="16002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3"/>
          <p:cNvSpPr/>
          <p:nvPr/>
        </p:nvSpPr>
        <p:spPr>
          <a:xfrm>
            <a:off x="250920" y="476280"/>
            <a:ext cx="150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走出大门不多路，一脚踹在塘里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czyuwen05_04_15_02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6948360" y="907920"/>
            <a:ext cx="194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噫！好了！我中了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设想，范进在大嚷“好”的瞬间，他究竟可能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0" y="237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归根到底，一个“好”字，表明那一瞬间，范进曾产生过多少思想活动。可以毫不夸张地说，那上半世甜酸苦辣的热望，下半世即将纷沓而至的荣华富贵，都随着一声“好”风驰电掣似地卷过范进的脑海。一个“好”字，将范进这样一个封建社会知识分子满脑功名利禄，一心升官发财的形象跃然纸上。这正是作者的点睛之笔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395280" y="476280"/>
            <a:ext cx="8569440" cy="642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部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部新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书中记载：一个姓杜的读书人多次参加科举考试未中，正想回家，却收到妻子寄来的诗：</a:t>
            </a:r>
            <a:r>
              <a:rPr b="0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2171880" y="2819520"/>
            <a:ext cx="4800600" cy="3694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良人的的有奇才，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何事年年被放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今妾面羞君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君若来时近夜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者运用妙笔把这个人物丧魂落魄的丑态、狂态刻画得淋漓尽致，入木三分。范进长期遭白眼，一旦考中，如发生天旋地转的变化，感情上承受不了。绝大多数知识分子听任封建统治者摆布，背后隐藏的是悲剧，既可怜又可悲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中举前唯唯诺诺，中举后则坦然地同方面大耳的张乡绅平起平坐，打起官腔，成了封建社会的新贵，特权阶级的人员。 </a:t>
            </a: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范进对功名的热衷除了从他坚持不懈地参加考试中可以看出之外，还有一处细节可以体现：即平日他不是一个感情容易外露的人，所以他可以忍受胡屠户的辱骂，可以冷静的卖鸡救命，但一见喜报帖便欢喜得疯起来，鲜明的反常，可以充分表现他的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利欲熏心、可悲可笑。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1437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99"/>
                </a:solidFill>
                <a:uFillTx/>
                <a:latin typeface="宋体"/>
              </a:rPr>
              <a:t>范进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4448520" y="144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猥琐懦弱而又圆滑世故，热衷功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828800" y="99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仿宋_GB2312"/>
              </a:rPr>
              <a:t>文章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380880" y="2057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通过对比描写范进中举前后社会、经济地位的变化，着重刻画范进中举癫狂的丑态及他周围各色人等趋炎附势的嘴脸，有力地抨击了封建制度对读书人心灵的荼毒，辛辣地讽刺了科举制度下人与人之间的关系，深刻地揭露了封建社会的黑暗现实和世态的炎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838080" y="1523880"/>
            <a:ext cx="7696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儒林外史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精彩片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回写到范进到知县汤奉处打秋风，当知县看到范进因守制而不用银镶杯箸，不用象箸时，很担心他不用荤酒，正在此时，却见范进“在燕窝碗里拣了一个大虾元子送在嘴里”，这才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838080" y="5105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一句“大虾元子”的描述将范进虚伪的性格暴露无遗，同时也表现出封建礼教的虚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WordArt 4"/>
          <p:cNvSpPr txBox="1"/>
          <p:nvPr/>
        </p:nvSpPr>
        <p:spPr>
          <a:xfrm>
            <a:off x="304920" y="138240"/>
            <a:ext cx="3124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课外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428640" y="1066680"/>
            <a:ext cx="38862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范进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与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孔乙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" descr="范进中举1"/>
          <p:cNvPicPr/>
          <p:nvPr/>
        </p:nvPicPr>
        <p:blipFill>
          <a:blip r:embed="rId1"/>
          <a:srcRect l="0" t="0" r="45834" b="0"/>
          <a:stretch/>
        </p:blipFill>
        <p:spPr>
          <a:xfrm>
            <a:off x="0" y="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" descr="0"/>
          <p:cNvPicPr/>
          <p:nvPr/>
        </p:nvPicPr>
        <p:blipFill>
          <a:blip r:embed="rId2"/>
          <a:stretch/>
        </p:blipFill>
        <p:spPr>
          <a:xfrm>
            <a:off x="5486400" y="3198960"/>
            <a:ext cx="3657600" cy="36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乙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意图类似，均是控诉封建社会、科举制度的罪恶。孔乙己是科举考试的败北者，范进是中了举，发了疯。皆是热衷功名，一个爬上去，一个被吞噬。皆是中毒极深，一个被吞噬而仍然麻木不仁，一个中了举欢喜得发了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43000" y="38088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“ 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明末高邮有袁体庵者，神医          也。有举子举于乡，喜极发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笑不止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art04"/>
          <p:cNvPicPr/>
          <p:nvPr/>
        </p:nvPicPr>
        <p:blipFill>
          <a:blip r:embed="rId1"/>
          <a:stretch/>
        </p:blipFill>
        <p:spPr>
          <a:xfrm>
            <a:off x="3886200" y="174456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1901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年，慈禧下令改革科举。考试内容中加中外政治历史。为了迎合此旨意，有一次考官出题时把法国的拿破仑塞进去了，因粗略知道拿破仑与中国的项羽一样是一位以失败而告终的猛将，便出了一道中外比较试题：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项羽拿破轮论</a:t>
            </a:r>
            <a:r>
              <a:rPr b="1" lang="en-US" sz="3200" spc="-1" strike="noStrike">
                <a:solidFill>
                  <a:srgbClr val="004644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4644"/>
                </a:solidFill>
                <a:latin typeface="宋体"/>
              </a:rPr>
              <a:t>。出题的考官赶时髦，可来自全国的八股考生哪里跟得上？于是赶出了笑话。一位考生一开笔就写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685800" y="4191120"/>
            <a:ext cx="7886880" cy="106884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夫项羽，拔山盖世之雄，岂有破轮而不能拿哉？使破轮自修其政，又焉能为项羽所拿者？拿全轮而不胜，而况于拿破轮也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范进中举1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5856480" y="1066680"/>
            <a:ext cx="127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敬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52280" y="106200"/>
            <a:ext cx="281952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文学常识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吴敬梓图象"/>
          <p:cNvPicPr/>
          <p:nvPr/>
        </p:nvPicPr>
        <p:blipFill>
          <a:blip r:embed="rId1"/>
          <a:stretch/>
        </p:blipFill>
        <p:spPr>
          <a:xfrm>
            <a:off x="152280" y="914400"/>
            <a:ext cx="2895840" cy="5334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3124080" y="0"/>
            <a:ext cx="601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敬梓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1----17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敏轩，号粒民，晚年又号文木老人，安徽全椒人，清代讽刺小说家。出生于官僚地主家庭，曾祖父、祖父、叔祖均凭科举显达。其父吴霖起，拔贡出身，只做过一任县教谕（八品学官），为人正直耿介，不慕荣利，对吴敬梓颇有影响。吴敬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母，后随父到任所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秀才（此后即屡举不中）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父。从此，他的生活起了很大变化，由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素不习治生，性复豪上，遇贫即施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数年而产尽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大家都拿他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败家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典型来教育子孙。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移居南京，生活愈加贫困，到后来甚至常常无米下锅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病逝于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3124080" y="33192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吴敬梓一生中的大半时间在南京、扬州两地，他所交往的多是些“上层人士”，如官僚豪绅、纨绔子弟、举业中人、清客等，对他们的卑劣的灵魂，腐朽的生活，一切秽行劣迹，有较深刻的了解；加上他个人经济地位的剧变，使他与广大下层人民有较多的接触，这些成了他创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丰富的素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3200400" cy="44197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4"/>
          <p:cNvSpPr/>
          <p:nvPr/>
        </p:nvSpPr>
        <p:spPr>
          <a:xfrm>
            <a:off x="152280" y="44956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儒林外史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书于作者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以前。这部长篇讽刺小说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共</a:t>
            </a:r>
            <a:r>
              <a:rPr b="1" lang="en-US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55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回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刻画了</a:t>
            </a:r>
            <a:r>
              <a:rPr b="1" lang="en-US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100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多个人物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并无一个中心人物做主干，是连缀很多故事而成的长篇小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line-in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098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762120" y="1752480"/>
            <a:ext cx="7162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儒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读书人这一阶层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儒林外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部杰出的现实主义章回体长篇讽刺小说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书正是以封建知识分子为主要对象，描写他们的生活和精神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书用白话写成，语言准确、生动、幽默、洗练，细节描写传神，人物栩栩如生，艺术上取得了极大的成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展示了一幅以封建儒生的生活和精神状态为中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八世纪中国社会的风俗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1111"/>
          <p:cNvPicPr/>
          <p:nvPr/>
        </p:nvPicPr>
        <p:blipFill>
          <a:blip r:embed="rId2"/>
          <a:stretch/>
        </p:blipFill>
        <p:spPr>
          <a:xfrm>
            <a:off x="1600200" y="30492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" descr="1112"/>
          <p:cNvPicPr/>
          <p:nvPr/>
        </p:nvPicPr>
        <p:blipFill>
          <a:blip r:embed="rId3"/>
          <a:stretch/>
        </p:blipFill>
        <p:spPr>
          <a:xfrm>
            <a:off x="6454800" y="30492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6"/>
          <p:cNvSpPr/>
          <p:nvPr/>
        </p:nvSpPr>
        <p:spPr>
          <a:xfrm>
            <a:off x="2057400" y="471600"/>
            <a:ext cx="54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关于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儒林外史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0:03:11Z</dcterms:created>
  <dc:creator>YaYa</dc:creator>
  <dc:description/>
  <dc:language>en-US</dc:language>
  <cp:lastModifiedBy>a</cp:lastModifiedBy>
  <dcterms:modified xsi:type="dcterms:W3CDTF">2015-02-10T11:15:11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