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A95-91DD-43BF-BE86-D6E18D09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276-C370-42D6-AF18-81DE6906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191F4-B53B-4DF3-AD49-ECA63F32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BC09E-71D1-4482-ABA8-53C901FB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EA715-9765-49EC-A4D8-8E640B17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430B6-FD26-4B99-A8F8-5DF98FEB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32B26-A8FB-4155-AFD3-921C6A3A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371D-95DF-4331-9B0B-C925D05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C52D3-85D3-4FDE-9832-FBC360A7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C698F-0212-4FFE-AC35-3897D6F5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FA6AF-BF7B-487B-BFF4-1E3928CF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78BF8-0664-4927-9A59-01267C6C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5C7-FFD1-4035-9056-0D26E6C4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5714B-BFEC-47E5-B523-E861CB4F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D9DD4-2F6F-4CCF-80C9-31D1A802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6F9D0-4167-4CB6-879D-63D57301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E329F-4B0F-42B7-A8B8-1FB012B6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6764E-A308-4E85-94B3-269EBCF8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2DC1B-C438-4FD6-AE0D-F84A059D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37B3A-255E-4A83-997A-809C279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986A4-E3B3-4CC3-B71E-CF06130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EFF37-98F9-4440-A194-F0E2242E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F5B0D-7BE1-4FC1-B2CA-89C2C1E4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892-90FB-4C3D-91E1-6B71F91E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BDACD-F2B7-4A6B-AB8D-D32F72B3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B43A5-FBB1-47DA-A487-D212DD5D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A09F2-8452-4B30-98C0-60C3CA7E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84CEC-306B-45BD-9239-F156556E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EB87F-34FF-4C73-9059-EEA5407D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D972D-86F1-4227-B0C6-CF365C7F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8006C-D543-41DE-B728-6186567D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AF8C1-B5AC-4070-AA7C-3029608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2FCE3-82D4-40ED-8AAB-C096DC2E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008EC-FC29-4333-BC66-A38FAD3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A8DF-D55B-4B86-9075-2CB7C6DC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70161-37B1-4E86-B8B4-87D8EE7E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56E48-0B3A-4253-8A22-12F7C139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3BE1B-8FB6-43DA-8D27-F51E39BE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396D8-0250-4B87-8F9C-1275DBC1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C05D0-43D8-40AE-9E47-52C5572E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3B390-B179-479C-8750-B6158C7D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AC9FE-65F2-4274-83F4-0DC9D563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04DFB-8604-4CEA-9254-C9E8162C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E9B37-F6A6-4629-A6B2-6C579F4D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0E275-71CB-4C5C-A333-3BF94DF5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19F4-7955-4325-A849-B13EDEDD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61A98-0606-4A05-83E3-B6323FD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CFE22-D564-4242-9749-21466594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16107-BEA4-499C-95E8-DC427085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C389F-CB73-40D0-B31C-6989D2AE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FBF7E-415B-444F-8E2D-5382AA87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B1D12-D6EA-4FDD-8D83-9A3352EE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FF3DE-07B7-498B-8883-DA7CE5D1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D4D52-345E-4C1A-BA49-3ABDBF59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1F10D-6014-41C6-AB4E-433B66C4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5F3F8-61CB-4CD0-9047-9991F536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D1D8-7DFA-4737-8F6B-71928DC2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9128F-B0CA-43B6-8E4E-3DE74D8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365ED6-E619-4C3D-9B3C-3208163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8862B-C15F-4881-99D9-D2E0645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B76C4-DEC2-46F9-8C5D-A9723080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9BEAE-77D0-423F-A4CC-4FA5E76E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3A17E-56F9-4502-81AE-6E22214E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A9FF4-9FA5-4CE9-9881-9B49A4EB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AEB0-CBB5-4524-BDCA-83187743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9E18-01F1-4E74-9365-87A18A8D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2BEE-57A4-4547-8333-7E053A6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5930-CF3D-4C5C-8559-CC66333B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04D-B331-41F9-818F-67E49FF2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056-C160-40E7-B012-13337CE0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4A1E-1071-47BA-A75C-EFBA7F58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CFCD-CE26-4FE7-98FE-1E5B7470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7F4F-5E08-48EF-97EE-E8368D3E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CB5F-1B51-4199-898A-54F362E6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8A9B-6C2B-4BE1-8BA0-4B363EC7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9B50-D2A6-4681-B4EA-CA316CB5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D095-D842-4B76-A8D4-47D393F8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90AD-E495-4939-8586-8A8E98EF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94A1-6872-4428-8C0A-00B92107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9C1-162E-4D4F-898C-5C0B5BFA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B4C2-0EDE-4D06-BD19-9371AE9A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9100-30EA-465B-83E1-99162CBD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BC82-6096-4668-89B1-B55D93BD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29787-4F9F-4C0A-9872-1C8D0771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F41D-B8BC-440B-A5C4-D5E21903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82D7-2C84-4024-9355-9FCD68C7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2BDD9-8D02-4119-81C9-A927EE2E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DA4C-CBD0-462F-AD75-1972201D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4A66-125E-4054-95C1-13548883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836A-6AE4-4502-B8CC-FCAC2856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F23-37FA-40F8-A815-460CBF2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B116-7FD6-4A22-8CF7-6CC803DA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D0B2-2341-4DA2-ADE8-6C7499E3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D22C-39D8-44C0-8E2F-B3C66B8D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62D3-BAB3-4F4A-B86A-E6198162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AC411-6AEE-421D-9E7B-8AB1653D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2950-E5F6-4036-ACF6-9AB5856D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171EF-069A-465A-88AF-4026066D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5396-9202-4F10-B782-6024D4582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645C0-142A-4582-8D44-48806BE5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A513C-BECB-47A5-9156-FE787CB2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6D0-3D71-48C8-8CAA-ED9441D7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DA81A-177A-4FD9-BBF6-45FC7770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1305D-DD7D-4463-B88A-F82F6650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D107E-4CE0-4BBF-B0B6-82F44573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959DB-9211-4F91-A380-50A6F399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4E481-FBCF-4920-917B-E52447E9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B2E31-6049-43BF-899C-6EE47339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DDFC-B740-4943-A1AB-C93D083B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795FC-33EF-4A5B-B215-EAFCE63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5AF2F-0C6E-4779-A56C-1E681F54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C796-9524-4476-99D0-13AC56D4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2AC-A70D-4DC8-A0E2-B5EF0243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BC2CB-D400-4D92-A9DB-D7E0ACDA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E3F0-1A6D-4B2F-ABF5-4A57DF99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6B344-EB59-4D97-96FF-06D34DC6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11E67-8522-49EE-8016-79A73D19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8F4E7-FC44-4135-B163-73FA570E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61665-5DD8-4DC9-81BA-89D9B280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9414-D90C-4A89-930B-BE2A3045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9B9ED-5E6C-441F-85B8-56AEB3F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9A62C-024C-4E38-B3A2-D637DB3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39ED-B555-4B9B-AABE-B5F5BED4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7ADA-0884-49FC-B2B2-FD70645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4BE64-7DC9-44B4-A0F6-2CE815E7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BD6AE-5630-4395-A435-C849FBFB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1DD9-3215-4CFF-8EEE-2A3FB9FA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73F61-09D7-42C3-A3A6-47ED2842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6A3C1-C3FF-472C-A7C5-A0F136D1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72C4D-23A5-486D-ACC3-7D32F2C5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8B11F-9079-48D6-87EB-67F8A766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4AC5B-7FF2-4059-A8CD-9910C4CD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1A80A-6331-4434-AC0C-5784DCC8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CF170-6693-473F-B5B0-A017F155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2BB-1958-409B-8BCA-3F7A4132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86708-8E3A-471F-88B2-DFD10E4A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E4C1-9F9D-4237-976B-4FFBC175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1F052-ACE5-4ACC-A815-67FD7833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0F687-B4AD-485D-981C-B8182249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7516F-A932-4D9D-9630-23C9DDA5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CCE29-63A7-4B41-8EB3-59D0A2C5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3356-F9AA-46A8-90C7-A08B1047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743AE-91FC-4778-99FD-7F4AB881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40C2B-5EB5-4AB3-B7E4-62202787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4BF3-8EA8-472F-95F7-D41FC5E9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0E8-C1A5-4CF1-BBD2-717BFCF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BC4E-2A80-462B-8B88-0633110B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1C822-27D7-445F-BFE3-F0E6BF14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4AB10-41B5-494C-84C9-D31B549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5AA0B-2D04-45C8-A8CC-80D54842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6CCC1-C127-44C2-A9C3-4E394C82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2F3A0-BB9C-40CF-BDFE-7F035D34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B6BBB-753D-4BBF-9383-F4B84875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11DA2-9313-4E17-9E03-75FB2FBB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455D1-2F7F-4442-865F-E77E7600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EEA62-D509-4B4D-95AF-B057B9C4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7771-98FA-415D-A2CA-1DB1D0C17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C044-5FDE-48D6-AC78-6F1B49D3E97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54D2-A497-4E7A-9CE0-BE4A6DCABC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B11C-956A-4D1C-819F-98A923C7D37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8755-01FD-429B-B1CB-2E6F5523F9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4BA7-1E18-4B07-9960-C7CD2716AE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A1E0-F17B-442D-BEDB-52DF7676C2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F2FF-07CA-4DAF-AFB9-00208E2B419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28F5-F6C8-4F54-A79F-34F40BA3E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F652-A8BD-4F2C-8015-356991E294D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9189-80CD-4FA2-B3DA-6EA187E765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3147-9902-4A11-803A-5E3C8B07F1C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DF11-972F-4D59-AB8E-DB5C0B8D3A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6ED5-2F78-4E93-B95B-AFD4D99268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654F-2BDB-4A36-95A9-3635804615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CC9A-1FB6-4872-A41F-1CCAD152D9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2179-8AF1-42DF-A47D-7805144133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8FBD-DE5A-4C20-A4F1-4786CCDFD9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E640-D2FD-4A29-A117-148A780CEA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741-3909-45EA-B2F4-D3F4358413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5A30-B469-4C90-8154-7559176749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B725-4FE8-4F99-8924-67F1CC8048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234A-B410-4438-A8C2-F814C5C0D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B9CC-5A5A-406B-935B-999F8515C8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504B-B831-4988-A073-06CDBCCE2E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WordArt 6" descr=""/>
          <p:cNvPicPr/>
          <p:nvPr/>
        </p:nvPicPr>
        <p:blipFill>
          <a:blip r:embed="rId2"/>
          <a:stretch/>
        </p:blipFill>
        <p:spPr>
          <a:xfrm>
            <a:off x="1554120" y="208080"/>
            <a:ext cx="5462640" cy="1401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" descr="父亲的菜园插图"/>
          <p:cNvPicPr/>
          <p:nvPr/>
        </p:nvPicPr>
        <p:blipFill>
          <a:blip r:embed="rId3"/>
          <a:stretch/>
        </p:blipFill>
        <p:spPr>
          <a:xfrm>
            <a:off x="2340000" y="1268280"/>
            <a:ext cx="4368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0"/>
            <a:ext cx="558000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黑体"/>
                <a:ea typeface="黑体"/>
              </a:rPr>
              <a:t>生 字 学 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35"/>
          <p:cNvSpPr/>
          <p:nvPr/>
        </p:nvSpPr>
        <p:spPr>
          <a:xfrm>
            <a:off x="1074960" y="1557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6"/>
          <p:cNvSpPr/>
          <p:nvPr/>
        </p:nvSpPr>
        <p:spPr>
          <a:xfrm>
            <a:off x="3667320" y="1628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狞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37"/>
          <p:cNvSpPr/>
          <p:nvPr/>
        </p:nvSpPr>
        <p:spPr>
          <a:xfrm>
            <a:off x="932040" y="3860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炒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8"/>
          <p:cNvSpPr/>
          <p:nvPr/>
        </p:nvSpPr>
        <p:spPr>
          <a:xfrm>
            <a:off x="6259680" y="15573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9"/>
          <p:cNvSpPr/>
          <p:nvPr/>
        </p:nvSpPr>
        <p:spPr>
          <a:xfrm>
            <a:off x="3596040" y="39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40"/>
          <p:cNvSpPr/>
          <p:nvPr/>
        </p:nvSpPr>
        <p:spPr>
          <a:xfrm>
            <a:off x="6332760" y="38606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Times New Roman"/>
              </a:rPr>
              <a:t>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5"/>
          <p:cNvSpPr/>
          <p:nvPr/>
        </p:nvSpPr>
        <p:spPr>
          <a:xfrm>
            <a:off x="0" y="0"/>
            <a:ext cx="6443640" cy="916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自学课文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0" y="981000"/>
            <a:ext cx="9144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8000" spc="-1" strike="noStrike">
                <a:solidFill>
                  <a:srgbClr val="663300"/>
                </a:solidFill>
                <a:latin typeface="宋体"/>
              </a:rPr>
              <a:t>1</a:t>
            </a:r>
            <a:r>
              <a:rPr b="1" lang="zh-CN" sz="8000" spc="-1" strike="noStrike">
                <a:solidFill>
                  <a:srgbClr val="663300"/>
                </a:solidFill>
                <a:latin typeface="Times New Roman"/>
              </a:rPr>
              <a:t>、父亲是在什么情况下决定开垦菜园的？他又是怎样开垦菜园的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58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zh-CN" sz="8800" spc="-1" strike="noStrike">
                <a:solidFill>
                  <a:srgbClr val="663300"/>
                </a:solidFill>
                <a:latin typeface="Times New Roman"/>
              </a:rPr>
              <a:t>、勾画出描写父亲言行的词句，想想从这些词句里，你感受到了什么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0" y="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宋体"/>
              </a:rPr>
              <a:t>齐读最后一个自然段，深入领会课文内容所表达的思想</a:t>
            </a:r>
            <a:r>
              <a:rPr b="1" lang="en-US" sz="8800" spc="-1" strike="noStrike">
                <a:solidFill>
                  <a:srgbClr val="ff3300"/>
                </a:solidFill>
                <a:latin typeface="宋体"/>
              </a:rPr>
              <a:t>.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7" descr="父亲的菜园插图"/>
          <p:cNvPicPr/>
          <p:nvPr/>
        </p:nvPicPr>
        <p:blipFill>
          <a:blip r:embed="rId1"/>
          <a:stretch/>
        </p:blipFill>
        <p:spPr>
          <a:xfrm>
            <a:off x="4284720" y="836640"/>
            <a:ext cx="4368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8T06:33:03Z</dcterms:created>
  <dc:creator>lichengquan</dc:creator>
  <dc:description/>
  <dc:language>en-US</dc:language>
  <cp:lastModifiedBy>a</cp:lastModifiedBy>
  <dcterms:modified xsi:type="dcterms:W3CDTF">2015-03-18T05:39:06Z</dcterms:modified>
  <cp:revision>12</cp:revision>
  <dc:subject/>
  <dc:title>PowerPoint 演示文稿</dc:title>
</cp:coreProperties>
</file>