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F83C1-B509-4146-9AAB-FEB0703A4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2655E-4970-4E81-B7BE-0BAB6EB21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F05BD8-DF28-4E48-A3E6-B2F1A0A103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323C05-4E3A-4CE3-BCFA-E6F47A8210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D4CA84-CC8B-4FC1-B770-135023415F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0CF0A0-DBAF-40E4-A2A0-8B796886C4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E2E6AA-3316-464A-8769-3443B57F62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92DDB6-7FBF-4979-B110-AEEF2AB3A5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E90C6A-F1A2-490C-A6F7-DC20188E26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1F7006-50C8-4FA7-B5B9-3EB13F1CB7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450BB0-B13B-4FE5-8B6E-CEAAC21A1C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246AE3-FE2E-4D93-9657-E648E7B30BB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4957D-5D13-4D49-B64D-21607460C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BA6B5F-6E2D-4650-A600-F5F7E7FBE3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7004F1-6891-4448-88B3-C545B6F674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462A6E-722F-49DB-897A-CC07DF40A4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194B48-1A21-4E18-A402-02394C0C7D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5EEC8A9-AD94-4699-89AA-129246B0F8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F0FBA3-680C-4245-8B32-7091410D46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7C85E8-0E68-480C-B3B0-8122D599F4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AE805C-879E-4EE1-BFDD-EC507E8DD9B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983DC7-2C18-44CF-A4B9-3853DE47DB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9A9A1C6-8EFE-4B57-9E7A-E652BE755F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F850A-945C-4214-ACFA-345D3BF18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D24D203-4F01-4E33-973E-3BCF21F65A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1454DB-CE9F-492B-98CF-39A7034D55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A91C70-8CD6-4CEA-8986-CA8C901FE2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EB885D-53D0-4B42-8C47-F640F5F73A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DF1BD5-5D08-4950-92A0-EE947DC098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003094-ACDD-4167-8BEB-B5CC2E02DD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9E0B19-7B8A-4D27-95AF-0155E33E86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5AEA29-2A4E-4C52-B282-0FBF791CEA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0DB51B-E3B0-4D98-B1BF-9DE9CD9BA8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32C43F-5D1B-498E-87B2-AD4FD429E8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CC5231-3295-4963-87E9-8F6F562FF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6B7FA4-EB0C-4D0E-86B8-0D6E3DEB32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355580-CAAC-450D-95C0-0959C32E5F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3519ED-6AB6-4007-88DC-7B15C437B16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F36F360-F411-4D98-B8CB-2786EFC5DF8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CA2F4EB-B7CF-496A-8271-2CDBB9E6D18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7F3B78-347F-4FE8-998A-304BB11A35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12A6F5-C66C-4513-B4F2-BBC48A3068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D3DAF0-FAF5-4FE4-A345-0AC8C62D59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9B8C3DC-B0F4-43EE-A539-070CB9280D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954A10-0529-4A55-BBD0-2EC7609805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93BAC-8658-4E1F-A346-833B6137C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1E6D53-47C5-4C35-9A91-C9E06BDE12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577021-E7E7-47E1-B1F2-8FCB444717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232450-94F3-4820-BCCB-13D6FEEF07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089379F-53B1-40EF-8B9F-1D12508FFB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A03008-76A6-425D-8327-8E191DADB15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9C802A9-00CB-4117-8FC5-D5CFA2A0FDC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9E0A28-925D-43B8-AC7A-EF2E3419EA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9ABB62-1DD9-4250-A6C4-EF557FC80C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252DF3-F48B-4C03-87E4-3037EE61A6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7B26E9F-9065-4463-8E47-3A939BBF5D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6D3A6-4446-4A7F-BABD-20F167ED5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57B728-483C-49BB-B8AE-4197C697D9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1AE688-5E25-463B-8069-2CCD3F3AF7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1B7074-846F-4713-8F4E-980C47E764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DAA21D-101D-4621-9B7D-254E2BADBB9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161EA0-C68B-474C-BD97-BF19437DEF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5705C13-D420-472D-842E-CE4B7EBD592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33C39D-5BB6-4DE0-BBEE-24BE067B216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9512536-E431-4340-A7F3-98D9809318C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AAF144-60CF-469D-BA1D-7980191CF34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E2CB1F-D73A-4306-A56C-9FB3A488A6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1BD0D-725F-46F4-8C84-9D8D288E6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111298-3B03-42EE-B6B1-6676AB734D5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C08F4E6-FFE9-46C6-AC5F-3F6B2913954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B6D583C-4C88-4E53-8943-882AD8F7AA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32B352-BE26-464A-B08D-FC70F57D95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4D6AB7-F8B2-45CA-A8E9-553E75D09D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422DA5-E019-4A6A-99E6-C57E77AAE3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E8A9549-444F-40BB-A5AD-D29EC52F2B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5DB61CA-C0C5-43BD-883F-4AFBD765634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5454D7E-6C53-4333-85FF-EB608F465A0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C9980-C603-4529-A187-64CFDEAB77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A14FE-D9A8-4A3E-8ED4-E7C45A5E0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C8B16-B1EB-4E81-9322-888A5C641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38BEA-2C4F-4CA2-AACD-55920EBFB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04061-1538-4A59-9045-FB2948D38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AD21B-DCDF-44D6-A528-1696CFEAB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FBDFE-4215-43E1-917C-E5EE28EE3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D27C58-E103-4D90-8E8A-4A33243BF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8918A-BDF6-469D-AA74-2E8C86B65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F0660B-4DB9-46C5-B952-933D7F2F23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E9288F-7AF6-4E51-A171-C5C42E8EF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FC03C0-3917-434C-B9B7-18C2EFA06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C7669F-F1C4-4B0D-A235-97477CF4FA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51F0B6-D23B-45C8-B49B-2E7A6D323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7AC13-4DF2-4DC6-803B-2671376171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50401-CC2E-4A60-B67A-DBA0502F55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F7C1B-B270-4E9D-8A8E-D0BE3705C9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6E73B-CC20-4358-B113-0B578541CA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FF4150-CB97-4AC7-AE56-C9C55C66A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D322D-A015-469D-81A6-8A5BE2DDA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C4487-2F2D-4AC2-B038-DCA49878CA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1AE874-E2F4-4204-8122-55A576FB76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8BCE2D-4C20-4BFF-8346-98DDD0DB4F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CA4B3F-C9AB-4FDC-A252-8B86B7D1E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4432CE-0ADC-4699-ABD6-AAC30BA7EB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02186-0CF9-4433-A2F9-BCF6DC6CD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7F19DD-6601-4881-BDFB-4AA8BECC4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D1F6FF-7D6C-4C2F-8720-903AC5AE4F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67C953-4A38-4A32-B35F-EC388A533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B0F63-91F8-4953-8A59-4A70502A4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A6FCF0-AC05-405A-AADD-3DCAAE6CB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EC27FB-359A-4B19-BD37-B9A634AF3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43396-2EBB-4B20-9548-6028D1313B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2C3717-F71C-4932-A809-DAC485EDAF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6B6A36-D5EB-4BFA-94B7-AF5544D0B3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33DB8F-A2B5-4A8E-9589-8383BE7CEC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6B46C-A932-4376-8637-47650F40A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8627E9-EC7A-41FF-A9B7-35CBAB0641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6CB271-0FE0-4D8D-9C8C-056B3416EB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EB839C-FDAB-463B-8A48-0CBBF70D7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99A06D-993B-4D59-A3B5-1E2CC631DC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231E0B-FECB-4BCB-AC28-996382488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678971-0A8C-4CD5-B2D7-4D58CBDF5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96464B-7DCE-4489-89D0-64B6743BA9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787AE3-87D5-4974-BB48-BB5585B23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C06B99-3C6C-4D12-B198-C6946A948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14FBC2-4CD9-4DA8-A9BF-D041CF7261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50B63-1665-4A25-8CD6-9319B12E8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89F9A1-2BBB-4FDD-A459-2522F2989D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6CE51A-611C-46C4-A570-AD29115FCE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175AA5-69B6-42B5-A120-2D7149F6AE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D471D9-FBD2-46B2-866C-E6718BF277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279623-C513-4769-B18D-17D18AD86D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ACB72E-3C1F-4261-967B-61BE42BF7D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0FD075-453D-497F-89A7-596FCEC547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E6E21A-67D3-464E-A84C-586B01A41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981EDD-537D-45F9-8659-52451A0BF9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80B1D1-99BA-47AD-A33F-888FF6631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37A24-6D51-49C6-BF39-BCEE8FF9B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37A4F-78A8-431F-9AD2-16D6B21990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FA8217-F284-483D-9CBE-7829466579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99BC33-699A-4730-AE66-AC93FB8998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23D9DE-1F8D-43E2-919B-0095F9987F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E474EF-0833-4C16-A1B6-8C88E1D1F0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557558-27D9-4550-AF5C-B671CE71BC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E9B862-D0C4-4141-8D57-B22A46D405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8F8750-E989-4600-887C-4E009EE157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22EC95-B50A-4DD8-B239-166D24CB05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41C86-B5C8-4534-AB9D-1CF8F68DB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7D102-0881-4A13-B11C-8E6482F52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F5BBC1-C6C8-4082-A39F-389CA8EC89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8BD45-6A7D-4DA8-A0C3-C224FAAC35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5BAFBC-AE2A-49A7-BABC-F9F2769EB4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1DC978-528D-4ECD-B451-27B5ADAC61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D3E68B-CBCA-4929-9CC1-A09CBE1140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53E980-AE89-40CE-B0D8-29D600C658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39A1F1-AC5B-4693-90B0-F8D1DCE0BF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E9F212-FF3B-4078-90A5-E62B8BFB7B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05043B-947F-4B4E-9A23-56A5217437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8769A2-EABC-489B-A92A-DBF36E7B88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BF1DE-3755-4125-B7FE-14E43CBD4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B30D90-441F-4953-AD63-5120031E15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EC2AB-5F8F-48D7-B2AF-E84FE0E0FA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C8C076-C8DF-4C86-9074-589561ADDC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55D6A5-1D1E-408A-BF3B-6F9F1DE40B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47766E-EF12-41EB-A66A-F58492530C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709CB7-3B79-4271-905E-4A5ABCA060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E82B0C-E262-450C-8C48-D38968FBB1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2EE579-5E76-4394-A26D-79EB3020AA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2A3B74-CA6A-4FEE-8BA6-81D255177E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1D915F-2F16-4A30-B1F2-E5C55254E0A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AEB59-0BB1-484F-B810-564FE6A855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3370-4FEA-45BE-8CC0-9C47060450B0}"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7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91FC-4CAD-4FE4-984D-71E47AB3321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0737-A94A-4DD6-BD04-21EF4AA8D307}"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1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2387-0E46-4F8D-850A-46C1E15D34C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0C39B-8D36-4147-B3A3-ECEA444340B9}"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5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4940-A540-4D4D-870E-A8465A646FC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F2467-51D7-4841-B17F-F25979FD54BE}"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9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B9A56-1CA9-498A-A870-0DF8145B91C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6"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D26D-0AE0-4C47-9E58-1277F854447D}"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537"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D211-7447-452C-BF8F-798D224AB9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DE9E-58EC-425C-83AE-5ED3D25A29E0}"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B462-BD6B-4E2D-991F-AA92D2AC966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Box 6"/>
          <p:cNvSpPr/>
          <p:nvPr/>
        </p:nvSpPr>
        <p:spPr>
          <a:xfrm flipV="1" rot="10800000">
            <a:off x="5789520" y="5713560"/>
            <a:ext cx="289728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297B-DB4F-4FFA-BE5E-99AFEB5D8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8F6E-BE0C-4591-8E34-D8403BA23E69}"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12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6863-15BF-42AB-BF7D-E77E9A76E67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074E-251B-49D5-9E7B-4D5EEE3C6F25}"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16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081B1-93CA-4E36-8789-801FEDD9474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AE75-9573-4A21-8E07-517EB6B31509}"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20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672A-6291-4FCF-ADA4-39ACA2B67CB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BB98-64AA-475E-8140-DDCE2535A636}"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25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65942-E740-4F16-AEC4-700A385BCA1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51DA-EB8F-44AB-A6A5-BDED1AB62F1A}"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29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3EB2-34F8-4FD6-BF68-10F7707D4D2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C073-A11A-408C-B0BD-41020E7BAD5C}"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3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7F94-669E-403F-9940-BC29F223DC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Text Box 13"/>
          <p:cNvSpPr/>
          <p:nvPr/>
        </p:nvSpPr>
        <p:spPr>
          <a:xfrm>
            <a:off x="2194920" y="5877000"/>
            <a:ext cx="4562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ahoma"/>
                <a:ea typeface="Dotum"/>
              </a:rPr>
              <a:t>Happy Father’s Day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3143160" y="1873080"/>
            <a:ext cx="4943520" cy="2765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WordArt 13"/>
          <p:cNvSpPr txBox="1"/>
          <p:nvPr/>
        </p:nvSpPr>
        <p:spPr>
          <a:xfrm>
            <a:off x="3762360" y="907920"/>
            <a:ext cx="3905280" cy="52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8080"/>
                  </a:solidFill>
                  <a:miter/>
                </a:ln>
                <a:blipFill rotWithShape="0">
                  <a:blip r:embed="rId1"/>
                  <a:srcRect/>
                  <a:tile tx="0" ty="0" sx="100000" sy="100000" algn="ctr"/>
                </a:blipFill>
                <a:effectLst>
                  <a:outerShdw dist="153753" dir="2700000" blurRad="0" rotWithShape="0">
                    <a:srgbClr val="c7dfd3">
                      <a:alpha val="80000"/>
                    </a:srgbClr>
                  </a:outerShdw>
                </a:effectLst>
                <a:latin typeface="Arial"/>
              </a:rPr>
              <a:t>Happy Father’s Day !</a:t>
            </a:r>
            <a:endParaRPr b="0" lang="en-US" sz="1800" spc="1" strike="noStrike">
              <a:ln w="9360">
                <a:solidFill>
                  <a:srgbClr val="808080"/>
                </a:solidFill>
                <a:miter/>
              </a:ln>
              <a:blipFill rotWithShape="0">
                <a:blip r:embed="rId2"/>
                <a:srcRect/>
                <a:tile tx="0" ty="0" sx="100000" sy="100000" algn="ctr"/>
              </a:blipFill>
              <a:effectLst>
                <a:outerShdw dist="153753" dir="2700000" blurRad="0" rotWithShape="0">
                  <a:srgbClr val="c7dfd3">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78" name="Group 2"/>
          <p:cNvGrpSpPr/>
          <p:nvPr/>
        </p:nvGrpSpPr>
        <p:grpSpPr>
          <a:xfrm>
            <a:off x="0" y="0"/>
            <a:ext cx="8466120" cy="6858000"/>
            <a:chOff x="0" y="0"/>
            <a:chExt cx="8466120" cy="6858000"/>
          </a:xfrm>
        </p:grpSpPr>
        <p:sp>
          <p:nvSpPr>
            <p:cNvPr id="57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58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8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07:43Z</dcterms:created>
  <dc:creator>FiSh</dc:creator>
  <dc:description/>
  <dc:language>en-US</dc:language>
  <cp:lastModifiedBy>a</cp:lastModifiedBy>
  <dcterms:modified xsi:type="dcterms:W3CDTF">2015-03-18T05:49:19Z</dcterms:modified>
  <cp:revision>7</cp:revision>
  <dc:subject/>
  <dc:title>幻灯片 1</dc:title>
</cp:coreProperties>
</file>