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326-11AC-4B9B-BF66-DD5A0BDD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099-E36A-4B5A-BB6D-0E35BD59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E0CEC-7547-4DB4-8DB0-B4697730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A9C29-1B72-49CD-8069-CA74A6C2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05624-7EF0-4EB8-AA91-B6928D71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51C0C-202F-4122-971A-22B1A00B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F3C36-D651-49A3-BF4C-B0274169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D1FF0-A262-4141-8E68-407DD5FB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48285-A22D-455D-B6AA-CD0DEC56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DB630-8693-4CE4-8DE4-4246BC15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A3C2C-345A-42FB-8213-601C442C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EE48B-DB31-43C7-BE75-A8E95C0D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007-BE4E-42F6-97FD-A176CEDA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51098-C28D-4317-B343-3CCA2581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E34A0-0FE0-4FCB-A139-D4196DB8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B2202-E91D-42E8-BA7F-3BD93088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7103B-D8AA-4705-A810-293040BE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ED57D-1942-4298-A6E4-1F90094C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9ABC7-742A-4CF6-B96E-1F00B0E7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3F66A-4B57-4DBF-89D3-C5BDC7AC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951F8-9A37-48FE-9A56-54347710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25FA6-ADD8-47FA-808A-D77E32D9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26CB9-8477-4283-AC53-258DCB41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0775-473E-4EED-8EA1-07913749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6FFB6-F51C-4F8C-B25A-0C67263A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A4529-6342-4426-8DD7-2D1FFD47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D3A70-69B3-4A69-B20C-4EC239DD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18A07-3F63-4F13-AD24-941F78AA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8E66D-C748-47EB-950A-BFC5AD11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5A3BB-0460-463C-AD0F-2496176F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D4AF1-EDC9-41DF-B753-701E03E6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3C51D-8826-4C07-BAE1-6AD1BD85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12905-0E9F-47D2-873D-DD5B3E22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F501D-6078-4AEF-8277-99BB68E3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45CF-FF31-4C11-B827-48E5742C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81ED0-F1B2-4363-BC63-B7358A28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205CA-0D9F-4896-8C73-FC470494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62F46-64D5-404A-B9CF-5D74CC0B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E9D3B-C55F-4168-A6E9-784BA803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9B226-F262-4F45-8961-C625C9EE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1CDDD-066C-44C1-ADD4-FCF1D680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DBE01-89C4-46B9-806C-F7711B7B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F0A24-AA53-475A-A2D4-D1CC566D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0C876-488A-440E-961C-770C2B57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4E316-CA2C-4E8E-BC6E-DE8E6C90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4420-64E0-4CEB-A1C5-F5A3157A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FAB30-6059-4B27-AA24-96910C10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DC062-FA65-451E-9EF0-5C97B002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0D065-4718-441C-B5FB-55456DD7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89142-A1D8-44EA-A563-A3FA101D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8B2E1-105B-482F-B8F5-53204DB7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7640FE-C23A-4116-89F5-4F6F47AD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91157-F5DD-47CB-A898-014D9180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E2EB3-8886-4E14-8141-FDA28375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E22BF-A552-4538-BA90-6E3B7904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EFB00-D4E7-4C20-9F0C-A564C36B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DA8E-6B2C-45EB-A153-E2F6EF05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A3FB1-121C-4719-A53F-C8BCDE98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473B4-9FEE-449A-9AD3-BAB35004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6B59C-3750-4DEE-B7DD-537B9C4B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8BEBF-BA41-4362-B5B7-99F2DC63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39F3F-DC1C-4496-8958-11F032CA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ED680-EB8A-4920-A3CE-975F4701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DBB1E-FC64-4024-A256-74E93E2F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37CC-A779-4F94-855C-52126FBC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6769-8CD5-4FBA-A33A-D7990835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6A63-B425-4148-83CF-399C6BE2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E0ED-8CB8-4329-920C-176D9229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F5B-EE3E-41AE-B393-C1CD1DB1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BCCD-EE1B-4B01-A590-1B17B424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E7DC-DECA-40B7-A6B9-0514F280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D26C-D104-4FD7-A27F-BD9107FE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D84B-26E4-4ADF-BAEB-38D1F946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4684-115D-4845-B4FB-270EDC1C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89168-964E-4A54-94EA-D05F9F0D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1B97C-42CE-49C6-B2F3-DB87FD34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5A6B7-BECD-415E-B2CE-A7DECEB6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F801E-ABCA-4E7D-8359-1B8995B2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7AAAF-8078-4A56-8CC5-C8F1E545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8C2-2FD6-4001-87F5-42B75AB5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4A69A-E83C-4BBB-951A-9D55F010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75443-8349-489A-903A-C9651F63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3A787-E320-425E-8A24-C187888F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3062A-BC41-4323-A7DC-F19AD5BE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B17BC-2B7D-4013-B17E-234F4C28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244CB-0C65-4A05-9449-D7DDFF7A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79AA-729A-42C7-82D5-E71F4936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A49B1-9E36-4699-BACD-FC6F0889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E98CB-5E46-40BC-B73C-70EA47B5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21B71-B8DC-4B5D-B466-8B039E56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CC6-8C83-4AB8-9E34-8E4613D1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E59E7-FB6E-4BE6-AD70-F3718955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B2208-78BE-40F6-A827-E90797C3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2AF33-198F-4A7F-AC79-04132C41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D8691-50A0-4B45-ABDE-BF30A5D2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913C0-E6A0-4A2F-B240-359976C3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4DBC0-AA39-4142-A93D-90EB6207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AE724-D9F1-47E5-A886-6299E09C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7307E-28AA-4F42-A712-9B9AC49B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E23AB-CC2A-4095-801E-08C71A8D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F6244-5DB7-4A80-8890-C4D1C65F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5C1-2D96-4B50-ACBF-4D8CE492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9D4B4-E265-4909-BA84-774D2C64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6E666-5E98-48DE-B894-45C076BF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CA9DD-DF42-4866-A126-DD29847D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3D4D2-85F8-4579-9BC0-AA181A05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29A09-33AF-4E44-B2EE-6EE7FCF3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68365-EBF9-48C4-B974-FB49F1A7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26878-0990-49A4-AF0C-86D1F1F3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CAD5B-33F4-43EC-9E03-4C23E8EC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12679-CBFE-44F6-A878-06E841B2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627D3-D54F-44BD-9689-3C0B60FC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D7A-460B-41FC-8806-C949F4C1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1BBB1-5A7B-4B7E-93D4-03B05AB8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F74C6-FD51-44F8-9916-8E2568AA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DC613-8F42-4F68-B934-0C531F16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2460D-DDFC-4608-8A3D-7D426983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7F3ED-C9D9-4FD1-A5CE-705470B8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91A89-BE1D-4DAB-B6CA-FB8538EA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98282-51C1-48D5-AE47-C36F9FF3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A4EC6-36EE-430C-BABF-9EF0CA98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B8A5A-778D-4F87-B270-386EA5C9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75260-0109-4E06-AF31-F8944961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E83-17F2-476E-8BC8-500D7657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B8BF0-2E84-437A-B60B-B6D9DF05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81A8A-11AD-4128-B5DD-B27EC28D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DC039-43BA-4AE1-9F27-74A9D9C1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D8421-D3B9-4F46-B994-A509F3E8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BFCD6-5115-4FFA-9F82-34231E4D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2A02B-4E08-4A0C-BE96-1652C14D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B8E60-41C8-4EFD-8F37-682B6E75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E88D3-ABB5-4F59-BA36-EAF43231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30D75-91D1-4590-AD99-A9F77480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42AA3-7275-4149-9D00-09BFBB0F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462-D0B5-408B-BEFD-EC4E3192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8C903-6194-4A6B-A00E-E8743F59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A954B-1004-4BD4-ACB9-D1983770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0DC47-A8EB-412F-A47D-3D08E3A7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F5AF3-9705-4137-B2D2-4E8F438A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F9B10-6A81-4A62-A81A-957AA12E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984E4-E494-4C77-8BEF-BD895A6C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993A0-8987-474A-85FA-D82C516B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A2E61-0419-4832-91D0-50164F83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96AA6-0BA9-4CA7-9FB6-B95CD27E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99E11-06A8-4C54-AC2A-E0F07886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BA02-C704-4E52-B769-B6270DAD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2B850-82DF-48CE-88D3-DE296310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46E4C-0368-4978-BBD3-82483BE5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F8924-E33B-47DD-AD7D-5FB29097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4516A-A3E0-4EAD-A6D5-E47651FC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9E740-2B5E-4F06-8C30-E497A883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DB404-1BAE-4B75-A623-6E16CF75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BE8A1-6EFC-44C2-8DBA-B37FD3BC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10949-35F8-4509-A656-E8291019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BF059-E3C5-4FD1-81E1-7BF9EC8A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4B705-132B-458E-89F9-7A0E69DA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65CC-24DA-4C1C-BD33-3CB187818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3620-F4A4-4640-9308-7033524019C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DFC5-02FE-42D8-8838-E00FE29A22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6F62-B7BA-4EFB-998A-E952FCF242A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D291-B77F-470D-B928-A082A9AF3D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FE81-A48A-4E7F-A157-3E87ED20F8A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3072-37F2-418A-8267-20984B16ED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2FCA-69B7-4766-8FA9-0CEE6B201B4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F2DB-2BE4-4921-B0F3-84C6486F59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7475-5052-469C-B645-803C7B2403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3293-482B-4DE2-8547-8ED7CD9FCD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5AE6-9D4C-4A41-80DB-B53628591E5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E92C-80F5-4CDC-9E64-DE3F53C1A4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886C-3A45-4B3D-BBB7-D7FEDDFE4BE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B27E-4F41-47D7-9272-4269DD1E6F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4EDD-D18D-4FAD-B6D5-E3E37CADD46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5A72-C0EE-48EA-A5F9-FA98449E28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345F-97F1-46BD-B7B3-FDF11113F9A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4BD0-71AA-4B7E-B228-C3031778BE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88ED-15E0-42A3-BAE3-1DD82A0513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90A9-A352-4FC2-B6A9-E2082C707C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F0B5-86A4-46D0-BFAD-9599FE7A60E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1EA3-0A3B-438E-8884-E3B5EF672C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22D4-98AF-41E7-A8F9-CFC7DC2F00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3D18-C7BC-4D2F-8B4D-91DF4596C9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5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.jpeg"/><Relationship Id="rId3" Type="http://schemas.openxmlformats.org/officeDocument/2006/relationships/slide" Target="slide6.xml"/><Relationship Id="rId4" Type="http://schemas.openxmlformats.org/officeDocument/2006/relationships/image" Target="../media/image2.jpeg"/><Relationship Id="rId5" Type="http://schemas.openxmlformats.org/officeDocument/2006/relationships/slide" Target="slide7.xml"/><Relationship Id="rId6" Type="http://schemas.openxmlformats.org/officeDocument/2006/relationships/image" Target="../media/image2.jpeg"/><Relationship Id="rId7" Type="http://schemas.openxmlformats.org/officeDocument/2006/relationships/slide" Target="slide5.xml"/><Relationship Id="rId8" Type="http://schemas.openxmlformats.org/officeDocument/2006/relationships/image" Target="../media/image2.jpeg"/><Relationship Id="rId9" Type="http://schemas.openxmlformats.org/officeDocument/2006/relationships/slide" Target="slide4.xml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D:\图片库\背景\蓝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"/>
          <p:cNvSpPr/>
          <p:nvPr/>
        </p:nvSpPr>
        <p:spPr>
          <a:xfrm>
            <a:off x="457200" y="1981080"/>
            <a:ext cx="8381880" cy="29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Times New Roman"/>
                <a:ea typeface="文鼎火柴体"/>
              </a:rPr>
              <a:t>     </a:t>
            </a:r>
            <a:r>
              <a:rPr b="1" lang="zh-CN" sz="6600" spc="-1" strike="noStrike">
                <a:solidFill>
                  <a:srgbClr val="0000ff"/>
                </a:solidFill>
                <a:latin typeface="隶书"/>
                <a:ea typeface="隶书"/>
              </a:rPr>
              <a:t>富饶的西沙群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</a:t>
            </a:r>
            <a:r>
              <a:rPr b="1" lang="zh-CN" sz="4000" spc="-1" strike="noStrike">
                <a:solidFill>
                  <a:srgbClr val="cc3399"/>
                </a:solidFill>
                <a:latin typeface="Times New Roman"/>
                <a:ea typeface="隶书"/>
              </a:rPr>
              <a:t>执教、课件制作：陈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D:\语文教学\富饶的西沙群岛\s2.jpg"/>
          <p:cNvPicPr/>
          <p:nvPr/>
        </p:nvPicPr>
        <p:blipFill>
          <a:blip r:embed="rId1"/>
          <a:stretch/>
        </p:blipFill>
        <p:spPr>
          <a:xfrm>
            <a:off x="0" y="-99072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3"/>
          <p:cNvSpPr/>
          <p:nvPr/>
        </p:nvSpPr>
        <p:spPr>
          <a:xfrm>
            <a:off x="762120" y="9144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一群群的鱼在珊瑚丛中穿来穿去。有的身上长着彩色的条纹，有的头上长着一簇红缨。飞虎鱼的周身像插着好些扇子，游动的时候好看极了。气鼓鱼的眼睛圆溜溜的，身上长满刺儿，它鼓起气来，像皮球一样圆。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各种各样的鱼，多得数不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4" descr="D:\图片库\按钮\bl_paw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5791320"/>
            <a:ext cx="838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D:\图片库\背景\深蓝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2"/>
          <p:cNvSpPr/>
          <p:nvPr/>
        </p:nvSpPr>
        <p:spPr>
          <a:xfrm>
            <a:off x="609480" y="1295280"/>
            <a:ext cx="7696440" cy="30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ffffcc"/>
                </a:solidFill>
                <a:latin typeface="宋体"/>
                <a:ea typeface="宋体"/>
              </a:rPr>
              <a:t>在西沙群岛的海底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宋体"/>
                <a:ea typeface="宋体"/>
              </a:rPr>
              <a:t>各种各样的鱼，多得数不清。有的</a:t>
            </a:r>
            <a:r>
              <a:rPr b="1" lang="zh-CN" sz="4400" spc="-1" strike="noStrike" u="sng">
                <a:solidFill>
                  <a:srgbClr val="ffffcc"/>
                </a:solidFill>
                <a:uFillTx/>
                <a:latin typeface="宋体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ffffcc"/>
                </a:solidFill>
                <a:latin typeface="宋体"/>
                <a:ea typeface="宋体"/>
              </a:rPr>
              <a:t>，有的</a:t>
            </a:r>
            <a:r>
              <a:rPr b="1" lang="zh-CN" sz="4400" spc="-1" strike="noStrike" u="sng">
                <a:solidFill>
                  <a:srgbClr val="ffffcc"/>
                </a:solidFill>
                <a:uFillTx/>
                <a:latin typeface="宋体"/>
                <a:ea typeface="宋体"/>
              </a:rPr>
              <a:t>                </a:t>
            </a:r>
            <a:r>
              <a:rPr b="1" lang="zh-CN" sz="4400" spc="-1" strike="noStrike">
                <a:solidFill>
                  <a:srgbClr val="ffffcc"/>
                </a:solidFill>
                <a:latin typeface="宋体"/>
                <a:ea typeface="宋体"/>
              </a:rPr>
              <a:t>，还有的</a:t>
            </a:r>
            <a:r>
              <a:rPr b="1" lang="zh-CN" sz="4400" spc="-1" strike="noStrike" u="sng">
                <a:solidFill>
                  <a:srgbClr val="ffffcc"/>
                </a:solidFill>
                <a:uFillTx/>
                <a:latin typeface="宋体"/>
                <a:ea typeface="宋体"/>
              </a:rPr>
              <a:t>             </a:t>
            </a:r>
            <a:r>
              <a:rPr b="1" lang="zh-CN" sz="4400" spc="-1" strike="noStrike">
                <a:solidFill>
                  <a:srgbClr val="ffffcc"/>
                </a:solidFill>
                <a:latin typeface="宋体"/>
                <a:ea typeface="宋体"/>
              </a:rPr>
              <a:t>。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宋体"/>
                <a:ea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3" descr="D:\图片库\背景\深蓝色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2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400" spc="-1" strike="noStrike">
                <a:solidFill>
                  <a:srgbClr val="ffcccc"/>
                </a:solidFill>
                <a:latin typeface="宋体"/>
              </a:rPr>
              <a:t>西沙群岛海底的鱼有的</a:t>
            </a:r>
            <a:r>
              <a:rPr b="1" lang="zh-CN" sz="4400" spc="-1" strike="noStrike" u="sng">
                <a:solidFill>
                  <a:srgbClr val="ffcccc"/>
                </a:solidFill>
                <a:uFillTx/>
                <a:latin typeface="宋体"/>
              </a:rPr>
              <a:t>               </a:t>
            </a:r>
            <a:r>
              <a:rPr b="1" lang="zh-CN" sz="4400" spc="-1" strike="noStrike">
                <a:solidFill>
                  <a:srgbClr val="ffcccc"/>
                </a:solidFill>
                <a:latin typeface="宋体"/>
              </a:rPr>
              <a:t>，有的</a:t>
            </a:r>
            <a:r>
              <a:rPr b="1" lang="zh-CN" sz="4400" spc="-1" strike="noStrike" u="sng">
                <a:solidFill>
                  <a:srgbClr val="ffcccc"/>
                </a:solidFill>
                <a:uFillTx/>
                <a:latin typeface="宋体"/>
              </a:rPr>
              <a:t>               </a:t>
            </a:r>
            <a:r>
              <a:rPr b="1" lang="zh-CN" sz="4400" spc="-1" strike="noStrike">
                <a:solidFill>
                  <a:srgbClr val="ffcccc"/>
                </a:solidFill>
                <a:latin typeface="宋体"/>
              </a:rPr>
              <a:t>，还有的</a:t>
            </a:r>
            <a:r>
              <a:rPr b="1" lang="zh-CN" sz="4400" spc="-1" strike="noStrike" u="sng">
                <a:solidFill>
                  <a:srgbClr val="ffcccc"/>
                </a:solidFill>
                <a:uFillTx/>
                <a:latin typeface="宋体"/>
              </a:rPr>
              <a:t>             </a:t>
            </a:r>
            <a:r>
              <a:rPr b="1" lang="zh-CN" sz="4400" spc="-1" strike="noStrike">
                <a:solidFill>
                  <a:srgbClr val="ffcccc"/>
                </a:solidFill>
                <a:latin typeface="宋体"/>
              </a:rPr>
              <a:t>。各种各样的鱼，多得数不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D:\陈奕\语文教学\西沙群岛\海滩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9" name="Object 3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990720" y="5715000"/>
            <a:ext cx="1676160" cy="892080"/>
          </a:xfrm>
          <a:prstGeom prst="rect">
            <a:avLst/>
          </a:prstGeom>
          <a:ln w="0">
            <a:noFill/>
          </a:ln>
        </p:spPr>
      </p:pic>
      <p:sp>
        <p:nvSpPr>
          <p:cNvPr id="580" name="Oval 6"/>
          <p:cNvSpPr/>
          <p:nvPr/>
        </p:nvSpPr>
        <p:spPr>
          <a:xfrm>
            <a:off x="7848720" y="5943600"/>
            <a:ext cx="761760" cy="685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457200" y="1371600"/>
            <a:ext cx="777240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  <a:ea typeface="宋体"/>
              </a:rPr>
              <a:t>海滩上有许多美丽的贝壳，大的，小的，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  <a:ea typeface="宋体"/>
              </a:rPr>
              <a:t>颜色不一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  <a:ea typeface="宋体"/>
              </a:rPr>
              <a:t>，有的</a:t>
            </a:r>
            <a:r>
              <a:rPr b="1" lang="zh-CN" sz="4000" spc="-1" strike="noStrike" u="sng">
                <a:solidFill>
                  <a:srgbClr val="6633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  <a:ea typeface="宋体"/>
              </a:rPr>
              <a:t>，有的</a:t>
            </a:r>
            <a:r>
              <a:rPr b="1" lang="zh-CN" sz="4000" spc="-1" strike="noStrike" u="sng">
                <a:solidFill>
                  <a:srgbClr val="6633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  <a:ea typeface="宋体"/>
              </a:rPr>
              <a:t>；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  <a:ea typeface="宋体"/>
              </a:rPr>
              <a:t>形状多样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  <a:ea typeface="宋体"/>
              </a:rPr>
              <a:t>，有的像</a:t>
            </a:r>
            <a:r>
              <a:rPr b="1" lang="zh-CN" sz="4000" spc="-1" strike="noStrike" u="sng">
                <a:solidFill>
                  <a:srgbClr val="6633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  <a:ea typeface="宋体"/>
              </a:rPr>
              <a:t>，有的像</a:t>
            </a:r>
            <a:r>
              <a:rPr b="1" lang="zh-CN" sz="4000" spc="-1" strike="noStrike" u="sng">
                <a:solidFill>
                  <a:srgbClr val="663300"/>
                </a:solidFill>
                <a:uFillTx/>
                <a:latin typeface="宋体"/>
                <a:ea typeface="宋体"/>
              </a:rPr>
              <a:t>         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  <a:ea typeface="宋体"/>
              </a:rPr>
              <a:t>，真是千奇百怪，无所不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4" descr="D:\图片库\按钮\29.gif"/>
          <p:cNvPicPr/>
          <p:nvPr/>
        </p:nvPicPr>
        <p:blipFill>
          <a:blip r:embed="rId2"/>
          <a:stretch/>
        </p:blipFill>
        <p:spPr>
          <a:xfrm>
            <a:off x="7848720" y="4724280"/>
            <a:ext cx="628560" cy="628920"/>
          </a:xfrm>
          <a:prstGeom prst="rect">
            <a:avLst/>
          </a:prstGeom>
          <a:ln w="0">
            <a:noFill/>
          </a:ln>
        </p:spPr>
      </p:pic>
      <p:grpSp>
        <p:nvGrpSpPr>
          <p:cNvPr id="584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85" name="Picture 5" descr="A:\贝壳2.files\thm046_DSCF0016.jpg"/>
            <p:cNvPicPr/>
            <p:nvPr/>
          </p:nvPicPr>
          <p:blipFill>
            <a:blip r:embed="rId3"/>
            <a:stretch/>
          </p:blipFill>
          <p:spPr>
            <a:xfrm>
              <a:off x="533520" y="0"/>
              <a:ext cx="213336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6" descr=""/>
            <p:cNvPicPr/>
            <p:nvPr/>
          </p:nvPicPr>
          <p:blipFill>
            <a:blip r:embed="rId4"/>
            <a:stretch/>
          </p:blipFill>
          <p:spPr>
            <a:xfrm>
              <a:off x="4648320" y="0"/>
              <a:ext cx="1981080" cy="14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7" descr="A:\贝壳2.files\thm024_Dscf0025.jpg"/>
            <p:cNvPicPr/>
            <p:nvPr/>
          </p:nvPicPr>
          <p:blipFill>
            <a:blip r:embed="rId5"/>
            <a:stretch/>
          </p:blipFill>
          <p:spPr>
            <a:xfrm>
              <a:off x="2666880" y="0"/>
              <a:ext cx="19814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8" descr=""/>
            <p:cNvPicPr/>
            <p:nvPr/>
          </p:nvPicPr>
          <p:blipFill>
            <a:blip r:embed="rId6"/>
            <a:stretch/>
          </p:blipFill>
          <p:spPr>
            <a:xfrm>
              <a:off x="6629400" y="0"/>
              <a:ext cx="19810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9" descr=""/>
            <p:cNvPicPr/>
            <p:nvPr/>
          </p:nvPicPr>
          <p:blipFill>
            <a:blip r:embed="rId7"/>
            <a:stretch/>
          </p:blipFill>
          <p:spPr>
            <a:xfrm>
              <a:off x="5562720" y="5506920"/>
              <a:ext cx="1828800" cy="13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10" descr="A:\贝壳7.files\thm042_Dscf0007_4.jpg"/>
            <p:cNvPicPr/>
            <p:nvPr/>
          </p:nvPicPr>
          <p:blipFill>
            <a:blip r:embed="rId8"/>
            <a:stretch/>
          </p:blipFill>
          <p:spPr>
            <a:xfrm>
              <a:off x="7391520" y="5510160"/>
              <a:ext cx="1752480" cy="13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11" descr="A:\贝壳7.files\thm035_Dscf0012_2.jpg"/>
            <p:cNvPicPr/>
            <p:nvPr/>
          </p:nvPicPr>
          <p:blipFill>
            <a:blip r:embed="rId9"/>
            <a:stretch/>
          </p:blipFill>
          <p:spPr>
            <a:xfrm>
              <a:off x="0" y="5486400"/>
              <a:ext cx="19051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12" descr="A:\贝壳2.files\thm041_DSCF0011.jpg"/>
            <p:cNvPicPr/>
            <p:nvPr/>
          </p:nvPicPr>
          <p:blipFill>
            <a:blip r:embed="rId10"/>
            <a:stretch/>
          </p:blipFill>
          <p:spPr>
            <a:xfrm>
              <a:off x="1828800" y="5486400"/>
              <a:ext cx="19051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3" descr="A:\贝壳.files\thm010_Dscf0006.jpg"/>
            <p:cNvPicPr/>
            <p:nvPr/>
          </p:nvPicPr>
          <p:blipFill>
            <a:blip r:embed="rId11"/>
            <a:stretch/>
          </p:blipFill>
          <p:spPr>
            <a:xfrm>
              <a:off x="3733920" y="5510160"/>
              <a:ext cx="1828800" cy="134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yu.avi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315200" cy="556416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3"/>
          <p:cNvSpPr/>
          <p:nvPr/>
        </p:nvSpPr>
        <p:spPr>
          <a:xfrm>
            <a:off x="8229600" y="6019920"/>
            <a:ext cx="609480" cy="585720"/>
          </a:xfrm>
          <a:custGeom>
            <a:avLst/>
            <a:gdLst>
              <a:gd name="textAreaLeft" fmla="*/ 37800 w 609480"/>
              <a:gd name="textAreaRight" fmla="*/ 571680 w 60948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2476" h="21600">
                <a:moveTo>
                  <a:pt x="0" y="0"/>
                </a:moveTo>
                <a:lnTo>
                  <a:pt x="22476" y="0"/>
                </a:lnTo>
                <a:lnTo>
                  <a:pt x="22476" y="21600"/>
                </a:lnTo>
                <a:lnTo>
                  <a:pt x="0" y="21600"/>
                </a:lnTo>
                <a:close/>
              </a:path>
              <a:path fill="lightenLess" w="22476" h="21600">
                <a:moveTo>
                  <a:pt x="0" y="0"/>
                </a:moveTo>
                <a:lnTo>
                  <a:pt x="22476" y="0"/>
                </a:lnTo>
                <a:lnTo>
                  <a:pt x="21076" y="1400"/>
                </a:lnTo>
                <a:lnTo>
                  <a:pt x="1400" y="1400"/>
                </a:lnTo>
                <a:close/>
              </a:path>
              <a:path fill="darken" w="22476" h="21600">
                <a:moveTo>
                  <a:pt x="22476" y="0"/>
                </a:moveTo>
                <a:lnTo>
                  <a:pt x="22476" y="21600"/>
                </a:lnTo>
                <a:lnTo>
                  <a:pt x="21076" y="20200"/>
                </a:lnTo>
                <a:lnTo>
                  <a:pt x="21076" y="1400"/>
                </a:lnTo>
                <a:close/>
              </a:path>
              <a:path fill="darkenLess" w="22476" h="21600">
                <a:moveTo>
                  <a:pt x="22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6" y="20200"/>
                </a:lnTo>
                <a:close/>
              </a:path>
              <a:path fill="lighten" w="22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5335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底的岩石上有各种颜色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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的像绽开的花朵，有的像美丽的鹿角。到处都是，在海底懒洋洋地蠕动着。全身披甲，划过来，划过去，样子挺威武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群群的鱼在珊瑚丛中穿来穿去。有的身上长着彩色的条纹，有的头上长着一簇红缨。飞虎鱼的周身像插着好些扇子，游动的时候好看极了。气鼓鱼的眼睛圆溜溜的，身上长满刺儿，它鼓起气来，像皮球一样圆。各种各样的  ，多得数不清。正像人们说的那样，西沙群岛的海里，一半是水，一半是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184080" y="45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珊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74440" y="94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7105680" y="1447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龙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4731120" y="4876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533520" y="457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底的岩石上有各种颜色的，有的像绽开的花朵，有的像美丽的鹿角。到处都是，在海底懒洋洋地蠕动着。全身披甲，划过来，划过去，样子挺威武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群群的鱼在珊瑚丛中穿来穿去。有的身上长着彩色的条纹，有的头上长着一簇红缨。飞虎鱼的周身像插着好些扇子，游动的时候好看极了。气鼓鱼的眼睛圆溜溜的，身上长满刺儿，它鼓起气来，像皮球一样圆。各种各样的  ，多得数不清。正像人们说的那样，西沙群岛的海里，一半是水，一半是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6184080" y="45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珊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174440" y="94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海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7182000" y="1447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大龙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4731120" y="4876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11">
            <a:hlinkClick r:id="rId3" action="ppaction://hlinksldjump"/>
          </p:cNvPr>
          <p:cNvSpPr/>
          <p:nvPr/>
        </p:nvSpPr>
        <p:spPr>
          <a:xfrm>
            <a:off x="8381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12">
            <a:hlinkClick r:id="rId5" action="ppaction://hlinksldjump"/>
          </p:cNvPr>
          <p:cNvSpPr/>
          <p:nvPr/>
        </p:nvSpPr>
        <p:spPr>
          <a:xfrm>
            <a:off x="8381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13">
            <a:hlinkClick r:id="rId7" action="ppaction://hlinksldjump"/>
          </p:cNvPr>
          <p:cNvSpPr/>
          <p:nvPr/>
        </p:nvSpPr>
        <p:spPr>
          <a:xfrm>
            <a:off x="8381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14">
            <a:hlinkClick r:id="rId9" action="ppaction://hlinksldjump"/>
          </p:cNvPr>
          <p:cNvSpPr/>
          <p:nvPr/>
        </p:nvSpPr>
        <p:spPr>
          <a:xfrm>
            <a:off x="8381880" y="533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D:\语文教学\富饶的西沙群岛\d8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867280" y="3200400"/>
            <a:ext cx="3276720" cy="36576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D:\语文教学\富饶的西沙群岛\d97.gif"/>
          <p:cNvPicPr/>
          <p:nvPr/>
        </p:nvPicPr>
        <p:blipFill>
          <a:blip r:embed="rId3"/>
          <a:stretch/>
        </p:blipFill>
        <p:spPr>
          <a:xfrm>
            <a:off x="0" y="0"/>
            <a:ext cx="4495680" cy="32767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7" descr="D:\语文教学\富饶的西沙群岛\d993.jpg"/>
          <p:cNvPicPr/>
          <p:nvPr/>
        </p:nvPicPr>
        <p:blipFill>
          <a:blip r:embed="rId4"/>
          <a:stretch/>
        </p:blipFill>
        <p:spPr>
          <a:xfrm>
            <a:off x="0" y="3276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D:\语文教学\富饶的西沙群岛\d9992.jpg"/>
          <p:cNvPicPr/>
          <p:nvPr/>
        </p:nvPicPr>
        <p:blipFill>
          <a:blip r:embed="rId5"/>
          <a:stretch/>
        </p:blipFill>
        <p:spPr>
          <a:xfrm>
            <a:off x="3581280" y="3276720"/>
            <a:ext cx="2362320" cy="3581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D:\语文教学\富饶的西沙群岛\d6.jpg"/>
          <p:cNvPicPr/>
          <p:nvPr/>
        </p:nvPicPr>
        <p:blipFill>
          <a:blip r:embed="rId6"/>
          <a:stretch/>
        </p:blipFill>
        <p:spPr>
          <a:xfrm>
            <a:off x="4495680" y="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000000"/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4">
            <a:hlinkClick r:id="rId1" action="ppaction://hlinksldjump"/>
          </p:cNvPr>
          <p:cNvSpPr/>
          <p:nvPr/>
        </p:nvSpPr>
        <p:spPr>
          <a:xfrm>
            <a:off x="81532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2"/>
          <p:cNvSpPr/>
          <p:nvPr/>
        </p:nvSpPr>
        <p:spPr>
          <a:xfrm>
            <a:off x="838080" y="609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幼圆"/>
              </a:rPr>
              <a:t>海 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7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59389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0700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D:\陈奕\语文教学\西沙群岛\longxia_1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D:\陈奕\语文教学\西沙群岛\龙虾2.bmp"/>
          <p:cNvPicPr/>
          <p:nvPr/>
        </p:nvPicPr>
        <p:blipFill>
          <a:blip r:embed="rId3"/>
          <a:stretch/>
        </p:blipFill>
        <p:spPr>
          <a:xfrm>
            <a:off x="0" y="3048120"/>
            <a:ext cx="4343400" cy="380988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">
            <a:hlinkClick r:id="rId4" action="ppaction://hlinksldjump"/>
          </p:cNvPr>
          <p:cNvSpPr/>
          <p:nvPr/>
        </p:nvSpPr>
        <p:spPr>
          <a:xfrm>
            <a:off x="82296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D:\语文教学\富饶的西沙群岛\s7.jpg"/>
          <p:cNvPicPr/>
          <p:nvPr/>
        </p:nvPicPr>
        <p:blipFill>
          <a:blip r:embed="rId1"/>
          <a:stretch/>
        </p:blipFill>
        <p:spPr>
          <a:xfrm>
            <a:off x="0" y="0"/>
            <a:ext cx="5257800" cy="3429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D:\语文教学\富饶的西沙群岛\鱼.jpg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G:\图库\photo\WATER\141053.JPG"/>
          <p:cNvPicPr/>
          <p:nvPr/>
        </p:nvPicPr>
        <p:blipFill>
          <a:blip r:embed="rId3"/>
          <a:stretch/>
        </p:blipFill>
        <p:spPr>
          <a:xfrm>
            <a:off x="0" y="3429000"/>
            <a:ext cx="5257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7" descr="D:\语文教学\富饶的西沙群岛\s2.jpg"/>
          <p:cNvPicPr/>
          <p:nvPr/>
        </p:nvPicPr>
        <p:blipFill>
          <a:blip r:embed="rId1"/>
          <a:stretch/>
        </p:blipFill>
        <p:spPr>
          <a:xfrm>
            <a:off x="0" y="-99072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6"/>
          <p:cNvSpPr/>
          <p:nvPr/>
        </p:nvSpPr>
        <p:spPr>
          <a:xfrm>
            <a:off x="609480" y="457200"/>
            <a:ext cx="75438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一群群的鱼在珊瑚丛中穿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穿去。有的（          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有的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(                 )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。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虎鱼的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(           ,        )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气鼓鱼的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(      ,     ,     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。各种各样的鱼，多得数不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D:\语文教学\富饶的西沙群岛\s2.jpg"/>
          <p:cNvPicPr/>
          <p:nvPr/>
        </p:nvPicPr>
        <p:blipFill>
          <a:blip r:embed="rId1"/>
          <a:stretch/>
        </p:blipFill>
        <p:spPr>
          <a:xfrm>
            <a:off x="0" y="-99072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6"/>
          <p:cNvSpPr/>
          <p:nvPr/>
        </p:nvSpPr>
        <p:spPr>
          <a:xfrm>
            <a:off x="762120" y="9144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一群群的鱼在珊瑚丛中穿来穿去。有的身上长着彩色的条纹，有的头上长着一簇红缨。飞虎鱼的周身像插着好些扇子，游动的时候好看极了。气鼓鱼的眼睛圆溜溜的，身上长满刺儿，它鼓起气来，像皮球一样圆。各种各样的鱼，多得数不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a</cp:lastModifiedBy>
  <dcterms:modified xsi:type="dcterms:W3CDTF">2015-02-10T11:15:30Z</dcterms:modified>
  <cp:revision>22</cp:revision>
  <dc:subject/>
  <dc:title>没有幻灯片标题</dc:title>
</cp:coreProperties>
</file>