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B3C2-EE3D-4661-AD0C-C240F54C6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73F8-ACC0-47FE-8542-384DDD29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5207-526C-456A-B76A-C3E6F2B17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2673-15CF-4C61-88FD-A108C3653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2BF1-E9A9-46A0-8649-66A54AE2C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44EB-32F1-403F-8AFE-4656721D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FF36-EFC8-4B26-A07F-2F1C2855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500A-6786-4363-A5B6-81920CD0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B3B3-EDFC-4DAF-B544-AC7BB7D9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899E-BD52-493C-B2A7-DC8D4E48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DA4C-95F9-42EA-A2CD-5BEC554A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808A-374A-4A79-8A6A-6C7022E4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0F13-47A2-4CFD-AC58-E5E37078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2B0F-D948-4418-B7FF-933BA005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282D-C814-4BED-92BA-AE747274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23F0-F361-4BC8-AC78-E640A0015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6062-4AA8-4430-9E6D-A97CBACC9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5174-F76D-486A-B9E4-594F5DA0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FBCB-CF9B-4C23-AAAE-31DCD0AC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E28D-D2F6-495E-8681-6D870E91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F285-4F23-4A6A-9A89-E51095C4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1AFA-664F-4CAA-A205-7539B92B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6226-591C-4C6A-B58A-48491640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566D-1708-421E-A947-394D13B7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744A-66D2-49BD-806F-3C5F1D563D5F}" type="slidenum">
              <a:rPr b="0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F4B2-796D-44EA-9D4F-918CD1572F29}" type="slidenum">
              <a:rPr b="0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066680"/>
            <a:ext cx="4800600" cy="990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数加减混合运算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659520" y="49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填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04920" y="11746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分数加减混合运算的运算顺序和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相同．没有括号的分数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减混合运算顺序是                 ；有括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分数加减混合运算的运算顺序是先算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后算           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989760" y="177336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6680" y="2722680"/>
            <a:ext cx="3809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261200" y="1184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整数加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747960" y="3664080"/>
            <a:ext cx="3373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110040" y="5603760"/>
            <a:ext cx="2133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114200" y="213984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混合运算的运算顺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385520" y="30988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ff"/>
                </a:solidFill>
                <a:latin typeface="Times New Roman"/>
                <a:ea typeface="楷体_GB2312"/>
              </a:rPr>
              <a:t>从左往右依次计算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412040" y="45720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7200" y="560376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652520" y="405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ff"/>
                </a:solidFill>
                <a:latin typeface="Times New Roman"/>
                <a:ea typeface="楷体_GB2312"/>
              </a:rPr>
              <a:t>括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26400" y="50911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ff"/>
                </a:solidFill>
                <a:latin typeface="Times New Roman"/>
                <a:ea typeface="楷体_GB2312"/>
              </a:rPr>
              <a:t>里面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56000" y="50497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ff"/>
                </a:solidFill>
                <a:latin typeface="Times New Roman"/>
                <a:ea typeface="楷体_GB2312"/>
              </a:rPr>
              <a:t>括号外面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59520" y="49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复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50680" y="1182600"/>
            <a:ext cx="464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整数加减混合运算的运算顺序是怎样的？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17840" y="2179800"/>
            <a:ext cx="613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整数加减混合运算顺序是从左往右依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计算．遇到有括号的，应该先算括号里面的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59520" y="49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新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85600" y="1219320"/>
            <a:ext cx="464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楷体_GB2312"/>
              </a:rPr>
              <a:t>分数加减混合运算的运算顺序又是什么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？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2027160"/>
            <a:ext cx="838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分数加减混合运算的运算顺序与整数加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混合运算的运算顺序的相同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18160" y="31082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．．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59520" y="49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新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523880" y="1006560"/>
            <a:ext cx="609480" cy="1300320"/>
            <a:chOff x="1523880" y="1006560"/>
            <a:chExt cx="609480" cy="1300320"/>
          </a:xfrm>
        </p:grpSpPr>
        <p:sp>
          <p:nvSpPr>
            <p:cNvPr id="92" name=""/>
            <p:cNvSpPr/>
            <p:nvPr/>
          </p:nvSpPr>
          <p:spPr>
            <a:xfrm>
              <a:off x="1642680" y="10065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39800" y="16034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23880" y="163836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819520" y="968400"/>
            <a:ext cx="609480" cy="1338480"/>
            <a:chOff x="2819520" y="968400"/>
            <a:chExt cx="609480" cy="1338480"/>
          </a:xfrm>
        </p:grpSpPr>
        <p:sp>
          <p:nvSpPr>
            <p:cNvPr id="96" name=""/>
            <p:cNvSpPr/>
            <p:nvPr/>
          </p:nvSpPr>
          <p:spPr>
            <a:xfrm>
              <a:off x="2957400" y="9684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54160" y="16034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19520" y="163836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096800" y="1009800"/>
            <a:ext cx="689760" cy="1319400"/>
            <a:chOff x="4096800" y="1009800"/>
            <a:chExt cx="689760" cy="1319400"/>
          </a:xfrm>
        </p:grpSpPr>
        <p:sp>
          <p:nvSpPr>
            <p:cNvPr id="100" name=""/>
            <p:cNvSpPr/>
            <p:nvPr/>
          </p:nvSpPr>
          <p:spPr>
            <a:xfrm>
              <a:off x="4233600" y="10098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96800" y="162576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14800" y="166068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216160" y="126360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＋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38440" y="127944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1660680"/>
            <a:ext cx="9144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7720" y="1393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从左往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89280" y="263520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523880" y="2298600"/>
            <a:ext cx="609480" cy="1300320"/>
            <a:chOff x="1523880" y="2298600"/>
            <a:chExt cx="609480" cy="1300320"/>
          </a:xfrm>
        </p:grpSpPr>
        <p:sp>
          <p:nvSpPr>
            <p:cNvPr id="109" name=""/>
            <p:cNvSpPr/>
            <p:nvPr/>
          </p:nvSpPr>
          <p:spPr>
            <a:xfrm>
              <a:off x="1642680" y="22986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39800" y="28954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23880" y="293040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800440" y="2263680"/>
            <a:ext cx="609480" cy="1338480"/>
            <a:chOff x="2800440" y="2263680"/>
            <a:chExt cx="609480" cy="1338480"/>
          </a:xfrm>
        </p:grpSpPr>
        <p:sp>
          <p:nvSpPr>
            <p:cNvPr id="113" name=""/>
            <p:cNvSpPr/>
            <p:nvPr/>
          </p:nvSpPr>
          <p:spPr>
            <a:xfrm>
              <a:off x="2938320" y="22636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35080" y="28987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00440" y="293364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096800" y="2282760"/>
            <a:ext cx="689760" cy="1319400"/>
            <a:chOff x="4096800" y="2282760"/>
            <a:chExt cx="689760" cy="1319400"/>
          </a:xfrm>
        </p:grpSpPr>
        <p:sp>
          <p:nvSpPr>
            <p:cNvPr id="117" name=""/>
            <p:cNvSpPr/>
            <p:nvPr/>
          </p:nvSpPr>
          <p:spPr>
            <a:xfrm>
              <a:off x="4233600" y="22827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096800" y="289872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14800" y="293364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2216160" y="255600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＋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38440" y="257184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86040" y="404172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523880" y="3670200"/>
            <a:ext cx="609480" cy="1338480"/>
            <a:chOff x="1523880" y="3670200"/>
            <a:chExt cx="609480" cy="1338480"/>
          </a:xfrm>
        </p:grpSpPr>
        <p:sp>
          <p:nvSpPr>
            <p:cNvPr id="124" name=""/>
            <p:cNvSpPr/>
            <p:nvPr/>
          </p:nvSpPr>
          <p:spPr>
            <a:xfrm>
              <a:off x="1661760" y="36702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58520" y="43052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23880" y="434016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820600" y="3689280"/>
            <a:ext cx="689760" cy="1319400"/>
            <a:chOff x="2820600" y="3689280"/>
            <a:chExt cx="689760" cy="1319400"/>
          </a:xfrm>
        </p:grpSpPr>
        <p:sp>
          <p:nvSpPr>
            <p:cNvPr id="128" name=""/>
            <p:cNvSpPr/>
            <p:nvPr/>
          </p:nvSpPr>
          <p:spPr>
            <a:xfrm>
              <a:off x="2956680" y="36892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20600" y="43052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838240" y="4340160"/>
              <a:ext cx="609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2262240" y="397836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70480" y="404496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405040" y="3711600"/>
            <a:ext cx="689760" cy="1319400"/>
            <a:chOff x="5405040" y="3711600"/>
            <a:chExt cx="689760" cy="1319400"/>
          </a:xfrm>
        </p:grpSpPr>
        <p:sp>
          <p:nvSpPr>
            <p:cNvPr id="134" name=""/>
            <p:cNvSpPr/>
            <p:nvPr/>
          </p:nvSpPr>
          <p:spPr>
            <a:xfrm>
              <a:off x="5541120" y="37116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05040" y="432756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22680" y="4362480"/>
              <a:ext cx="609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4846680" y="398160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096800" y="3711600"/>
            <a:ext cx="715320" cy="1281240"/>
            <a:chOff x="4096800" y="3711600"/>
            <a:chExt cx="715320" cy="1281240"/>
          </a:xfrm>
        </p:grpSpPr>
        <p:sp>
          <p:nvSpPr>
            <p:cNvPr id="139" name=""/>
            <p:cNvSpPr/>
            <p:nvPr/>
          </p:nvSpPr>
          <p:spPr>
            <a:xfrm>
              <a:off x="4122360" y="371160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25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096800" y="428940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33880" y="436248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1447920" y="2286000"/>
            <a:ext cx="2133360" cy="12952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914560"/>
            <a:ext cx="9144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84080" y="2583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通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19400" y="3714840"/>
            <a:ext cx="2133720" cy="12952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48520" y="4362480"/>
            <a:ext cx="6793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31040" y="40305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再次通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86040" y="533412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505880" y="5006880"/>
            <a:ext cx="715320" cy="1281240"/>
            <a:chOff x="1505880" y="5006880"/>
            <a:chExt cx="715320" cy="1281240"/>
          </a:xfrm>
        </p:grpSpPr>
        <p:sp>
          <p:nvSpPr>
            <p:cNvPr id="150" name=""/>
            <p:cNvSpPr/>
            <p:nvPr/>
          </p:nvSpPr>
          <p:spPr>
            <a:xfrm>
              <a:off x="1531440" y="500688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19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05880" y="558468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542960" y="565776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59520" y="49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新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523880" y="1006560"/>
            <a:ext cx="609480" cy="1300320"/>
            <a:chOff x="1523880" y="1006560"/>
            <a:chExt cx="609480" cy="1300320"/>
          </a:xfrm>
        </p:grpSpPr>
        <p:sp>
          <p:nvSpPr>
            <p:cNvPr id="155" name=""/>
            <p:cNvSpPr/>
            <p:nvPr/>
          </p:nvSpPr>
          <p:spPr>
            <a:xfrm>
              <a:off x="1642680" y="10065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39800" y="16034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23880" y="163836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819520" y="990720"/>
            <a:ext cx="609480" cy="1338480"/>
            <a:chOff x="2819520" y="990720"/>
            <a:chExt cx="609480" cy="1338480"/>
          </a:xfrm>
        </p:grpSpPr>
        <p:sp>
          <p:nvSpPr>
            <p:cNvPr id="159" name=""/>
            <p:cNvSpPr/>
            <p:nvPr/>
          </p:nvSpPr>
          <p:spPr>
            <a:xfrm>
              <a:off x="2957400" y="9907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954160" y="16257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19520" y="166068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096800" y="990720"/>
            <a:ext cx="689760" cy="1319400"/>
            <a:chOff x="4096800" y="990720"/>
            <a:chExt cx="689760" cy="1319400"/>
          </a:xfrm>
        </p:grpSpPr>
        <p:sp>
          <p:nvSpPr>
            <p:cNvPr id="163" name=""/>
            <p:cNvSpPr/>
            <p:nvPr/>
          </p:nvSpPr>
          <p:spPr>
            <a:xfrm>
              <a:off x="4233600" y="9907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96800" y="160668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14800" y="164160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216160" y="126360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＋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38440" y="127944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89280" y="263520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35240" y="257508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＋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57520" y="259092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86040" y="404172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115880" y="2305080"/>
            <a:ext cx="689760" cy="1319400"/>
            <a:chOff x="4115880" y="2305080"/>
            <a:chExt cx="689760" cy="1319400"/>
          </a:xfrm>
        </p:grpSpPr>
        <p:sp>
          <p:nvSpPr>
            <p:cNvPr id="173" name=""/>
            <p:cNvSpPr/>
            <p:nvPr/>
          </p:nvSpPr>
          <p:spPr>
            <a:xfrm>
              <a:off x="4252680" y="230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15880" y="29210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133880" y="295596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986040" y="535320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449000" y="2305080"/>
            <a:ext cx="715320" cy="1281240"/>
            <a:chOff x="1449000" y="2305080"/>
            <a:chExt cx="715320" cy="1281240"/>
          </a:xfrm>
        </p:grpSpPr>
        <p:sp>
          <p:nvSpPr>
            <p:cNvPr id="178" name=""/>
            <p:cNvSpPr/>
            <p:nvPr/>
          </p:nvSpPr>
          <p:spPr>
            <a:xfrm>
              <a:off x="1474560" y="230508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49000" y="288288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86080" y="295596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782440" y="2305080"/>
            <a:ext cx="715320" cy="1281240"/>
            <a:chOff x="2782440" y="2305080"/>
            <a:chExt cx="715320" cy="1281240"/>
          </a:xfrm>
        </p:grpSpPr>
        <p:sp>
          <p:nvSpPr>
            <p:cNvPr id="182" name=""/>
            <p:cNvSpPr/>
            <p:nvPr/>
          </p:nvSpPr>
          <p:spPr>
            <a:xfrm>
              <a:off x="2808000" y="230508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15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782440" y="288288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819520" y="295596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048280" y="2944800"/>
            <a:ext cx="9144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49920" y="26589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一次通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775960" y="3676680"/>
            <a:ext cx="689760" cy="1319400"/>
            <a:chOff x="2775960" y="3676680"/>
            <a:chExt cx="689760" cy="1319400"/>
          </a:xfrm>
        </p:grpSpPr>
        <p:sp>
          <p:nvSpPr>
            <p:cNvPr id="188" name=""/>
            <p:cNvSpPr/>
            <p:nvPr/>
          </p:nvSpPr>
          <p:spPr>
            <a:xfrm>
              <a:off x="2912760" y="36766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775960" y="42926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793960" y="432756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217600" y="394668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468080" y="3676680"/>
            <a:ext cx="715320" cy="1281240"/>
            <a:chOff x="1468080" y="3676680"/>
            <a:chExt cx="715320" cy="1281240"/>
          </a:xfrm>
        </p:grpSpPr>
        <p:sp>
          <p:nvSpPr>
            <p:cNvPr id="193" name=""/>
            <p:cNvSpPr/>
            <p:nvPr/>
          </p:nvSpPr>
          <p:spPr>
            <a:xfrm>
              <a:off x="1493640" y="367668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25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68080" y="425448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05160" y="432756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505880" y="5006880"/>
            <a:ext cx="715320" cy="1281240"/>
            <a:chOff x="1505880" y="5006880"/>
            <a:chExt cx="715320" cy="1281240"/>
          </a:xfrm>
        </p:grpSpPr>
        <p:sp>
          <p:nvSpPr>
            <p:cNvPr id="197" name=""/>
            <p:cNvSpPr/>
            <p:nvPr/>
          </p:nvSpPr>
          <p:spPr>
            <a:xfrm>
              <a:off x="1531440" y="500688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19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05880" y="558468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42960" y="565776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59520" y="49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思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08360" y="10587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这两种方法有什么不同？哪一种简便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05080" y="21178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第一种方法：分步通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20920" y="31543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第二种方法：一次通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85840" y="4289400"/>
            <a:ext cx="263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三个分数都是异分母分数，一次通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比较简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59520" y="457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练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542960" y="723960"/>
            <a:ext cx="609480" cy="1300320"/>
            <a:chOff x="1542960" y="723960"/>
            <a:chExt cx="609480" cy="1300320"/>
          </a:xfrm>
        </p:grpSpPr>
        <p:sp>
          <p:nvSpPr>
            <p:cNvPr id="207" name=""/>
            <p:cNvSpPr/>
            <p:nvPr/>
          </p:nvSpPr>
          <p:spPr>
            <a:xfrm>
              <a:off x="1661760" y="7239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58880" y="13208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42960" y="135576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191120" y="685800"/>
            <a:ext cx="609480" cy="1338480"/>
            <a:chOff x="4191120" y="685800"/>
            <a:chExt cx="609480" cy="1338480"/>
          </a:xfrm>
        </p:grpSpPr>
        <p:sp>
          <p:nvSpPr>
            <p:cNvPr id="211" name=""/>
            <p:cNvSpPr/>
            <p:nvPr/>
          </p:nvSpPr>
          <p:spPr>
            <a:xfrm>
              <a:off x="4329000" y="6858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325760" y="13208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91120" y="135576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801520" y="708120"/>
            <a:ext cx="689760" cy="1319400"/>
            <a:chOff x="2801520" y="708120"/>
            <a:chExt cx="689760" cy="1319400"/>
          </a:xfrm>
        </p:grpSpPr>
        <p:sp>
          <p:nvSpPr>
            <p:cNvPr id="215" name=""/>
            <p:cNvSpPr/>
            <p:nvPr/>
          </p:nvSpPr>
          <p:spPr>
            <a:xfrm>
              <a:off x="2937600" y="7081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01520" y="132408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19160" y="1359000"/>
              <a:ext cx="609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562560" y="98100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＋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62240" y="97776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89280" y="223524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06840" y="217476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＋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0960" y="219060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86040" y="377496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896560" y="1905120"/>
            <a:ext cx="689760" cy="1319400"/>
            <a:chOff x="2896560" y="1905120"/>
            <a:chExt cx="689760" cy="1319400"/>
          </a:xfrm>
        </p:grpSpPr>
        <p:sp>
          <p:nvSpPr>
            <p:cNvPr id="225" name=""/>
            <p:cNvSpPr/>
            <p:nvPr/>
          </p:nvSpPr>
          <p:spPr>
            <a:xfrm>
              <a:off x="3033360" y="19051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96560" y="252108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14560" y="255600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3507120" y="380700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49000" y="1905120"/>
            <a:ext cx="715320" cy="1281240"/>
            <a:chOff x="1449000" y="1905120"/>
            <a:chExt cx="715320" cy="1281240"/>
          </a:xfrm>
        </p:grpSpPr>
        <p:sp>
          <p:nvSpPr>
            <p:cNvPr id="230" name=""/>
            <p:cNvSpPr/>
            <p:nvPr/>
          </p:nvSpPr>
          <p:spPr>
            <a:xfrm>
              <a:off x="1474560" y="190512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24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449000" y="248292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486080" y="255600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4154040" y="1905120"/>
            <a:ext cx="715320" cy="1281240"/>
            <a:chOff x="4154040" y="1905120"/>
            <a:chExt cx="715320" cy="1281240"/>
          </a:xfrm>
        </p:grpSpPr>
        <p:sp>
          <p:nvSpPr>
            <p:cNvPr id="234" name=""/>
            <p:cNvSpPr/>
            <p:nvPr/>
          </p:nvSpPr>
          <p:spPr>
            <a:xfrm>
              <a:off x="4179600" y="190512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54040" y="248292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91120" y="255600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084200" y="3444840"/>
            <a:ext cx="715320" cy="1281240"/>
            <a:chOff x="4084200" y="3444840"/>
            <a:chExt cx="715320" cy="1281240"/>
          </a:xfrm>
        </p:grpSpPr>
        <p:sp>
          <p:nvSpPr>
            <p:cNvPr id="238" name=""/>
            <p:cNvSpPr/>
            <p:nvPr/>
          </p:nvSpPr>
          <p:spPr>
            <a:xfrm>
              <a:off x="4109760" y="34448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35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200" y="40226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21280" y="409572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1429920" y="3425760"/>
            <a:ext cx="715320" cy="1281240"/>
            <a:chOff x="1429920" y="3425760"/>
            <a:chExt cx="715320" cy="1281240"/>
          </a:xfrm>
        </p:grpSpPr>
        <p:sp>
          <p:nvSpPr>
            <p:cNvPr id="242" name=""/>
            <p:cNvSpPr/>
            <p:nvPr/>
          </p:nvSpPr>
          <p:spPr>
            <a:xfrm>
              <a:off x="1455480" y="342576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15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429920" y="400356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67000" y="407664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2158920" y="371484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＋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2706120" y="3444840"/>
            <a:ext cx="715320" cy="1281240"/>
            <a:chOff x="2706120" y="3444840"/>
            <a:chExt cx="715320" cy="1281240"/>
          </a:xfrm>
        </p:grpSpPr>
        <p:sp>
          <p:nvSpPr>
            <p:cNvPr id="247" name=""/>
            <p:cNvSpPr/>
            <p:nvPr/>
          </p:nvSpPr>
          <p:spPr>
            <a:xfrm>
              <a:off x="2731680" y="34448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706120" y="40226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743200" y="409572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973440" y="518796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86080" y="4800600"/>
            <a:ext cx="609480" cy="1338480"/>
            <a:chOff x="1486080" y="4800600"/>
            <a:chExt cx="609480" cy="1338480"/>
          </a:xfrm>
        </p:grpSpPr>
        <p:sp>
          <p:nvSpPr>
            <p:cNvPr id="252" name=""/>
            <p:cNvSpPr/>
            <p:nvPr/>
          </p:nvSpPr>
          <p:spPr>
            <a:xfrm>
              <a:off x="1623960" y="48006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20720" y="54356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86080" y="547056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4952880" y="4087800"/>
            <a:ext cx="9144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89560" y="3801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注意约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38480" y="3448080"/>
            <a:ext cx="838440" cy="12952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500"/>
                            </p:stCondLst>
                            <p:childTnLst>
                              <p:par>
                                <p:cTn id="25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5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500"/>
                            </p:stCondLst>
                            <p:childTnLst>
                              <p:par>
                                <p:cTn id="26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0"/>
                            </p:stCondLst>
                            <p:childTnLst>
                              <p:par>
                                <p:cTn id="2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500"/>
                            </p:stCondLst>
                            <p:childTnLst>
                              <p:par>
                                <p:cTn id="26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59520" y="49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新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1006560"/>
            <a:ext cx="609480" cy="1300320"/>
            <a:chOff x="1371600" y="1006560"/>
            <a:chExt cx="609480" cy="1300320"/>
          </a:xfrm>
        </p:grpSpPr>
        <p:sp>
          <p:nvSpPr>
            <p:cNvPr id="260" name=""/>
            <p:cNvSpPr/>
            <p:nvPr/>
          </p:nvSpPr>
          <p:spPr>
            <a:xfrm>
              <a:off x="1490400" y="10065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87520" y="16034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371600" y="163836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743200" y="990720"/>
            <a:ext cx="609480" cy="1338480"/>
            <a:chOff x="2743200" y="990720"/>
            <a:chExt cx="609480" cy="1338480"/>
          </a:xfrm>
        </p:grpSpPr>
        <p:sp>
          <p:nvSpPr>
            <p:cNvPr id="264" name=""/>
            <p:cNvSpPr/>
            <p:nvPr/>
          </p:nvSpPr>
          <p:spPr>
            <a:xfrm>
              <a:off x="2881080" y="9907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77840" y="16257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43200" y="166068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001760" y="1009800"/>
            <a:ext cx="689760" cy="1319400"/>
            <a:chOff x="4001760" y="1009800"/>
            <a:chExt cx="689760" cy="1319400"/>
          </a:xfrm>
        </p:grpSpPr>
        <p:sp>
          <p:nvSpPr>
            <p:cNvPr id="268" name=""/>
            <p:cNvSpPr/>
            <p:nvPr/>
          </p:nvSpPr>
          <p:spPr>
            <a:xfrm>
              <a:off x="4137840" y="10098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01760" y="162576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19400" y="1660680"/>
              <a:ext cx="609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3435480" y="127944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＋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071440" y="127944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05520" y="1660680"/>
            <a:ext cx="7617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356520" y="13748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先算括号里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76520" y="251460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60600" y="2494080"/>
            <a:ext cx="76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＋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95480" y="249408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76520" y="403236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4019040" y="2230560"/>
            <a:ext cx="689760" cy="1319400"/>
            <a:chOff x="4019040" y="2230560"/>
            <a:chExt cx="689760" cy="1319400"/>
          </a:xfrm>
        </p:grpSpPr>
        <p:sp>
          <p:nvSpPr>
            <p:cNvPr id="280" name=""/>
            <p:cNvSpPr/>
            <p:nvPr/>
          </p:nvSpPr>
          <p:spPr>
            <a:xfrm>
              <a:off x="4155840" y="22305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19040" y="284652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037040" y="288144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776520" y="534204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729880" y="2209680"/>
            <a:ext cx="715320" cy="1281240"/>
            <a:chOff x="2729880" y="2209680"/>
            <a:chExt cx="715320" cy="1281240"/>
          </a:xfrm>
        </p:grpSpPr>
        <p:sp>
          <p:nvSpPr>
            <p:cNvPr id="285" name=""/>
            <p:cNvSpPr/>
            <p:nvPr/>
          </p:nvSpPr>
          <p:spPr>
            <a:xfrm>
              <a:off x="2755440" y="220968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29880" y="278748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66960" y="286056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2023920" y="399096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592000" y="3727440"/>
            <a:ext cx="715320" cy="1281240"/>
            <a:chOff x="2592000" y="3727440"/>
            <a:chExt cx="715320" cy="1281240"/>
          </a:xfrm>
        </p:grpSpPr>
        <p:sp>
          <p:nvSpPr>
            <p:cNvPr id="290" name=""/>
            <p:cNvSpPr/>
            <p:nvPr/>
          </p:nvSpPr>
          <p:spPr>
            <a:xfrm>
              <a:off x="2617560" y="37274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19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592000" y="43052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29080" y="437832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247120" y="12193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（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704480" y="12384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295280" y="2209680"/>
            <a:ext cx="609480" cy="1300320"/>
            <a:chOff x="1295280" y="2209680"/>
            <a:chExt cx="609480" cy="1300320"/>
          </a:xfrm>
        </p:grpSpPr>
        <p:sp>
          <p:nvSpPr>
            <p:cNvPr id="296" name=""/>
            <p:cNvSpPr/>
            <p:nvPr/>
          </p:nvSpPr>
          <p:spPr>
            <a:xfrm>
              <a:off x="1414080" y="22096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411200" y="28065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295280" y="284148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2189880" y="24382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（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685400" y="24382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295280" y="3730680"/>
            <a:ext cx="609480" cy="1300320"/>
            <a:chOff x="1295280" y="3730680"/>
            <a:chExt cx="609480" cy="1300320"/>
          </a:xfrm>
        </p:grpSpPr>
        <p:sp>
          <p:nvSpPr>
            <p:cNvPr id="302" name=""/>
            <p:cNvSpPr/>
            <p:nvPr/>
          </p:nvSpPr>
          <p:spPr>
            <a:xfrm>
              <a:off x="1414080" y="37306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11200" y="43275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95280" y="436248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3335760" y="403236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83160" y="399096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150880" y="3727440"/>
            <a:ext cx="715320" cy="1281240"/>
            <a:chOff x="5150880" y="3727440"/>
            <a:chExt cx="715320" cy="1281240"/>
          </a:xfrm>
        </p:grpSpPr>
        <p:sp>
          <p:nvSpPr>
            <p:cNvPr id="308" name=""/>
            <p:cNvSpPr/>
            <p:nvPr/>
          </p:nvSpPr>
          <p:spPr>
            <a:xfrm>
              <a:off x="5176440" y="37274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19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50880" y="43052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187960" y="437832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3820680" y="3727440"/>
            <a:ext cx="715320" cy="1281240"/>
            <a:chOff x="3820680" y="3727440"/>
            <a:chExt cx="715320" cy="1281240"/>
          </a:xfrm>
        </p:grpSpPr>
        <p:sp>
          <p:nvSpPr>
            <p:cNvPr id="312" name=""/>
            <p:cNvSpPr/>
            <p:nvPr/>
          </p:nvSpPr>
          <p:spPr>
            <a:xfrm>
              <a:off x="3846240" y="37274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25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20680" y="43052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57760" y="437832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269360" y="5027760"/>
            <a:ext cx="689760" cy="1319400"/>
            <a:chOff x="1269360" y="5027760"/>
            <a:chExt cx="689760" cy="1319400"/>
          </a:xfrm>
        </p:grpSpPr>
        <p:sp>
          <p:nvSpPr>
            <p:cNvPr id="316" name=""/>
            <p:cNvSpPr/>
            <p:nvPr/>
          </p:nvSpPr>
          <p:spPr>
            <a:xfrm>
              <a:off x="1406160" y="50277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269360" y="564372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287360" y="567864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2078280" y="533412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625840" y="5008680"/>
            <a:ext cx="609480" cy="1338480"/>
            <a:chOff x="2625840" y="5008680"/>
            <a:chExt cx="609480" cy="1338480"/>
          </a:xfrm>
        </p:grpSpPr>
        <p:sp>
          <p:nvSpPr>
            <p:cNvPr id="321" name=""/>
            <p:cNvSpPr/>
            <p:nvPr/>
          </p:nvSpPr>
          <p:spPr>
            <a:xfrm>
              <a:off x="2763720" y="50086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760480" y="56437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625840" y="567864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762120" y="2251080"/>
            <a:ext cx="4308480" cy="1219320"/>
          </a:xfrm>
          <a:prstGeom prst="rect">
            <a:avLst/>
          </a:prstGeom>
          <a:noFill/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70240" y="3754440"/>
            <a:ext cx="2728800" cy="1219320"/>
          </a:xfrm>
          <a:prstGeom prst="rect">
            <a:avLst/>
          </a:prstGeom>
          <a:noFill/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34120" y="25909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方框部分可以省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47120" y="12193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（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20320" y="12398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000"/>
                            </p:stCondLst>
                            <p:childTnLst>
                              <p:par>
                                <p:cTn id="34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659520" y="49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练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371600" y="1006560"/>
            <a:ext cx="609480" cy="1300320"/>
            <a:chOff x="1371600" y="1006560"/>
            <a:chExt cx="609480" cy="1300320"/>
          </a:xfrm>
        </p:grpSpPr>
        <p:sp>
          <p:nvSpPr>
            <p:cNvPr id="331" name=""/>
            <p:cNvSpPr/>
            <p:nvPr/>
          </p:nvSpPr>
          <p:spPr>
            <a:xfrm>
              <a:off x="1490400" y="10065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487520" y="16034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371600" y="163836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895480" y="990720"/>
            <a:ext cx="609480" cy="1338480"/>
            <a:chOff x="2895480" y="990720"/>
            <a:chExt cx="609480" cy="1338480"/>
          </a:xfrm>
        </p:grpSpPr>
        <p:sp>
          <p:nvSpPr>
            <p:cNvPr id="335" name=""/>
            <p:cNvSpPr/>
            <p:nvPr/>
          </p:nvSpPr>
          <p:spPr>
            <a:xfrm>
              <a:off x="2995200" y="9907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3240" y="16257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95480" y="166068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2071440" y="127944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76520" y="283860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76520" y="433080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177640" y="1254240"/>
            <a:ext cx="79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（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37080" y="1273320"/>
            <a:ext cx="9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89200" y="129528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4191120" y="990720"/>
            <a:ext cx="609480" cy="1338480"/>
            <a:chOff x="4191120" y="990720"/>
            <a:chExt cx="609480" cy="1338480"/>
          </a:xfrm>
        </p:grpSpPr>
        <p:sp>
          <p:nvSpPr>
            <p:cNvPr id="345" name=""/>
            <p:cNvSpPr/>
            <p:nvPr/>
          </p:nvSpPr>
          <p:spPr>
            <a:xfrm>
              <a:off x="4290840" y="9907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268880" y="16257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191120" y="166068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371600" y="2514600"/>
            <a:ext cx="609480" cy="1300320"/>
            <a:chOff x="1371600" y="2514600"/>
            <a:chExt cx="609480" cy="1300320"/>
          </a:xfrm>
        </p:grpSpPr>
        <p:sp>
          <p:nvSpPr>
            <p:cNvPr id="349" name=""/>
            <p:cNvSpPr/>
            <p:nvPr/>
          </p:nvSpPr>
          <p:spPr>
            <a:xfrm>
              <a:off x="1490400" y="25146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487520" y="31114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371600" y="314640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2090520" y="276876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2743200" y="2495520"/>
            <a:ext cx="609480" cy="1338480"/>
            <a:chOff x="2743200" y="2495520"/>
            <a:chExt cx="609480" cy="1338480"/>
          </a:xfrm>
        </p:grpSpPr>
        <p:sp>
          <p:nvSpPr>
            <p:cNvPr id="354" name=""/>
            <p:cNvSpPr/>
            <p:nvPr/>
          </p:nvSpPr>
          <p:spPr>
            <a:xfrm>
              <a:off x="2842920" y="24955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20960" y="31305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743200" y="316548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1447920" y="3940200"/>
            <a:ext cx="609480" cy="1338480"/>
            <a:chOff x="1447920" y="3940200"/>
            <a:chExt cx="609480" cy="1338480"/>
          </a:xfrm>
        </p:grpSpPr>
        <p:sp>
          <p:nvSpPr>
            <p:cNvPr id="358" name=""/>
            <p:cNvSpPr/>
            <p:nvPr/>
          </p:nvSpPr>
          <p:spPr>
            <a:xfrm>
              <a:off x="1547640" y="39402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525680" y="45752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447920" y="461016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500"/>
                            </p:stCondLst>
                            <p:childTnLst>
                              <p:par>
                                <p:cTn id="43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5T03:15:10Z</dcterms:created>
  <dc:creator>yangjiuling</dc:creator>
  <dc:description/>
  <dc:language>en-US</dc:language>
  <cp:lastModifiedBy>yanchao</cp:lastModifiedBy>
  <dcterms:modified xsi:type="dcterms:W3CDTF">2004-05-13T02:49:12Z</dcterms:modified>
  <cp:revision>61</cp:revision>
  <dc:subject/>
  <dc:title>分数加减混合运算</dc:title>
</cp:coreProperties>
</file>