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172-27B1-4166-967D-7E9F2D2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AED-1EBD-4AC0-9E3A-232A22BC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F5550-3873-4AB2-AF75-47243D64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C4A72-AAD3-466E-8303-6784C64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5364B-9407-437A-B9F5-E49E969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B9B99-C133-456B-9B9A-1F55E90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18621-B6C1-4817-BDAF-FC68C6F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7D038-D96D-4C5C-A97A-7D7B9409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36F68-2516-4A5D-AC89-4568288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77443-6BBE-462B-92B3-3BF1345E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86318-AF8A-4914-9331-904215E0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8338D-BED4-43DE-9735-3D3E13EB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80A-B279-484D-B8FB-FC8FE07B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521C7-F6EA-4B6A-BE85-72351DF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2F214-D49E-4A3D-AD01-73C313F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B68C-16D7-4EC0-BBE0-F8A57C32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10B7E-76EC-4ED1-A154-9CFF4FB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BC473-E116-4BF2-89EF-E1100954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9CA51-BE45-48B2-83A3-64CA5C1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9B933-90C0-42F9-A9A7-A0DEBDE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83E8B-B2FF-4355-8008-0091FC7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8923E-0B9F-48EE-BB79-52C5F70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24F61-7100-400A-A0CA-BE93B29A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E50-23A7-4DC0-B2BD-5F1E6E02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3BCFF-3979-424F-AF89-DEF3E863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AC2B0-17F0-464E-B9FB-453E5E0D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53D0E-0807-4233-AC6D-98B6AC4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81FBB-395A-4164-8291-9FB9C345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4B76B-D251-4F60-95E8-A34C4299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31491-EF5C-4457-A258-951DB67B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DFC7-D539-46AF-B0F6-A1C02AC5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CF466-E147-4FF6-BC4D-59CE4A0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1B099-06CE-423D-9C7A-A79E520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D2AEE-77BA-47D2-9126-3D9F125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C217-B921-49AB-A9A6-4E4A765A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F9348-B5B0-4059-B8FE-E82CDC00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EDEF8-60C5-4F57-A0B0-67430F9C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049E-8AFE-4024-A494-FE74113D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3B6EF-C63E-4B3C-8EE5-25F0628A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FFCBE-6613-4C64-908B-7B0ABEDE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B3770-CF7F-4F3D-9390-0ED4B285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76571-48D7-41F2-99D6-0060864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9122A-EFDF-4059-998F-49DE5A6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A633E-131D-48A3-A3AF-F4BA5D01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E9872-F217-4490-BDD7-46A39DBD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188B-62D9-4A50-9DB6-0CBBC8EF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FBFC6-1AA7-4CA3-AA05-43379F0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79064-0DDA-48BF-B842-D194489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CCE28-4805-4748-B689-FAAF75E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1D939-A77A-4653-B799-B2AAACDA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D88F4-7589-45E9-B090-B5FE61A4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D9C55-B238-4D8C-AD63-61A43D06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BB1C7-7E1B-49F9-922B-CA447EE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FE621-E56F-41DE-A847-D7A8FF35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CA25E-3E06-4B6A-B5CE-592F8F77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B97CD-DD71-4193-908E-B552584E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4072-B117-4166-8B47-A0DF2E3A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07320-ED9B-4170-8B96-5AB28EC7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B1054-7252-477B-B37B-A8DD99DD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98492-2B50-4470-BB69-00B7261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4B22F-27A7-4D92-8818-42537930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C0FC4-9225-452D-BA1C-027F3663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742A4-62EF-4921-8EDD-675F267F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8F0A5-DA36-4381-9BC8-7B6404CC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FCA81-B641-4588-8E06-B06DEA26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731B8-BA25-4D16-9393-73488BC8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21BC7-1183-41C9-B099-08C60C69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3B91-8A58-4E93-95DF-F0DE4EB6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AF50A-933D-403D-81C5-71095C1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CF106-F2DC-4516-9477-D41DEA8A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B3724-0F0C-4450-B049-7CDFFDBB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7A9FE-F482-4626-850A-9A5AA95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CD46F-AA2B-47C4-A8CA-71A29D6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77F73-911C-4493-A1D7-767E67B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53198-5863-4660-88F5-76E356C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52615-1670-45D8-8115-05A39748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26627-5D4E-4C85-B88F-C2C7FDEA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A46A-1D2A-4B7B-8EE9-8447C05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D4DE-AAB7-495D-B322-617AA8B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E9B7-EED8-4F1B-AFA3-6888FDF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241-EBD0-43B3-9DB1-3F8FCF1D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9FE7-8D01-4880-9BC8-FA62E56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2AD6-5549-455B-99B9-A73C6E0B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570B-7809-43E7-AC2D-3CDFE46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0D6D-F3C3-4CCF-8D11-830AE5EF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82F-6AD9-4C0E-A43F-DF0D0D83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1BB7-1C64-45A5-8AD8-4105D44C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DC4E-61EE-4D1B-810C-182E7567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E502-0C24-4BFD-A3DD-2D9B60A6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3A24-3BB9-406D-A990-1B5BD00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C83D-8319-4B54-8B72-BDC9ABDF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578-27A0-4BE3-ACA6-B6A96058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7C98-95EE-4727-8F4C-DE66CAED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63C95-5542-4F86-AD4D-128AA63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17AA-5E12-4893-B412-48DC0D03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F4C40-6D40-40EE-BC3E-805ACDB9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71DA-636F-4935-8786-7CF493C1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1F47-5FBC-4FCC-B6A0-5A902D53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E057-8454-4D25-9770-93CEDC45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A9CB-470B-44BA-969A-96C0EEF9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0E1F-DEB6-449C-BB9A-06EED77F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5766-0093-4E57-9711-82206FF6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4FB-F220-4F92-B0BA-4FDA9C02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FCDA-7874-4AB8-A40A-CA3D200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4584-37E5-47CB-9B73-6B6DB9E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805D-38DC-4827-BDE4-CADAEC5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660D-06A3-4EBA-8BB0-CA71EEDC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9B69-34D7-47D9-B3CF-DD910A1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C06F-0BBB-4FD5-9966-DE0271D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F7BF-8A95-4E1A-83D0-D265F0BD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6FC4-17BB-41CA-B3D0-9D5737E5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CBD6-B3E2-4A9C-A999-08AFCDE1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BCD7-C3E0-4D78-A759-65664C0A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50F-6ECF-4559-9534-E49006E0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97B1A-F7D7-4ECA-940E-585B7CE1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626CA-9A1A-4CAB-9BD7-88E6B7D5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0BA38-D69D-47CB-B504-16DD9B65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E041F-F39F-4D3C-81FD-A6971AEA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8B80-56F3-4E4A-98D7-1B7683B7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15D59-7E2C-49ED-A11D-FCFFB8B3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7E48-15D5-4A0D-BD0B-12199C3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10AF9-D0A6-451F-9161-37D644A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51CF-5AE8-4D91-8AFC-4E00449E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5A240-683E-461F-8625-4F609F9B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6D7-FFE7-454B-954E-BA0FDA7B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AD7A-EA05-49B2-A82D-D2231B31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FE6C5-98A3-4B4B-A330-B17198EE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EA15-2855-4BF9-B28E-3CB8B669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79AB8-15C8-473F-BEAB-6940D692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8F21-6CA0-444F-9C4F-2ECD9EC6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A9BAE-F391-465A-B5E5-9C67EEE6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553B-31DD-495C-9B9E-3F62FA18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1401C-4E2E-4B17-A8DA-32127FF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4FF61-D655-4EF6-93A9-C78D11AC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683E5-AE40-44C5-870D-25DF9AC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029-9679-4B91-872C-52C1791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3DB9-039C-46E9-B861-B13F7E51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FC36-F1AD-495B-8C90-3165A87E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45CA-58EB-43A5-BDC5-88EB5256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3F5A-3822-4AB5-9D0F-49E8A8A8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505F-23ED-4DE4-83DC-9192AA1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B410-F473-4C0B-B19C-B989216B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3AB0-6639-4EA3-9299-D7DF7B92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2B308-04A3-471E-A348-2E602C5A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8CCF4-1449-430B-9872-9F9A1CBA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BCF19-2FBC-4F90-8D9F-3618998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610-3B98-46D9-916B-1D06C409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575D-E70D-44AF-85F6-A9D9D43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B69B7-7007-4144-9B96-32146B21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4B24C-0E64-4F1C-986D-BA6D116A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002DA-57C5-448C-99BB-302F0075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2EA3B-6BC8-4555-94D0-43FE75BC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A3241-2D42-47DA-9A82-95723283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E2BD4-0FF2-403A-815E-1538791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A9868-D9E6-4055-B094-74B17362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03D5-0FAB-49C2-B54D-9B96910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8BC6-0D45-4457-BCDE-75F2E55E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C3C-18D0-4770-93A9-49EB6A17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D679D-2272-4F9E-BD80-1E3AC4DC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C303-EADA-47A0-B624-CE00125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F6FFA-BBFF-447B-9743-C6B2F88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41724-B887-45FA-8756-570E3A3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0FCE5-B17D-4713-AE11-164D6386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45219-04A8-48E6-BD8C-8DF7DA78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8A52-D17D-45C3-90A4-AAE13E12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E1632-C4C6-4D4F-A1ED-234AD4DB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81F5F-7E2E-4D90-B9E2-8CD9DB9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6E9F7-E386-40AA-A3F8-1527D22A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B5DE-AA20-45B9-9BA7-29572096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572C-747C-4AF4-BB3C-CEBB601BC6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CFA7-2DDC-42D3-A612-D48463A68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3332-1B3F-4EA1-AADC-D177430F99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BFA-790E-4726-A80B-ACABEFCEED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00A8-5FB4-49C7-ADCE-FB773CF98D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A0A-9320-4ABB-AE1E-CE2B5A497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7C01-0C8A-46CD-B12E-AB9164E2A6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B98-4DD6-4885-98D0-868EA4E93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2256-C989-4594-93E8-43E4F3A481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8E7F-A853-4A9E-87E9-B50009F2E3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534B-6608-4AFA-BDDA-FFFC2C250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0F5-96D4-412F-9B5F-0D8E9D81EF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8065-C4B6-406B-A515-5806087AF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506-8569-4D33-96FB-7D43CB0F1A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0F5-945F-49C7-A1F7-60CE7C4395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7371-E6CF-49AF-9656-06429FD5A1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ED2A-EBD2-4C94-8E0F-BA61287D6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DAAB-2467-4B90-8357-DC350B7077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DC27-68C2-4D26-A8D3-15B075E827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00D8-6AD6-4206-97E0-5C18C10541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728-2FF1-4B3A-B935-2D66EB666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BE9-D266-4D66-B5A0-58267A3CB6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3104-B821-4937-84AE-B8643CBBFD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B956-20BC-4E5D-988C-009575736D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6203-9760-4E9D-9409-236BCD5060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1258920" y="569736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尚经小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吴    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WordArt 11" descr=""/>
          <p:cNvPicPr/>
          <p:nvPr/>
        </p:nvPicPr>
        <p:blipFill>
          <a:blip r:embed="rId2"/>
          <a:stretch/>
        </p:blipFill>
        <p:spPr>
          <a:xfrm>
            <a:off x="2189160" y="334800"/>
            <a:ext cx="5016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762120" y="838080"/>
            <a:ext cx="7772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这一假说，一些与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亲缘关系较近的恐龙应该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羽毛，但相关化石一直没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找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6012000" y="148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651672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4"/>
          <p:cNvSpPr/>
          <p:nvPr/>
        </p:nvSpPr>
        <p:spPr>
          <a:xfrm>
            <a:off x="2124000" y="2781360"/>
            <a:ext cx="87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搜集关于恐龙的资料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以自由形式组合，制作成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抄报。举办恐龙知识展活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Object 13"/>
          <p:cNvGraphicFramePr/>
          <p:nvPr/>
        </p:nvGraphicFramePr>
        <p:xfrm>
          <a:off x="685800" y="1981080"/>
          <a:ext cx="38098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9" name="Picture 17" descr="05"/>
          <p:cNvPicPr/>
          <p:nvPr/>
        </p:nvPicPr>
        <p:blipFill>
          <a:blip r:embed="rId3"/>
          <a:stretch/>
        </p:blipFill>
        <p:spPr>
          <a:xfrm>
            <a:off x="4572000" y="3573360"/>
            <a:ext cx="4176720" cy="3024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8" descr="07"/>
          <p:cNvPicPr/>
          <p:nvPr/>
        </p:nvPicPr>
        <p:blipFill>
          <a:blip r:embed="rId4"/>
          <a:stretch/>
        </p:blipFill>
        <p:spPr>
          <a:xfrm>
            <a:off x="250920" y="3573360"/>
            <a:ext cx="3889440" cy="3095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9" descr="kl17-1"/>
          <p:cNvPicPr/>
          <p:nvPr/>
        </p:nvPicPr>
        <p:blipFill>
          <a:blip r:embed="rId5"/>
          <a:stretch/>
        </p:blipFill>
        <p:spPr>
          <a:xfrm>
            <a:off x="324000" y="260280"/>
            <a:ext cx="3743280" cy="2989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1" descr="proceratopsias1"/>
          <p:cNvPicPr/>
          <p:nvPr/>
        </p:nvPicPr>
        <p:blipFill>
          <a:blip r:embed="rId6"/>
          <a:stretch/>
        </p:blipFill>
        <p:spPr>
          <a:xfrm>
            <a:off x="4427640" y="260280"/>
            <a:ext cx="4248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838080" y="1143000"/>
            <a:ext cx="7925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中生代时期，恐龙的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支经过漫长的演化，最终变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凌空翱翔的鸟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7488360" y="184464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900000" y="2852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700360" y="2781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●  ●  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324000" y="220500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3203640" y="0"/>
            <a:ext cx="568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资料袋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在我国辽西                                                             地区大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亿年前沉积的岩石当中发现了一种叫做“中华龙鸟”的小型肉食性恐龙化石标本。我国科学家发现，这一恐龙身体上覆盖着一层“毛”状皮肤衍生物。这是历史上第一次在非鸟类的动物身体上发现羽毛，这一发现为“鸟类起源于恐龙的假说”提供了强有力的证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6" descr="tu_05"/>
          <p:cNvPicPr/>
          <p:nvPr/>
        </p:nvPicPr>
        <p:blipFill>
          <a:blip r:embed="rId2"/>
          <a:stretch/>
        </p:blipFill>
        <p:spPr>
          <a:xfrm>
            <a:off x="179280" y="476280"/>
            <a:ext cx="266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79280" y="189000"/>
          <a:ext cx="8785440" cy="5297400"/>
        </p:xfrm>
        <a:graphic>
          <a:graphicData uri="http://schemas.openxmlformats.org/drawingml/2006/table">
            <a:tbl>
              <a:tblPr/>
              <a:tblGrid>
                <a:gridCol w="1152720"/>
                <a:gridCol w="6264360"/>
                <a:gridCol w="1368360"/>
              </a:tblGrid>
              <a:tr h="154944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形态各异的庞大家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它们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作者说明的角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些两足奔跑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生活   习性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些身长几十米，重达数十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有些凶猛异常，茹毛饮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2" name="Text Box 124"/>
          <p:cNvSpPr/>
          <p:nvPr/>
        </p:nvSpPr>
        <p:spPr>
          <a:xfrm>
            <a:off x="1403280" y="22766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些四足行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35"/>
          <p:cNvSpPr/>
          <p:nvPr/>
        </p:nvSpPr>
        <p:spPr>
          <a:xfrm>
            <a:off x="1403280" y="342900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材小巧，体重不足几公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0"/>
          <p:cNvSpPr/>
          <p:nvPr/>
        </p:nvSpPr>
        <p:spPr>
          <a:xfrm>
            <a:off x="7772760" y="32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形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1"/>
          <p:cNvSpPr/>
          <p:nvPr/>
        </p:nvSpPr>
        <p:spPr>
          <a:xfrm>
            <a:off x="1476360" y="4797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些温顺可爱，以植物为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2"/>
          <p:cNvSpPr/>
          <p:nvPr/>
        </p:nvSpPr>
        <p:spPr>
          <a:xfrm>
            <a:off x="7596360" y="44370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性情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43" descr="75KT2046"/>
          <p:cNvPicPr/>
          <p:nvPr/>
        </p:nvPicPr>
        <p:blipFill>
          <a:blip r:embed="rId2"/>
          <a:stretch/>
        </p:blipFill>
        <p:spPr>
          <a:xfrm>
            <a:off x="684360" y="556272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5"/>
          <p:cNvSpPr/>
          <p:nvPr/>
        </p:nvSpPr>
        <p:spPr>
          <a:xfrm>
            <a:off x="0" y="0"/>
            <a:ext cx="95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课文，完成下面的填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身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体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转移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树木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具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最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3492360" y="14842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3564000" y="206064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564000" y="270828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3240" y="-1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1116000" y="1197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逐渐变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14836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长出美丽的羽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1619280" y="191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树上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6156360" y="1844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跳跃、降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1042920" y="2492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滑翔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5292720" y="2492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能够主动飞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0"/>
          <p:cNvSpPr/>
          <p:nvPr/>
        </p:nvSpPr>
        <p:spPr>
          <a:xfrm>
            <a:off x="8494560" y="141300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1"/>
          <p:cNvSpPr/>
          <p:nvPr/>
        </p:nvSpPr>
        <p:spPr>
          <a:xfrm>
            <a:off x="8494560" y="213372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23" descr="图片1"/>
          <p:cNvPicPr/>
          <p:nvPr/>
        </p:nvPicPr>
        <p:blipFill>
          <a:blip r:embed="rId2"/>
          <a:stretch/>
        </p:blipFill>
        <p:spPr>
          <a:xfrm>
            <a:off x="0" y="3301920"/>
            <a:ext cx="9144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990720" y="1295280"/>
            <a:ext cx="69339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，一些猎食性恐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身体逐渐变小，长得也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越像鸟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851280" y="1916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771640" y="2924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838080" y="1143000"/>
            <a:ext cx="87631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们中的一些种类可能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躲避敌害或寻找食物而转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树上生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4356000" y="17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651672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826920" y="765000"/>
            <a:ext cx="69343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树栖的恐龙在树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间跳跃、降落，慢慢具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滑翔能力，并最终能够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飞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5435640" y="24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●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4:41:27Z</dcterms:created>
  <dc:creator>顾键</dc:creator>
  <dc:description/>
  <dc:language>en-US</dc:language>
  <cp:lastModifiedBy>a</cp:lastModifiedBy>
  <dcterms:modified xsi:type="dcterms:W3CDTF">2015-01-22T02:32:04Z</dcterms:modified>
  <cp:revision>21</cp:revision>
  <dc:subject/>
  <dc:title>PowerPoint 演示文稿</dc:title>
</cp:coreProperties>
</file>