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551-2CC1-4209-A913-08BF265C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646-C371-4AFC-9090-B0080EF3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D54F2-53E0-4C6E-B39A-AF59A22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DAA44-46FB-4930-BF6F-D38A64BE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0D6B6-0C0C-44EE-8371-E8EB804B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A7D57-A96C-443A-8A55-62434588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851BC-21FC-4846-B729-20717BE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F10B6-D0B7-4D83-9F34-B0D6A0F0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72130-7423-4161-8733-35629AA6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9B1B2-B525-4165-946B-DF85840F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53086-528A-4575-BB41-E8CBD645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EEC1D-56AE-471F-836E-CC2A642A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55B-B625-4442-87B8-7FD547BE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8533D-7848-4D3A-A9A4-0C92F6AB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4F2D7-7C81-41F8-A82B-02FC11E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1237F-5D67-4B84-81A8-5A921E20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41853-9B30-4519-B893-6213CE6C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EFE31-1CCE-4915-9D63-C8D49B56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B38BA-E8BB-47E6-B481-B5659D65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7AD3E-AF81-4FDB-9C68-71738A0F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12DF3-4631-4367-AA68-59B67768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B74C1-5672-4EC9-A735-B472C323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A5558-5259-4F95-BC17-B562AFC1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0F8-1E82-4A63-AC8D-8649EF26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6E183-E4F6-496A-A5B5-28A621F2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6CD22-1694-4EB2-86FD-C353D4E8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1A0F6-39E0-4B87-8A20-FA09D8BC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2AD92-FF54-4A18-A6DE-C8CB6C1C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D20F5-DCD8-4D3F-A12B-B48B20BC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CE047-44A8-465D-8A76-256F00F8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7AECE-6A74-4606-90F2-B913A480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991CC-AD9A-4DC6-BF45-F58EF40E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8A687-D0C5-4D8A-B6C6-C8B11296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5DD28-F385-4FFC-BCE9-9BA3CE26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190E-61F5-4839-B8E9-D780D826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FDAAB-6F22-40FF-A5E3-422D046E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B87C7-BF9A-4AF0-9F87-9E2A6023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E54E9-F08F-45D8-860F-A2BE4488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63640-90DE-4E7F-B134-237943F3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44492-40EE-487A-8214-F0C6EB1E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9F71B-0D8D-434D-88B9-0E7C54C9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79565-7267-451F-8B16-E338468D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58647-F571-4092-A14D-E7C53B2C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E1E81-FBED-4DCE-B18D-3DC0879D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56D71-5618-40CE-A25B-1DF9FA3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F777-1021-40BB-B994-5A8CB79C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C3A71-7548-4D5D-8A49-83A5C5A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7F4B2-0978-479D-BE45-C1E5476A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0F2F2-759A-432C-B42E-BC0295E5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2703A-8EE2-4D62-90C8-67ED4CA6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82AF3-2BED-4B84-BC8C-D57313FC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C2766-F237-49CE-8239-90A7DAC7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952FC-E6C6-42A9-9D26-58C68E49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942D3-98D1-4AFE-A4CB-2CF0649F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3C407-EB4B-4922-8AB9-F452BA34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D2F0C-2BC7-4D5A-B16E-3C3BFB8C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AA41-A45B-4CD8-BA40-5E9D49C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61FBB-FE9A-4D17-8F22-0FA56C35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BBD8C-1995-43FF-AF83-BD072AF6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42E9F-9E76-4920-8F57-99CD2CA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6FD4C-EEBC-44B6-8366-83B34352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6C5A5-48EB-426E-B691-423B9819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F4E4F-1294-4FAF-88C1-420B2229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54FF0-BD8E-4FBC-A062-95CE7ED7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E5C46-3A0E-4E4D-8DDA-BBCC6C02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806D5-BE46-4E71-BD77-45A76548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A9B72-54DB-46DF-BFF8-C3C07D88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8091-53CA-45B4-B143-EEF73F7D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30477-E96A-4B13-801A-F4B11D3A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8C2B7-F751-477B-8A72-7E7DCDF1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CE959-D19F-498F-89A4-658A4269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FFA13-F192-4832-B5C8-6B3457F1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4B8F6-C7FF-471E-8AB8-5D5F918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E4806-C47C-4C58-9878-D0DA4A3A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2BF27-ADB1-4C1F-BF59-F864C18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1A971-EA3D-48D5-88BB-899B0191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4541C-C5EF-4697-ADCF-E0A88BFA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1ACB-546F-4CAD-99A5-77154F7F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31E8-0BD8-4B5D-8E92-1673BE67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5F19-5200-4E55-B915-9C71B35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AF4-6E64-4110-A087-A2033534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2182-FBF8-4D98-A065-3CC60014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A280-0526-43A9-AA7D-25C63C7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E37B-D410-47A1-8F43-7C2F7ED4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D77E-3E84-40DE-820C-E5E8060E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CAF5-C1D7-4955-B2D7-BDE1CBB4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9CE7-8BAE-4095-9CC3-AD7E84C8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D1B9-CD3B-4B36-B52E-485BE2B9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9DD7-4C50-4957-9626-0845AACF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22E5-0B63-44A9-B00D-4FE59E4E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5B96-B59C-4775-BCFE-6481AE5D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A1B-8949-415C-BEC2-247B0D54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FE86-5B24-4CE4-B5FD-5DB9E7A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F545-8708-4C93-9DBA-4A0D2052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64FA-70CA-4A93-9AC1-815AB1F3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EE82-26F2-49EC-8310-04315D83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10D0-F306-44CE-95A7-11818DAF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AE96-36C8-4669-ABD8-85A36210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1F4F-3E7B-42BA-9CF5-29FC8856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A84D-9D1F-41DD-8035-18283405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B552-77C7-411C-9F1C-227C641E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4213-BB53-4FE2-915A-5C846D50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8E2-1006-48F0-8E9A-BF99CD80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BFBB-F53D-4CE8-9FEA-98D3F1B3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A8D4-4B42-4C2D-A955-053218A6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31E35-4CEE-4765-AC7F-8E310D06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A9BD-86ED-4830-B334-45AA634A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9DB3-A46D-4D4D-BB4F-7388149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E664-9887-4C40-96CF-1236738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B0324-193F-4337-85CA-7D64E567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88CA-0F19-4AE7-862A-598ABE48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440A-3D3D-4D60-BC6C-0F5EDD28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C27E1-2F5C-4965-964A-A5519735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CD4-DE51-462E-8CCD-31229177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ECCC-BA56-486A-946B-C6B9B554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E556-0388-44B4-ADA8-162F0D11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89A46-75DB-4C31-A4B4-5F245282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0D14-444A-4A06-A7B4-A0720B2D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2B9ED-28B9-4CC4-9DF0-F23D86F8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1F598-AE26-4DB8-A448-CB605F6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42D1-7759-491F-A5F2-06374DDF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19CEF-A206-4D2C-9236-578512A1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0D8F-7755-4B2E-9C1F-F9E853B4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C1B9-8C23-4755-B4C9-17DBF14D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E67-EB80-44D6-B332-F57B73D1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2891A-92DE-4480-8250-CF0DC44B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B56F9-08CE-4327-B6B1-7669BD1E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9A7D4-FBA1-43E7-BC4B-B94606AB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9B7D0-F628-4D25-AC61-96658DF4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3D45-CE5D-4F3C-9973-63FC6D8D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D18E4-9A15-4458-B720-9443124C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8E2B4-C627-417B-854F-51A95614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FEE3-9049-42C6-967B-35E8F6A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D3F2A-04F3-470E-AC0C-EE2E5049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EAFED-ABAB-4E36-B8E2-F95F0D08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3AC-6348-4B4A-AFB9-59D0509D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F3465-47EC-4484-803D-1229157C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4F16-6775-45AD-B0C4-DB5B5E6A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7C7B9-1EC7-4EFD-9EBB-7E581080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794C8-D9EF-4599-982D-95490D28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EBA1D-30C7-4CB2-9341-83B9719D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15B8D-5CB8-4102-AABE-37F86F60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E4DA6-F841-41F2-8FBB-EFC13F4C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84D15-45AA-45B4-82DD-2A4CCDB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5FCFF-065F-4CC7-BEA5-3DC85377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DB3AC-D7E8-4D38-8FA0-2A151C9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8F1-D2D3-44F9-B771-E3E0145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2EA7F-AD99-4400-BDE4-0B54556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2F0E6-262F-4075-A439-A73EAE3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C3756-307C-46BD-8D87-8AE235C1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AC902-C23A-4063-A253-79E74117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DBCBF-35D5-4B37-856D-3BE293BD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336A7-BC16-44D0-8A77-73D2D21D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C197C-C2C4-4903-A1CA-A0A1F3E8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B6567-F3FF-4AB4-A49D-EC93C94F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869ED-98C7-4C76-A69F-D947C417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90AEC-CEE4-4E3B-9679-D9C6C569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3DB-3113-40C6-93F7-005B6A9B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1A7A3-3972-4B7C-8A0D-067F63F6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5416B-4945-4FA7-AF37-0B7EC81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35D70-EFD6-4DD9-AF3E-B05C1D3B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1FB1D-90D1-492D-BAD9-90221604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AB054-90FE-4285-8ABF-638B5F7E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875B1-7DD3-470A-90DE-C9F5AEE7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113FD-F2FC-4A20-8F2F-91B3BBFC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802BE-B095-4769-9C42-A36EDEA6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AF4EA-158D-46D3-99AE-C2AB92C7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99CBF-6000-43E9-9F2B-B030C40B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628-5120-41CD-AE89-02606577A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FD4F-38D0-40E6-9442-0DE1246A1A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B16A-79FF-48C4-844B-5D7B8DE95D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3ADD-18F0-4721-990A-8B4FDE2AE4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8AD4-B5FE-49EF-BADB-92569AB547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2240-1D9C-4454-8798-7C4BC3C054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82D4-0D6D-4B70-AB41-6F680E884C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C448-AFBE-4F69-AEB4-BEDA1801B1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DFEE-E61F-48ED-B3A2-8D2C2CACF0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B7D3-2F7E-48BB-A57F-4BC88C519F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34E5-6692-4CB4-A174-4C0D7093D9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5991-6976-4A3A-BEE0-11FE5500A4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534-9708-45B4-9C3F-E68D44AEA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09E9-1C8B-4D45-970F-CC44FF60B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1252-E24D-4758-AAB3-AE101082C2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6B7C-7582-4B96-ABFA-AD51269A38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40A9-A679-4552-B1DA-73630DD8A2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DE1A-5B9B-4B43-B65E-A81F8F5669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A498-D6B0-4907-A091-5B4B7BF65C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3108-3DE8-4AC0-BB43-F973008076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9CA9-8B14-4D3D-8D37-197D03A99B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ABA5-8BDE-457E-B629-2FA358158E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59F-AF6F-406E-B7C4-724C2F3C1C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29CB-DE1A-4B7A-9536-B04B4392AF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C254-BF0D-4BE9-9A1F-6ECD4B2D6A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CCA4-2A7C-41F2-8705-717682C417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700" spc="-1" strike="noStrike">
                <a:solidFill>
                  <a:srgbClr val="003399"/>
                </a:solidFill>
                <a:latin typeface="Arial"/>
                <a:ea typeface="华文新魏"/>
              </a:rPr>
              <a:t>观察物体</a:t>
            </a:r>
            <a:endParaRPr b="0" lang="en-US" sz="1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7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6"/>
          <p:cNvSpPr/>
          <p:nvPr/>
        </p:nvSpPr>
        <p:spPr>
          <a:xfrm>
            <a:off x="4284720" y="36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Arial"/>
              </a:rPr>
              <a:t>盲人摸象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3924360" y="3500280"/>
            <a:ext cx="1224000" cy="107964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87" h="21600">
                <a:moveTo>
                  <a:pt x="0" y="0"/>
                </a:moveTo>
                <a:lnTo>
                  <a:pt x="24487" y="0"/>
                </a:lnTo>
                <a:lnTo>
                  <a:pt x="24487" y="21600"/>
                </a:lnTo>
                <a:lnTo>
                  <a:pt x="0" y="21600"/>
                </a:lnTo>
                <a:close/>
              </a:path>
              <a:path fill="lightenLess" w="24487" h="21600">
                <a:moveTo>
                  <a:pt x="0" y="0"/>
                </a:moveTo>
                <a:lnTo>
                  <a:pt x="24487" y="0"/>
                </a:lnTo>
                <a:lnTo>
                  <a:pt x="23087" y="1400"/>
                </a:lnTo>
                <a:lnTo>
                  <a:pt x="1400" y="1400"/>
                </a:lnTo>
                <a:close/>
              </a:path>
              <a:path fill="darken" w="24487" h="21600">
                <a:moveTo>
                  <a:pt x="24487" y="0"/>
                </a:moveTo>
                <a:lnTo>
                  <a:pt x="24487" y="21600"/>
                </a:lnTo>
                <a:lnTo>
                  <a:pt x="23087" y="20200"/>
                </a:lnTo>
                <a:lnTo>
                  <a:pt x="23087" y="1400"/>
                </a:lnTo>
                <a:close/>
              </a:path>
              <a:path fill="darkenLess" w="24487" h="21600">
                <a:moveTo>
                  <a:pt x="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7" y="20200"/>
                </a:lnTo>
                <a:close/>
              </a:path>
              <a:path fill="lighten" w="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7" h="21600">
                <a:moveTo>
                  <a:pt x="5237" y="3794"/>
                </a:moveTo>
                <a:lnTo>
                  <a:pt x="19250" y="10800"/>
                </a:lnTo>
                <a:lnTo>
                  <a:pt x="5237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先摆一摆，再仔细观察比较这三个物体，看有什么发现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75564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554040" y="29098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133200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1908000" y="27082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35258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1148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471636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AutoShape 9"/>
          <p:cNvSpPr/>
          <p:nvPr/>
        </p:nvSpPr>
        <p:spPr>
          <a:xfrm>
            <a:off x="39132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AutoShape 12"/>
          <p:cNvSpPr/>
          <p:nvPr/>
        </p:nvSpPr>
        <p:spPr>
          <a:xfrm>
            <a:off x="628488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AutoShape 13"/>
          <p:cNvSpPr/>
          <p:nvPr/>
        </p:nvSpPr>
        <p:spPr>
          <a:xfrm>
            <a:off x="68612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AutoShape 14"/>
          <p:cNvSpPr/>
          <p:nvPr/>
        </p:nvSpPr>
        <p:spPr>
          <a:xfrm>
            <a:off x="74376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AutoShape 15"/>
          <p:cNvSpPr/>
          <p:nvPr/>
        </p:nvSpPr>
        <p:spPr>
          <a:xfrm>
            <a:off x="72360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324000" y="260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正面、背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279360" y="2286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两个侧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279360" y="4221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上面、下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94" name="Group 25"/>
          <p:cNvGrpSpPr/>
          <p:nvPr/>
        </p:nvGrpSpPr>
        <p:grpSpPr>
          <a:xfrm>
            <a:off x="2698920" y="1628640"/>
            <a:ext cx="1728720" cy="576360"/>
            <a:chOff x="2698920" y="1628640"/>
            <a:chExt cx="1728720" cy="576360"/>
          </a:xfrm>
        </p:grpSpPr>
        <p:sp>
          <p:nvSpPr>
            <p:cNvPr id="595" name="Rectangle 7"/>
            <p:cNvSpPr/>
            <p:nvPr/>
          </p:nvSpPr>
          <p:spPr>
            <a:xfrm>
              <a:off x="2698920" y="162864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6" name="Rectangle 8"/>
            <p:cNvSpPr/>
            <p:nvPr/>
          </p:nvSpPr>
          <p:spPr>
            <a:xfrm>
              <a:off x="327492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385128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98" name="Group 26"/>
          <p:cNvGrpSpPr/>
          <p:nvPr/>
        </p:nvGrpSpPr>
        <p:grpSpPr>
          <a:xfrm>
            <a:off x="2700360" y="3573360"/>
            <a:ext cx="1152360" cy="576360"/>
            <a:chOff x="2700360" y="3573360"/>
            <a:chExt cx="1152360" cy="576360"/>
          </a:xfrm>
        </p:grpSpPr>
        <p:sp>
          <p:nvSpPr>
            <p:cNvPr id="599" name="Rectangle 10"/>
            <p:cNvSpPr/>
            <p:nvPr/>
          </p:nvSpPr>
          <p:spPr>
            <a:xfrm>
              <a:off x="2700360" y="3573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Rectangle 11"/>
            <p:cNvSpPr/>
            <p:nvPr/>
          </p:nvSpPr>
          <p:spPr>
            <a:xfrm>
              <a:off x="3276720" y="3573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01" name="Group 27"/>
          <p:cNvGrpSpPr/>
          <p:nvPr/>
        </p:nvGrpSpPr>
        <p:grpSpPr>
          <a:xfrm>
            <a:off x="900000" y="5157720"/>
            <a:ext cx="1727280" cy="1152720"/>
            <a:chOff x="900000" y="5157720"/>
            <a:chExt cx="1727280" cy="1152720"/>
          </a:xfrm>
        </p:grpSpPr>
        <p:sp>
          <p:nvSpPr>
            <p:cNvPr id="602" name="Rectangle 13"/>
            <p:cNvSpPr/>
            <p:nvPr/>
          </p:nvSpPr>
          <p:spPr>
            <a:xfrm>
              <a:off x="900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Rectangle 14"/>
            <p:cNvSpPr/>
            <p:nvPr/>
          </p:nvSpPr>
          <p:spPr>
            <a:xfrm>
              <a:off x="147636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Rectangle 15"/>
            <p:cNvSpPr/>
            <p:nvPr/>
          </p:nvSpPr>
          <p:spPr>
            <a:xfrm>
              <a:off x="20509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Rectangle 16"/>
            <p:cNvSpPr/>
            <p:nvPr/>
          </p:nvSpPr>
          <p:spPr>
            <a:xfrm>
              <a:off x="900000" y="5734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06" name="Group 28"/>
          <p:cNvGrpSpPr/>
          <p:nvPr/>
        </p:nvGrpSpPr>
        <p:grpSpPr>
          <a:xfrm>
            <a:off x="3421080" y="5157720"/>
            <a:ext cx="1727280" cy="1152720"/>
            <a:chOff x="3421080" y="5157720"/>
            <a:chExt cx="1727280" cy="1152720"/>
          </a:xfrm>
        </p:grpSpPr>
        <p:sp>
          <p:nvSpPr>
            <p:cNvPr id="607" name="Rectangle 17"/>
            <p:cNvSpPr/>
            <p:nvPr/>
          </p:nvSpPr>
          <p:spPr>
            <a:xfrm>
              <a:off x="342108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Rectangle 18"/>
            <p:cNvSpPr/>
            <p:nvPr/>
          </p:nvSpPr>
          <p:spPr>
            <a:xfrm>
              <a:off x="399744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Rectangle 19"/>
            <p:cNvSpPr/>
            <p:nvPr/>
          </p:nvSpPr>
          <p:spPr>
            <a:xfrm>
              <a:off x="4572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Rectangle 20"/>
            <p:cNvSpPr/>
            <p:nvPr/>
          </p:nvSpPr>
          <p:spPr>
            <a:xfrm>
              <a:off x="3995640" y="5734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11" name="Group 29"/>
          <p:cNvGrpSpPr/>
          <p:nvPr/>
        </p:nvGrpSpPr>
        <p:grpSpPr>
          <a:xfrm>
            <a:off x="6373800" y="5157720"/>
            <a:ext cx="1727280" cy="1152720"/>
            <a:chOff x="6373800" y="5157720"/>
            <a:chExt cx="1727280" cy="1152720"/>
          </a:xfrm>
        </p:grpSpPr>
        <p:sp>
          <p:nvSpPr>
            <p:cNvPr id="612" name="Rectangle 21"/>
            <p:cNvSpPr/>
            <p:nvPr/>
          </p:nvSpPr>
          <p:spPr>
            <a:xfrm>
              <a:off x="63738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Rectangle 22"/>
            <p:cNvSpPr/>
            <p:nvPr/>
          </p:nvSpPr>
          <p:spPr>
            <a:xfrm>
              <a:off x="695016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Rectangle 23"/>
            <p:cNvSpPr/>
            <p:nvPr/>
          </p:nvSpPr>
          <p:spPr>
            <a:xfrm>
              <a:off x="75247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Rectangle 24"/>
            <p:cNvSpPr/>
            <p:nvPr/>
          </p:nvSpPr>
          <p:spPr>
            <a:xfrm>
              <a:off x="7524720" y="5734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把刚才的那三个物体变一变，使它们变成下图这样的三个物体吗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74304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743040" y="2637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133200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1908000" y="32259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AutoShape 7"/>
          <p:cNvSpPr/>
          <p:nvPr/>
        </p:nvSpPr>
        <p:spPr>
          <a:xfrm>
            <a:off x="350676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AutoShape 8"/>
          <p:cNvSpPr/>
          <p:nvPr/>
        </p:nvSpPr>
        <p:spPr>
          <a:xfrm>
            <a:off x="409428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AutoShape 9"/>
          <p:cNvSpPr/>
          <p:nvPr/>
        </p:nvSpPr>
        <p:spPr>
          <a:xfrm>
            <a:off x="468144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AutoShape 10"/>
          <p:cNvSpPr/>
          <p:nvPr/>
        </p:nvSpPr>
        <p:spPr>
          <a:xfrm>
            <a:off x="4095720" y="26496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628488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AutoShape 12"/>
          <p:cNvSpPr/>
          <p:nvPr/>
        </p:nvSpPr>
        <p:spPr>
          <a:xfrm>
            <a:off x="686124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7" name="AutoShape 13"/>
          <p:cNvSpPr/>
          <p:nvPr/>
        </p:nvSpPr>
        <p:spPr>
          <a:xfrm>
            <a:off x="743760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14"/>
          <p:cNvSpPr/>
          <p:nvPr/>
        </p:nvSpPr>
        <p:spPr>
          <a:xfrm>
            <a:off x="7439040" y="26496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755640" y="344160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Rectangle 16"/>
          <p:cNvSpPr/>
          <p:nvPr/>
        </p:nvSpPr>
        <p:spPr>
          <a:xfrm>
            <a:off x="324000" y="4437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哪面看这三个物体，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完全相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？从哪面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呢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摆一摆，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AutoShape 4"/>
          <p:cNvSpPr/>
          <p:nvPr/>
        </p:nvSpPr>
        <p:spPr>
          <a:xfrm>
            <a:off x="743040" y="3429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743040" y="284004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4" name="AutoShape 6"/>
          <p:cNvSpPr/>
          <p:nvPr/>
        </p:nvSpPr>
        <p:spPr>
          <a:xfrm>
            <a:off x="1346040" y="34290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AutoShape 7"/>
          <p:cNvSpPr/>
          <p:nvPr/>
        </p:nvSpPr>
        <p:spPr>
          <a:xfrm>
            <a:off x="741240" y="224964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755640" y="3645000"/>
            <a:ext cx="576360" cy="576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179280" y="1628640"/>
            <a:ext cx="2664000" cy="3240360"/>
          </a:xfrm>
          <a:prstGeom prst="rect">
            <a:avLst/>
          </a:prstGeom>
          <a:noFill/>
          <a:ln w="3816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38" name="Group 10"/>
          <p:cNvGrpSpPr/>
          <p:nvPr/>
        </p:nvGrpSpPr>
        <p:grpSpPr>
          <a:xfrm>
            <a:off x="7812000" y="2133720"/>
            <a:ext cx="576360" cy="1728720"/>
            <a:chOff x="7812000" y="2133720"/>
            <a:chExt cx="576360" cy="1728720"/>
          </a:xfrm>
        </p:grpSpPr>
        <p:sp>
          <p:nvSpPr>
            <p:cNvPr id="639" name="Rectangle 11"/>
            <p:cNvSpPr/>
            <p:nvPr/>
          </p:nvSpPr>
          <p:spPr>
            <a:xfrm rot="16200000">
              <a:off x="7812000" y="328608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0" name="Rectangle 12"/>
            <p:cNvSpPr/>
            <p:nvPr/>
          </p:nvSpPr>
          <p:spPr>
            <a:xfrm rot="16200000">
              <a:off x="7812000" y="2710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1" name="Rectangle 13"/>
            <p:cNvSpPr/>
            <p:nvPr/>
          </p:nvSpPr>
          <p:spPr>
            <a:xfrm rot="16200000">
              <a:off x="7812000" y="2133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42" name="Group 14"/>
          <p:cNvGrpSpPr/>
          <p:nvPr/>
        </p:nvGrpSpPr>
        <p:grpSpPr>
          <a:xfrm>
            <a:off x="3419640" y="3141720"/>
            <a:ext cx="1152360" cy="576360"/>
            <a:chOff x="3419640" y="3141720"/>
            <a:chExt cx="1152360" cy="576360"/>
          </a:xfrm>
        </p:grpSpPr>
        <p:sp>
          <p:nvSpPr>
            <p:cNvPr id="643" name="Rectangle 15"/>
            <p:cNvSpPr/>
            <p:nvPr/>
          </p:nvSpPr>
          <p:spPr>
            <a:xfrm>
              <a:off x="3419640" y="3141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4" name="Rectangle 16"/>
            <p:cNvSpPr/>
            <p:nvPr/>
          </p:nvSpPr>
          <p:spPr>
            <a:xfrm>
              <a:off x="3996000" y="3141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45" name="Group 17"/>
          <p:cNvGrpSpPr/>
          <p:nvPr/>
        </p:nvGrpSpPr>
        <p:grpSpPr>
          <a:xfrm>
            <a:off x="5651640" y="2133720"/>
            <a:ext cx="1152000" cy="1726560"/>
            <a:chOff x="5651640" y="2133720"/>
            <a:chExt cx="1152000" cy="1726560"/>
          </a:xfrm>
        </p:grpSpPr>
        <p:sp>
          <p:nvSpPr>
            <p:cNvPr id="646" name="Rectangle 18"/>
            <p:cNvSpPr/>
            <p:nvPr/>
          </p:nvSpPr>
          <p:spPr>
            <a:xfrm rot="16200000">
              <a:off x="5651640" y="328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7" name="Rectangle 19"/>
            <p:cNvSpPr/>
            <p:nvPr/>
          </p:nvSpPr>
          <p:spPr>
            <a:xfrm rot="16200000">
              <a:off x="5651640" y="2708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8" name="Rectangle 20"/>
            <p:cNvSpPr/>
            <p:nvPr/>
          </p:nvSpPr>
          <p:spPr>
            <a:xfrm rot="16200000">
              <a:off x="5651640" y="213372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9" name="Rectangle 21"/>
            <p:cNvSpPr/>
            <p:nvPr/>
          </p:nvSpPr>
          <p:spPr>
            <a:xfrm rot="16200000">
              <a:off x="6227640" y="328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0" name="Rectangle 22"/>
          <p:cNvSpPr/>
          <p:nvPr/>
        </p:nvSpPr>
        <p:spPr>
          <a:xfrm>
            <a:off x="2846520" y="4013280"/>
            <a:ext cx="266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上面或下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1" name="Rectangle 23"/>
          <p:cNvSpPr/>
          <p:nvPr/>
        </p:nvSpPr>
        <p:spPr>
          <a:xfrm>
            <a:off x="565164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正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2" name="Rectangle 24"/>
          <p:cNvSpPr/>
          <p:nvPr/>
        </p:nvSpPr>
        <p:spPr>
          <a:xfrm>
            <a:off x="759636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侧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0"/>
          <p:cNvSpPr/>
          <p:nvPr/>
        </p:nvSpPr>
        <p:spPr>
          <a:xfrm>
            <a:off x="40654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4" name="AutoShape 18"/>
          <p:cNvSpPr/>
          <p:nvPr/>
        </p:nvSpPr>
        <p:spPr>
          <a:xfrm>
            <a:off x="385596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5" name="AutoShape 19"/>
          <p:cNvSpPr/>
          <p:nvPr/>
        </p:nvSpPr>
        <p:spPr>
          <a:xfrm>
            <a:off x="46432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6" name="AutoShape 21"/>
          <p:cNvSpPr/>
          <p:nvPr/>
        </p:nvSpPr>
        <p:spPr>
          <a:xfrm>
            <a:off x="445608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324000" y="4581000"/>
            <a:ext cx="8540640" cy="10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正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侧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25092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3492360" y="5805360"/>
            <a:ext cx="1728720" cy="576360"/>
            <a:chOff x="3492360" y="5805360"/>
            <a:chExt cx="1728720" cy="576360"/>
          </a:xfrm>
        </p:grpSpPr>
        <p:sp>
          <p:nvSpPr>
            <p:cNvPr id="660" name="Rectangle 6"/>
            <p:cNvSpPr/>
            <p:nvPr/>
          </p:nvSpPr>
          <p:spPr>
            <a:xfrm>
              <a:off x="3492360" y="5805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1" name="Rectangle 7"/>
            <p:cNvSpPr/>
            <p:nvPr/>
          </p:nvSpPr>
          <p:spPr>
            <a:xfrm>
              <a:off x="406836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2" name="Rectangle 8"/>
            <p:cNvSpPr/>
            <p:nvPr/>
          </p:nvSpPr>
          <p:spPr>
            <a:xfrm>
              <a:off x="464472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63" name="Group 9"/>
          <p:cNvGrpSpPr/>
          <p:nvPr/>
        </p:nvGrpSpPr>
        <p:grpSpPr>
          <a:xfrm>
            <a:off x="3780000" y="4508640"/>
            <a:ext cx="1152360" cy="576000"/>
            <a:chOff x="3780000" y="4508640"/>
            <a:chExt cx="1152360" cy="576000"/>
          </a:xfrm>
        </p:grpSpPr>
        <p:sp>
          <p:nvSpPr>
            <p:cNvPr id="664" name="Rectangle 10"/>
            <p:cNvSpPr/>
            <p:nvPr/>
          </p:nvSpPr>
          <p:spPr>
            <a:xfrm>
              <a:off x="3780000" y="450864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5" name="Rectangle 11"/>
            <p:cNvSpPr/>
            <p:nvPr/>
          </p:nvSpPr>
          <p:spPr>
            <a:xfrm>
              <a:off x="4356360" y="450864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66" name="AutoShape 12"/>
          <p:cNvSpPr/>
          <p:nvPr/>
        </p:nvSpPr>
        <p:spPr>
          <a:xfrm>
            <a:off x="1374840" y="9936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7" name="AutoShape 13"/>
          <p:cNvSpPr/>
          <p:nvPr/>
        </p:nvSpPr>
        <p:spPr>
          <a:xfrm>
            <a:off x="1187280" y="1195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8" name="AutoShape 14"/>
          <p:cNvSpPr/>
          <p:nvPr/>
        </p:nvSpPr>
        <p:spPr>
          <a:xfrm>
            <a:off x="1762200" y="11955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1560600" y="13971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0" name="Rectangle 16"/>
          <p:cNvSpPr/>
          <p:nvPr/>
        </p:nvSpPr>
        <p:spPr>
          <a:xfrm>
            <a:off x="0" y="47628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1" name="Rectangle 17"/>
          <p:cNvSpPr/>
          <p:nvPr/>
        </p:nvSpPr>
        <p:spPr>
          <a:xfrm>
            <a:off x="2987640" y="54756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6156360" y="6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3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AutoShape 23"/>
          <p:cNvSpPr/>
          <p:nvPr/>
        </p:nvSpPr>
        <p:spPr>
          <a:xfrm>
            <a:off x="658800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AutoShape 24"/>
          <p:cNvSpPr/>
          <p:nvPr/>
        </p:nvSpPr>
        <p:spPr>
          <a:xfrm>
            <a:off x="716436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AutoShape 25"/>
          <p:cNvSpPr/>
          <p:nvPr/>
        </p:nvSpPr>
        <p:spPr>
          <a:xfrm>
            <a:off x="7740720" y="13539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AutoShape 26"/>
          <p:cNvSpPr/>
          <p:nvPr/>
        </p:nvSpPr>
        <p:spPr>
          <a:xfrm>
            <a:off x="7742160" y="763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AutoShape 27"/>
          <p:cNvSpPr/>
          <p:nvPr/>
        </p:nvSpPr>
        <p:spPr>
          <a:xfrm>
            <a:off x="1305000" y="3527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8" name="AutoShape 28"/>
          <p:cNvSpPr/>
          <p:nvPr/>
        </p:nvSpPr>
        <p:spPr>
          <a:xfrm>
            <a:off x="1305000" y="293832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AutoShape 29"/>
          <p:cNvSpPr/>
          <p:nvPr/>
        </p:nvSpPr>
        <p:spPr>
          <a:xfrm>
            <a:off x="1908000" y="35272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AutoShape 30"/>
          <p:cNvSpPr/>
          <p:nvPr/>
        </p:nvSpPr>
        <p:spPr>
          <a:xfrm>
            <a:off x="1303200" y="234792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1317600" y="374328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0" y="2276640"/>
            <a:ext cx="900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4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2987640" y="23479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6156360" y="24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6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5" name="AutoShape 35"/>
          <p:cNvSpPr/>
          <p:nvPr/>
        </p:nvSpPr>
        <p:spPr>
          <a:xfrm flipH="1">
            <a:off x="7408080" y="32986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6" name="AutoShape 36"/>
          <p:cNvSpPr/>
          <p:nvPr/>
        </p:nvSpPr>
        <p:spPr>
          <a:xfrm flipH="1">
            <a:off x="7596360" y="3500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AutoShape 37"/>
          <p:cNvSpPr/>
          <p:nvPr/>
        </p:nvSpPr>
        <p:spPr>
          <a:xfrm flipH="1">
            <a:off x="7393680" y="26938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AutoShape 38"/>
          <p:cNvSpPr/>
          <p:nvPr/>
        </p:nvSpPr>
        <p:spPr>
          <a:xfrm flipH="1">
            <a:off x="6818400" y="32986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9" name="AutoShape 40"/>
          <p:cNvSpPr/>
          <p:nvPr/>
        </p:nvSpPr>
        <p:spPr>
          <a:xfrm>
            <a:off x="4140360" y="29955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0" name="AutoShape 41"/>
          <p:cNvSpPr/>
          <p:nvPr/>
        </p:nvSpPr>
        <p:spPr>
          <a:xfrm>
            <a:off x="3938760" y="31971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1" name="AutoShape 42"/>
          <p:cNvSpPr/>
          <p:nvPr/>
        </p:nvSpPr>
        <p:spPr>
          <a:xfrm>
            <a:off x="4716360" y="2995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2" name="AutoShape 43"/>
          <p:cNvSpPr/>
          <p:nvPr/>
        </p:nvSpPr>
        <p:spPr>
          <a:xfrm>
            <a:off x="3736800" y="3400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3" name="Rectangle 44"/>
          <p:cNvSpPr/>
          <p:nvPr/>
        </p:nvSpPr>
        <p:spPr>
          <a:xfrm>
            <a:off x="1619280" y="51577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4" name="Rectangle 47"/>
          <p:cNvSpPr/>
          <p:nvPr/>
        </p:nvSpPr>
        <p:spPr>
          <a:xfrm>
            <a:off x="2554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5" name="Rectangle 48"/>
          <p:cNvSpPr/>
          <p:nvPr/>
        </p:nvSpPr>
        <p:spPr>
          <a:xfrm>
            <a:off x="3562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6" name="Rectangle 49"/>
          <p:cNvSpPr/>
          <p:nvPr/>
        </p:nvSpPr>
        <p:spPr>
          <a:xfrm>
            <a:off x="1620720" y="636264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7" name="Rectangle 50"/>
          <p:cNvSpPr/>
          <p:nvPr/>
        </p:nvSpPr>
        <p:spPr>
          <a:xfrm>
            <a:off x="2592360" y="636264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用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小正方体按要求摆一摆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08000" y="1976040"/>
            <a:ext cx="854064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130320" y="2852640"/>
            <a:ext cx="85406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108000" y="4797360"/>
            <a:ext cx="9036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          ，从侧面看        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130320" y="3743280"/>
            <a:ext cx="8540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03" name="Group 7"/>
          <p:cNvGrpSpPr/>
          <p:nvPr/>
        </p:nvGrpSpPr>
        <p:grpSpPr>
          <a:xfrm>
            <a:off x="3490920" y="3789360"/>
            <a:ext cx="1728720" cy="576360"/>
            <a:chOff x="3490920" y="3789360"/>
            <a:chExt cx="1728720" cy="576360"/>
          </a:xfrm>
        </p:grpSpPr>
        <p:sp>
          <p:nvSpPr>
            <p:cNvPr id="704" name="Rectangle 8"/>
            <p:cNvSpPr/>
            <p:nvPr/>
          </p:nvSpPr>
          <p:spPr>
            <a:xfrm>
              <a:off x="3490920" y="3789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406692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464328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07" name="Group 11"/>
          <p:cNvGrpSpPr/>
          <p:nvPr/>
        </p:nvGrpSpPr>
        <p:grpSpPr>
          <a:xfrm>
            <a:off x="3492360" y="2924280"/>
            <a:ext cx="1152360" cy="576000"/>
            <a:chOff x="3492360" y="2924280"/>
            <a:chExt cx="1152360" cy="576000"/>
          </a:xfrm>
        </p:grpSpPr>
        <p:sp>
          <p:nvSpPr>
            <p:cNvPr id="708" name="Rectangle 12"/>
            <p:cNvSpPr/>
            <p:nvPr/>
          </p:nvSpPr>
          <p:spPr>
            <a:xfrm>
              <a:off x="3492360" y="29242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4068720" y="292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0" name="Rectangle 15"/>
          <p:cNvSpPr/>
          <p:nvPr/>
        </p:nvSpPr>
        <p:spPr>
          <a:xfrm>
            <a:off x="3490920" y="206064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11" name="Group 17"/>
          <p:cNvGrpSpPr/>
          <p:nvPr/>
        </p:nvGrpSpPr>
        <p:grpSpPr>
          <a:xfrm>
            <a:off x="7308720" y="4365720"/>
            <a:ext cx="576360" cy="1728720"/>
            <a:chOff x="7308720" y="4365720"/>
            <a:chExt cx="576360" cy="1728720"/>
          </a:xfrm>
        </p:grpSpPr>
        <p:sp>
          <p:nvSpPr>
            <p:cNvPr id="712" name="Rectangle 18"/>
            <p:cNvSpPr/>
            <p:nvPr/>
          </p:nvSpPr>
          <p:spPr>
            <a:xfrm rot="16200000">
              <a:off x="7308720" y="551808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3" name="Rectangle 19"/>
            <p:cNvSpPr/>
            <p:nvPr/>
          </p:nvSpPr>
          <p:spPr>
            <a:xfrm rot="16200000">
              <a:off x="7308720" y="4942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4" name="Rectangle 20"/>
            <p:cNvSpPr/>
            <p:nvPr/>
          </p:nvSpPr>
          <p:spPr>
            <a:xfrm rot="16200000">
              <a:off x="7308720" y="4365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15" name="Group 21"/>
          <p:cNvGrpSpPr/>
          <p:nvPr/>
        </p:nvGrpSpPr>
        <p:grpSpPr>
          <a:xfrm>
            <a:off x="3203640" y="4869000"/>
            <a:ext cx="1152360" cy="576000"/>
            <a:chOff x="3203640" y="4869000"/>
            <a:chExt cx="1152360" cy="576000"/>
          </a:xfrm>
        </p:grpSpPr>
        <p:sp>
          <p:nvSpPr>
            <p:cNvPr id="716" name="Rectangle 22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7" name="Rectangle 23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老师寄语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我们要善于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角度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观察事物，了解事物，不要像摸象的盲人一样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以偏概全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30:37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09T03:00:14Z</dcterms:modified>
  <cp:revision>52</cp:revision>
  <dc:subject>第一PPT模板网-WWW.1PPT.COM</dc:subject>
  <dc:title>第一PPT模板网-WWW.1PPT.COM</dc:title>
</cp:coreProperties>
</file>