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EA1F-548D-41BC-8B18-EC6D946C66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D211-759A-4135-B749-FBF0B6EEBC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5C8-1AC3-4E2D-A2B0-2DEBFB8D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530-7143-4499-820D-BD7D539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3CF88-F331-4A7B-AAB9-606414DD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7237E-73C9-4E5E-9EF0-BA950E2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6BE8F-5A9F-4A3C-B68C-8E193355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DFE78-5CF1-4F9B-AAAC-77A07124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95299-1252-4BE8-B7AB-9FF92CC0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2DAC5-DC4F-47BC-B67C-EA5D22E8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F0A88-39CF-4919-83E7-892A514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3F1E-92E7-45B6-A775-6F3D60E7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87CA8-79BA-46DA-B8A2-85A695D3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3DE89-6796-4DC8-8582-F241585E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584-1469-4308-8681-1B2E1500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DCC52-748B-4271-BF69-924C2F3D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4C04E-F961-4AD4-BAD7-9D03FD2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6D76F-92DE-4682-831C-F092C44E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64B94-F058-4196-AB75-DA13355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6BCAA-25DD-4087-AF37-FFC3FE13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67899-EC0B-4631-9B84-C48DEB34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5D8EA-05E0-4481-AF69-96724C3A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0075E-4678-43F8-9617-3847985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0638E-931F-473E-8868-D649EAD3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BECE0-360A-45BA-ADC6-A003DA6A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7C6-41B2-4074-9577-A43725EC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85850-C6BA-41AA-A9CE-C17648BC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ED92E-690D-4FBB-A1F8-FF5DA2C7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46A0C-752B-476E-AED1-6466135D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5BC87-95B6-45A0-9CB2-415FC388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53ABF-BA28-46E0-BEC5-7F02DDE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0D873-672D-4F16-A1AB-0C7EEE96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A8F37-B6D8-4C04-80AB-49776746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ED5F3-A649-41B1-9416-2AC7C54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D93CA-6AC6-4F5A-B88A-5A9E40B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9264B-C392-4407-8AAD-C45C1F00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53E3-ADE5-4C53-BB5C-8163CBA5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B1E78-8ED7-40B2-A346-44F7A000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AAA1-AA29-4089-9B2D-F1D3E960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8B0B9-F018-46CF-9B9C-8FE4A498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7ABDE-1A31-4021-86C1-C197C817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56438-823D-4D7C-A2CF-B7FB9588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00F9D-B1D1-4F1B-8BED-1E3069A7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66A77-7005-44A1-9DF5-AFA8707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C0D68-8CC4-4E23-8802-0E6979D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CB78E-C032-4CC0-B912-9A74E0AF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07EFE-167C-4FEF-99F5-82B82853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43B6-684D-411B-98C9-C914CFC6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2F589-027E-4EE2-9EEE-2A028C0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26D8C-9479-4D08-9910-46FE5B7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91FA0-3366-43B9-8D79-C05DA7B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6FFFD-B383-4014-91D9-52FDAEE8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A25DB-E073-41C0-90DB-7A666778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4709C-CF18-4B7A-B3AA-6C644388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CFF9B-309C-4EF8-81A2-C27E92D5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F271B-60DE-43A2-9C62-76A9F87C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ACBCF-F4A0-4A2B-B634-D1AA12E9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38788-BECA-4F3C-A7EB-C13422E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0FA-3F1D-4F87-9D5B-EB5565E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03078-D850-4223-BD9D-56EEF8F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ECD84-6332-444F-93C5-51F85683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395BE-F093-4AF4-BC05-0E309A8C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B9B3A-9862-40B2-B941-0A7FFAF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4E51A-A20B-4218-84A4-8749130A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E843D-6D1C-4430-8BAF-276A47C4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488A9-8425-41F5-B27C-DAA27167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8160-68B9-4024-8F17-E1367206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649B-6416-4C5E-A25C-F9191E0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57B5-CC77-45F9-82A4-6C4EF18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FBAF-9CA1-4FF8-B197-61E7D8B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644-6A3C-4B03-965D-77443DA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AD70-162F-4654-8069-2281ADC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6ADF-1B8F-420E-92F5-DA87B621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35A8-12FA-4F59-8E42-09FAB7F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958-F975-466E-B88B-AE2F5E44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6B06-A91F-446D-A09B-8AAB49CD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DC22-B6AA-43A1-B5E9-7C7AD177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6CC7-34EE-4715-8A72-1EF5909A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4E78-907B-4398-9AF6-17346709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F0AC-9052-4BB8-9BA3-7D92824E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80F0-2AAD-4B05-838B-A6551C1B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275-64E1-4005-BCF0-AEC8F712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9E3A-C705-4831-A810-8E085257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72A4-99A7-40AE-8886-9DF2CA5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D120-1D54-4C9A-A9DA-176561D2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C67A-2F3A-4536-B50C-F88E5456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54D9-67C8-4C0A-AA53-60FFB988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76E9-507D-44B5-9B33-58A27B32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0D6B-7745-446C-B399-CE333419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0562-1C59-4671-81AC-D0B737D8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577D-0861-47BC-A408-2AE26415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44C5-81E4-460F-88D6-994FD3C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366-E792-48E2-AF36-3B67F044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E178-8707-449B-9A5B-4C1A56B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914A-C41C-429B-B3AA-157FD033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B54B-ABF9-4745-881E-FDE7BFF3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10C3-4A22-4415-9B0E-7F67A7F3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2DA7-D6B3-4A66-BD35-300B454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E1575-F8F2-4005-89F1-559BA3C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3C83-F1A9-483B-89F8-0D9FDFC9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DB3F-D034-433C-A1E8-D0E63DCE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E1C5-5294-4307-AAA3-6BFF66CD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FBB9-7D5E-4EA0-B42F-21F48F9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C3E-54BC-428B-ABC8-4E9CD3FF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9EF7-B8EE-4105-B4AF-7985FB8C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68C8-3229-42C2-AF0A-19297BE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C051-64F8-4FAA-8322-D082B3D7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CA9B-C9F1-4B5B-8880-B7E04717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2B98-54C6-4123-B759-7EC3D2B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4B20-1EC7-450F-B9BB-D26E9E0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A333-401A-47E3-A668-6FE28A8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DE369-3F3B-4DCC-A6AF-346035FE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A7FE-EEC9-41F5-A44C-ADCB2C98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3836-FDB0-4DE2-B9D2-73CFE707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732-E626-46BD-978E-1E2106D4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54A35-EB8C-4535-932E-162254A1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F511-B803-47EE-B6FD-7BE92822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93365-2257-4AF7-A64F-00A264E5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9B62-F421-4824-BFEE-D143676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DE65-6A63-47CD-9AA7-7153FF8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78D10-873C-4672-B19F-41AD0CA2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5C83-3507-4739-B9E7-E8430A29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B1DB-7880-4880-B243-7A3F06C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B2FD-F042-4D7E-A065-F3C6174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8258-9DF9-47CC-801E-155D0A9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D96-33E0-4AF2-BBAC-6F131FA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4BD1-CAB7-4BA9-9ECC-916F065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A0BB-56A1-4DA6-817E-3F1BEED9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7A0B-CF3D-4581-A100-4E0F91D1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99A1B-A48C-4440-BDD1-D614A874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BD435-3C07-499E-B712-44025AC1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1D7B3-4925-4079-A773-CA60A910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F48B-851C-48A2-AC08-2E529A8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5432-8EF2-4B81-A779-B5966F25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64821-0A35-442D-88E5-0A0E5036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07C6-8D5E-40AF-BA0C-3402CC75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E28-80E7-48EE-B7B7-6FF1DB9E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0F23A-F549-4E0C-A4A5-DF161BB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51AC-C318-4F5B-9CA0-B558C86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3163-A44B-458B-A182-3D00F460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479B7-1627-440B-8BF8-2D78B533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F52D3-E203-4F1D-8326-72DC1D06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0DC5-B293-420C-A89F-3BC3CBDE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BC4D-8819-4FF9-AD6B-1F02F798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5E50-A35F-410B-B9AC-BBEFEFBC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E68F0-AAF4-468F-90DE-3D939181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9AF24-55E7-4DD6-9E42-3CAEA77D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448-59FB-4FB8-8841-D3933F9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BD28-BD4B-49A2-9E47-1015CA97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C6E7-5AA6-409F-86F0-A4D287F1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8DB5E-23EC-4E04-9E24-81BA6E1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952AD-55EB-4954-89DE-F8688FF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369CD-5974-41BB-B88A-AFFBE8B2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035E0-1DE2-4930-9A30-01DA9F83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291D-9F6E-48E6-9CB7-971E001F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C85E0-2D60-4433-8F83-157F1755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82AB5-D8AF-4B64-BE8B-7B80C94B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8A1A3-5D8B-4296-8A4B-86149D99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D412-7E79-4E3A-B6E6-BBDC7F45D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46A9-9DC0-41CA-BA14-E8D6EFD9705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6C4A-AAF0-4E41-A9F3-829FED40CCF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135F-755B-433D-97B6-2A2391FBFCF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98BB-8D3E-405F-979C-C97124D5968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3F5-E235-4434-9FD4-A550EEB8310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0FBF-22A4-42DB-9634-D27F4F5EE26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A9D-ED42-4F8C-BE25-6F56FAECE37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787-E03C-4CA0-9CDD-4C84364E2FF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A09D-79A5-4C49-8B37-C1B587A91FB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3B92-4797-4F77-8280-1ACE29593F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9729-47AC-4E4A-8EB4-8F83013151D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706C-720E-44B2-A792-AECA0AF6743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E733-EEB3-4FD7-B986-FD19E342A61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E3A5-F0EB-4C7F-9D8D-80E860AAB09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3B78-8B5F-4821-807B-4FD2671C13A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AFB0-D195-464D-A35A-767A4DF2F0D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FD47-DEA4-4FF4-BCE0-D9B4CC695F5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DFF0-7D2F-4E42-995A-C99A79BF476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6CB-2009-414C-AE73-DEA6A2E6EC6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895-299B-4B6E-B9C1-4D9C821F2A0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C146-953B-44B1-B1E8-9FB34CAA264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2A4-86A7-46D3-B8D3-16E0CCB8C30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FDC0-BF6B-4979-B825-14F0E1190C8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465-456F-4BCE-969F-0E850BAE361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7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" Target="slide4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052"/>
          <p:cNvSpPr/>
          <p:nvPr/>
        </p:nvSpPr>
        <p:spPr>
          <a:xfrm>
            <a:off x="5715000" y="137160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41" name="Picture 2053" descr="D:\董\地坛公园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2054"/>
          <p:cNvSpPr/>
          <p:nvPr/>
        </p:nvSpPr>
        <p:spPr>
          <a:xfrm>
            <a:off x="236232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3" name="Text Box 2055"/>
          <p:cNvSpPr/>
          <p:nvPr/>
        </p:nvSpPr>
        <p:spPr>
          <a:xfrm>
            <a:off x="3171600" y="12193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故都的秋</a:t>
            </a:r>
            <a:endParaRPr b="1" lang="en-US" sz="7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4" name="Text Box 2057"/>
          <p:cNvSpPr/>
          <p:nvPr/>
        </p:nvSpPr>
        <p:spPr>
          <a:xfrm>
            <a:off x="4680360" y="2590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郁达夫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6"/>
          <p:cNvGrpSpPr/>
          <p:nvPr/>
        </p:nvGrpSpPr>
        <p:grpSpPr>
          <a:xfrm>
            <a:off x="4495680" y="0"/>
            <a:ext cx="4647960" cy="6858000"/>
            <a:chOff x="4495680" y="0"/>
            <a:chExt cx="4647960" cy="6858000"/>
          </a:xfrm>
        </p:grpSpPr>
        <p:pic>
          <p:nvPicPr>
            <p:cNvPr id="575" name="Picture 7" descr="A:\潭柘寺.jpg"/>
            <p:cNvPicPr/>
            <p:nvPr/>
          </p:nvPicPr>
          <p:blipFill>
            <a:blip r:embed="rId1"/>
            <a:stretch/>
          </p:blipFill>
          <p:spPr>
            <a:xfrm>
              <a:off x="4495680" y="0"/>
              <a:ext cx="4647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8"/>
            <p:cNvSpPr/>
            <p:nvPr/>
          </p:nvSpPr>
          <p:spPr>
            <a:xfrm>
              <a:off x="6579000" y="685800"/>
              <a:ext cx="240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潭柘寺</a:t>
              </a: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577" name="Group 10"/>
          <p:cNvGrpSpPr/>
          <p:nvPr/>
        </p:nvGrpSpPr>
        <p:grpSpPr>
          <a:xfrm>
            <a:off x="0" y="0"/>
            <a:ext cx="4495320" cy="6858000"/>
            <a:chOff x="0" y="0"/>
            <a:chExt cx="4495320" cy="6858000"/>
          </a:xfrm>
        </p:grpSpPr>
        <p:pic>
          <p:nvPicPr>
            <p:cNvPr id="578" name="Picture 11" descr="D:\董\颐和园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9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12"/>
            <p:cNvSpPr/>
            <p:nvPr/>
          </p:nvSpPr>
          <p:spPr>
            <a:xfrm>
              <a:off x="1605960" y="304920"/>
              <a:ext cx="186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西山</a:t>
              </a:r>
              <a:endParaRPr b="1" lang="en-US" sz="3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D:\董\14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1143000" y="685800"/>
            <a:ext cx="85345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破屋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碧绿的天色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驯鸽的飞声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丝 一丝日光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牵牛花的蓝朵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疏疏落落的秋草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488160" y="496800"/>
            <a:ext cx="2661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秋院静观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秋花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959000" y="4800600"/>
            <a:ext cx="69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（清、静、悲凉）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026" descr="\\A7\d\pxl\040301000187.jpg"/>
          <p:cNvPicPr/>
          <p:nvPr/>
        </p:nvPicPr>
        <p:blipFill>
          <a:blip r:embed="rId1"/>
          <a:stretch/>
        </p:blipFill>
        <p:spPr>
          <a:xfrm>
            <a:off x="0" y="114300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27" descr="\\A7\d\pxl\090500000256.jpg"/>
          <p:cNvPicPr/>
          <p:nvPr/>
        </p:nvPicPr>
        <p:blipFill>
          <a:blip r:embed="rId2"/>
          <a:stretch/>
        </p:blipFill>
        <p:spPr>
          <a:xfrm>
            <a:off x="0" y="114300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8"/>
          <p:cNvSpPr/>
          <p:nvPr/>
        </p:nvSpPr>
        <p:spPr>
          <a:xfrm>
            <a:off x="5518440" y="990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．视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7" name="Text Box 1029"/>
          <p:cNvSpPr/>
          <p:nvPr/>
        </p:nvSpPr>
        <p:spPr>
          <a:xfrm>
            <a:off x="4010400" y="30492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故都秋的总特色：清、静、悲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8" name="Text Box 1030"/>
          <p:cNvSpPr/>
          <p:nvPr/>
        </p:nvSpPr>
        <p:spPr>
          <a:xfrm>
            <a:off x="3809880" y="160020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晨起来，泡一碗浓茶，向院子一座，你也能看得到很高很高的碧绿的天色，听得到青天下训鸽的飞声。从槐树叶底，朝东细数着一丝一丝漏下来的日光，或在破壁腰中，静对着像喇叭花似的牵牛花（朝荣）的蓝朵，自然而然地也能感觉到十分的秋意。说到了牵牛花，我以为以蓝色或白色者为佳，紫黑色次之，淡红者最下。”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9" name="Text Box 1031"/>
          <p:cNvSpPr/>
          <p:nvPr/>
        </p:nvSpPr>
        <p:spPr>
          <a:xfrm>
            <a:off x="5279760" y="53341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提问：这一段文字写了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哪些视觉上的景物？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75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C:\My Documents\ss041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915480" y="830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确：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261880" y="882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色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2257200" y="175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日光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231804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牵牛花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36684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99"/>
                </a:solidFill>
                <a:latin typeface="Times New Roman"/>
              </a:rPr>
              <a:t>碧绿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704400" y="17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漏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3781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颜色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8" name="Text Box 10">
            <a:hlinkClick r:id="rId2" action="ppaction://hlinksldjump"/>
          </p:cNvPr>
          <p:cNvSpPr/>
          <p:nvPr/>
        </p:nvSpPr>
        <p:spPr>
          <a:xfrm>
            <a:off x="2221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：评写牵牛花的颜色，是否多余？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855000" y="4290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确：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5045400" y="4343400"/>
            <a:ext cx="5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评写颜色，突出了故都的秋的清、静、悲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的特点。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1" name="Line 13"/>
          <p:cNvSpPr/>
          <p:nvPr/>
        </p:nvSpPr>
        <p:spPr>
          <a:xfrm>
            <a:off x="2971800" y="1219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3048120" y="1981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3" name="Line 15"/>
          <p:cNvSpPr/>
          <p:nvPr/>
        </p:nvSpPr>
        <p:spPr>
          <a:xfrm>
            <a:off x="3200400" y="2743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75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D:\董\槐树1.jpg"/>
          <p:cNvPicPr/>
          <p:nvPr/>
        </p:nvPicPr>
        <p:blipFill>
          <a:blip r:embed="rId1"/>
          <a:stretch/>
        </p:blipFill>
        <p:spPr>
          <a:xfrm>
            <a:off x="-380880" y="-2133720"/>
            <a:ext cx="9524880" cy="131065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2133720" y="60948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碧绿的天色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丝一丝的日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D:\董\鸽子2.jpg"/>
          <p:cNvPicPr/>
          <p:nvPr/>
        </p:nvPicPr>
        <p:blipFill>
          <a:blip r:embed="rId1"/>
          <a:stretch/>
        </p:blipFill>
        <p:spPr>
          <a:xfrm>
            <a:off x="0" y="-380880"/>
            <a:ext cx="10058400" cy="124761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04920" y="2286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ff"/>
                </a:solidFill>
                <a:latin typeface="Times New Roman"/>
              </a:rPr>
              <a:t>青天下驯鸽的飞声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D:\pxl\p\Image\牵牛花1.gif"/>
          <p:cNvPicPr/>
          <p:nvPr/>
        </p:nvPicPr>
        <p:blipFill>
          <a:blip r:embed="rId1"/>
          <a:stretch/>
        </p:blipFill>
        <p:spPr>
          <a:xfrm>
            <a:off x="609480" y="0"/>
            <a:ext cx="3581640" cy="31291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D:\pxl\p\Image\牵牛花2.gif"/>
          <p:cNvPicPr/>
          <p:nvPr/>
        </p:nvPicPr>
        <p:blipFill>
          <a:blip r:embed="rId2"/>
          <a:stretch/>
        </p:blipFill>
        <p:spPr>
          <a:xfrm>
            <a:off x="5029200" y="0"/>
            <a:ext cx="36576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4"/>
          <p:cNvGrpSpPr/>
          <p:nvPr/>
        </p:nvGrpSpPr>
        <p:grpSpPr>
          <a:xfrm>
            <a:off x="5105520" y="3276720"/>
            <a:ext cx="3504600" cy="2971440"/>
            <a:chOff x="5105520" y="3276720"/>
            <a:chExt cx="3504600" cy="2971440"/>
          </a:xfrm>
        </p:grpSpPr>
        <p:pic>
          <p:nvPicPr>
            <p:cNvPr id="611" name="Picture 5" descr="D:\pxl\p\Image\牵牛花.jpg"/>
            <p:cNvPicPr/>
            <p:nvPr/>
          </p:nvPicPr>
          <p:blipFill>
            <a:blip r:embed="rId3"/>
            <a:stretch/>
          </p:blipFill>
          <p:spPr>
            <a:xfrm>
              <a:off x="5105520" y="3276720"/>
              <a:ext cx="3504600" cy="29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6"/>
            <p:cNvSpPr/>
            <p:nvPr/>
          </p:nvSpPr>
          <p:spPr>
            <a:xfrm>
              <a:off x="6774480" y="5823720"/>
              <a:ext cx="1752120" cy="33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pic>
        <p:nvPicPr>
          <p:cNvPr id="613" name="Picture 7" descr="\\A7\d\pxl\09022400000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32767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D:\董\牵牛花3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D:\董\牵牛花2.jpg"/>
          <p:cNvPicPr/>
          <p:nvPr/>
        </p:nvPicPr>
        <p:blipFill>
          <a:blip r:embed="rId2"/>
          <a:stretch/>
        </p:blipFill>
        <p:spPr>
          <a:xfrm>
            <a:off x="-762120" y="198108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D:\董\牵牛花1.jpg"/>
          <p:cNvPicPr/>
          <p:nvPr/>
        </p:nvPicPr>
        <p:blipFill>
          <a:blip r:embed="rId3"/>
          <a:stretch/>
        </p:blipFill>
        <p:spPr>
          <a:xfrm>
            <a:off x="-685800" y="0"/>
            <a:ext cx="9829800" cy="41148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5"/>
          <p:cNvSpPr/>
          <p:nvPr/>
        </p:nvSpPr>
        <p:spPr>
          <a:xfrm>
            <a:off x="1017720" y="6094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静对着喇叭似的牵牛花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16"/>
          <p:cNvGrpSpPr/>
          <p:nvPr/>
        </p:nvGrpSpPr>
        <p:grpSpPr>
          <a:xfrm>
            <a:off x="0" y="0"/>
            <a:ext cx="9524880" cy="13106520"/>
            <a:chOff x="0" y="0"/>
            <a:chExt cx="9524880" cy="13106520"/>
          </a:xfrm>
        </p:grpSpPr>
        <p:pic>
          <p:nvPicPr>
            <p:cNvPr id="620" name="Picture 14" descr="D:\董\槐树1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524880" cy="131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15"/>
            <p:cNvSpPr/>
            <p:nvPr/>
          </p:nvSpPr>
          <p:spPr>
            <a:xfrm>
              <a:off x="5943600" y="563868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6600"/>
                  </a:solidFill>
                  <a:latin typeface="Times New Roman"/>
                </a:rPr>
                <a:t>北国的槐树</a:t>
              </a: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D:\董\地坛公园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228600" y="457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落蕊轻扫：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秋槐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5540760" y="533412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（清、静、悲凉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3733920" y="1295280"/>
            <a:ext cx="298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细腻”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清闲”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落寞”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  “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落蕊” 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7" descr="D:\董\背景1.jpg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76168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6"/>
          <p:cNvSpPr/>
          <p:nvPr/>
        </p:nvSpPr>
        <p:spPr>
          <a:xfrm>
            <a:off x="3808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郁达夫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896-1945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）现代作家，浙江省富阳县人，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913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年留学日本，曾广泛涉猎外国文学，深受近代欧洲、日本各种社会思潮和文艺作品的熏陶，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930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年曾参与组织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创造社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；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945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年，不幸被日本宪兵暗杀。主要作品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沉沦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、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春风沉醉的晚上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、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出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等，在不同程度上，揭露了旧社会的罪恶，向封建社会大胆挑战，有一定的积极意义，但也带有颓废情绪。其散文以游记著称，情景交触，文笔优美，自成一家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My Documents\s03.jp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D:\pxl\秋树.jpg"/>
          <p:cNvPicPr/>
          <p:nvPr/>
        </p:nvPicPr>
        <p:blipFill>
          <a:blip r:embed="rId2"/>
          <a:stretch/>
        </p:blipFill>
        <p:spPr>
          <a:xfrm>
            <a:off x="0" y="3733920"/>
            <a:ext cx="5105520" cy="3124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D:\pxl\林间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5"/>
          <p:cNvSpPr/>
          <p:nvPr/>
        </p:nvSpPr>
        <p:spPr>
          <a:xfrm>
            <a:off x="5823360" y="304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二．触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5257800" y="9144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北国的槐树，也是一种能使人联想起秋来的点缀。像花而又不是花的那一种落蕊，早晨起来，会铺得满地。脚踏上去，声音也没有，气味也没有，只能感觉出一点点极微细极柔软的触觉。”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5558040" y="3473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描写景物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555804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人的感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7230600" y="350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落蕊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7330680" y="4038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极微细极柔软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5838480" y="50292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写触觉也突出了北国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之秋的清、静、悲凉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75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3" descr="D:\董\西山虫唱.jpg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6"/>
          <p:cNvSpPr/>
          <p:nvPr/>
        </p:nvSpPr>
        <p:spPr>
          <a:xfrm>
            <a:off x="457200" y="304920"/>
            <a:ext cx="56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秋蝉残鸣：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3702960" y="1828800"/>
            <a:ext cx="152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衰弱”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残声”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啼唱”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4022640" y="367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5007240" y="525780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（清、静、悲凉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457200" y="358128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北国：无论什么地方都听得见啼唱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南国：非要到郊外或山上去才听得到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251360" y="581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三．听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595800" y="3048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</a:rPr>
              <a:t>训鸽声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738360" y="5334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</a:rPr>
              <a:t>秋蝉的残声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5" name="Text Box 5">
            <a:hlinkClick r:id="" action="ppaction://hlinkshowjump?jump=lastslide"/>
          </p:cNvPr>
          <p:cNvSpPr/>
          <p:nvPr/>
        </p:nvSpPr>
        <p:spPr>
          <a:xfrm>
            <a:off x="2645640" y="601992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以声音衬托出北国之秋的清、静、悲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105520" y="9144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“ 早晨起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泡一碗浓茶，向院子一坐：你也能看得到很高很高的碧绿的天色，听得到青天下驯鸽的飞声。”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5226120" y="3276720"/>
            <a:ext cx="39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２．“秋蝉的衰弱的残声，更是北国的特产；因为北平处处全长着树，屋子又低，所以无论在什么地方，都听得见它们的啼唱。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301896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青天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3247560" y="54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衰弱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0" name="Line 10"/>
          <p:cNvSpPr/>
          <p:nvPr/>
        </p:nvSpPr>
        <p:spPr>
          <a:xfrm>
            <a:off x="18288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2438280" y="5638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652" name="Group 12"/>
          <p:cNvGrpSpPr/>
          <p:nvPr/>
        </p:nvGrpSpPr>
        <p:grpSpPr>
          <a:xfrm>
            <a:off x="0" y="1295280"/>
            <a:ext cx="5029200" cy="1600200"/>
            <a:chOff x="0" y="1295280"/>
            <a:chExt cx="5029200" cy="1600200"/>
          </a:xfrm>
        </p:grpSpPr>
        <p:pic>
          <p:nvPicPr>
            <p:cNvPr id="653" name="Picture 13" descr="D:\pxl\p\Image\家鸽.bmp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4" descr="D:\pxl\p\Image\家鸽.bmp"/>
            <p:cNvPicPr/>
            <p:nvPr/>
          </p:nvPicPr>
          <p:blipFill>
            <a:blip r:embed="rId2"/>
            <a:stretch/>
          </p:blipFill>
          <p:spPr>
            <a:xfrm>
              <a:off x="100584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15" descr="D:\pxl\p\Image\家鸽.bmp"/>
            <p:cNvPicPr/>
            <p:nvPr/>
          </p:nvPicPr>
          <p:blipFill>
            <a:blip r:embed="rId3"/>
            <a:stretch/>
          </p:blipFill>
          <p:spPr>
            <a:xfrm>
              <a:off x="201168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16" descr="D:\pxl\p\Image\家鸽.bmp"/>
            <p:cNvPicPr/>
            <p:nvPr/>
          </p:nvPicPr>
          <p:blipFill>
            <a:blip r:embed="rId4"/>
            <a:stretch/>
          </p:blipFill>
          <p:spPr>
            <a:xfrm>
              <a:off x="301752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" descr="D:\pxl\p\Image\家鸽.bmp"/>
            <p:cNvPicPr/>
            <p:nvPr/>
          </p:nvPicPr>
          <p:blipFill>
            <a:blip r:embed="rId5"/>
            <a:stretch/>
          </p:blipFill>
          <p:spPr>
            <a:xfrm>
              <a:off x="402336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8" name="Group 18"/>
          <p:cNvGrpSpPr/>
          <p:nvPr/>
        </p:nvGrpSpPr>
        <p:grpSpPr>
          <a:xfrm>
            <a:off x="76320" y="3657600"/>
            <a:ext cx="4876560" cy="1600200"/>
            <a:chOff x="76320" y="3657600"/>
            <a:chExt cx="4876560" cy="1600200"/>
          </a:xfrm>
        </p:grpSpPr>
        <p:pic>
          <p:nvPicPr>
            <p:cNvPr id="659" name="Picture 19" descr="D:\pxl\p\Image\蝉.jpg"/>
            <p:cNvPicPr/>
            <p:nvPr/>
          </p:nvPicPr>
          <p:blipFill>
            <a:blip r:embed="rId6"/>
            <a:stretch/>
          </p:blipFill>
          <p:spPr>
            <a:xfrm>
              <a:off x="76320" y="3657600"/>
              <a:ext cx="19047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0" descr="D:\pxl\p\Image\蝉.jpg"/>
            <p:cNvPicPr/>
            <p:nvPr/>
          </p:nvPicPr>
          <p:blipFill>
            <a:blip r:embed="rId7"/>
            <a:stretch/>
          </p:blipFill>
          <p:spPr>
            <a:xfrm>
              <a:off x="3048120" y="3657600"/>
              <a:ext cx="19047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D:\董\四合院11.jpg"/>
          <p:cNvPicPr/>
          <p:nvPr/>
        </p:nvPicPr>
        <p:blipFill>
          <a:blip r:embed="rId1"/>
          <a:stretch/>
        </p:blipFill>
        <p:spPr>
          <a:xfrm>
            <a:off x="228600" y="-2590920"/>
            <a:ext cx="9190080" cy="1257300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3"/>
          <p:cNvSpPr/>
          <p:nvPr/>
        </p:nvSpPr>
        <p:spPr>
          <a:xfrm>
            <a:off x="685800" y="3142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Times New Roman"/>
              </a:rPr>
              <a:t>4 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秋雨闲人：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62520" y="1523880"/>
            <a:ext cx="518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灰沉沉的天底下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阵冷风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息列索落的雨声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都市闲人着装举止、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神情声调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5769360" y="502920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清、静、悲凉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D:\董\果树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3"/>
          <p:cNvSpPr/>
          <p:nvPr/>
        </p:nvSpPr>
        <p:spPr>
          <a:xfrm>
            <a:off x="1741680" y="27936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5 </a:t>
            </a:r>
            <a:r>
              <a:rPr b="0" lang="zh-CN" sz="4800" spc="-1" strike="noStrike">
                <a:solidFill>
                  <a:srgbClr val="00cc99"/>
                </a:solidFill>
                <a:latin typeface="Times New Roman"/>
              </a:rPr>
              <a:t>胜日秋果：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5416560" y="128412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淡绿淡黄的颜色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成熟至八九分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清秋佳日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026" descr="D:\董\秋韵.jpg"/>
          <p:cNvPicPr/>
          <p:nvPr/>
        </p:nvPicPr>
        <p:blipFill>
          <a:blip r:embed="rId1"/>
          <a:stretch/>
        </p:blipFill>
        <p:spPr>
          <a:xfrm>
            <a:off x="-380880" y="108000"/>
            <a:ext cx="9524880" cy="67500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27"/>
          <p:cNvSpPr/>
          <p:nvPr/>
        </p:nvSpPr>
        <p:spPr>
          <a:xfrm>
            <a:off x="609480" y="11494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丰富多彩的故都之秋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1" name="Group 15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672" name="Picture 16" descr="D:\董\北京3.jpg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0"/>
                <a:ext cx="4495680" cy="685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3" name="Group 17"/>
              <p:cNvGrpSpPr/>
              <p:nvPr/>
            </p:nvGrpSpPr>
            <p:grpSpPr>
              <a:xfrm>
                <a:off x="0" y="0"/>
                <a:ext cx="4647960" cy="6858000"/>
                <a:chOff x="0" y="0"/>
                <a:chExt cx="4647960" cy="6858000"/>
              </a:xfrm>
            </p:grpSpPr>
            <p:pic>
              <p:nvPicPr>
                <p:cNvPr id="674" name="Picture 18" descr="D:\董\故宫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464796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Text Box 19"/>
                <p:cNvSpPr/>
                <p:nvPr/>
              </p:nvSpPr>
              <p:spPr>
                <a:xfrm>
                  <a:off x="408240" y="39672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故宫</a:t>
                  </a:r>
                  <a:endParaRPr b="1" lang="en-US" sz="36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6" name="Text Box 20"/>
            <p:cNvSpPr/>
            <p:nvPr/>
          </p:nvSpPr>
          <p:spPr>
            <a:xfrm>
              <a:off x="5549040" y="4572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北海公园</a:t>
              </a:r>
              <a:endParaRPr b="1" lang="en-US" sz="3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3" descr="D:\董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2"/>
          <p:cNvSpPr/>
          <p:nvPr/>
        </p:nvSpPr>
        <p:spPr>
          <a:xfrm>
            <a:off x="304920" y="1447920"/>
            <a:ext cx="8839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考题：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故都的秋景可谓色彩丰富，作者为什么只赞美清、静、悲凉的故都之秋呢？试从主客观原因加以评析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D:\董\背景1.jp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620568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3"/>
          <p:cNvSpPr/>
          <p:nvPr/>
        </p:nvSpPr>
        <p:spPr>
          <a:xfrm>
            <a:off x="1081080" y="685800"/>
            <a:ext cx="39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读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</a:rPr>
              <a:t>12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节，找出本段的中心句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0" y="1600200"/>
            <a:ext cx="86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议论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宋体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足见有感觉的动物，有情趣的人类对于秋，总是一样的能特别起深沉、幽严厉、萧索的感触来的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0" y="327672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点拨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喻理的角度，进一步赞颂自然之秋、北国之秋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D:\董\背景1.jpg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72374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3"/>
          <p:cNvSpPr/>
          <p:nvPr/>
        </p:nvSpPr>
        <p:spPr>
          <a:xfrm>
            <a:off x="0" y="1087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隶书"/>
              </a:rPr>
              <a:t>思考题：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、文章的结尾再次提到北国的秋和南国的秋，为何呢？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1600200" y="3200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</a:rPr>
              <a:t>南国的秋味比不上北国的秋味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80880" y="3352680"/>
            <a:ext cx="1119240" cy="1095480"/>
          </a:xfrm>
          <a:custGeom>
            <a:avLst/>
            <a:gdLst>
              <a:gd name="textAreaLeft" fmla="*/ 644040 w 1119240"/>
              <a:gd name="textAreaRight" fmla="*/ 944640 w 1119240"/>
              <a:gd name="textAreaTop" fmla="*/ 147600 h 1095480"/>
              <a:gd name="textAreaBottom" fmla="*/ 469080 h 109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0" y="481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三、再次表达了对北国之秋的眷恋、向往之情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1676520" y="4054320"/>
            <a:ext cx="67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</a:rPr>
              <a:t>直抒对北国之秋的无比眷恋之情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49720" cy="5486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A:\112103.jpg"/>
          <p:cNvPicPr/>
          <p:nvPr/>
        </p:nvPicPr>
        <p:blipFill>
          <a:blip r:embed="rId2"/>
          <a:stretch/>
        </p:blipFill>
        <p:spPr>
          <a:xfrm>
            <a:off x="4917960" y="762120"/>
            <a:ext cx="3845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D:\董\背景17.jp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3"/>
          <p:cNvSpPr/>
          <p:nvPr/>
        </p:nvSpPr>
        <p:spPr>
          <a:xfrm>
            <a:off x="3200400" y="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故都的秋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828800" y="175248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秋园静观品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槐树落蕊知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秋蝉残鸣报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秋雨淋人感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果树秋天赞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2" name="AutoShape 5"/>
          <p:cNvSpPr/>
          <p:nvPr/>
        </p:nvSpPr>
        <p:spPr>
          <a:xfrm>
            <a:off x="1447920" y="198108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83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685800" y="2057400"/>
            <a:ext cx="7016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3bc3"/>
                </a:solidFill>
                <a:latin typeface="Times New Roman"/>
              </a:rPr>
              <a:t>清静悲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1676520" y="10666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记叙、描写：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1447920" y="4724280"/>
            <a:ext cx="63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议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：“足见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感触来的。”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6" name="AutoShape 9"/>
          <p:cNvSpPr/>
          <p:nvPr/>
        </p:nvSpPr>
        <p:spPr>
          <a:xfrm>
            <a:off x="5638680" y="2133720"/>
            <a:ext cx="381240" cy="243828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483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6172200" y="1905120"/>
            <a:ext cx="838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3bc3"/>
                </a:solidFill>
                <a:latin typeface="Times New Roman"/>
              </a:rPr>
              <a:t>眷恋向往之</a:t>
            </a:r>
            <a:r>
              <a:rPr b="0" lang="zh-CN" sz="3200" spc="-1" strike="noStrike">
                <a:solidFill>
                  <a:srgbClr val="483bc3"/>
                </a:solidFill>
                <a:latin typeface="Times New Roman"/>
              </a:rPr>
              <a:t>情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8" name="Text Box 11"/>
          <p:cNvSpPr/>
          <p:nvPr/>
        </p:nvSpPr>
        <p:spPr>
          <a:xfrm>
            <a:off x="3110040" y="5221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（形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9" name="Text Box 12"/>
          <p:cNvSpPr/>
          <p:nvPr/>
        </p:nvSpPr>
        <p:spPr>
          <a:xfrm>
            <a:off x="5945040" y="5105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（神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54568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郁达夫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板书设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Object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154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C:\My Documents\s03.jp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" descr="D:\pxl\秋树.jpg"/>
          <p:cNvPicPr/>
          <p:nvPr/>
        </p:nvPicPr>
        <p:blipFill>
          <a:blip r:embed="rId2"/>
          <a:stretch/>
        </p:blipFill>
        <p:spPr>
          <a:xfrm>
            <a:off x="0" y="3733920"/>
            <a:ext cx="5105520" cy="31240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4" descr="D:\pxl\林间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5"/>
          <p:cNvSpPr/>
          <p:nvPr/>
        </p:nvSpPr>
        <p:spPr>
          <a:xfrm>
            <a:off x="5823360" y="304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二．触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5257800" y="9144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北国的槐树，也是一种能使人联想起秋来的点缀。像花而又不是花的那一种落蕊，早晨起来，会铺得满地。脚踏上去，声音也没有，气味也没有，只能感觉出一点点极微细极柔软的触觉。”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5558040" y="3473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描写景物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55804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人的感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7230600" y="350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落蕊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7330680" y="4038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极微细极柔软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5680800" y="45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南国之秋景物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3" name="Text Box 12"/>
          <p:cNvSpPr/>
          <p:nvPr/>
        </p:nvSpPr>
        <p:spPr>
          <a:xfrm>
            <a:off x="7840080" y="45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落叶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4" name="Text Box 13"/>
          <p:cNvSpPr/>
          <p:nvPr/>
        </p:nvSpPr>
        <p:spPr>
          <a:xfrm>
            <a:off x="555804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人的感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7290000" y="49528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有声音，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有气味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6" name="Text Box 15"/>
          <p:cNvSpPr/>
          <p:nvPr/>
        </p:nvSpPr>
        <p:spPr>
          <a:xfrm>
            <a:off x="5883120" y="57913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写触觉也突出了北国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之秋的清、静、悲凉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pic>
          <p:nvPicPr>
            <p:cNvPr id="7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228600"/>
            <a:ext cx="8839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隶书"/>
              </a:rPr>
              <a:t>时代背景</a:t>
            </a:r>
            <a:r>
              <a:rPr b="0" lang="en-US" sz="4000" spc="-1" strike="noStrike">
                <a:solidFill>
                  <a:srgbClr val="0066ff"/>
                </a:solidFill>
                <a:latin typeface="隶书"/>
              </a:rPr>
              <a:t>: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从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21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9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至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3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，郁达夫曾用相当大的精力参加左翼文艺活动进行创作。由于国民党白色恐怖的威胁等原因，郁达夫从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3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由上海迁居杭州，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6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离杭州赴福州，在杭州居住了近三年。在这段时间里他思想苦闷，创作枯竭，过的是一种闲散安逸的生活。并花了许多时间到处游山玩水，在一定程度上也是为了排遣现实带给他的苦闷和离群索居的寂寞。在游山玩水的过程中，写了许多游记。 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4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7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，郁达夫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不远千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从杭州经青岛去北平，再次饱尝了故都的秋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味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，并写下了优美的散文──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《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故都的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》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D:\董\背景1.jpg"/>
          <p:cNvPicPr/>
          <p:nvPr/>
        </p:nvPicPr>
        <p:blipFill>
          <a:blip r:embed="rId1"/>
          <a:stretch/>
        </p:blipFill>
        <p:spPr>
          <a:xfrm>
            <a:off x="0" y="-136440"/>
            <a:ext cx="9753480" cy="69944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"/>
          <p:cNvSpPr/>
          <p:nvPr/>
        </p:nvSpPr>
        <p:spPr>
          <a:xfrm>
            <a:off x="457200" y="0"/>
            <a:ext cx="89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落霞与孤鹜齐飞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，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秋水共长天一色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王勃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滕王阁序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501480" y="10666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无边落木萧萧下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，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不尽长江滚滚来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杜甫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登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57200" y="2209680"/>
            <a:ext cx="92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停车坐爱枫林晚，霜叶红于二月花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杜牧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山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33520" y="350532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浔阳江头夜送客，枫叶荻花秋瑟瑟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白居易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琵琶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533520" y="4648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看万山红遍，层林尽染，漫江碧透，白舸争流，鹰击长空，鱼翔浅底，万类霜天竞自由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。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毛泽东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沁园春长沙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6"/>
          <p:cNvSpPr/>
          <p:nvPr/>
        </p:nvSpPr>
        <p:spPr>
          <a:xfrm>
            <a:off x="0" y="22860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</a:rPr>
              <a:t>思考题：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作者主要从哪个方面写故都的秋？请用一字概括。（声、形、色、味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</a:rPr>
              <a:t>?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）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228600" y="6858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一、朗读课文，整体把握课文内容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44136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2514600" y="3733920"/>
            <a:ext cx="495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990720" y="525780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685800" y="2438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026"/>
          <p:cNvSpPr/>
          <p:nvPr/>
        </p:nvSpPr>
        <p:spPr>
          <a:xfrm>
            <a:off x="228600" y="914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3366ff"/>
                </a:solidFill>
                <a:latin typeface="隶书"/>
              </a:rPr>
              <a:t>.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</a:rPr>
              <a:t>读第</a:t>
            </a:r>
            <a:r>
              <a:rPr b="1" lang="en-US" sz="3600" spc="-1" strike="noStrike">
                <a:solidFill>
                  <a:srgbClr val="3366ff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</a:rPr>
              <a:t>、</a:t>
            </a:r>
            <a:r>
              <a:rPr b="1" lang="en-US" sz="3600" spc="-1" strike="noStrike">
                <a:solidFill>
                  <a:srgbClr val="3366ff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</a:rPr>
              <a:t>自然段，作者分别哪些字来概括北国之秋和南国之秋的特征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3" name="Text Box 1027"/>
          <p:cNvSpPr/>
          <p:nvPr/>
        </p:nvSpPr>
        <p:spPr>
          <a:xfrm>
            <a:off x="1219320" y="25146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北国之秋：清、静、悲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南国之秋：慢、润、淡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4" name="AutoShape 1028"/>
          <p:cNvSpPr/>
          <p:nvPr/>
        </p:nvSpPr>
        <p:spPr>
          <a:xfrm flipV="1">
            <a:off x="380880" y="2590200"/>
            <a:ext cx="762120" cy="1143000"/>
          </a:xfrm>
          <a:custGeom>
            <a:avLst/>
            <a:gdLst>
              <a:gd name="textAreaLeft" fmla="*/ 438480 w 762120"/>
              <a:gd name="textAreaRight" fmla="*/ 643320 w 7621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5" name="Text Box 1029"/>
          <p:cNvSpPr/>
          <p:nvPr/>
        </p:nvSpPr>
        <p:spPr>
          <a:xfrm>
            <a:off x="380880" y="464832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3bc3"/>
                </a:solidFill>
                <a:latin typeface="Times New Roman"/>
              </a:rPr>
              <a:t>一、作者运用对比的手法来表现对故都之秋的依恋之情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1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D:\董\背景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"/>
          <p:cNvSpPr/>
          <p:nvPr/>
        </p:nvSpPr>
        <p:spPr>
          <a:xfrm>
            <a:off x="-685800" y="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</a:rPr>
              <a:t>故都的秋在哪里呢？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28600" y="990720"/>
            <a:ext cx="914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</a:rPr>
              <a:t>思考题：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3bc3"/>
                </a:solidFill>
                <a:latin typeface="隶书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作者分别从不同的角度为我们描绘了五幅故都的秋景图，请同学们结合自己的想象力分别给以介绍</a:t>
            </a:r>
            <a:r>
              <a:rPr b="1" lang="en-US" sz="3600" spc="-1" strike="noStrike">
                <a:solidFill>
                  <a:srgbClr val="ffff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并赏析五幅秋景图</a:t>
            </a:r>
            <a:r>
              <a:rPr b="1" lang="en-US" sz="3600" spc="-1" strike="noStrike">
                <a:solidFill>
                  <a:srgbClr val="ffff00"/>
                </a:solidFill>
                <a:latin typeface="隶书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感觉或色彩</a:t>
            </a:r>
            <a:r>
              <a:rPr b="1" lang="en-US" sz="3600" spc="-1" strike="noStrike">
                <a:solidFill>
                  <a:srgbClr val="ffff00"/>
                </a:solidFill>
                <a:latin typeface="隶书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8" descr="D:\董\复件 天坛公园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8151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2590920" y="304920"/>
            <a:ext cx="16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先农坛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72" name="Picture 10" descr="A:\玉渊潭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1"/>
          <p:cNvSpPr/>
          <p:nvPr/>
        </p:nvSpPr>
        <p:spPr>
          <a:xfrm>
            <a:off x="6629400" y="533520"/>
            <a:ext cx="22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玉渊潭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12:27:34Z</dcterms:created>
  <dc:creator>etower</dc:creator>
  <dc:description/>
  <dc:language>en-US</dc:language>
  <cp:lastModifiedBy>a</cp:lastModifiedBy>
  <dcterms:modified xsi:type="dcterms:W3CDTF">2015-02-10T02:00:31Z</dcterms:modified>
  <cp:revision>79</cp:revision>
  <dc:subject/>
  <dc:title>没有幻灯片标题</dc:title>
</cp:coreProperties>
</file>