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D91-95D9-45DB-8101-C3878F13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408-8A0F-4A19-BA8D-1A6C8395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A2AA3-C6F0-418C-9AFB-2FD47F6A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FDB74-CC22-4567-83ED-3A777B5B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92A87-82F6-45AD-AF6D-4D4F457D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BBBE3-DE40-4C13-9877-36415B0B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44FAD-76DA-4349-B6A3-3139AD88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7446A-2D20-4BC3-9CE5-DD355375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240FF-7CD0-4C22-BA1B-CA84CFE8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FCE94-19AC-40C0-89A7-0B050C74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B6C0A-F1FE-4304-AF3B-34AE39B2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2F190-F927-4CE2-B62E-5DB541D1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054-B8BE-47C9-B6FA-499FAEF5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92A56-34FF-4039-AB4C-11229CE9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AE198-44BB-43DF-B110-02A40194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F5257-EF16-4F42-813A-0EF46F93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35D8B-6842-4E86-AE0F-09FC3AB1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90210-302D-4B75-B885-AFA89D95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2EE44-25C0-4D44-9AC6-7B24DC3A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4EB48-9F1E-4BCD-93D0-A7F5F61F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4DD35-B735-4091-9781-BD740269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1B45B-B1CE-4DB1-8E1B-A978F52E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AF75A-88A0-4F4B-8118-E287AC11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8BD-B985-4820-B587-DD22D961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276A9-5660-43CA-9011-6F8C9C38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B92C2-5A7E-41FC-81FB-F0FF859E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DD4C8-00A3-4D82-826A-97456E9F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6CF67-4F68-4018-8215-60964FF9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737D8-D5C6-47B9-8CB1-B0F1B988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EED1A-66CE-4073-BE2D-AA9A6647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521FA-9E47-4696-86A9-429185BE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9107C-F629-4A97-87E8-8BC21216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80F13-E1DD-4A4D-989E-FAEB19B4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748EA-FCAE-4B0C-B204-5CED5A2A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8425-8385-42BD-B598-C3FDAD28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F9123-A3AA-4AAE-B0F6-7E825D97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C4855-1FBE-41B9-BB7A-D153B795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38D2A-A8AB-4D17-9DAA-0B2AF632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162AC-3242-4D6F-B950-B75E99FB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5E493-6BF0-481B-93A3-F461405A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7E670-AC4B-4E0A-9A5F-C1A960EC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BD913-1997-44F3-BD87-19E971D8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C70A9-1B87-421B-90B1-11CB841F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35B5E-CED7-4806-A0FF-1B744FD3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84BC2-4FEC-40BF-B23C-30282E92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6A0C-F694-473E-822B-C8B2CF68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E9D89-F893-41B4-BC71-5ADDBE6D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DD968-A242-499C-8279-5421DCF9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66AB1-BDFC-4A0B-9E22-FE98A517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99FFC-7822-4109-BB21-CCABDA47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AAA77-624E-4E60-A5ED-F11AFD0A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4DFEF-C358-4CA6-9E6E-B0EB627A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B1E51-29B6-4CE3-B70D-9C1A3E78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63AB9A-FE05-4124-804A-CC2B9FD7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E852D-F9AD-49DA-91BA-E3B4DC08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19F92-1F41-41DE-9B2B-38ABEA39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9F82-45BF-4DF1-BBDE-2592595B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8F560-C052-4EF2-B3F2-6454D1FD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93944-1D2C-485D-9732-D8D32EB4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D7A17-B80A-4A87-935D-069708B9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3DE7A-BAFF-4F8E-8D8C-C2E6F87D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AB62C-20F7-4243-AF5E-646C2E22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5DCDC-A56E-4E4D-B520-0C62812D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B7A0D5-C457-4000-AB4E-6D3C9339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9E420-C4F5-449E-B17B-4739DA0D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1E993F-B6AA-4A87-AC3E-55E9B206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AD4321-F41B-43C9-9FBA-160FF576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F71D-2738-4F1B-B8D5-88C9F41E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8A58B-FD05-44AD-990C-E55C4735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C81366-9040-419D-A1AF-B913F04D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F6574-D88E-4BFB-BA22-7774B90F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2EA73C-F76B-404F-A54A-1F7D9E40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880F13-C402-426E-A690-1B47DB68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6E1CF-D1D5-452D-B7A3-20C35190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C27D1-B0FF-47F8-842C-EBA4FD2C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804AD-752C-4707-9B4D-A4E9D87A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FC27C7-2E95-4BFD-96F4-681F419C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DE83-8BF7-4CEF-8EF5-6035C97A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8C4E-9794-431C-AB64-D65621CC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7A3D-5D55-4CF1-99F2-A7EFC97B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F1B-A4D1-463E-A546-C2675AB4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0489-DB68-4EB3-AC5F-0E29E50F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B217-D713-448F-B4B6-813D258C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4313-1892-47C0-9A23-180CFB47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05CE-0EF4-4D1D-8615-E0B81B62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29B4-ABD6-45B7-8F06-50EDE96C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F96EC-9C02-474D-B03B-3C823600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C5590-D6B7-49FF-BB72-6C55CC85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5A957-EA66-4746-BA2F-431F3B78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B8A5A-8450-49B5-8AA6-A8EF9DED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7DE9-5FFE-4CCE-825D-82D8C686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BCD-B97A-4C8F-9EB1-E2838202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685F-1104-4BDD-BDCC-ED160C7F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A2F7D-6377-4870-B8B5-990DC355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23A11-E6ED-4C37-A2F9-A3663822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6FFE9-4981-4CE3-BABD-BB9290D9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F6992-CE1B-4AC9-A5CD-F633B30D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D3FEE-E0DF-45C7-A253-7243D1FE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2BC62-515F-4CDC-948F-D21242F4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DC9D7-18F2-48D1-8F50-1C690825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CED30-09AB-4337-BACC-08EC5ABD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B67A0-7DDB-4E58-8DC4-B624A8CB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F8E-0D04-4F65-BDA2-9A8781F1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BEB79-9612-417D-AADB-6D08AFB3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412B7-8443-448F-B02B-24128482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B7547-4B5C-4B00-9B4C-28F71228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D5DAB-7725-4731-9F2C-275774F2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DD693-757D-4A36-9395-F8EE24ED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81AAC-9CE1-4B09-919F-26491EE4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1E1EB-4612-4923-B193-DE001B53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CB017-7795-41BD-9F5D-CF0CC74F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EE54E-DC54-45CB-B1A1-0810220B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965CB-3C94-4959-A11C-47984377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78F9-34D8-4EB4-94D8-300DCDC7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EABFD-F023-4213-9894-4FC6B9DE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AF181-C5C6-4A3F-8EB7-973C8131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E5CFB-706A-4852-B5C5-CE764676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33A36-AC80-4739-9977-345D171A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A9E32-2268-4540-9F16-D4034550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A69DF-490C-4165-816E-80EFB3A1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F7189-918C-40E1-A56E-607997EA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0AA9B-6AA4-4E4C-AB79-A05E4A4B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C0EF1-EF80-491B-A9D8-B9BBF111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BAC8B-63E1-4148-AA87-B537CE48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208-A5F7-4604-B443-E784286C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7C13A-7301-4C8B-AD44-6184C2EC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EDC08-7AA9-4150-8565-0F16E034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C5ACD-179B-43F2-9EC9-1CC4ED9C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44E56-DFCF-4914-ABA5-E28FD0A1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348C4-98B4-4855-BEAB-5BA78968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89366-8652-4BA7-AFEB-4167C2D6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C839A-4B8A-4D64-8863-C48F52C1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A25A5-5CF1-4658-A330-92CE03D3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3E500-FF81-4A80-91A6-74847038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0D7DA-5D15-4D7C-9648-DB0D86BA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2F8-8A4E-4F44-B510-309C9D1D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AAE48-A976-4B7A-B907-8C9801FD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8D3A6-988C-482B-97ED-B26BA550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636D2-261E-4C05-A6BC-DA0DDFBF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F7060-85C0-4E4F-BE15-FFD7E48D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CD617-438F-449B-8545-1E85BAC1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0C9A7-ACEE-420E-91E1-54C9884A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86650-B595-4AE7-B870-68A2C4DE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5C6A2-4B61-4CAB-BD40-593C1BB1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B6028-090C-4989-BB2B-CE068B87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480F7-8DA4-4CAA-B43A-8DA0BF6D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B8FE-F56C-49B0-B4AA-E2A16637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6AA66-47A5-4F6B-A34E-A43C6EAD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0FD72-6059-492B-B8A3-79C34839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FCC64-0D30-4C7A-8460-22949F67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8AB7C-BB58-4F9E-B11C-1BD6DEB5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6A57A-C6D8-4556-96C1-414AEC86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91F99-0A3D-4763-95C2-9B575B2B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8EB4C-841D-4545-8C85-31C3AC74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11329-C5A3-47F5-92FD-F0DD12C5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CFC2C-D779-43DF-B2D3-248F4C84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11775-0321-4ACA-8F1E-A586B4F4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09D-8520-4BB7-83EE-6C3C841D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3827B-38D5-4373-8AB6-44EF3AD2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4DDD0-C9CF-4562-837E-17F43525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AF0B8-5D7B-4F8F-901A-5D6BA082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15CC4-C074-4E1C-92C0-37D34691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8F25C-545E-4C91-940A-A54B032B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B5D6C-9D71-4F9E-8F28-B4EA52B6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F9754-529F-495F-8E7D-31F07FCF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627C0-A0CF-49F5-9D03-8820AA45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AC4BA-690A-4685-8DBD-A6754285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6E155-7AF3-453E-A351-DE8EC749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6FF4-9E86-4FCA-9072-C5541DA7BB37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884B-DF66-4BE9-ACC0-269076B9F79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2C4D-B2C9-48E4-8F6E-E5F2161863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5A1A-E450-44C7-874E-C063187C118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C572-7E5A-46A3-B4B2-92214FFFE3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17D8-2C1F-44F4-833A-B3D36463E2C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9B5B-87EC-46BC-AB58-671ABB4632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ACE0-7F6B-4325-882E-79E3A69625F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D41D-02ED-41A0-B9EE-3678212A2D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9A84-D0C2-4237-A2AB-EDE9CCF7E27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FE54-F0FB-4A82-AF3B-8318F1CAC5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7236-BEEC-442C-91D6-7A1B203808E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0E37-E89D-4C29-9934-7EF7D68DBA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16F6-2D28-4922-86FD-BF7020C98D4E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5F80-45D5-4644-949F-0DFB1194844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D557-51DC-4568-93A7-67316CD9CA6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5166-1B3B-4E0B-A5C2-C13FD66F87B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FC69-6337-4DFF-A850-F1E6819CD19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5C4F-1AAC-455E-8F60-E1C31E482FA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B6B6-72AA-42C7-81FD-B8BCF00998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47D8-FB1C-4A2B-ABAA-1A14AC5411B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3E03-12B5-4C4F-9116-021B838D3C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7338-38F3-4452-BBD2-4854DDA5EC3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D237-1C76-4F2A-870E-89651C452CC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C575-F72C-49CE-AE51-99EA3911829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E1F6-8FA2-45E6-A38E-11486E3B68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  <a:ea typeface="宋体"/>
              </a:rPr>
              <a:t>THANKSGIVING FALL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2590560" y="91440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宋体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YOUR TITLE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6:44:39Z</dcterms:created>
  <dc:creator>微软中国</dc:creator>
  <dc:description/>
  <dc:language>en-US</dc:language>
  <cp:lastModifiedBy>a</cp:lastModifiedBy>
  <dcterms:modified xsi:type="dcterms:W3CDTF">2015-03-17T05:39:21Z</dcterms:modified>
  <cp:revision>3</cp:revision>
  <dc:subject/>
  <dc:title>THANKSGIVING FALL</dc:title>
</cp:coreProperties>
</file>