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Lst>
  <p:sldSz cx="845978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3F6C-068E-4967-AE86-C78C9202E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9"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A1AE-8360-46F0-9AD1-763B94BBA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3"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4"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58277-3F45-41D9-93FE-AB3B1C021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51D95-4E92-43AB-A51A-D05A712AE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809E8-2930-4842-91BE-CA14E6F81F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9"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0"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E8663-94B5-4272-A3F6-5AF9B4101B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4"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DA8C9-B87D-4777-B1B1-EB697B496C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8"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EA370-278C-4DCF-B86B-E74DD6B956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0"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1"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30EDD-03C4-4478-8878-D33CCE655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5"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6"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8D5B9D-78A0-494F-918A-7271B3D656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8"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9"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1"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2"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3"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BBC71-9C30-4769-AD7D-CAE7922B24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EE3F83-B748-4DD9-8FF3-0982447672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F28FF-7CCC-471A-A385-317AA44D3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0"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C1D68E-66C0-414C-9D3F-5D9D0103B0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2"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92FE31-FBCF-419D-96C0-1D9C4A1A66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322E5C-F5E7-4800-A45E-CE8650E678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BDA1AF-ADB1-4B65-BE3A-5E08D48E70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7FC1E7-CC3D-4F97-B1D1-73961C7F3E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8B6BCC-38FA-49B8-9E42-F4CCA89979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93"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5"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C2C754-B4B6-4C58-A162-DE60915F10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9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9"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0B5407-49F5-40CF-A463-77D45212A5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1"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2"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BA76A5-8437-4592-8F0C-F1A1AEC283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7"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F9FC95-3698-4D35-AA89-D3EB1E2B83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7"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2"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EC0AA-D0F8-48CC-BAC5-F43955997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9"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0"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1"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2"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3"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4"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C69EC4-1A16-452E-AA07-C8BE4DC2C8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C78B4A-8570-4CD8-9D66-0B274BD360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1"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F65311-6B60-48D5-97CF-6B0A19EAB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3"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69867A-5B21-48A3-A8AB-85FA494174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2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741F0D-EB60-44B4-A8AF-75A816841D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69CF2E-6097-4FB3-AA91-B00AB855BB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C33A71-2B0B-4F3A-96EC-843639BE77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3C3F55-C92F-4669-BFE8-C916ED5557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6"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05407E-48FC-4157-A38A-5F6D81B8C1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0"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D24524-90EA-479B-BCD6-6ABCF4ECD6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E4228-9253-40FE-83BF-F26D2FCA5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42"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3"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D8F295-996C-4589-951E-FF28BAB59E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4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8"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D32FA5-7AF5-4D3F-929F-8EC61DD2DC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50"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1"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2"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3"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4"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5"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AEE427-A37F-46D4-B8C9-6FB0BB448C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7F2C2E-C96E-481E-8873-ECDBA1C45F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2"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2C5CA9-8C4B-4306-BE10-A01516922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4"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960F70-292A-4957-86CE-E357A7E8DA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6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BA1636-BDD7-4816-B1D8-EEC7988589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E4DA5D-0D22-436D-946A-C023C517B0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4CA783-2865-471C-8259-A730622E18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DDC864-FB29-4D2C-8763-B1CE2ABA01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71F6D-8735-4BD2-A8E6-5B794DE00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7"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99F165-CF08-499C-8983-FBDC75077D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1"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832135-721B-4AE4-A4DA-02D26C1CB8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3"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4"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CAD1E7-D550-4E2A-8D0A-595B0D94B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9"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D720FB-C901-456C-AA35-E1979C70D9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1"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2"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3"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4"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5"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6"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414485-DC0E-4B85-96DB-19B77A2CAD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9BAC28-F760-4834-80CD-4471CFCE84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3"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BFAA5B-E5CF-4900-B05E-9C058B9613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5"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DA2BDB-4352-4A98-977C-C0CDADD1FC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0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1E2662-7F0B-465E-9883-3E8FDC724A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63DB93-CCE3-4491-9D49-0B3337831E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3"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1FAF8-ACF6-4632-A661-C5090DBB0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A330C7-AB83-440D-9E2A-B6BDDD297B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5D1041-54F6-4A39-8C63-88DD583A3B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8"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9D03D7-E411-472C-9D4F-81793D5563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2"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2B41B-EECA-4629-8245-CA51D21CBC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4"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5"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AB21C0-D4E6-488D-B8C2-DE6E5B0485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0"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51B60C-13F0-4612-BADA-B78A560E51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32"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3"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4"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5"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6"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7"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7F940A-2049-4BA4-8807-D70406A8F5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761823-E165-41EE-8E0A-F8F2678C7E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4"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5CDEFB-B333-41BA-AC0E-FD87D0AE3B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6"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AD5FC0-2B9F-46B5-B66E-42F2D4CD95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711BE-4539-4673-95E3-B3EA142E5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9"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E944DB-B2E5-451A-94FD-687C070EA9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ADA304-096C-43D5-AA45-84C2058BFC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CE3C7F-2A55-4D37-9441-5232E05BE1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4"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5"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A9A68D-9155-490E-A6CE-291AC7E498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9"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EA1C1E-BB9E-49F6-B978-9150FCD2AF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3"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5A26C2-744F-4DBE-88BC-0BE85F5EAB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5"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6"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D5A1B2-833E-4263-904B-5EDCFC9D88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0"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1"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90045C-879C-4A5B-A8C4-2CEA63B442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73"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4"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5"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6"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7"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8"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49E8BE-6964-4BC5-80F5-773F128BE2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7845ED2-045A-4CFD-925B-91274F18143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704E7-6759-4B2F-ABD1-ECDD4244F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5"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8A1BCE-BBBF-4A08-92AA-3DD84B8E20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7"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5DF0FB4-0143-4B1D-819C-00EFA63E31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32A4F3-14A1-45BB-AB61-CF184A0B8F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2191493-001D-4721-BBCB-6F5B31D678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158087-2BC0-41AD-84DD-6FFA687066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9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9BE464-3DC0-4E42-8FDE-9A85D49F23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9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0"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5037A7-D01C-4074-9A3F-8AEEAD212E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4"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DE114F-5B75-42FF-A379-C8D84F06F2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6"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7"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CF91C7-C2E6-4284-ABF4-780624C509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2"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07BB76-0DEB-4035-8A22-A1F564F39E3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3C166-DC49-45F0-A285-8C2FD9FE1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14"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5"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6"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7"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8"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9"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AE21BF-B5B7-480F-A91A-63F97A5E25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5B6378-6D8D-49BF-948B-0A8A090EBF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26"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FEA179-743B-48D6-A990-14ED222591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28"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247ACB-83C1-450E-8BA9-1ECC26CBF9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01F8AB-EB23-4B03-8593-7AB5F29CEF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45B716-E49B-4794-9375-18E65361A1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C88526-FB25-4BAA-996D-0998B05792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2B7C1D-3BD5-4081-8C1B-9F4DB9B253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1"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5BEAE3-2784-45EF-A33F-A321345645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5"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132B22-AE7C-4746-BA33-F067625117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AB4AE-BA66-49A4-A47B-FE2808418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7"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8"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92F0F0-65C7-4ED9-BE46-C3C28E0357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5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3"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447308-06A6-44F0-98E0-8AB4DEBB92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55"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6"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7"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8"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9"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60"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8BA8C2A-5818-4C83-8A2C-6B11537474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39C88-0BAB-4E2A-9608-076A2648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6"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98D1B-0C3F-4634-B4C5-851262FA6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48B1A-4E4D-4FE2-BD2B-11412882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2"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3"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ADE66-6B80-4B48-9AA5-F812FEE30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8"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63812-C052-4A74-9E0F-25AC9CD09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0"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1"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2"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4"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5"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225E0-F971-42C9-ACE3-0C07E9625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2EE83-48A4-4C94-BB78-5BEF4D2AE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2"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1C577-2325-406B-8AA2-504011375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4"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A28BC-499B-41DF-895D-BED762734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FBDED-9BB3-4AD5-A7FC-DCD990297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49E59-2214-4B38-AE87-8E3786A07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D1CB-D042-4F41-B855-742A3162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0F360-327B-4D92-9D1E-7B336E5AF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40074-BCAC-4C4D-B47E-71D0CD4C6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7"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E1481-0948-4D04-95C7-D69EE91FE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1"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86B8D-37C6-4178-A594-A11700751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3"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4"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4FC6B-6091-4ED3-8DD6-F4215C350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9"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DBD55-8CC4-4690-8035-1D856BFC3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2"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3"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4"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5"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6"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3AADA-100D-48D7-8862-1AFBDF3A28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D234E-D5BE-4A38-AA62-28450A486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3"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15F8A-9085-434C-9AE8-B7A44606C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5"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D321D-C1B2-4E45-841A-D3447DAC3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A961-6DE7-4190-A01B-68577523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E340A-4102-4D8D-94C0-C01B89195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3DCA0-CC31-4C6C-AC58-77B63BFDA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DED8B-A06A-4B2A-8D8E-0BD29B2ED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4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A4876-46E7-4EA9-9898-A4021EB38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4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8"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F6B5E-2C60-42DB-9EB7-D15252E49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2"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3E8C4-6564-4A3B-8DE4-D206F88D9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4"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5"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18D05-C56B-4BE5-9E14-C32C6D56B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0"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64CDEB-1178-4364-9288-25F687406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62"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3"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4"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6"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7"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B1BD0D-D2E9-4631-82CF-FC0EF798D3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828083-DD17-4837-888C-1B5B596CB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1410-7FF7-4027-AC12-7FE9B18F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5"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12122-DF23-4E74-A6A7-594CD4FFC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7"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44ACA-B16D-4ACE-B790-9E8975B5D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C95DA-6F30-4A28-9D03-9A334F5B0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D3A65-1882-486B-B381-053681465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A03E9-DBFD-456C-9E81-7820056CE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8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CD281-DAC6-4084-822D-A09C4FF92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8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0"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5C145-9085-43E9-8DAB-BD83BEB13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4"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8FA4A-B172-46DF-9D8F-71E93CCDE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6"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7"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2FE9F-9113-4CD4-A489-C14B64B70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2"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86C66A-B661-4ED0-B296-952585A51F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FC1AE-E005-47F0-AF0C-5075BF72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04"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5"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6"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7"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8"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9"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61F28-8BA5-4D26-8350-2931787B22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4249C-85DB-4660-9443-294F7F47E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6"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F3D9C-A8A2-41C9-86AA-FD404253D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8"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E9C69-A838-4EFC-B97B-E23E126C8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1E10C-88FD-40A0-A7BF-780AAF462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E5FECA-EAC2-4461-85C5-DA42693F4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71ABD-CC29-4639-8EF3-C14F97A4A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6F677-D35D-48E2-9D00-3DB4252CE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1"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40530-6A90-43DF-A4FF-A9B503E22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5"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1B9F4-5848-4396-96D6-C4FF38228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7B6B-6977-40A3-A1FE-FBEE3A97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7"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8"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CB2AB-6361-4028-AB2C-CB017242FA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4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3"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531204-D431-4C4F-9457-81A8086A3D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45"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6"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7"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8"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9"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50"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1481B0-E7F3-42F2-B759-FE271C88E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BEC021-7D67-4D4B-8C3A-BF93AF95A3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7"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26DBC-15CD-47E7-8C27-75327C07A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9"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89CF9-9A11-4682-A55B-A955F83AC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03991-39F0-40F7-AE88-62155B5AF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0B6EA8-48CD-48EB-8CF2-FE04E3C9E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10F12-D698-450A-A496-191D86445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1470B-1215-4BCE-8D96-6361ABB08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0CF3-439D-42ED-AC80-BBC69305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2"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A1209-3599-45E6-A493-C4CFBE2A8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6"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513DD-4678-4F06-8C5E-56D1B0433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8"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9"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2863E-1D29-4580-A263-C8E6A0728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4"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DDC292-6CCB-43C3-9663-9E2AA4E427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6"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7"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8"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9"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0"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1"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965D8A-754F-4FEC-8CF1-649BC576AC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9E10E8-EC54-47B3-87A7-9E4F4C1D7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98"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E9F34B-DAAF-4727-A95C-7AB972BBD3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0"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18A15-738A-4AF6-9BB8-3971F133F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6933D-3CD5-4074-8FD3-CF671D7C9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6EC28-5A84-46BD-BC99-75F6DA85C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2C08-898B-421D-B607-4A052C93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E79277-0E9E-40CD-B55B-FCD96EEF9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2F10E-DF85-46E5-BFC6-7993DAE13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3"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32A4C-4190-46C1-83B2-F1E134F7F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7"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16299-8FD4-4777-98F3-A65E4435E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9"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0"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67211-83D2-4FC7-8909-6DB4E85F7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5"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40CF9E-C166-420E-934D-8B16641640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7"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8"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9"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0"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1"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2"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7ECC93-D2F6-42F7-9013-FC1B01235D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252A30-B347-44C7-AFD4-FBDCAC502B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39"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172F7-6167-427B-B34E-B56F958D6B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1"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E2BD4-C69E-46BA-A9BE-AFEC992AF1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ndle_bokeh-wallpaper-2560x1600"/>
          <p:cNvPicPr/>
          <p:nvPr/>
        </p:nvPicPr>
        <p:blipFill>
          <a:blip r:embed="rId2"/>
          <a:srcRect l="56016" t="0" r="0" b="0"/>
          <a:stretch/>
        </p:blipFill>
        <p:spPr>
          <a:xfrm>
            <a:off x="4738680" y="-33480"/>
            <a:ext cx="3720960" cy="5469120"/>
          </a:xfrm>
          <a:prstGeom prst="rect">
            <a:avLst/>
          </a:prstGeom>
          <a:ln w="0">
            <a:noFill/>
          </a:ln>
        </p:spPr>
      </p:pic>
      <p:sp>
        <p:nvSpPr>
          <p:cNvPr id="1" name="Rectangle 3"/>
          <p:cNvSpPr/>
          <p:nvPr/>
        </p:nvSpPr>
        <p:spPr>
          <a:xfrm>
            <a:off x="-12600" y="-31680"/>
            <a:ext cx="5825880" cy="543708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3"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4" name="PlaceHolder 3"/>
          <p:cNvSpPr>
            <a:spLocks noGrp="1"/>
          </p:cNvSpPr>
          <p:nvPr>
            <p:ph type="dt" idx="1"/>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sldNum" idx="3"/>
          </p:nvPr>
        </p:nvSpPr>
        <p:spPr>
          <a:xfrm>
            <a:off x="6063840" y="4916160"/>
            <a:ext cx="1971720" cy="374760"/>
          </a:xfrm>
          <a:prstGeom prst="rect">
            <a:avLst/>
          </a:prstGeom>
          <a:noFill/>
          <a:ln w="0">
            <a:noFill/>
          </a:ln>
        </p:spPr>
        <p:txBody>
          <a:bodyPr lIns="79200" rIns="79200" tIns="39600" bIns="39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F021-1B49-45B7-A3C2-277D56413AB4}" type="slidenum">
              <a:rPr b="0" lang="zh-CN" sz="700" spc="-1" strike="noStrike">
                <a:solidFill>
                  <a:srgbClr val="a0c6ea"/>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375"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376" name="PlaceHolder 3"/>
          <p:cNvSpPr>
            <a:spLocks noGrp="1"/>
          </p:cNvSpPr>
          <p:nvPr>
            <p:ph type="dt" idx="28"/>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5A1A-80F4-4B3A-AA29-6061CB6888CD}"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377" name="PlaceHolder 4"/>
          <p:cNvSpPr>
            <a:spLocks noGrp="1"/>
          </p:cNvSpPr>
          <p:nvPr>
            <p:ph type="ftr" idx="29"/>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8" name="PlaceHolder 5"/>
          <p:cNvSpPr>
            <a:spLocks noGrp="1"/>
          </p:cNvSpPr>
          <p:nvPr>
            <p:ph type="sldNum" idx="30"/>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14DF-E8ED-4891-B775-DE01A8924212}"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16"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17" name="PlaceHolder 3"/>
          <p:cNvSpPr>
            <a:spLocks noGrp="1"/>
          </p:cNvSpPr>
          <p:nvPr>
            <p:ph type="dt" idx="31"/>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4B6E-FA35-474B-8F8F-66A7E9AE8DFC}"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418" name="PlaceHolder 4"/>
          <p:cNvSpPr>
            <a:spLocks noGrp="1"/>
          </p:cNvSpPr>
          <p:nvPr>
            <p:ph type="ftr" idx="32"/>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9" name="PlaceHolder 5"/>
          <p:cNvSpPr>
            <a:spLocks noGrp="1"/>
          </p:cNvSpPr>
          <p:nvPr>
            <p:ph type="sldNum" idx="33"/>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8441-CA44-42B0-AAA4-ABD542F45E16}"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57"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58" name="PlaceHolder 3"/>
          <p:cNvSpPr>
            <a:spLocks noGrp="1"/>
          </p:cNvSpPr>
          <p:nvPr>
            <p:ph type="dt" idx="34"/>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1D2D-5B1A-4F25-9846-E15410812938}"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459" name="PlaceHolder 4"/>
          <p:cNvSpPr>
            <a:spLocks noGrp="1"/>
          </p:cNvSpPr>
          <p:nvPr>
            <p:ph type="ftr" idx="35"/>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60" name="PlaceHolder 5"/>
          <p:cNvSpPr>
            <a:spLocks noGrp="1"/>
          </p:cNvSpPr>
          <p:nvPr>
            <p:ph type="sldNum" idx="36"/>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209E-23AD-49C9-88A6-071811D2F03B}"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98"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99" name="PlaceHolder 3"/>
          <p:cNvSpPr>
            <a:spLocks noGrp="1"/>
          </p:cNvSpPr>
          <p:nvPr>
            <p:ph type="dt" idx="37"/>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2C60-CF70-4356-BA35-1CE6B6345D80}"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500" name="PlaceHolder 4"/>
          <p:cNvSpPr>
            <a:spLocks noGrp="1"/>
          </p:cNvSpPr>
          <p:nvPr>
            <p:ph type="ftr" idx="38"/>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1" name="PlaceHolder 5"/>
          <p:cNvSpPr>
            <a:spLocks noGrp="1"/>
          </p:cNvSpPr>
          <p:nvPr>
            <p:ph type="sldNum" idx="39"/>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ED7D-02EF-4BE2-8A3D-C4F96D7DFF32}"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539"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540" name="PlaceHolder 3"/>
          <p:cNvSpPr>
            <a:spLocks noGrp="1"/>
          </p:cNvSpPr>
          <p:nvPr>
            <p:ph type="dt" idx="40"/>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EF19-BCAB-4877-98AE-E514B69C81B9}"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541" name="PlaceHolder 4"/>
          <p:cNvSpPr>
            <a:spLocks noGrp="1"/>
          </p:cNvSpPr>
          <p:nvPr>
            <p:ph type="ftr" idx="41"/>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2" name="PlaceHolder 5"/>
          <p:cNvSpPr>
            <a:spLocks noGrp="1"/>
          </p:cNvSpPr>
          <p:nvPr>
            <p:ph type="sldNum" idx="42"/>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BB57-43D0-4926-BB5B-A90A6B3EF186}"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580"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581" name="PlaceHolder 3"/>
          <p:cNvSpPr>
            <a:spLocks noGrp="1"/>
          </p:cNvSpPr>
          <p:nvPr>
            <p:ph type="dt" idx="43"/>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8B3E-56EB-4EA8-B252-D5AE9F5605BD}"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582" name="PlaceHolder 4"/>
          <p:cNvSpPr>
            <a:spLocks noGrp="1"/>
          </p:cNvSpPr>
          <p:nvPr>
            <p:ph type="ftr" idx="44"/>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3" name="PlaceHolder 5"/>
          <p:cNvSpPr>
            <a:spLocks noGrp="1"/>
          </p:cNvSpPr>
          <p:nvPr>
            <p:ph type="sldNum" idx="45"/>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E39D-592E-48F0-A8ED-2E017A480B9E}"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621"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622" name="PlaceHolder 3"/>
          <p:cNvSpPr>
            <a:spLocks noGrp="1"/>
          </p:cNvSpPr>
          <p:nvPr>
            <p:ph type="dt" idx="46"/>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144C-EF9A-4EED-B25E-910A43A92FA8}"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623" name="PlaceHolder 4"/>
          <p:cNvSpPr>
            <a:spLocks noGrp="1"/>
          </p:cNvSpPr>
          <p:nvPr>
            <p:ph type="ftr" idx="47"/>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4" name="PlaceHolder 5"/>
          <p:cNvSpPr>
            <a:spLocks noGrp="1"/>
          </p:cNvSpPr>
          <p:nvPr>
            <p:ph type="sldNum" idx="48"/>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7C46-D7FB-440F-A6D1-74BB3BCE16AE}"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candle_bokeh-wallpaper-2560x1600"/>
          <p:cNvPicPr/>
          <p:nvPr/>
        </p:nvPicPr>
        <p:blipFill>
          <a:blip r:embed="rId2"/>
          <a:srcRect l="50592" t="0" r="24144" b="0"/>
          <a:stretch/>
        </p:blipFill>
        <p:spPr>
          <a:xfrm>
            <a:off x="-15840" y="-39600"/>
            <a:ext cx="2133720" cy="5475240"/>
          </a:xfrm>
          <a:prstGeom prst="rect">
            <a:avLst/>
          </a:prstGeom>
          <a:ln w="0">
            <a:noFill/>
          </a:ln>
        </p:spPr>
      </p:pic>
      <p:sp>
        <p:nvSpPr>
          <p:cNvPr id="44" name="Rectangle 3"/>
          <p:cNvSpPr/>
          <p:nvPr/>
        </p:nvSpPr>
        <p:spPr>
          <a:xfrm>
            <a:off x="1655640" y="-39600"/>
            <a:ext cx="6823080" cy="539100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36699"/>
                </a:solidFill>
                <a:latin typeface="Arial"/>
              </a:rPr>
              <a:t>Click to edit the title text format</a:t>
            </a:r>
            <a:endParaRPr b="0" lang="en-US" sz="3100" spc="-1" strike="noStrike">
              <a:solidFill>
                <a:srgbClr val="336699"/>
              </a:solidFill>
              <a:latin typeface="Arial"/>
            </a:endParaRPr>
          </a:p>
        </p:txBody>
      </p:sp>
      <p:sp>
        <p:nvSpPr>
          <p:cNvPr id="46" name="PlaceHolder 2"/>
          <p:cNvSpPr>
            <a:spLocks noGrp="1"/>
          </p:cNvSpPr>
          <p:nvPr>
            <p:ph type="body"/>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Click to edit the outline text format</a:t>
            </a:r>
            <a:endParaRPr b="0" lang="en-US" sz="1900" spc="-1" strike="noStrike">
              <a:solidFill>
                <a:srgbClr val="99ccff"/>
              </a:solidFill>
              <a:latin typeface="Arial"/>
            </a:endParaRPr>
          </a:p>
          <a:p>
            <a:pPr lvl="1" marL="727200" indent="-2793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cond Outline Level</a:t>
            </a:r>
            <a:endParaRPr b="0" lang="en-US" sz="1900" spc="-1" strike="noStrike">
              <a:solidFill>
                <a:srgbClr val="99ccff"/>
              </a:solidFill>
              <a:latin typeface="Arial"/>
            </a:endParaRPr>
          </a:p>
          <a:p>
            <a:pPr lvl="2" marL="111924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Third Outline Level</a:t>
            </a:r>
            <a:endParaRPr b="0" lang="en-US" sz="1900" spc="-1" strike="noStrike">
              <a:solidFill>
                <a:srgbClr val="99ccff"/>
              </a:solidFill>
              <a:latin typeface="Arial"/>
            </a:endParaRPr>
          </a:p>
          <a:p>
            <a:pPr lvl="3" marL="1566720" indent="-2235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ourth Outline Level</a:t>
            </a:r>
            <a:endParaRPr b="0" lang="en-US" sz="1900" spc="-1" strike="noStrike">
              <a:solidFill>
                <a:srgbClr val="99ccff"/>
              </a:solidFill>
              <a:latin typeface="Arial"/>
            </a:endParaRPr>
          </a:p>
          <a:p>
            <a:pPr lvl="4" marL="201456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ifth Outline Level</a:t>
            </a:r>
            <a:endParaRPr b="0" lang="en-US" sz="1900" spc="-1" strike="noStrike">
              <a:solidFill>
                <a:srgbClr val="99ccff"/>
              </a:solidFill>
              <a:latin typeface="Arial"/>
            </a:endParaRPr>
          </a:p>
          <a:p>
            <a:pPr lvl="5"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ixth Outline Level</a:t>
            </a:r>
            <a:endParaRPr b="0" lang="en-US" sz="1900" spc="-1" strike="noStrike">
              <a:solidFill>
                <a:srgbClr val="99ccff"/>
              </a:solidFill>
              <a:latin typeface="Arial"/>
            </a:endParaRPr>
          </a:p>
          <a:p>
            <a:pPr lvl="6"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venth Outline Level</a:t>
            </a:r>
            <a:endParaRPr b="0" lang="en-US" sz="1900" spc="-1" strike="noStrike">
              <a:solidFill>
                <a:srgbClr val="99ccff"/>
              </a:solidFill>
              <a:latin typeface="Arial"/>
            </a:endParaRPr>
          </a:p>
        </p:txBody>
      </p:sp>
      <p:sp>
        <p:nvSpPr>
          <p:cNvPr id="47" name="PlaceHolder 3"/>
          <p:cNvSpPr>
            <a:spLocks noGrp="1"/>
          </p:cNvSpPr>
          <p:nvPr>
            <p:ph type="dt" idx="4"/>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8" name="PlaceHolder 4"/>
          <p:cNvSpPr>
            <a:spLocks noGrp="1"/>
          </p:cNvSpPr>
          <p:nvPr>
            <p:ph type="ftr" idx="5"/>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5"/>
          <p:cNvSpPr>
            <a:spLocks noGrp="1"/>
          </p:cNvSpPr>
          <p:nvPr>
            <p:ph type="sldNum" idx="6"/>
          </p:nvPr>
        </p:nvSpPr>
        <p:spPr>
          <a:xfrm>
            <a:off x="606384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D9FF-A75C-42A5-95C3-D6CBB16D8CAA}" type="slidenum">
              <a:rPr b="0" lang="zh-CN" sz="800" spc="-1" strike="noStrike">
                <a:solidFill>
                  <a:srgbClr val="580000"/>
                </a:solidFill>
                <a:latin typeface="微软雅黑"/>
                <a:ea typeface="微软雅黑"/>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87" name="PlaceHolder 2"/>
          <p:cNvSpPr>
            <a:spLocks noGrp="1"/>
          </p:cNvSpPr>
          <p:nvPr>
            <p:ph type="body"/>
          </p:nvPr>
        </p:nvSpPr>
        <p:spPr>
          <a:xfrm>
            <a:off x="423360" y="1258920"/>
            <a:ext cx="7612200" cy="3564000"/>
          </a:xfrm>
          <a:prstGeom prst="rect">
            <a:avLst/>
          </a:prstGeom>
          <a:noFill/>
          <a:ln w="0">
            <a:noFill/>
          </a:ln>
        </p:spPr>
        <p:txBody>
          <a:bodyPr lIns="89640" rIns="89640" tIns="44640" bIns="44640" anchor="t">
            <a:normAutofit fontScale="89000"/>
          </a:bodyPr>
          <a:p>
            <a:pPr marL="299520" indent="-2995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646920" indent="-24840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99612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394280" indent="-1987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8" name="PlaceHolder 3"/>
          <p:cNvSpPr>
            <a:spLocks noGrp="1"/>
          </p:cNvSpPr>
          <p:nvPr>
            <p:ph type="dt" idx="7"/>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PlaceHolder 4"/>
          <p:cNvSpPr>
            <a:spLocks noGrp="1"/>
          </p:cNvSpPr>
          <p:nvPr>
            <p:ph type="ftr" idx="8"/>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5"/>
          <p:cNvSpPr>
            <a:spLocks noGrp="1"/>
          </p:cNvSpPr>
          <p:nvPr>
            <p:ph type="sldNum" idx="9"/>
          </p:nvPr>
        </p:nvSpPr>
        <p:spPr>
          <a:xfrm>
            <a:off x="6063840" y="4916160"/>
            <a:ext cx="1971720" cy="374760"/>
          </a:xfrm>
          <a:prstGeom prst="rect">
            <a:avLst/>
          </a:prstGeom>
          <a:noFill/>
          <a:ln w="0">
            <a:noFill/>
          </a:ln>
        </p:spPr>
        <p:txBody>
          <a:bodyPr lIns="89640" rIns="8964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0879-22E1-4575-9364-B4859A40F6A7}"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28"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129" name="PlaceHolder 3"/>
          <p:cNvSpPr>
            <a:spLocks noGrp="1"/>
          </p:cNvSpPr>
          <p:nvPr>
            <p:ph type="dt" idx="10"/>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F556-3051-4642-87BD-A60C300E627E}"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130" name="PlaceHolder 4"/>
          <p:cNvSpPr>
            <a:spLocks noGrp="1"/>
          </p:cNvSpPr>
          <p:nvPr>
            <p:ph type="ftr" idx="11"/>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 name="PlaceHolder 5"/>
          <p:cNvSpPr>
            <a:spLocks noGrp="1"/>
          </p:cNvSpPr>
          <p:nvPr>
            <p:ph type="sldNum" idx="12"/>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24E7-D55F-4187-9FDC-34DB7B9CEFDA}"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F:/candle_bokeh-wallpaper-2560x1600.jpgcandle_bokeh-wallpaper-2560x1600"/>
          <p:cNvPicPr/>
          <p:nvPr/>
        </p:nvPicPr>
        <p:blipFill>
          <a:blip r:embed="rId2"/>
          <a:stretch/>
        </p:blipFill>
        <p:spPr>
          <a:xfrm>
            <a:off x="0" y="-33480"/>
            <a:ext cx="8459640" cy="5469120"/>
          </a:xfrm>
          <a:prstGeom prst="rect">
            <a:avLst/>
          </a:prstGeom>
          <a:ln w="0">
            <a:noFill/>
          </a:ln>
        </p:spPr>
      </p:pic>
      <p:sp>
        <p:nvSpPr>
          <p:cNvPr id="169"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170"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171" name="PlaceHolder 3"/>
          <p:cNvSpPr>
            <a:spLocks noGrp="1"/>
          </p:cNvSpPr>
          <p:nvPr>
            <p:ph type="dt" idx="13"/>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2" name="PlaceHolder 4"/>
          <p:cNvSpPr>
            <a:spLocks noGrp="1"/>
          </p:cNvSpPr>
          <p:nvPr>
            <p:ph type="ftr" idx="14"/>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3" name="PlaceHolder 5"/>
          <p:cNvSpPr>
            <a:spLocks noGrp="1"/>
          </p:cNvSpPr>
          <p:nvPr>
            <p:ph type="sldNum" idx="15"/>
          </p:nvPr>
        </p:nvSpPr>
        <p:spPr>
          <a:xfrm>
            <a:off x="6063840" y="4916160"/>
            <a:ext cx="1971720" cy="374760"/>
          </a:xfrm>
          <a:prstGeom prst="rect">
            <a:avLst/>
          </a:prstGeom>
          <a:noFill/>
          <a:ln w="0">
            <a:noFill/>
          </a:ln>
        </p:spPr>
        <p:txBody>
          <a:bodyPr lIns="79200" rIns="79200" tIns="39600" bIns="396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6E27-C8E2-4979-8ABC-A46B21188AB3}"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11"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12" name="PlaceHolder 3"/>
          <p:cNvSpPr>
            <a:spLocks noGrp="1"/>
          </p:cNvSpPr>
          <p:nvPr>
            <p:ph type="dt" idx="16"/>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DC71-583E-4DDC-899F-02B3546AF6F5}"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213" name="PlaceHolder 4"/>
          <p:cNvSpPr>
            <a:spLocks noGrp="1"/>
          </p:cNvSpPr>
          <p:nvPr>
            <p:ph type="ftr" idx="17"/>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5"/>
          <p:cNvSpPr>
            <a:spLocks noGrp="1"/>
          </p:cNvSpPr>
          <p:nvPr>
            <p:ph type="sldNum" idx="18"/>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C380-6B39-4020-883A-0E36F7843791}"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52"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53" name="PlaceHolder 3"/>
          <p:cNvSpPr>
            <a:spLocks noGrp="1"/>
          </p:cNvSpPr>
          <p:nvPr>
            <p:ph type="dt" idx="19"/>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A047-E8DF-4BD1-B71D-901CBA0114C9}"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254" name="PlaceHolder 4"/>
          <p:cNvSpPr>
            <a:spLocks noGrp="1"/>
          </p:cNvSpPr>
          <p:nvPr>
            <p:ph type="ftr" idx="20"/>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5"/>
          <p:cNvSpPr>
            <a:spLocks noGrp="1"/>
          </p:cNvSpPr>
          <p:nvPr>
            <p:ph type="sldNum" idx="21"/>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6E68-EB8A-47F4-A39C-81B95F08A902}"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93"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94" name="PlaceHolder 3"/>
          <p:cNvSpPr>
            <a:spLocks noGrp="1"/>
          </p:cNvSpPr>
          <p:nvPr>
            <p:ph type="dt" idx="22"/>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E212-EEFF-4B1F-9B67-5A3212BD2600}"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295" name="PlaceHolder 4"/>
          <p:cNvSpPr>
            <a:spLocks noGrp="1"/>
          </p:cNvSpPr>
          <p:nvPr>
            <p:ph type="ftr" idx="23"/>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6" name="PlaceHolder 5"/>
          <p:cNvSpPr>
            <a:spLocks noGrp="1"/>
          </p:cNvSpPr>
          <p:nvPr>
            <p:ph type="sldNum" idx="24"/>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0AC1-5B6E-419A-849A-213ED23F5CFE}"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334"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335" name="PlaceHolder 3"/>
          <p:cNvSpPr>
            <a:spLocks noGrp="1"/>
          </p:cNvSpPr>
          <p:nvPr>
            <p:ph type="dt" idx="25"/>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721B-E1BD-428F-B233-FA9B75D7914B}"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336" name="PlaceHolder 4"/>
          <p:cNvSpPr>
            <a:spLocks noGrp="1"/>
          </p:cNvSpPr>
          <p:nvPr>
            <p:ph type="ftr" idx="26"/>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7" name="PlaceHolder 5"/>
          <p:cNvSpPr>
            <a:spLocks noGrp="1"/>
          </p:cNvSpPr>
          <p:nvPr>
            <p:ph type="sldNum" idx="27"/>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408C-6A2B-4773-85EC-5F97F3E38F7F}"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886360" y="179280"/>
            <a:ext cx="2511360" cy="8812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3500" spc="-1" strike="noStrike">
                <a:solidFill>
                  <a:srgbClr val="ffffff"/>
                </a:solidFill>
                <a:latin typeface="Arial"/>
              </a:rPr>
              <a:t>烛光</a:t>
            </a:r>
            <a:endParaRPr b="0" lang="en-US" sz="3500" spc="-1" strike="noStrike">
              <a:solidFill>
                <a:srgbClr val="336699"/>
              </a:solidFill>
              <a:latin typeface="Arial"/>
            </a:endParaRPr>
          </a:p>
        </p:txBody>
      </p:sp>
      <p:sp>
        <p:nvSpPr>
          <p:cNvPr id="662" name="PlaceHolder 2"/>
          <p:cNvSpPr>
            <a:spLocks noGrp="1"/>
          </p:cNvSpPr>
          <p:nvPr>
            <p:ph type="subTitle"/>
          </p:nvPr>
        </p:nvSpPr>
        <p:spPr>
          <a:xfrm>
            <a:off x="4827240" y="1060560"/>
            <a:ext cx="3570120" cy="799920"/>
          </a:xfrm>
          <a:prstGeom prst="rect">
            <a:avLst/>
          </a:prstGeom>
          <a:noFill/>
          <a:ln w="0">
            <a:noFill/>
          </a:ln>
        </p:spPr>
        <p:txBody>
          <a:bodyPr lIns="0" rIns="0" tIns="0" bIns="0" anchor="t">
            <a:noAutofit/>
          </a:bodyPr>
          <a:p>
            <a:pPr indent="0" algn="ctr">
              <a:spcBef>
                <a:spcPts val="400"/>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0" lang="zh-CN"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700" spc="-1" strike="noStrike">
                <a:solidFill>
                  <a:srgbClr val="336699"/>
                </a:solidFill>
                <a:latin typeface="Arial"/>
              </a:rPr>
              <a:t>烛光</a:t>
            </a:r>
            <a:endParaRPr b="0" lang="en-US" sz="2700" spc="-1" strike="noStrike">
              <a:solidFill>
                <a:srgbClr val="336699"/>
              </a:solidFill>
              <a:latin typeface="Arial"/>
            </a:endParaRPr>
          </a:p>
        </p:txBody>
      </p:sp>
      <p:sp>
        <p:nvSpPr>
          <p:cNvPr id="664" name="PlaceHolder 2"/>
          <p:cNvSpPr>
            <a:spLocks noGrp="1"/>
          </p:cNvSpPr>
          <p:nvPr>
            <p:ph/>
          </p:nvPr>
        </p:nvSpPr>
        <p:spPr>
          <a:xfrm>
            <a:off x="42372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
        <p:nvSpPr>
          <p:cNvPr id="665" name="PlaceHolder 3"/>
          <p:cNvSpPr>
            <a:spLocks noGrp="1"/>
          </p:cNvSpPr>
          <p:nvPr>
            <p:ph/>
          </p:nvPr>
        </p:nvSpPr>
        <p:spPr>
          <a:xfrm>
            <a:off x="254628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2"/>
          <p:cNvSpPr/>
          <p:nvPr/>
        </p:nvSpPr>
        <p:spPr>
          <a:xfrm>
            <a:off x="341280" y="324000"/>
            <a:ext cx="1006560" cy="1008000"/>
          </a:xfrm>
          <a:prstGeom prst="flowChartProcess">
            <a:avLst/>
          </a:prstGeom>
          <a:solidFill>
            <a:srgbClr val="336699">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烛光</a:t>
            </a:r>
            <a:endParaRPr b="0" lang="en-US" sz="1500" spc="-1" strike="noStrike">
              <a:solidFill>
                <a:srgbClr val="000000"/>
              </a:solidFill>
              <a:latin typeface="Arial"/>
            </a:endParaRPr>
          </a:p>
        </p:txBody>
      </p:sp>
      <p:sp>
        <p:nvSpPr>
          <p:cNvPr id="667" name="AutoShape 3"/>
          <p:cNvSpPr/>
          <p:nvPr/>
        </p:nvSpPr>
        <p:spPr>
          <a:xfrm>
            <a:off x="973080" y="955800"/>
            <a:ext cx="1006560" cy="1006200"/>
          </a:xfrm>
          <a:prstGeom prst="flowChartProcess">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668" name="AutoShape 4"/>
          <p:cNvSpPr/>
          <p:nvPr/>
        </p:nvSpPr>
        <p:spPr>
          <a:xfrm>
            <a:off x="1565280" y="1585800"/>
            <a:ext cx="1006560" cy="1008000"/>
          </a:xfrm>
          <a:prstGeom prst="flowChartProcess">
            <a:avLst/>
          </a:prstGeom>
          <a:solidFill>
            <a:srgbClr val="0099cc">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669" name="Text Box 5"/>
          <p:cNvSpPr/>
          <p:nvPr/>
        </p:nvSpPr>
        <p:spPr>
          <a:xfrm>
            <a:off x="378000" y="2822400"/>
            <a:ext cx="16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670" name="Line 6"/>
          <p:cNvSpPr/>
          <p:nvPr/>
        </p:nvSpPr>
        <p:spPr>
          <a:xfrm>
            <a:off x="628560" y="1332000"/>
            <a:ext cx="1800" cy="149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
          <p:cNvSpPr/>
          <p:nvPr/>
        </p:nvSpPr>
        <p:spPr>
          <a:xfrm>
            <a:off x="1979640" y="1260360"/>
            <a:ext cx="95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Text Box 8"/>
          <p:cNvSpPr/>
          <p:nvPr/>
        </p:nvSpPr>
        <p:spPr>
          <a:xfrm>
            <a:off x="2933640" y="117000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673" name="Line 9"/>
          <p:cNvSpPr/>
          <p:nvPr/>
        </p:nvSpPr>
        <p:spPr>
          <a:xfrm>
            <a:off x="2571840" y="2593800"/>
            <a:ext cx="577800" cy="5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Text Box 10"/>
          <p:cNvSpPr/>
          <p:nvPr/>
        </p:nvSpPr>
        <p:spPr>
          <a:xfrm>
            <a:off x="3222720" y="323388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3100" spc="-1" strike="noStrike">
                <a:solidFill>
                  <a:srgbClr val="336699"/>
                </a:solidFill>
                <a:latin typeface="Arial"/>
              </a:rPr>
              <a:t>烛光</a:t>
            </a:r>
            <a:endParaRPr b="0" lang="en-US" sz="3100" spc="-1" strike="noStrike">
              <a:solidFill>
                <a:srgbClr val="336699"/>
              </a:solidFill>
              <a:latin typeface="Arial"/>
            </a:endParaRPr>
          </a:p>
        </p:txBody>
      </p:sp>
      <p:sp>
        <p:nvSpPr>
          <p:cNvPr id="676"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3211560"/>
            <a:ext cx="8459640" cy="2190600"/>
          </a:xfrm>
          <a:prstGeom prst="rect">
            <a:avLst/>
          </a:prstGeom>
          <a:gradFill rotWithShape="0">
            <a:gsLst>
              <a:gs pos="0">
                <a:srgbClr val="336699">
                  <a:alpha val="60000"/>
                </a:srgbClr>
              </a:gs>
              <a:gs pos="100000">
                <a:srgbClr val="9966ff"/>
              </a:gs>
            </a:gsLst>
            <a:lin ang="5400000"/>
          </a:gradFill>
          <a:ln w="0">
            <a:noFill/>
          </a:ln>
        </p:spPr>
        <p:style>
          <a:lnRef idx="0"/>
          <a:fillRef idx="0"/>
          <a:effectRef idx="0"/>
          <a:fontRef idx="minor"/>
        </p:style>
        <p:txBody>
          <a:bodyPr wrap="none" lIns="89640" rIns="8964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8" name="Text Box 3"/>
          <p:cNvSpPr/>
          <p:nvPr/>
        </p:nvSpPr>
        <p:spPr>
          <a:xfrm>
            <a:off x="368280" y="1111320"/>
            <a:ext cx="5330880" cy="97344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800" spc="-1" strike="noStrike">
                <a:solidFill>
                  <a:srgbClr val="336699"/>
                </a:solidFill>
                <a:latin typeface="Arial"/>
                <a:ea typeface="微软雅黑"/>
              </a:rPr>
              <a:t>谢谢观赏 </a:t>
            </a:r>
            <a:r>
              <a:rPr b="1" i="1" lang="en-US" sz="5800" spc="-1" strike="noStrike">
                <a:solidFill>
                  <a:srgbClr val="336699"/>
                </a:solidFill>
                <a:latin typeface="Arial"/>
                <a:ea typeface="微软雅黑"/>
              </a:rPr>
              <a:t>!</a:t>
            </a:r>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9" name="Group 2"/>
          <p:cNvGrpSpPr/>
          <p:nvPr/>
        </p:nvGrpSpPr>
        <p:grpSpPr>
          <a:xfrm>
            <a:off x="630360" y="0"/>
            <a:ext cx="6665760" cy="5398920"/>
            <a:chOff x="630360" y="0"/>
            <a:chExt cx="6665760" cy="5398920"/>
          </a:xfrm>
        </p:grpSpPr>
        <p:sp>
          <p:nvSpPr>
            <p:cNvPr id="680" name="矩形 4"/>
            <p:cNvSpPr/>
            <p:nvPr/>
          </p:nvSpPr>
          <p:spPr>
            <a:xfrm>
              <a:off x="1162800" y="0"/>
              <a:ext cx="5261040" cy="56628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微软雅黑"/>
                  <a:ea typeface="微软雅黑"/>
                </a:rPr>
                <a:t>欢迎访问</a:t>
              </a:r>
              <a:r>
                <a:rPr b="1" lang="zh-CN" sz="3100" spc="-1" strike="noStrike">
                  <a:solidFill>
                    <a:srgbClr val="000000"/>
                  </a:solidFill>
                  <a:latin typeface="微软雅黑"/>
                  <a:ea typeface="微软雅黑"/>
                </a:rPr>
                <a:t>PPT</a:t>
              </a:r>
              <a:r>
                <a:rPr b="1" lang="zh-CN" sz="3100" spc="-1" strike="noStrike">
                  <a:solidFill>
                    <a:srgbClr val="000000"/>
                  </a:solidFill>
                  <a:latin typeface="微软雅黑"/>
                  <a:ea typeface="微软雅黑"/>
                </a:rPr>
                <a:t>之家</a:t>
              </a:r>
              <a:r>
                <a:rPr b="1" lang="zh-CN" sz="3100" spc="-1" strike="noStrike">
                  <a:solidFill>
                    <a:srgbClr val="000000"/>
                  </a:solidFill>
                  <a:latin typeface="微软雅黑"/>
                  <a:ea typeface="微软雅黑"/>
                </a:rPr>
                <a:t>--- eeppt.com </a:t>
              </a:r>
              <a:endParaRPr b="0" lang="en-US" sz="3100" spc="-1" strike="noStrike">
                <a:solidFill>
                  <a:srgbClr val="000000"/>
                </a:solidFill>
                <a:latin typeface="Arial"/>
              </a:endParaRPr>
            </a:p>
          </p:txBody>
        </p:sp>
        <p:pic>
          <p:nvPicPr>
            <p:cNvPr id="681" name="Picture 4" descr="http://www.elixirinteractive.com/LookFeel/elixirinteractive.com/images/headers/brand-awareness.jpg">
              <a:hlinkClick r:id="rId1"/>
            </p:cNvPr>
            <p:cNvPicPr/>
            <p:nvPr/>
          </p:nvPicPr>
          <p:blipFill>
            <a:blip r:embed="rId2"/>
            <a:stretch/>
          </p:blipFill>
          <p:spPr>
            <a:xfrm>
              <a:off x="630360" y="1349640"/>
              <a:ext cx="6665760" cy="4049280"/>
            </a:xfrm>
            <a:prstGeom prst="rect">
              <a:avLst/>
            </a:prstGeom>
            <a:ln w="0">
              <a:noFill/>
            </a:ln>
          </p:spPr>
        </p:pic>
        <p:sp>
          <p:nvSpPr>
            <p:cNvPr id="682" name="TextBox 7"/>
            <p:cNvSpPr/>
            <p:nvPr/>
          </p:nvSpPr>
          <p:spPr>
            <a:xfrm rot="20926800">
              <a:off x="2140920" y="2798280"/>
              <a:ext cx="3674520" cy="9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70c0"/>
                  </a:solidFill>
                  <a:latin typeface="微软雅黑"/>
                  <a:ea typeface="微软雅黑"/>
                </a:rPr>
                <a:t>免费</a:t>
              </a:r>
              <a:r>
                <a:rPr b="1" lang="zh-CN" sz="2500" spc="-1" strike="noStrike">
                  <a:solidFill>
                    <a:srgbClr val="0070c0"/>
                  </a:solidFill>
                  <a:latin typeface="微软雅黑"/>
                  <a:ea typeface="微软雅黑"/>
                </a:rPr>
                <a:t>ppt</a:t>
              </a:r>
              <a:r>
                <a:rPr b="1" lang="zh-CN" sz="2500" spc="-1" strike="noStrike">
                  <a:solidFill>
                    <a:srgbClr val="0070c0"/>
                  </a:solidFill>
                  <a:latin typeface="微软雅黑"/>
                  <a:ea typeface="微软雅黑"/>
                </a:rPr>
                <a:t>模板下载</a:t>
              </a:r>
              <a:r>
                <a:rPr b="0" lang="en-US" sz="2500" spc="-1" strike="noStrike" u="sng">
                  <a:solidFill>
                    <a:srgbClr val="009999"/>
                  </a:solidFill>
                  <a:uFillTx/>
                  <a:latin typeface="微软雅黑"/>
                  <a:ea typeface="微软雅黑"/>
                  <a:hlinkClick r:id="rId3"/>
                </a:rPr>
                <a:t>www.</a:t>
              </a:r>
              <a:r>
                <a:rPr b="0" lang="zh-CN" sz="2500" spc="-1" strike="noStrike" u="sng">
                  <a:solidFill>
                    <a:srgbClr val="009999"/>
                  </a:solidFill>
                  <a:uFillTx/>
                  <a:latin typeface="微软雅黑"/>
                  <a:ea typeface="微软雅黑"/>
                  <a:hlinkClick r:id="rId4"/>
                </a:rPr>
                <a:t>eeppt</a:t>
              </a:r>
              <a:r>
                <a:rPr b="0" lang="en-US" sz="2500" spc="-1" strike="noStrike" u="sng">
                  <a:solidFill>
                    <a:srgbClr val="009999"/>
                  </a:solidFill>
                  <a:uFillTx/>
                  <a:latin typeface="微软雅黑"/>
                  <a:ea typeface="微软雅黑"/>
                  <a:hlinkClick r:id="rId5"/>
                </a:rPr>
                <a:t>.com</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dc:language>en-US</dc:language>
  <cp:lastModifiedBy>a</cp:lastModifiedBy>
  <dcterms:modified xsi:type="dcterms:W3CDTF">2015-03-17T05:39:37Z</dcterms:modified>
  <cp:revision>6</cp:revision>
  <dc:subject/>
  <dc:title>烛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