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F1B-B232-4631-81C7-5E6D7C4B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1E5-388C-40D1-823C-1C0D1699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58E26-6A26-44E7-ADBB-31EB076D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5A4CE-22DA-4806-9930-E6F4A27A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2330D-1DCF-4BB0-BAB8-2B3DF0A9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D8118-16FC-4C47-B4C1-A9953CE4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E72AC-530D-4C6D-A00E-F0BDA679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ABCCF-5F2D-4AED-8EF7-E59C20F1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BD548-53E9-400E-AD56-2454FD24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DD79C-883E-41E1-AE17-FD7A0F6B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EE845-CD17-4C9E-AB2F-33FC0CEC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26E12-4F12-49E0-AF38-FCA1D412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BB6-D577-47C3-8CAE-6ADFF28F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B8888-1CFF-4387-8CF0-35913CE2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8B00B-4ECD-4A63-945F-53A6D7E8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EFC03-45D1-456E-8B56-CCE45E0C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86C3F-699C-486C-AB18-DC815A56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94217-4FFD-40A0-9F6E-4862B408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84262-1B63-4FD4-AD72-0230BB76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D3DC7-7375-48CE-992D-E9DAB280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0250A-D666-43C8-A595-3726CFAB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177FA-2D76-4768-A75C-0E5E96EB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8031B-3387-4D93-AFC7-810A1948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3D4-4047-410C-BD00-6192C01C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0F18A-4700-47FA-A5CA-5FBDF267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4CC32-1287-47E2-8D2D-6FEC98C8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F1DAF-2F3B-4598-9004-D5F990F8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9F40A-7391-4BA1-97CB-19C16330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7FE6E-5A5A-4416-9567-E8778DF6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D8024-4F41-4125-853D-24B67E03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8B853-5353-4621-85B4-A03543B4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C0A82-96AA-43A4-B886-FCA326C3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1A485-9917-416D-95B9-522AFE8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5208E-D331-405E-AF10-0BF9FFC5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8588-BA1A-4B4A-81CB-694DA68B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51462-7453-4ECE-85A6-8529A16E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9ADF2-5510-4F68-8E74-914D929C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490A7-CF52-41B0-9D0B-A6B1A4D6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F4FAF-D935-4CF1-8506-B1EAEACB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5B45B-4F1C-40FD-95D7-301911DA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1AB31-089E-484C-A450-A96A32CD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16668-D429-4515-8783-C88CB8CE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751E1-21E3-41A3-BBDF-949A08CF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5CB9F-76EB-4DB9-8A3E-8144DBCB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6D93D-252C-40D0-87E3-82DE9340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FCC5-F485-441E-8B0A-9880B89B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ACC8E-0E24-40E9-9D61-318170F4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5E17F-B1DE-45BC-9EF7-8F48CED4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A855C-967E-41D0-80CD-D1F32E70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7FA32-FB06-40C3-8532-8BBF1D1F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C2ED0-BE74-4472-BC3C-AEB0A39F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A0195-D491-4773-9114-3AA18B34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9C36B-7BE6-4D6A-9861-95526B27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404BD-123B-4A25-BDD2-BA1852ED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25C85-5443-439C-A64E-593718C5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CC0BE-C914-4F2C-BE5A-E969336E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6E5B-C354-4AFD-AA39-114AE9C7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943E5-94B5-47B3-A705-E1BFEC3B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663B0-C673-4C2B-A55F-EAAE2D9B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9FE7E-424D-40C9-B904-4F60CB8C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5A440-D34A-4650-8E88-DAF5DC6B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C5336-288C-46BB-AE53-7E47A249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AFEF9-BA8C-4527-940F-C7174025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D5F94-05A2-487A-BB91-8504D518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1FF7E-01B2-4E54-9469-ABA34838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0612F-4CE4-448D-B4ED-895DD86E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F1CF83-6F5A-41C4-BD7A-1143FC6D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C379-AB1E-49F4-8BEE-B46407C9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6A28A-9AE6-40C4-854F-51D091C8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093A2-4212-4944-A47D-CC20B9C1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AE695-0266-40DA-8DD3-330604D0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E9788-BFDE-412A-B9FC-242B3DA0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C6A12-2590-4F40-BE25-01FFD0E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10C7F-E8A3-4D43-9219-0F07A4BC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847ED-E6F2-4581-A9F6-D4AD338C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2EFDB-FA97-490B-B1CB-6A34A14A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DD5862-F374-4DFA-B6AB-016DC617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DF83-0558-4671-9C2A-DC1C5AF5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A61C-8B3A-40C7-A132-01A9A1C4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E195-CC56-4E39-8BAF-7C2C0D5C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C82-717B-49B2-853C-68632ACA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6D5D-BA7B-4DC6-A690-1571E5D0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C390-2398-48EA-BDE6-00A2DF93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169D-7C30-45EA-A41F-C272F4AC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0356-99B4-4077-8FDE-D9146890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821B-B96A-42A1-8299-D1B7583E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865D5-EF7B-4193-8B14-25570E91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DB67-2C0D-4D5A-8E84-F67F4338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826F-A5FA-406A-8E3B-A3FCAD60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B258-7FDD-44EA-B1FA-497D912E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E0DA1-1511-40B2-BD29-EF3E80A5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D05-E9B6-4F37-B8FE-BF46C252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9D9C-C981-4ABC-80D6-402AB736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687C-FAD6-472D-9B25-6E53A04C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80DB-8BF7-4E41-93F2-72382E19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A7DD3-0EDF-467C-AEE2-C154C394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AE635-B356-4919-8E63-83F67A49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97644-2BA6-4930-830D-1895DAB0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B5BE-32F5-4C6C-AB9E-B84578B8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9B6D7-D2BA-4212-9E74-9174EF82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9865-FED6-4468-B923-0827AFDC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508C0-2DA0-49E8-B542-499A199C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225-D661-436C-9DCE-1884DA7A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3EE5-DC0F-4DEB-AE62-9EC07822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3D289-84DD-4649-A798-848CB23F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233E-31D6-434E-9C1E-035172B0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DE7A-FAE5-4C47-9059-7399609D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AE9D1-B8DE-4E31-833C-8D703140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23F76-4AF8-4CDB-BC0D-B5BC50C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DF4C5-65AA-4C64-8FCD-4C4BFB1B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4E3A5-75DB-4DCC-9A7A-B4A16D73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572F-6065-4A87-AD8F-130937B9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29F1-76A8-4175-981F-1D0B1502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0E9-27C4-4D66-95F9-34A08CFF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7401B-AD02-42EF-9B31-C450848F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6A1BC-B7DF-414C-A019-E57727E2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D75E9-48A4-42DE-ADAE-F1F3347A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FDE1F-C4B4-4A37-82B9-03EEC928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984F-FB8C-49A7-9AC0-D09683DD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4B45-2465-497A-9D73-D8C5EE11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85B4A-BAA6-4E7A-993B-70342774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D4D71-CECF-4A82-96C5-B3A4CBA8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B4817-50B5-4D71-AB92-7A2F11F4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31B0B-D4E4-4285-8FB6-9D25D90A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938-8FB0-499C-A303-0EF559DF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56E2A-A63C-4816-B95B-3238E915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D1AE3-763E-4D60-A611-7B764097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4680B-34E9-4CBC-B415-9B76B57D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5F222-5BF7-4918-87F5-2FD6225B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DDAA6-0CC7-445D-9575-FC77851E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7E070-2125-4FBC-87B3-BE1591EB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60323-75AF-4C20-9972-F2769B3F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78FC8-127B-490E-83BD-2730D5A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3E32E-E526-4372-97CC-E4DD99EA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71A56-44B5-4E23-A23B-C2E6FEF8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47E-F9F6-4C56-9A78-802D698E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8C81C-6F0C-4A65-94BC-32668FB2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7012C-B188-4BB3-BA2E-C2558656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7719B-FA94-42AC-A083-280F9E5B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92622-7778-4C94-AA9F-733A75F4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3C771-8039-45BD-9DBD-429B092A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6281A-0A84-4E01-926B-704B5E36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D04D7-5C13-47E4-A486-11128B7D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98C19-E630-404A-9CB0-0213C1E8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30533-691B-4C88-ADDF-7B7775F7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63EA0-91F4-418D-A518-89E8F067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89D-3146-41AD-8648-A8166C0B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786F9-5A25-42B4-AAE8-5205C401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ABD3A-241E-47D1-B86D-FBB544BD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E779B-E9FF-4562-949C-3836DE4A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A4F95-E882-48FD-A44B-5E9A7286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3BD38-9B51-42EF-BF4C-71F69753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146AC-1586-47A7-80D9-C5E99FC6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FF7B3-392D-4920-98A0-9308B47E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300B5-3857-408A-BCC9-4EB1E420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AC96D-C409-40C4-832E-E7137CD0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152FF-D01F-4471-A17F-116014E9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00E-0A0C-4099-A49B-2EF55AC3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EA837-91CB-423D-83F0-E73E17B6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8377F-3622-4B81-8E61-CAB3C5A6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C2B80-D6CD-4DE4-BAD0-B8B40DA9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333AF-126D-4961-A383-F0D0AEE7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829DB-898A-4A9F-8D1F-46370BF7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9D824-A323-4D75-88E9-DB59EA3F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CB096-BDEE-4C34-B3C7-683B102F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72769-10D0-43E5-A0FF-F35B9976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E45BD-4893-4BDD-91B5-A5D285FC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44C0F-476F-48AF-ABD0-65F90966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426A-F2E0-42A6-A257-E1DBC1BB613C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B10E-FC74-4792-B31A-DC1979C2951A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4106-C303-4755-8CAC-AC85AAA5C2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2C94-B23B-4B54-93BD-E43FF112AD70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550C-DEFD-4EFC-AC52-A430033639C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31C0-D624-45C0-B9FF-ADDD1151D745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D754-78A1-42F0-A1A1-DCA9D822FE1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D20B-448E-4D4D-9A19-3E67FE3CC635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47F2-188C-4E7D-A9E8-EBE0C1BF3C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C8E2-7CD9-4DFD-891C-8F390278DDD4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2F24-B534-4E72-A9E6-73650D0B234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F6B9-500A-4853-8ECC-F8AAD3B6C5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14D3-81EE-42BD-B268-200CDD3D44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4787-6BD9-4C20-BBF3-9DDF2ABF5D44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0289-079D-4A30-ADF7-0F875A56EA1A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EBE8-0AF4-4DC9-991F-E7F751192AA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B03B-98BC-4CDE-98F2-688DB7A07C72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7136-91F2-41B7-A7D2-07649B4282E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D973-F0CD-42B6-B5B0-E49FD93F1658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4497-5EF2-499C-B527-1BBE41F832F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9DE8-2879-493D-B500-585D2C184714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6C25-4308-44BE-A853-C5546807434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C6DA-5BC6-4A62-99E4-4A2F3CF3A0A7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6AFB-84CF-4118-877F-057F4C97695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112A-8C1F-4CED-A86C-85C2BA443CEE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6582-208C-40CB-B517-68D64D8D3C4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&#26399;&#26395;&#29702;&#35770;&#22312;&#22870;&#37329;&#21457;&#25918;&#20013;&#30340;&#24212;&#29992;.doc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aeaea"/>
                </a:solidFill>
                <a:latin typeface="Tahoma"/>
              </a:rPr>
              <a:t>管理心理学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86920" y="242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1692360" y="3141720"/>
            <a:ext cx="640080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            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车丽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　 上海理工大学   副教授  硕士生导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42920" y="19890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 提高（企业的）劳动生产率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7280" y="303840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规律性              科学管理方法         领导水平、艺术                调动人积极性、创造性、主观能动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Line 4"/>
          <p:cNvSpPr/>
          <p:nvPr/>
        </p:nvSpPr>
        <p:spPr>
          <a:xfrm>
            <a:off x="2771640" y="3357720"/>
            <a:ext cx="1152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Line 5"/>
          <p:cNvSpPr/>
          <p:nvPr/>
        </p:nvSpPr>
        <p:spPr>
          <a:xfrm>
            <a:off x="6588000" y="3429000"/>
            <a:ext cx="648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Line 6"/>
          <p:cNvSpPr/>
          <p:nvPr/>
        </p:nvSpPr>
        <p:spPr>
          <a:xfrm>
            <a:off x="3276720" y="3933720"/>
            <a:ext cx="1296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42920" y="191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  对劳动者进行管理教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16000" y="3296880"/>
            <a:ext cx="69184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加强政治思想教育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人性化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需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动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8336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完善理论体系、推进管理现代化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58920" y="2565000"/>
            <a:ext cx="729936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应用理论科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四、管理心理学的研究方法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5856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 个案研究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例，研究一个组织中的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Tahoma"/>
              </a:rPr>
              <a:t>人际关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c66ff"/>
                </a:solidFill>
                <a:latin typeface="宋体"/>
              </a:rPr>
              <a:t>※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观察法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en-US" sz="2000" spc="-1" strike="noStrike">
                <a:solidFill>
                  <a:srgbClr val="cc66ff"/>
                </a:solidFill>
                <a:latin typeface="宋体"/>
              </a:rPr>
              <a:t>※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谈话法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en-US" sz="2000" spc="-1" strike="noStrike">
                <a:solidFill>
                  <a:srgbClr val="cc66ff"/>
                </a:solidFill>
                <a:latin typeface="宋体"/>
              </a:rPr>
              <a:t>※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活动产品分析法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en-US" sz="2000" spc="-1" strike="noStrike">
                <a:solidFill>
                  <a:srgbClr val="cc66ff"/>
                </a:solidFill>
                <a:latin typeface="宋体"/>
              </a:rPr>
              <a:t>※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经验规律总结法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1331640" y="2204640"/>
            <a:ext cx="701676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实证研究法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、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心理测验法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、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宏观与微观环境条件分析法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66ccff"/>
                </a:solidFill>
                <a:latin typeface="Times New Roman"/>
              </a:rPr>
              <a:t>、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其它高科技方法的应用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定性与定量的结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参考书目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人的行为与组织管理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美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Paul.R.Timm &amp; Brent D. Peterson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著、钟谷兰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译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当代管理与心理学应用系列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中国轻工业出版社 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2004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版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People at Work: Human Behavior in Organizations (5th Edi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心理学导读系列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1116000" y="2133720"/>
            <a:ext cx="802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logy and Work Today:  An Introduction to Industrial and Organizational Psycholo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th Editio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（美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ane P. Schultz, Sydney Ellen Schultz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著， 时勘等译。 中国轻工业出版社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版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参考书目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7772400" cy="36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66cc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管理心理学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，第三版（上下册），俞文钊著，东方出版中心，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2002.7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66cc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组织管理心理学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王垒编著，北京大学出版社，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199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版。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66cc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管理心理学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周菲主编，清华大学与北京交通大学联合出版，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2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世纪经济学类管理类专业主干课程系列教材，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2005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版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第二章    管理心理学的产生和发展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9984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理论起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二、开创阶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、发展状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第三章  管理心理学的基础理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37160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传统管理理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古典管理理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泰勒的科学管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879560" indent="-5079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对劳资对抗、效率低现象的分析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879560" indent="-5079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科学管理目标    科学的劳动进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879560" indent="-5079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科学管理原则    科学地挑选和渐进培养工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879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二者结合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879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管理者与工人亲密、经久工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AutoShape 5"/>
          <p:cNvSpPr/>
          <p:nvPr/>
        </p:nvSpPr>
        <p:spPr>
          <a:xfrm>
            <a:off x="4932360" y="429264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第一部分  概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9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一章  管理心理学的对象、任务与方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二章  管理心理学的产生和发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三章  管理心理学的基础理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7280" y="2276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法约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管理理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企业活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管理的要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管理一般原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韦伯的组织理论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599840" y="242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权威结构理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权力种类           神授的权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传统的权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合理合法的权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理想的行政管理体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Line 4"/>
          <p:cNvSpPr/>
          <p:nvPr/>
        </p:nvSpPr>
        <p:spPr>
          <a:xfrm>
            <a:off x="3564000" y="3141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Line 5"/>
          <p:cNvSpPr/>
          <p:nvPr/>
        </p:nvSpPr>
        <p:spPr>
          <a:xfrm>
            <a:off x="3564000" y="3141720"/>
            <a:ext cx="11430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Line 6"/>
          <p:cNvSpPr/>
          <p:nvPr/>
        </p:nvSpPr>
        <p:spPr>
          <a:xfrm>
            <a:off x="3564000" y="3141720"/>
            <a:ext cx="121896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4292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厄威克和布莱克的管理原则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47640" y="19159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组织原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管理七职能论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DC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2920" y="191628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  人群关系理论</a:t>
            </a:r>
            <a:br>
              <a:rPr sz="2800"/>
            </a:b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 近现代管理理论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960560" y="3213000"/>
            <a:ext cx="7183440" cy="30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社会系统学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系统管理学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决策理论学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情景理论学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权变理论学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经验主义学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管理科学学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二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以人为本的管理思想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331640" y="234900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工业心理学的兴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.  Munsterbe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人际关系学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 E. Mayo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主要观点；评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三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人性假设的理论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692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人性假设含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代表人物观点    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人性假设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理论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理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人性另一假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 H. Schein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经济人、社会人、自我实现人、复杂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AutoShape 4"/>
          <p:cNvSpPr/>
          <p:nvPr/>
        </p:nvSpPr>
        <p:spPr>
          <a:xfrm>
            <a:off x="3492360" y="2997360"/>
            <a:ext cx="152640" cy="99036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四</a:t>
            </a: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以人为本的人力资源管理的基本观点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5892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人力资源在企业中作用的观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主体         目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重视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管理制度（以人中心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管理现代化与现代管理体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Line 4"/>
          <p:cNvSpPr/>
          <p:nvPr/>
        </p:nvSpPr>
        <p:spPr>
          <a:xfrm>
            <a:off x="2987640" y="3429000"/>
            <a:ext cx="546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五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以人为本的评价体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由以上可以得出，心理学、管理学的基础理论是管理心理学不可或缺的理论基础和组成部分。实施以人为本管理理念的心理评价指标体系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六感：方向感、信任感、成就感、温暖感、舒适感、实惠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第二部分  个性心理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42560" y="2204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ahoma"/>
              </a:rPr>
              <a:t>第四章  人的个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、什么是个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一）个性倾向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二）个性心理特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三）个性的基本特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二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.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气质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71640" y="2276280"/>
            <a:ext cx="7772400" cy="32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ahoma"/>
              </a:rPr>
              <a:t>（一）一般概念：个性心理特征之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ahoma"/>
              </a:rPr>
              <a:t>（二）气质学说与类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ahoma"/>
              </a:rPr>
              <a:t>（三）气质与管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气质之好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气质影响人的活动效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气质影响人的情感与行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管理者的气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我国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管理人员气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第一章  管理心理学的对象、任务与方法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7280" y="256500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研究对象与内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二、管理心理学的称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、管理心理学的任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四、管理心理学的研究方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三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性格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160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eaeaea"/>
                </a:solidFill>
                <a:latin typeface="Tahoma"/>
              </a:rPr>
              <a:t>（一）概念及特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性格的态度特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性格的意志特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性格的情绪特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性格的理智特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eaeaea"/>
                </a:solidFill>
                <a:latin typeface="Tahoma"/>
              </a:rPr>
              <a:t>（二）性格的类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（三）形成与发展</a:t>
            </a:r>
            <a:br>
              <a:rPr sz="2800"/>
            </a:br>
            <a:r>
              <a:rPr b="1" lang="zh-CN" sz="4400" spc="-1" strike="noStrike">
                <a:solidFill>
                  <a:srgbClr val="cc66ff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家庭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学校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社会实践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主观因素</a:t>
            </a:r>
            <a:br>
              <a:rPr sz="2400"/>
            </a:b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（四）性格与管理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四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.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能力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42920" y="2565360"/>
            <a:ext cx="77724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一）一般概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二）能力结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三）影响因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四）能力与管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第五章    </a:t>
            </a:r>
            <a:r>
              <a:rPr b="0" lang="zh-CN" sz="4000" spc="-1" strike="noStrike">
                <a:solidFill>
                  <a:srgbClr val="eaeaea"/>
                </a:solidFill>
                <a:latin typeface="Tahoma"/>
              </a:rPr>
              <a:t>人的需要和动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ahoma"/>
              </a:rPr>
              <a:t>一、需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什么是需要：是有机体内部的某种缺乏或不平衡状态，反映了个体对内在环境和外部生活条件的较稳定的要求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eaeaea"/>
                </a:solidFill>
                <a:latin typeface="Tahoma"/>
              </a:rPr>
              <a:t>需要        不安紧张       动机          寻找选择目标       行动       满足、紧张消除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eaeaea"/>
                </a:solidFill>
                <a:latin typeface="Tahoma"/>
              </a:rPr>
              <a:t>产生新的需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Line 4"/>
          <p:cNvSpPr/>
          <p:nvPr/>
        </p:nvSpPr>
        <p:spPr>
          <a:xfrm>
            <a:off x="2843280" y="479736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Line 5"/>
          <p:cNvSpPr/>
          <p:nvPr/>
        </p:nvSpPr>
        <p:spPr>
          <a:xfrm>
            <a:off x="5076720" y="479736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Line 7"/>
          <p:cNvSpPr/>
          <p:nvPr/>
        </p:nvSpPr>
        <p:spPr>
          <a:xfrm>
            <a:off x="3059280" y="522936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4643280" y="522936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Line 10"/>
          <p:cNvSpPr/>
          <p:nvPr/>
        </p:nvSpPr>
        <p:spPr>
          <a:xfrm>
            <a:off x="6588000" y="479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Line 12"/>
          <p:cNvSpPr/>
          <p:nvPr/>
        </p:nvSpPr>
        <p:spPr>
          <a:xfrm>
            <a:off x="7812000" y="530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、  需要的分类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据需要起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物性需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理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原发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社会性需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据指向对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物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精神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、 需要的理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8028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德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. Lew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美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 Mur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美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Maslow (Needs Hierarchy Theo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Alderfer. ERG 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cClel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、 需要与管理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6920" y="2707920"/>
            <a:ext cx="734076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需要层次论在企业管理中的作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满足职工需要的方法与途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二</a:t>
            </a: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.  </a:t>
            </a: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动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556400" cy="36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、什么是动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、动机的种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起源：生物性动机</a:t>
            </a:r>
            <a:r>
              <a:rPr b="0" lang="zh-CN" sz="2800" spc="-1" strike="noStrike">
                <a:solidFill>
                  <a:srgbClr val="cc66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社会性动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内容的性质：高尚</a:t>
            </a:r>
            <a:r>
              <a:rPr b="0" lang="zh-CN" sz="2800" spc="-1" strike="noStrike">
                <a:solidFill>
                  <a:srgbClr val="cc66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卑劣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范围、时间：长远的概括的</a:t>
            </a:r>
            <a:r>
              <a:rPr b="0" lang="zh-CN" sz="2800" spc="-1" strike="noStrike">
                <a:solidFill>
                  <a:srgbClr val="cc66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短暂的具体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意识：意识到的</a:t>
            </a:r>
            <a:r>
              <a:rPr b="0" lang="zh-CN" sz="2800" spc="-1" strike="noStrike">
                <a:solidFill>
                  <a:srgbClr val="cc66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未被意识到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引起动机原因：外在动机</a:t>
            </a:r>
            <a:r>
              <a:rPr b="0" lang="zh-CN" sz="2800" spc="-1" strike="noStrike">
                <a:solidFill>
                  <a:srgbClr val="cc66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内在动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、动机强度</a:t>
            </a:r>
            <a:r>
              <a:rPr b="0" lang="zh-CN" sz="3200" spc="-1" strike="noStrike">
                <a:solidFill>
                  <a:srgbClr val="eaeaea"/>
                </a:solidFill>
                <a:latin typeface="Tahoma"/>
              </a:rPr>
              <a:t>与工作效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 动机理论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403280" y="3022560"/>
            <a:ext cx="647712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享乐主义理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本能理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驱力理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诱因理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认知理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、研究方法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476000" y="3162240"/>
            <a:ext cx="533412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投射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观察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自陈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一、管理心理学的称谓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西方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工业与组织心理学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代美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it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心理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than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织行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i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织心理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汤淑贞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心理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ahoma"/>
              </a:rPr>
              <a:t>第六章    人的期望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16000" y="2276640"/>
            <a:ext cx="726768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 期望理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一）期望的概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指一个人根据以往的经验，在一定时间里希望达到的</a:t>
            </a:r>
            <a:r>
              <a:rPr b="0" lang="zh-CN" sz="2800" spc="-1" strike="noStrike" u="sng">
                <a:solidFill>
                  <a:srgbClr val="af1da5"/>
                </a:solidFill>
                <a:uFillTx/>
                <a:latin typeface="Tahoma"/>
              </a:rPr>
              <a:t>目标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或满足</a:t>
            </a:r>
            <a:r>
              <a:rPr b="0" lang="zh-CN" sz="2800" spc="-1" strike="noStrike" u="sng">
                <a:solidFill>
                  <a:srgbClr val="af1da5"/>
                </a:solidFill>
                <a:uFillTx/>
                <a:latin typeface="Tahoma"/>
              </a:rPr>
              <a:t>需要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的一种心理活动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（二）理论内容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这一理论认为，当人们有需要，又有达到目标的可能性时，积极性才会高。该理论用以下公式表示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ctanc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e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激励水平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期望值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效价的乘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表明动机的强烈程度、努力程度、积极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主观上对达到目标的可能性的估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个人对所从事的工作或所要达到的目标的估价、重视程度、评价高低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ahoma"/>
              </a:rPr>
              <a:t>（三）管理上的应用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奖金发放与绩效挂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期望理论与奖金发放中的应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点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 实现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效价与期望值的最佳结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二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价值观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人的期望的心理基础，它对调动人的积极性是非常重要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一）含义：是人们用来区分好坏标准并指导行为的心理倾向系统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1066320" y="25909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二）作用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三）经营管理价值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现代经营管理中最重要、核心的管理观念有哪些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三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目标管理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一）企业目标管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二）目标管理法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三）目标管理的作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1042560" y="198900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万销售收入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万元纯利润（目标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名职工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名初级主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设计一个完成这一目标的管理实施方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ahoma"/>
              </a:rPr>
              <a:t>第七章  人的挫折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87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、挫折的定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一）什么是挫折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二）产生原因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环境因素  自然环境：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噪声、照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外因）  社会环境：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人群关系紧张、风俗习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观因素  生理因素：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身高身材、视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内因）  心理因素：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需要或动机冲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AutoShape 4"/>
          <p:cNvSpPr/>
          <p:nvPr/>
        </p:nvSpPr>
        <p:spPr>
          <a:xfrm>
            <a:off x="2484360" y="371628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AutoShape 5"/>
          <p:cNvSpPr/>
          <p:nvPr/>
        </p:nvSpPr>
        <p:spPr>
          <a:xfrm>
            <a:off x="3995640" y="37162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AutoShape 6"/>
          <p:cNvSpPr/>
          <p:nvPr/>
        </p:nvSpPr>
        <p:spPr>
          <a:xfrm>
            <a:off x="4140360" y="4724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1187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三）个人对挫折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容忍力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le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二</a:t>
            </a: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受挫时的行为表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一）具体表现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攻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退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固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妥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二）防卫方式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合理化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妥协性措施）         投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替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表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压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Line 4"/>
          <p:cNvSpPr/>
          <p:nvPr/>
        </p:nvSpPr>
        <p:spPr>
          <a:xfrm>
            <a:off x="3733920" y="19810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Line 5"/>
          <p:cNvSpPr/>
          <p:nvPr/>
        </p:nvSpPr>
        <p:spPr>
          <a:xfrm>
            <a:off x="3733920" y="198108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3733920" y="1981080"/>
            <a:ext cx="99036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Line 7"/>
          <p:cNvSpPr/>
          <p:nvPr/>
        </p:nvSpPr>
        <p:spPr>
          <a:xfrm>
            <a:off x="3733920" y="1981080"/>
            <a:ext cx="9903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581280" y="37339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3581280" y="3733920"/>
            <a:ext cx="106704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Line 10"/>
          <p:cNvSpPr/>
          <p:nvPr/>
        </p:nvSpPr>
        <p:spPr>
          <a:xfrm>
            <a:off x="3581280" y="3733920"/>
            <a:ext cx="10670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Line 11"/>
          <p:cNvSpPr/>
          <p:nvPr/>
        </p:nvSpPr>
        <p:spPr>
          <a:xfrm>
            <a:off x="3581280" y="3733920"/>
            <a:ext cx="106704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Line 12"/>
          <p:cNvSpPr/>
          <p:nvPr/>
        </p:nvSpPr>
        <p:spPr>
          <a:xfrm>
            <a:off x="3581280" y="3733920"/>
            <a:ext cx="106704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二、研究对象与内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76360" y="2349360"/>
            <a:ext cx="6121440" cy="32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研究重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研究对象的特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研究内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三</a:t>
            </a: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挫折与管理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一）管理措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二）战胜挫折个人态度措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第三部分     管理行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八章     激励行为与决策行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九章     领导行为与组织行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十章     创新行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第八章  激励行为与决策行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激励行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一）一般概念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指的是持续激发人的动机的心理过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员工判别需要     寻找满足需要途径    选择指向目标行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员工修正需要     受到奖励或惩罚      员工采取行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Line 4"/>
          <p:cNvSpPr/>
          <p:nvPr/>
        </p:nvSpPr>
        <p:spPr>
          <a:xfrm>
            <a:off x="3132000" y="4365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Line 5"/>
          <p:cNvSpPr/>
          <p:nvPr/>
        </p:nvSpPr>
        <p:spPr>
          <a:xfrm>
            <a:off x="6012000" y="4365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Line 6"/>
          <p:cNvSpPr/>
          <p:nvPr/>
        </p:nvSpPr>
        <p:spPr>
          <a:xfrm>
            <a:off x="7020000" y="450864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Line 7"/>
          <p:cNvSpPr/>
          <p:nvPr/>
        </p:nvSpPr>
        <p:spPr>
          <a:xfrm flipH="1">
            <a:off x="5651640" y="5229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Line 8"/>
          <p:cNvSpPr/>
          <p:nvPr/>
        </p:nvSpPr>
        <p:spPr>
          <a:xfrm flipH="1">
            <a:off x="3131640" y="52293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Line 9"/>
          <p:cNvSpPr/>
          <p:nvPr/>
        </p:nvSpPr>
        <p:spPr>
          <a:xfrm flipV="1">
            <a:off x="2050920" y="450864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（二）重要作用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050920" y="2421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管理职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目标实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提高绩效   绩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能力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激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118728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三）主要方式   外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内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四）强化方法  巴甫洛夫 斯金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五）有效奖惩的实施方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AutoShape 4"/>
          <p:cNvSpPr/>
          <p:nvPr/>
        </p:nvSpPr>
        <p:spPr>
          <a:xfrm>
            <a:off x="4284720" y="24922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二、决策行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一）一般概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二）决策行为的过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三）决策者应有的思维特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广阔性   深刻性  独断力  敏捷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四）决策行为的思考方法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确定型   风险型   不确定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五）决策行为的系统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第九章  领导行为与组织行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领导行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领导的概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领导者的条件与功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具体领导行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领导班子的合理结构：年龄、知识、智能、素质、专业等，多维、动态的综合体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二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组织行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组织的一般概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组织的种类       正式组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非正式组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组织行为的程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组织结构的要素与图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组织行为的发展及应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Line 4"/>
          <p:cNvSpPr/>
          <p:nvPr/>
        </p:nvSpPr>
        <p:spPr>
          <a:xfrm>
            <a:off x="4140360" y="285264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Line 5"/>
          <p:cNvSpPr/>
          <p:nvPr/>
        </p:nvSpPr>
        <p:spPr>
          <a:xfrm>
            <a:off x="4140360" y="2852640"/>
            <a:ext cx="53316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第十章  创新行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32000" y="234936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创新的概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什么是创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创新与个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同：成就动机高、怀疑批判（从众）、意志品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异：各种创新家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创造人物的人格特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二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创新思维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258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创新思维过程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. Wall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四阶段理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创新思维的特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１、研究重点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16000" y="2637000"/>
            <a:ext cx="77724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　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组织管理中具体的社会心理现象及个体、群体、领导、组织中的具体心理活动的规律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三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创新的方法与影响因素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联想、类化等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in storm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缺点列举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影响因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环境 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外：社会政治制度、社会经济因素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文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内：企业文化、组织结构、激励制度、领导风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个体：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   定势（从众性、偏狭、刻板）个性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AutoShape 5"/>
          <p:cNvSpPr/>
          <p:nvPr/>
        </p:nvSpPr>
        <p:spPr>
          <a:xfrm>
            <a:off x="1763640" y="4149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AutoShape 6"/>
          <p:cNvSpPr/>
          <p:nvPr/>
        </p:nvSpPr>
        <p:spPr>
          <a:xfrm>
            <a:off x="2771640" y="414972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四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创业心理行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创业进程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识别评估市场机会     撰写经营计划    获取创业资源     管理企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创业准备： 创业意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创业心理素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创业能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创业知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716360" y="2924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Line 5"/>
          <p:cNvSpPr/>
          <p:nvPr/>
        </p:nvSpPr>
        <p:spPr>
          <a:xfrm>
            <a:off x="7740720" y="299736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3780000" y="3500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AutoShape 7"/>
          <p:cNvSpPr/>
          <p:nvPr/>
        </p:nvSpPr>
        <p:spPr>
          <a:xfrm>
            <a:off x="3419640" y="4076640"/>
            <a:ext cx="75960" cy="1828800"/>
          </a:xfrm>
          <a:custGeom>
            <a:avLst/>
            <a:gdLst>
              <a:gd name="textAreaLeft" fmla="*/ 48600 w 75960"/>
              <a:gd name="textAreaRight" fmla="*/ 76320 w 75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第四部分  人群心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00000" y="285264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十一章  劳动者与消费者心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十二章  青年心理与群体心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第十一章 劳动者与消费者心理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劳动者心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疲劳心理研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产生疲劳的因素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生理因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心理因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工作能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疲劳测定方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疲劳消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工作环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条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劳动者心理健康    标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青年人的心理健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Line 4"/>
          <p:cNvSpPr/>
          <p:nvPr/>
        </p:nvSpPr>
        <p:spPr>
          <a:xfrm>
            <a:off x="4356000" y="544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Line 5"/>
          <p:cNvSpPr/>
          <p:nvPr/>
        </p:nvSpPr>
        <p:spPr>
          <a:xfrm>
            <a:off x="4356000" y="544500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二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消费者心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消费者行为的过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影响消费者行为的心理因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知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学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机    心理类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态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影响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消费者行为的社会关系因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社会群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家庭群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AutoShape 4"/>
          <p:cNvSpPr/>
          <p:nvPr/>
        </p:nvSpPr>
        <p:spPr>
          <a:xfrm>
            <a:off x="1547640" y="321300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AutoShape 5"/>
          <p:cNvSpPr/>
          <p:nvPr/>
        </p:nvSpPr>
        <p:spPr>
          <a:xfrm>
            <a:off x="1547640" y="53006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Line 6"/>
          <p:cNvSpPr/>
          <p:nvPr/>
        </p:nvSpPr>
        <p:spPr>
          <a:xfrm>
            <a:off x="2340000" y="40053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第十二章 青年心理与群体心理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青年人心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我国当代青年心理发展特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心理发展实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具体心理行为特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青年人成功心理的塑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智力：观察力、注意力、记忆力、想象思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3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非智力因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1835280" y="3357720"/>
            <a:ext cx="75960" cy="53316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AutoShape 5"/>
          <p:cNvSpPr/>
          <p:nvPr/>
        </p:nvSpPr>
        <p:spPr>
          <a:xfrm>
            <a:off x="1835280" y="47242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二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群体心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群体的概念与组成要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有效人群关系的建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良好）标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方法    群体成员关系分析方法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相互作用过程分析法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团队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精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作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积极意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培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AutoShape 4"/>
          <p:cNvSpPr/>
          <p:nvPr/>
        </p:nvSpPr>
        <p:spPr>
          <a:xfrm>
            <a:off x="1547640" y="328464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AutoShape 5"/>
          <p:cNvSpPr/>
          <p:nvPr/>
        </p:nvSpPr>
        <p:spPr>
          <a:xfrm>
            <a:off x="2556000" y="371628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AutoShape 6"/>
          <p:cNvSpPr/>
          <p:nvPr/>
        </p:nvSpPr>
        <p:spPr>
          <a:xfrm>
            <a:off x="1547640" y="522936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任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活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相互作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感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为                 态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Oval 4"/>
          <p:cNvSpPr/>
          <p:nvPr/>
        </p:nvSpPr>
        <p:spPr>
          <a:xfrm>
            <a:off x="3780000" y="2492280"/>
            <a:ext cx="129672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Oval 5"/>
          <p:cNvSpPr/>
          <p:nvPr/>
        </p:nvSpPr>
        <p:spPr>
          <a:xfrm>
            <a:off x="1979640" y="3645000"/>
            <a:ext cx="1584360" cy="72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Oval 6"/>
          <p:cNvSpPr/>
          <p:nvPr/>
        </p:nvSpPr>
        <p:spPr>
          <a:xfrm>
            <a:off x="4859280" y="3716280"/>
            <a:ext cx="1297080" cy="682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Line 7"/>
          <p:cNvSpPr/>
          <p:nvPr/>
        </p:nvSpPr>
        <p:spPr>
          <a:xfrm flipH="1">
            <a:off x="3276360" y="297180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3708360" y="4076640"/>
            <a:ext cx="10573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4859280" y="30686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24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  <a:ea typeface="仿宋_GB2312"/>
              </a:rPr>
              <a:t>谢谢！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7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研究对象的特点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人系统：人的创造性、积极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纯粹的人的因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内环境因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 研究内容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个体心理的研究  有针对性地激励积极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群体心理的研究  心理行为特征、任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领导心理的研究  管理中率先垂范带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组织心理的研究  现代工业企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三、  管理心理学的任务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7724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提高劳动生产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对劳动者进行管理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完善理论体系、推进管理现代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</cp:lastModifiedBy>
  <dcterms:modified xsi:type="dcterms:W3CDTF">2015-03-17T05:41:19Z</dcterms:modified>
  <cp:revision>117</cp:revision>
  <dc:subject/>
  <dc:title>管理心理学（PPT 68页）</dc:title>
</cp:coreProperties>
</file>