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ftr" idx="3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8573-0F39-43E1-9B72-B5AE5B0D5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2C2B-4DCE-4271-9CF5-F62F558EEFB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317520" y="-12600"/>
            <a:ext cx="6224400" cy="46702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247680" y="4882680"/>
            <a:ext cx="6432480" cy="37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56243-0DDF-4B01-8C70-3194A61CE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11C66-DF24-40BD-9C5C-0AC0E25E385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1200AA-7B43-4034-91BF-BC52839E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065382-154B-43F8-B3C3-959ECCE0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36BF13-2E5A-42AF-8F24-70CE9E19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BE52AC-5D4B-4847-B0F1-FBE8FBA6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A06B18-9A47-494D-8D01-EF06AF22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AE3D30-63E2-45E2-94AC-80E33549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E0EC5D-CE72-4A67-B049-43EAD16C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EE6D42-7ACE-40C3-BD31-B667762F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96ABEE-1E6D-4E9F-98AC-5E29B924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6C99E2-1CCE-4353-AB52-19886109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72A4-4B7B-492B-89FA-52AC6BAB31E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0D8A06-6569-42FE-AB19-D9F2C5BE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1F3A25-867F-47EF-AFB4-08B14E7B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655717-88C1-4010-B71F-7BD1BDB6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7B1573-592F-479C-BBB8-6ED8D509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108002-A240-439E-9597-8909D7A0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728E56-7325-4B84-AB71-788F77D3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A4AEB-D1FE-44CC-A9E1-FCBD3E33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ACE6CB-C808-4916-ACC8-4B9E6CC6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F9CC27-58F6-4E13-8C59-C9135DDC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29BF42-D29A-4121-ACD9-FFEC13B1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E919D-7A37-474A-B258-E62D40A2FCF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C9395-752D-46CE-8DF4-11845498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562BC3-2AC6-4831-9C39-AE2915F7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78EA43-5E2B-46CD-AA4C-2320971D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68B825-9960-45D8-865E-7EEF05F6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DA6BF4-647F-45DB-858F-36F2FA60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9B7125-F1CD-43BD-9B25-03AE2AFF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1AB633-28E4-4442-9E19-651E34EA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628413-7055-4BFD-A0C3-CE1D0AB6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5751CF-823D-47F1-A2BF-B6B9FDAF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5D23D8-F629-4C84-ADC5-C8AC11EB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CA299-4C95-4971-B53D-AFD6AB53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EABAAD-05E0-4D25-AE01-5B0C6293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BA139-466D-40AF-8088-D21FE82B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5669CA-4CA6-4577-BF11-B37BF369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49DA8D0-93FA-4DC3-938E-80447FD2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43B90C-563B-479A-A8B3-42060EF9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87E93E-44C0-49FC-816D-36605AA7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C362261-5586-427A-98DA-0F4E06F7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AB21F3-13F5-4AC2-8A0A-440D3142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31DAD8-0574-48E6-A85F-76DDBFEE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B983F9-FA3E-4DD3-92A5-1C263860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3E9E0-689C-4F97-AB71-E8007D9E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8DDA26-5959-4A84-B610-551CE916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62EA69-25DD-4100-9729-CC328E65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4977B8-94AA-468C-92F2-5E18A203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A98C34-833A-4B5E-BF51-3CB0D8A9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D11A5B-6EA3-4CB0-9402-C665F70E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48C1D7-A92D-47F4-A3B7-E6C56967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AC0E25-9E5F-4F7E-8FA7-CA1F7C45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5186FD-A10C-4C3D-B4CD-024C2F94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BE1428-AEBE-42B4-B4A1-C1BD4A42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AE5A09-9EBD-4BE3-828A-907598B3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4F0B3-5E88-46EC-88ED-CACA3CA1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775A72-FA9E-4FB9-B71F-C1020092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93833C-7E6C-4CD5-8B3F-1EF89964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A74E77-87BB-4BF4-A6D1-36FFBCDE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992F0A-1007-4FB8-8E02-8E414DC8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325679-0875-4EBB-9668-FB01AEAE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FF4C04-A52D-4373-A795-C3A8CEA0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04617E-87B7-4146-A502-F24A595C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908947B-3260-479E-BDBE-26816D76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7805E47-B65B-4672-B816-893B411F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3E40AC7-4BA8-44FA-99CC-08B51E24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F721C-9838-4818-9A18-4A8AD8E7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175E1B4-9DEB-420A-81F2-DBBC0FB1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B54FC55-61BA-472D-80D6-47CF1D2B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EDEE03D-2D2A-47B3-937A-17656BC3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B789A42-6AC2-4305-A5E4-A25CEDE3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016FBFB-25A3-4587-AA1D-305402C0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3265CDA-72DF-433C-A5F4-ED974681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A7DFF57-D9A8-47E5-901C-5A93DAC0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9275731-FCBC-4315-AEC1-8CD38F4A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1A845C5-11D7-4C6B-B4F1-A4E1A16F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040A7-D543-425A-B3B8-F2355D97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FBB2A-31E6-481B-A281-792CB9EF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6BFCC-F06C-4BB7-8125-7EFAC90C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F92AB-ABB8-4226-A46F-8A49F9B4A6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60685-3B53-471A-990A-1B83CEF8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BA18B-8369-4863-B6B2-60DEE1FD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DB80F-0A0A-4E88-AFCE-8030B887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60276-5335-4713-A254-C6BEAC91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C6CA0-4F9F-4E58-8729-2EEB849C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DDB5E-8507-4D04-B197-5891C3676C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6A0461-9932-415B-8B85-E903FB19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82CD54-6FF4-4C49-BBCE-07992932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030B8D-05EC-4C43-91E9-AE2CFC74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37636-1C60-4630-9DCF-D4778715BEE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6B1F2A-B77D-43EA-858D-94CAF0EC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561F85-9164-4FC9-8A2F-D6E56212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DC2708-958C-48BB-A5BC-4AEBEAFD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62D904-F1B6-41EB-AB9D-7CE495FB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C33F0C-55EF-4C8E-A1BB-F74944F9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69C815-1A32-4A76-9CC4-60B2B087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B2F4DE-C894-43E0-AC00-15FF853B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957068-F161-4B21-A1E7-74F609A1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0C3827-46FB-4D66-915E-28EEB1EA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2E1C39-E37A-4E74-B24E-A41D359E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C81C2-CE33-4C10-91DB-FC3965A0CEF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46EAC7-2AD9-43FD-B382-E013B6F6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4B6271-A627-4CBD-8C1B-180C4216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AB4968-F413-4FD7-911D-E9C43F1E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564BF3-F805-4DA4-BC83-1B666DC3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3F4905-CBCE-414A-BCE0-2EAFCEDB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D17218-8D82-4440-885E-265E096C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2E7785-70B4-4C29-AD77-EBE9273E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8D274C-5B91-4419-B8DD-4CEBD994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8A95BC-6660-4AAD-844C-73AE3960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2BB64A-C9C0-4171-B965-F44295AA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77727-A739-48FC-810D-B97BCDD86F5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06BFC2-50CD-4BBA-89F5-06435C37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66A8A2-DCD4-4A9F-BB60-ECEB3B01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A5E398-5352-4166-8B03-DA3A050F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5D85C4-6132-4769-95D0-D396900F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40F46F-4B24-4103-AF12-723747E1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C62DDA-63A9-4CF0-B2A8-48C64810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9A57CD-CB5C-4FF0-9DEB-02877339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F579E6-03C7-4CF2-B74C-8B807F26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BE7C4A-0D9E-4468-B1DD-6C68C5C8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2A9EB7-7797-4742-A1DC-81562979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79423-B53C-4333-A700-44C6A7A2F5A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5E87D9-6AE6-4A97-AF24-39B804BF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8A425D-0F16-4E85-82D7-781C3F2F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5A6DCE-C762-4E44-8F2F-6B7C117A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7FF677-DCC2-46B5-B5A7-7222B22A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629BA1-DBD8-4F02-A5D5-F8319EB5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7885A4-5D84-4D47-B90B-227C3657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553BF3-511F-4797-A1C3-209E5263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688EAF-B1B1-4E62-A834-5F995D16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01407B-1B4C-4AB5-A319-55BCF9E7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736149-C06E-4817-8CC6-00F61F23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30FC-C31F-42F2-A5FC-A05EBE85943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DD60D6-4650-42D2-8FB7-7AF711A3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896190-21BA-48CF-9D27-559658C6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1B8946-E201-487E-81F9-D20F4AEF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EF511D-45D3-4D89-ABB5-4D70AA81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564518-8B52-47EF-AD73-B72AC483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AE1ACC-256B-4D2F-A2F4-1C7FC8CE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9E3CAD-B8B6-458B-BAEE-F800C503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4592E7-691C-4CB4-87EC-C74A6C11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70383F-E0B2-4320-B0FD-D4C941BB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6C4399-C3C4-44A9-9C14-CA988903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AF93-CA78-4745-B522-DDE203CF6E3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59E93C-6A2E-452C-A24B-7DF1A058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2CF007-6BB9-43F7-BE4E-EB9B51F3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7568A7-86A6-4343-8FCD-BCD31EC6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6D79E8-279B-4FA5-8BAC-E7B5F2CC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D5DCC6-2833-46C2-AFF5-953EE011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9B0DA6-3012-4108-92FB-7512572B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6C7181-B0F2-4028-8080-C0B61086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46B393-4270-4646-88DB-4244A500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BCAE9A-55F4-4B8E-804E-E121ADE9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BC5737-342F-46E8-8B35-D4258F71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5" descr="4"/>
          <p:cNvPicPr/>
          <p:nvPr/>
        </p:nvPicPr>
        <p:blipFill>
          <a:blip r:embed="rId2"/>
          <a:srcRect l="0" t="0" r="0" b="6641"/>
          <a:stretch/>
        </p:blipFill>
        <p:spPr>
          <a:xfrm>
            <a:off x="0" y="0"/>
            <a:ext cx="9144000" cy="89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5acd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38819A1-42B7-4484-AD23-006C1A67CA85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468360" y="3207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37"/>
          <p:cNvSpPr/>
          <p:nvPr/>
        </p:nvSpPr>
        <p:spPr>
          <a:xfrm>
            <a:off x="0" y="901800"/>
            <a:ext cx="9144000" cy="0"/>
          </a:xfrm>
          <a:prstGeom prst="line">
            <a:avLst/>
          </a:prstGeom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284292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2049-BCC4-48DD-BC8B-C94A3AD9320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EDF9-27D0-4846-9A70-7158B594E0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1E14-F80F-4038-8B34-130A1333287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DDB0-D3EF-4715-B00C-8536791110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2190-D462-4EB5-8283-30ACFBEFD5F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337E-8C13-4BCB-87A2-73BAB04876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AE7B-2968-4A7C-8C6D-1A6BEAD7666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74BC-F820-4720-863C-A8AED67254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A49C-FC5B-4766-B6DF-75C3FBE1C75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B765-B832-4D90-9D0F-98123185B5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84CC-7A94-4444-8470-6173AE02C88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BCFD-273A-4DFD-92EE-4F6DD36ABC4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3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286760" y="3207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2" descr="2"/>
          <p:cNvPicPr/>
          <p:nvPr/>
        </p:nvPicPr>
        <p:blipFill>
          <a:blip r:embed="rId3"/>
          <a:stretch/>
        </p:blipFill>
        <p:spPr>
          <a:xfrm>
            <a:off x="-36360" y="3495600"/>
            <a:ext cx="9180360" cy="3362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4" descr="3"/>
          <p:cNvPicPr/>
          <p:nvPr/>
        </p:nvPicPr>
        <p:blipFill>
          <a:blip r:embed="rId4"/>
          <a:stretch/>
        </p:blipFill>
        <p:spPr>
          <a:xfrm>
            <a:off x="0" y="0"/>
            <a:ext cx="7485120" cy="4957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5acd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284292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ED1F-6F72-4CCC-BE6F-1C08F4FB48A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B1EB-3BC6-4BE2-B0A5-61A43936F0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8B62-EFF7-45C9-9517-2C7BCFD94C4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441E-1EB3-4A2B-AB53-0A96C6C8F7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2351-0953-4927-9A9C-6828F0F5390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5246-098D-4002-9833-7F4E7A8284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8113-A82F-43D6-ADDB-D4529CD59D0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E956-D35C-4B30-8210-A963F8CC35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2DEB-80A7-4C5F-A1D0-192D257BD40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6FF3-8E4A-4AD0-9A83-6450C63FB1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2A56-79BB-4BF0-9A9D-AA20D3BE9DF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20E7-2C1A-4F83-A30B-98DCAD13FD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3274920" y="517320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3276360" y="4094280"/>
            <a:ext cx="53989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6F405F49-961E-4499-89E4-876E9136E3C3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84292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F1E00744-0CD0-49D0-9253-CD2FE865E251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" descr="2"/>
          <p:cNvPicPr/>
          <p:nvPr/>
        </p:nvPicPr>
        <p:blipFill>
          <a:blip r:embed="rId2"/>
          <a:stretch/>
        </p:blipFill>
        <p:spPr>
          <a:xfrm>
            <a:off x="-36360" y="3495600"/>
            <a:ext cx="9180360" cy="33624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6" descr="3"/>
          <p:cNvPicPr/>
          <p:nvPr/>
        </p:nvPicPr>
        <p:blipFill>
          <a:blip r:embed="rId3"/>
          <a:stretch/>
        </p:blipFill>
        <p:spPr>
          <a:xfrm>
            <a:off x="0" y="0"/>
            <a:ext cx="7485120" cy="495792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3"/>
          <p:cNvSpPr/>
          <p:nvPr/>
        </p:nvSpPr>
        <p:spPr>
          <a:xfrm>
            <a:off x="468360" y="4094280"/>
            <a:ext cx="820728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a</cp:lastModifiedBy>
  <dcterms:modified xsi:type="dcterms:W3CDTF">2015-02-10T11:26:12Z</dcterms:modified>
  <cp:revision>151</cp:revision>
  <dc:subject/>
  <dc:title>PowerPoint Template</dc:title>
</cp:coreProperties>
</file>