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67A-5515-48F1-8F3B-513F648C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A09-8408-454C-B6D6-CC82D4BF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295B1D-C972-4D74-8A7C-5928A48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598807-4D04-4C9E-B03A-A1F1424D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A6F84B-3ED2-4140-9240-67D8A628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D99CF6-005D-4313-88DF-593FDEE0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FF1B59-BD24-4AB7-8560-ECDEE47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8DE12-AEE7-4C53-9256-CA11139B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D80CDC-9FDD-4D18-97E1-7CEAA4CD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B7FD4-D49E-4672-9C25-BA508713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E4E238-1462-463A-AE24-86A052BD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0DDD0D-90C4-4DC6-A9E0-AC5B485C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9EC-05AD-4414-93D0-A4C12AF8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81B517-12BD-4616-A79E-74F10455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BDCC79-35E9-43C8-B863-B2F9D20E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168C7C-B363-4009-ACE4-65EE39D5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DC2752-27A8-4305-B303-8291212A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92E8CE-E6EF-453A-B2A8-5E0F86CC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F896BF-1F35-471F-9EDA-2BB5977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DBED1A-DA57-49B4-BAA0-9CBFC97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216489-DAD7-48BB-9024-3B107465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5FA1D7-1AD6-4492-9D9B-3496701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5E74CB-436A-4A3B-AF32-1DD88336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DBB-8915-468A-8B9E-20C1C0AE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E9F4B8-A2AC-4414-9D77-4A515CFD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42AD16-B070-43D8-B6ED-1C7B0CA8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1A9D26-0DF8-4B75-8C9F-D380F186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CED4C1-C4E0-4F19-94BF-835F2069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604BB5-21A1-4B1A-8D79-00D8ADFF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1AC801-87C4-452D-8106-5FFC29B6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88E3B7-CBDD-43D3-BEC3-4CC24470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D219D0-831F-4B11-978B-9CA4353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F38124-9959-4545-A945-F136F40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888092-60D6-4D84-A7EB-684451D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5241-701E-43C2-82E5-F551A166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FB76E6-FC95-4EC2-83E2-2F7ED812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EA8D99-F0AD-49D5-B231-96F9FEB7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EFDDAD-7084-4061-9C08-D2AAAC46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6B3EE1-C97A-46D3-A092-AFB84409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D8EC6B-2A78-4E75-90F2-B4F2388C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ABC3FE-791D-4F46-9F76-1C0C144A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A7DA51-322E-4F8D-8D8D-7743BA8A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C67208-2F00-4C0E-BF69-87EEBEED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E6635E-557B-43D3-8192-5A50FE8B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9537B4-F996-4BC1-908C-C7814FD3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CEE0-2056-43DD-8AFF-5E222BE6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C119EB-0FCC-43AF-A636-7270A5F1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F2F0CA-4288-4191-9143-98A48EB2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4B8254-CB85-4CC6-B5B1-FAA3C340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7567C2-A286-468E-BDEA-CC516E6A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D2FAE6-9004-4EB1-BAF0-55AC0F5C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3114A4-1A3D-4364-9027-75210CB2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7E6424-DA76-4CC4-88C7-981A1D2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604F68-5371-4A40-A293-A3C9057C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96385C-D66B-45CA-B1F9-7EAE60AB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8A7785-9FE9-424B-BEA4-373885B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1259-AE23-4EFE-BB31-23099735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B9EFD2-FF7B-48BA-A047-9FEF971E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FC6C58-FFAB-4282-9829-CCD3B2C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24DC11-E734-4EB8-A542-596B2AE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158B04-BAF9-455C-B8B7-79979F90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51D1B2-E3F5-4768-9118-EFA22C96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7A8D1B-2A34-4D7E-B0B6-76E59816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FE2CF4-1770-4CDC-B1A8-22345C35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63D5FF-A6F6-4AA4-B1FF-04B3BB6C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7460D0-9204-47EF-8937-F8DEA104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15F71F-0BA6-4E29-BC80-78D66AFF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ABCE-DD03-42A7-99CE-CC26E82A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692D5B-F021-4C81-BAD6-771B9470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CFE86D-70B1-4043-9D70-CDF26AC6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AA945E-E4F2-4A2F-A120-54DE4076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5CCA5F-91F7-4794-82E7-37982E83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E2CE1B-24EE-4EC0-B537-5C19C854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39EA97-A368-499F-8B80-08A5323C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52076F-513D-4DAE-865D-5D9832D7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97F7DC-B816-467F-929C-E178CBD4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E5F0BD-D3D5-4AEE-94DE-D6BD7A4D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8EC5-EBBD-413E-B81E-CFBAFB96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4687-FB14-4214-8094-F0FB3C34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F345-00A3-4DCD-8F80-FFD83951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422-C5A1-4395-B2A8-F286CF2C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7BE5-90A1-45FE-99F2-037F842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E168-6E5D-40FB-B76F-A42EC2A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1E10-90B5-4DDD-B2FD-E3FD6444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BE82-C53D-4635-BCB2-C44E5058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83D6-0BE2-4635-B6DC-38B57211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D5083-A2FF-4BA6-B575-8FDA1C2CB6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464DB-B02B-457A-81AE-485C3205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68483-41EA-4EE4-B80E-BF8F72A2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435C4-EA88-4D72-91B9-DF783EA4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758D7-0F28-427F-9977-708148BB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440-7AF0-421B-9645-C1319AB6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3201F-14C4-44F5-AC37-04A91F6B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FDF9C-951D-4646-A535-5C0A28CF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6F20A-6BE3-4537-9FD0-976505BF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25174-62C6-483D-AEA7-64056371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C9306-071B-48F5-BA70-DB9A6781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B92E2-C21F-4343-9F72-266FC10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6529A-DE46-4A56-BC13-6D0A932A1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9070B-354A-4B59-BCFD-D5724FAE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13DAC-29BC-4004-8151-FE953C7B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4EF92-9772-4C13-9F23-5E61297A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898-1022-417D-84F8-A132106F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05CAB-7F95-4F38-946B-3F1F4FBE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01020-76EB-4597-BB80-6AD6FBBD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28E4B-99C9-4CD3-A233-0C833F43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3C0AA-2FDE-493A-8A1F-20D3BDA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E77BD-F467-4394-8BD7-D12204B5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F72A0-A60E-4DA0-8920-4A915E22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D0C08-8C20-4758-A21A-E710676A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D92A4-A202-4884-9A21-03B71935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98D9A-C0D3-4230-B345-4DE28336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5E399-4E97-490F-AD33-E48603DE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36F-88CF-4912-B594-F3637BDC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CE186-F9C3-421D-A9A7-6CC1AB80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E4FBB-0821-4DAF-8C75-BB5FFD21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5AE58-F8F6-4283-A888-79A9AC93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A83BF-352D-4B94-9A01-418B93E6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9DD2F-397B-42AA-93EC-5EB51DF0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7A355-6E36-4987-A0D8-358C22E0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87E27-B4FD-41AF-893D-472E8570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33A01-08FA-4B00-85F9-5BD828A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F5793-5B0B-462E-B401-D5C0EEFA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CD940-4D61-4503-851C-4AE1DE0B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7F2-C901-4778-8E3F-A37A4E83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292E1-63C1-4809-AE98-EDFAE816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245D97-FD47-4206-8A1C-A7315337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78373-C74A-4D06-9869-A21C4A45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9576B-CB16-4B01-B8A8-B3F29351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9EF4B-9238-466C-910D-981837DB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57CC5-E5B0-4CF9-BBCB-53A1A3B2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7CA89-5153-4CBA-9035-46DFCCAB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0749D-0CFC-422E-9FAD-7F5EA170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7DC54-9B59-450F-8018-20198807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69B37-D19C-4DE7-BEDC-86C132EF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699-D727-46E6-8722-35F6A56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6D587-21BE-46FA-8539-251C83EF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B94A0-CBC1-4678-A3D4-1605CAEF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9C656-89B4-4FB0-8D72-3281EE46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14665-74CE-41AD-A849-D8C494FB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03525-8384-4D07-B775-3663EC78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C3B587-91E1-41B6-8765-BF8836C8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7C312-88D9-49AF-B88E-7A609DB7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E3E56-2706-4626-B358-6DAF92EB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E459D-C87A-4337-B515-703FC331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F8684-9064-4B3A-8C5C-7ACAA3F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A76-E0A5-49DC-9622-6FCA531C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7DCF4-3347-490B-9895-4E004421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409A0-646D-464A-BC73-97D4AFD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435B7-C4DC-482B-84AD-A67F3614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12834-8E4E-4778-814E-F58E5902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6D4AC-D3DA-48EA-982B-02CFC2FF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850CC-1656-4E89-A374-BCEC92D2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EFBB6F-0D41-4FE4-8464-F944A601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656C3-9BBD-442B-9688-159A7F53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F601B-5676-4B21-9E6B-95E68209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6BAB83-A2D9-4F8E-A060-2EA134E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4D0-1941-42C0-B538-272C86AF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39A43D-30BC-4A69-A949-914203B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21B19-1CEF-49F4-999F-2B994403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C3A10-854A-4438-9C92-EBADDB9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D04E3-9300-4E44-8708-9E547C82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8B462C-378D-42E7-8F07-1515E428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2A9A28-B8F0-49CB-86F2-53D1AD4C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931FFA-F8B3-4016-9B97-983A576A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B94C90-B181-4ED6-9C22-B3D130C9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40943A-A058-4B7E-A9EC-F6ACD63A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F69D01-4915-40A7-9B7D-2E78C9E5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4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de2f5"/>
              </a:gs>
              <a:gs pos="100000">
                <a:srgbClr val="83b7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fffff"/>
              </a:gs>
              <a:gs pos="100000">
                <a:srgbClr val="83b7e7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43" descr="guilde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3A89-67F3-4238-934D-F72D02B7950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40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1FD-3869-42EF-9FE4-146A0AB2A3B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A146-B3B0-4732-AFC7-1924F9358E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48B6-10C6-4F4E-A27D-8740E70BB3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0AE6-C358-4237-9549-65A47354D5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D9E7-9368-4944-A368-D3935C172EF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6742-8117-4E36-B13A-CD82718BF5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E439-A866-40A0-9562-01ED6CB75D8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1374-C26E-4B72-B7A4-581B5D84D0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65DA-BA56-468A-9EC9-FBA948C919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DDC8-3578-4219-945D-53C34ADAEF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44AF-A0A1-4376-AEF0-09729838B9E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909E-D097-4752-B3CB-1CC4EBE123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 rot="21021000">
            <a:off x="5638680" y="3200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6629400" y="63244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7200" y="64004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4648320" y="64004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6063-F695-4E51-AAAF-22D102AD20E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42D8-4FED-423E-BB2A-96C771138B7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F17F-7AF0-4AF5-9E1D-15FBDA4607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8391-E29D-49E7-9D2A-4DD60910D9B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53B8-5F91-42B9-BEC0-8285673D23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525-6105-4D61-AE3C-3B44773D16F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DA73-6E8D-4F79-9A1E-674EA572D8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1D6D-B647-47A4-990F-B3F70D54A2B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E7BB-4B88-459D-BDBC-2D220D9391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8937-D0DE-47EF-ADD0-9C370810678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AABA-0BEC-4252-A6DA-19765B2E9D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41B3-F540-4ACA-B95E-1857A1DD413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E96D-8C8C-44C6-A314-3D03AB7947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580" name="Group 117"/>
          <p:cNvGrpSpPr/>
          <p:nvPr/>
        </p:nvGrpSpPr>
        <p:grpSpPr>
          <a:xfrm>
            <a:off x="1905120" y="2971800"/>
            <a:ext cx="5309640" cy="609480"/>
            <a:chOff x="1905120" y="2971800"/>
            <a:chExt cx="5309640" cy="609480"/>
          </a:xfrm>
        </p:grpSpPr>
        <p:grpSp>
          <p:nvGrpSpPr>
            <p:cNvPr id="581" name="Group 118"/>
            <p:cNvGrpSpPr/>
            <p:nvPr/>
          </p:nvGrpSpPr>
          <p:grpSpPr>
            <a:xfrm>
              <a:off x="1905120" y="2971800"/>
              <a:ext cx="609480" cy="609480"/>
              <a:chOff x="1905120" y="2971800"/>
              <a:chExt cx="609480" cy="609480"/>
            </a:xfrm>
          </p:grpSpPr>
          <p:sp>
            <p:nvSpPr>
              <p:cNvPr id="582" name="Oval 119"/>
              <p:cNvSpPr/>
              <p:nvPr/>
            </p:nvSpPr>
            <p:spPr>
              <a:xfrm>
                <a:off x="1905120" y="2971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f7ad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Oval 120"/>
              <p:cNvSpPr/>
              <p:nvPr/>
            </p:nvSpPr>
            <p:spPr>
              <a:xfrm>
                <a:off x="1905120" y="2971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Oval 121"/>
              <p:cNvSpPr/>
              <p:nvPr/>
            </p:nvSpPr>
            <p:spPr>
              <a:xfrm>
                <a:off x="1944720" y="301140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279"/>
                  </a:gs>
                  <a:gs pos="50000">
                    <a:srgbClr val="2f7adf"/>
                  </a:gs>
                  <a:gs pos="100000">
                    <a:srgbClr val="19427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Oval 122"/>
              <p:cNvSpPr/>
              <p:nvPr/>
            </p:nvSpPr>
            <p:spPr>
              <a:xfrm>
                <a:off x="1984320" y="30510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e4e8e"/>
                  </a:gs>
                  <a:gs pos="100000">
                    <a:srgbClr val="2f7ad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Oval 123"/>
              <p:cNvSpPr/>
              <p:nvPr/>
            </p:nvSpPr>
            <p:spPr>
              <a:xfrm>
                <a:off x="1973160" y="30384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Oval 124"/>
              <p:cNvSpPr/>
              <p:nvPr/>
            </p:nvSpPr>
            <p:spPr>
              <a:xfrm>
                <a:off x="1981080" y="30463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Oval 125"/>
              <p:cNvSpPr/>
              <p:nvPr/>
            </p:nvSpPr>
            <p:spPr>
              <a:xfrm>
                <a:off x="1987560" y="30495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126"/>
              <p:cNvSpPr/>
              <p:nvPr/>
            </p:nvSpPr>
            <p:spPr>
              <a:xfrm>
                <a:off x="1992240" y="30528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127"/>
              <p:cNvSpPr/>
              <p:nvPr/>
            </p:nvSpPr>
            <p:spPr>
              <a:xfrm>
                <a:off x="2016000" y="30654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Line 128"/>
            <p:cNvSpPr/>
            <p:nvPr/>
          </p:nvSpPr>
          <p:spPr>
            <a:xfrm>
              <a:off x="2414520" y="35337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129"/>
            <p:cNvSpPr/>
            <p:nvPr/>
          </p:nvSpPr>
          <p:spPr>
            <a:xfrm>
              <a:off x="2643120" y="30002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Text Box 130"/>
            <p:cNvSpPr/>
            <p:nvPr/>
          </p:nvSpPr>
          <p:spPr>
            <a:xfrm>
              <a:off x="2035440" y="30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31"/>
          <p:cNvGrpSpPr/>
          <p:nvPr/>
        </p:nvGrpSpPr>
        <p:grpSpPr>
          <a:xfrm>
            <a:off x="1947960" y="4800600"/>
            <a:ext cx="5290560" cy="609480"/>
            <a:chOff x="1947960" y="4800600"/>
            <a:chExt cx="5290560" cy="609480"/>
          </a:xfrm>
        </p:grpSpPr>
        <p:grpSp>
          <p:nvGrpSpPr>
            <p:cNvPr id="595" name="Group 132"/>
            <p:cNvGrpSpPr/>
            <p:nvPr/>
          </p:nvGrpSpPr>
          <p:grpSpPr>
            <a:xfrm>
              <a:off x="1947960" y="4800600"/>
              <a:ext cx="609480" cy="609480"/>
              <a:chOff x="1947960" y="4800600"/>
              <a:chExt cx="609480" cy="609480"/>
            </a:xfrm>
          </p:grpSpPr>
          <p:sp>
            <p:nvSpPr>
              <p:cNvPr id="596" name="Oval 133"/>
              <p:cNvSpPr/>
              <p:nvPr/>
            </p:nvSpPr>
            <p:spPr>
              <a:xfrm>
                <a:off x="1947960" y="48006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f7ad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Oval 134"/>
              <p:cNvSpPr/>
              <p:nvPr/>
            </p:nvSpPr>
            <p:spPr>
              <a:xfrm>
                <a:off x="1947960" y="48006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Oval 135"/>
              <p:cNvSpPr/>
              <p:nvPr/>
            </p:nvSpPr>
            <p:spPr>
              <a:xfrm>
                <a:off x="1987560" y="484020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279"/>
                  </a:gs>
                  <a:gs pos="50000">
                    <a:srgbClr val="2f7adf"/>
                  </a:gs>
                  <a:gs pos="100000">
                    <a:srgbClr val="19427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Oval 136"/>
              <p:cNvSpPr/>
              <p:nvPr/>
            </p:nvSpPr>
            <p:spPr>
              <a:xfrm>
                <a:off x="2027160" y="48798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e4e8e"/>
                  </a:gs>
                  <a:gs pos="100000">
                    <a:srgbClr val="2f7ad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Oval 137"/>
              <p:cNvSpPr/>
              <p:nvPr/>
            </p:nvSpPr>
            <p:spPr>
              <a:xfrm>
                <a:off x="2016000" y="48672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Oval 138"/>
              <p:cNvSpPr/>
              <p:nvPr/>
            </p:nvSpPr>
            <p:spPr>
              <a:xfrm>
                <a:off x="2023920" y="48751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Oval 139"/>
              <p:cNvSpPr/>
              <p:nvPr/>
            </p:nvSpPr>
            <p:spPr>
              <a:xfrm>
                <a:off x="2030400" y="48783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Oval 140"/>
              <p:cNvSpPr/>
              <p:nvPr/>
            </p:nvSpPr>
            <p:spPr>
              <a:xfrm>
                <a:off x="2035080" y="48816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Oval 141"/>
              <p:cNvSpPr/>
              <p:nvPr/>
            </p:nvSpPr>
            <p:spPr>
              <a:xfrm>
                <a:off x="2058840" y="48942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Line 142"/>
            <p:cNvSpPr/>
            <p:nvPr/>
          </p:nvSpPr>
          <p:spPr>
            <a:xfrm>
              <a:off x="2438280" y="5368680"/>
              <a:ext cx="480024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43"/>
            <p:cNvSpPr/>
            <p:nvPr/>
          </p:nvSpPr>
          <p:spPr>
            <a:xfrm>
              <a:off x="2666880" y="483516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44"/>
            <p:cNvSpPr/>
            <p:nvPr/>
          </p:nvSpPr>
          <p:spPr>
            <a:xfrm>
              <a:off x="2087640" y="486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Group 145"/>
          <p:cNvGrpSpPr/>
          <p:nvPr/>
        </p:nvGrpSpPr>
        <p:grpSpPr>
          <a:xfrm>
            <a:off x="1905120" y="2114640"/>
            <a:ext cx="5333400" cy="628560"/>
            <a:chOff x="1905120" y="2114640"/>
            <a:chExt cx="5333400" cy="628560"/>
          </a:xfrm>
        </p:grpSpPr>
        <p:sp>
          <p:nvSpPr>
            <p:cNvPr id="609" name="Line 146"/>
            <p:cNvSpPr/>
            <p:nvPr/>
          </p:nvSpPr>
          <p:spPr>
            <a:xfrm>
              <a:off x="2438280" y="2647800"/>
              <a:ext cx="4800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Text Box 147"/>
            <p:cNvSpPr/>
            <p:nvPr/>
          </p:nvSpPr>
          <p:spPr>
            <a:xfrm>
              <a:off x="2666880" y="21146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48"/>
            <p:cNvGrpSpPr/>
            <p:nvPr/>
          </p:nvGrpSpPr>
          <p:grpSpPr>
            <a:xfrm>
              <a:off x="1905120" y="2133720"/>
              <a:ext cx="609480" cy="609480"/>
              <a:chOff x="1905120" y="2133720"/>
              <a:chExt cx="609480" cy="609480"/>
            </a:xfrm>
          </p:grpSpPr>
          <p:grpSp>
            <p:nvGrpSpPr>
              <p:cNvPr id="612" name="Group 149"/>
              <p:cNvGrpSpPr/>
              <p:nvPr/>
            </p:nvGrpSpPr>
            <p:grpSpPr>
              <a:xfrm>
                <a:off x="1905120" y="2133720"/>
                <a:ext cx="609480" cy="609480"/>
                <a:chOff x="1905120" y="2133720"/>
                <a:chExt cx="609480" cy="609480"/>
              </a:xfrm>
            </p:grpSpPr>
            <p:sp>
              <p:nvSpPr>
                <p:cNvPr id="613" name="Text Box 150"/>
                <p:cNvSpPr/>
                <p:nvPr/>
              </p:nvSpPr>
              <p:spPr>
                <a:xfrm>
                  <a:off x="2030760" y="22096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Oval 151"/>
                <p:cNvSpPr/>
                <p:nvPr/>
              </p:nvSpPr>
              <p:spPr>
                <a:xfrm>
                  <a:off x="1905120" y="21337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4026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Oval 152"/>
                <p:cNvSpPr/>
                <p:nvPr/>
              </p:nvSpPr>
              <p:spPr>
                <a:xfrm>
                  <a:off x="1905120" y="21337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Oval 153"/>
                <p:cNvSpPr/>
                <p:nvPr/>
              </p:nvSpPr>
              <p:spPr>
                <a:xfrm>
                  <a:off x="1933560" y="21430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2c6c"/>
                    </a:gs>
                    <a:gs pos="50000">
                      <a:srgbClr val="8a52c8"/>
                    </a:gs>
                    <a:gs pos="100000">
                      <a:srgbClr val="4b2c6c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154"/>
                <p:cNvSpPr/>
                <p:nvPr/>
              </p:nvSpPr>
              <p:spPr>
                <a:xfrm>
                  <a:off x="1943280" y="217188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347f"/>
                    </a:gs>
                    <a:gs pos="100000">
                      <a:srgbClr val="8a52c8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Oval 155"/>
                <p:cNvSpPr/>
                <p:nvPr/>
              </p:nvSpPr>
              <p:spPr>
                <a:xfrm>
                  <a:off x="1962360" y="219060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156"/>
                <p:cNvSpPr/>
                <p:nvPr/>
              </p:nvSpPr>
              <p:spPr>
                <a:xfrm>
                  <a:off x="1981440" y="22082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157"/>
                <p:cNvSpPr/>
                <p:nvPr/>
              </p:nvSpPr>
              <p:spPr>
                <a:xfrm>
                  <a:off x="1987560" y="22114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158"/>
                <p:cNvSpPr/>
                <p:nvPr/>
              </p:nvSpPr>
              <p:spPr>
                <a:xfrm>
                  <a:off x="1992600" y="22147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Oval 159"/>
                <p:cNvSpPr/>
                <p:nvPr/>
              </p:nvSpPr>
              <p:spPr>
                <a:xfrm>
                  <a:off x="2016360" y="22273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Text Box 160"/>
              <p:cNvSpPr/>
              <p:nvPr/>
            </p:nvSpPr>
            <p:spPr>
              <a:xfrm>
                <a:off x="2030400" y="2209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Group 161"/>
          <p:cNvGrpSpPr/>
          <p:nvPr/>
        </p:nvGrpSpPr>
        <p:grpSpPr>
          <a:xfrm>
            <a:off x="1905120" y="3921120"/>
            <a:ext cx="5333400" cy="631800"/>
            <a:chOff x="1905120" y="3921120"/>
            <a:chExt cx="5333400" cy="631800"/>
          </a:xfrm>
        </p:grpSpPr>
        <p:sp>
          <p:nvSpPr>
            <p:cNvPr id="625" name="Line 162"/>
            <p:cNvSpPr/>
            <p:nvPr/>
          </p:nvSpPr>
          <p:spPr>
            <a:xfrm>
              <a:off x="2438280" y="44546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163"/>
            <p:cNvSpPr/>
            <p:nvPr/>
          </p:nvSpPr>
          <p:spPr>
            <a:xfrm>
              <a:off x="2666880" y="39211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" name="Group 164"/>
            <p:cNvGrpSpPr/>
            <p:nvPr/>
          </p:nvGrpSpPr>
          <p:grpSpPr>
            <a:xfrm>
              <a:off x="1905120" y="3943440"/>
              <a:ext cx="609480" cy="609480"/>
              <a:chOff x="1905120" y="3943440"/>
              <a:chExt cx="609480" cy="609480"/>
            </a:xfrm>
          </p:grpSpPr>
          <p:grpSp>
            <p:nvGrpSpPr>
              <p:cNvPr id="628" name="Group 165"/>
              <p:cNvGrpSpPr/>
              <p:nvPr/>
            </p:nvGrpSpPr>
            <p:grpSpPr>
              <a:xfrm>
                <a:off x="1905120" y="3943440"/>
                <a:ext cx="609480" cy="609480"/>
                <a:chOff x="1905120" y="3943440"/>
                <a:chExt cx="609480" cy="609480"/>
              </a:xfrm>
            </p:grpSpPr>
            <p:sp>
              <p:nvSpPr>
                <p:cNvPr id="629" name="Text Box 166"/>
                <p:cNvSpPr/>
                <p:nvPr/>
              </p:nvSpPr>
              <p:spPr>
                <a:xfrm>
                  <a:off x="2030760" y="40194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Oval 167"/>
                <p:cNvSpPr/>
                <p:nvPr/>
              </p:nvSpPr>
              <p:spPr>
                <a:xfrm>
                  <a:off x="1905120" y="39434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4026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Oval 168"/>
                <p:cNvSpPr/>
                <p:nvPr/>
              </p:nvSpPr>
              <p:spPr>
                <a:xfrm>
                  <a:off x="1905120" y="39434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Oval 169"/>
                <p:cNvSpPr/>
                <p:nvPr/>
              </p:nvSpPr>
              <p:spPr>
                <a:xfrm>
                  <a:off x="1933560" y="39528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2c6c"/>
                    </a:gs>
                    <a:gs pos="50000">
                      <a:srgbClr val="8a52c8"/>
                    </a:gs>
                    <a:gs pos="100000">
                      <a:srgbClr val="4b2c6c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Oval 170"/>
                <p:cNvSpPr/>
                <p:nvPr/>
              </p:nvSpPr>
              <p:spPr>
                <a:xfrm>
                  <a:off x="1943280" y="398160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347f"/>
                    </a:gs>
                    <a:gs pos="100000">
                      <a:srgbClr val="8a52c8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71"/>
                <p:cNvSpPr/>
                <p:nvPr/>
              </p:nvSpPr>
              <p:spPr>
                <a:xfrm>
                  <a:off x="1962360" y="400032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72"/>
                <p:cNvSpPr/>
                <p:nvPr/>
              </p:nvSpPr>
              <p:spPr>
                <a:xfrm>
                  <a:off x="1981440" y="40179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Oval 173"/>
                <p:cNvSpPr/>
                <p:nvPr/>
              </p:nvSpPr>
              <p:spPr>
                <a:xfrm>
                  <a:off x="1987560" y="40212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74"/>
                <p:cNvSpPr/>
                <p:nvPr/>
              </p:nvSpPr>
              <p:spPr>
                <a:xfrm>
                  <a:off x="1992600" y="40244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Oval 175"/>
                <p:cNvSpPr/>
                <p:nvPr/>
              </p:nvSpPr>
              <p:spPr>
                <a:xfrm>
                  <a:off x="2016360" y="40370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Text Box 176"/>
              <p:cNvSpPr/>
              <p:nvPr/>
            </p:nvSpPr>
            <p:spPr>
              <a:xfrm>
                <a:off x="2030400" y="40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83b7e7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83b7e7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83b7e7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83b7e7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643" name="Group 3"/>
          <p:cNvGrpSpPr/>
          <p:nvPr/>
        </p:nvGrpSpPr>
        <p:grpSpPr>
          <a:xfrm>
            <a:off x="1752480" y="1809720"/>
            <a:ext cx="5562720" cy="1306440"/>
            <a:chOff x="1752480" y="1809720"/>
            <a:chExt cx="5562720" cy="1306440"/>
          </a:xfrm>
        </p:grpSpPr>
        <p:sp>
          <p:nvSpPr>
            <p:cNvPr id="644" name="AutoShape 4"/>
            <p:cNvSpPr/>
            <p:nvPr/>
          </p:nvSpPr>
          <p:spPr>
            <a:xfrm>
              <a:off x="1752480" y="18097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5"/>
            <p:cNvSpPr/>
            <p:nvPr/>
          </p:nvSpPr>
          <p:spPr>
            <a:xfrm>
              <a:off x="1874880" y="19303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6" name="Freeform 6"/>
            <p:cNvGrpSpPr/>
            <p:nvPr/>
          </p:nvGrpSpPr>
          <p:grpSpPr>
            <a:xfrm>
              <a:off x="1938240" y="2000160"/>
              <a:ext cx="530280" cy="530280"/>
              <a:chOff x="1938240" y="2000160"/>
              <a:chExt cx="530280" cy="530280"/>
            </a:xfrm>
          </p:grpSpPr>
          <p:pic>
            <p:nvPicPr>
              <p:cNvPr id="647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00880"/>
                <a:ext cx="52308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1941120" y="200016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Text Box 7"/>
            <p:cNvSpPr/>
            <p:nvPr/>
          </p:nvSpPr>
          <p:spPr>
            <a:xfrm>
              <a:off x="1972080" y="22222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3092400" y="2011320"/>
              <a:ext cx="4089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9"/>
          <p:cNvGrpSpPr/>
          <p:nvPr/>
        </p:nvGrpSpPr>
        <p:grpSpPr>
          <a:xfrm>
            <a:off x="1752480" y="3252960"/>
            <a:ext cx="5562720" cy="1306440"/>
            <a:chOff x="1752480" y="3252960"/>
            <a:chExt cx="5562720" cy="1306440"/>
          </a:xfrm>
        </p:grpSpPr>
        <p:sp>
          <p:nvSpPr>
            <p:cNvPr id="652" name="AutoShape 10"/>
            <p:cNvSpPr/>
            <p:nvPr/>
          </p:nvSpPr>
          <p:spPr>
            <a:xfrm>
              <a:off x="1752480" y="325296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utoShape 11"/>
            <p:cNvSpPr/>
            <p:nvPr/>
          </p:nvSpPr>
          <p:spPr>
            <a:xfrm>
              <a:off x="1874880" y="337356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2"/>
            <p:cNvSpPr/>
            <p:nvPr/>
          </p:nvSpPr>
          <p:spPr>
            <a:xfrm>
              <a:off x="1941480" y="344196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13"/>
            <p:cNvSpPr/>
            <p:nvPr/>
          </p:nvSpPr>
          <p:spPr>
            <a:xfrm>
              <a:off x="1972080" y="36673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Group 15"/>
          <p:cNvGrpSpPr/>
          <p:nvPr/>
        </p:nvGrpSpPr>
        <p:grpSpPr>
          <a:xfrm>
            <a:off x="1752480" y="4713120"/>
            <a:ext cx="5562720" cy="1306440"/>
            <a:chOff x="1752480" y="4713120"/>
            <a:chExt cx="5562720" cy="1306440"/>
          </a:xfrm>
        </p:grpSpPr>
        <p:sp>
          <p:nvSpPr>
            <p:cNvPr id="657" name="AutoShape 16"/>
            <p:cNvSpPr/>
            <p:nvPr/>
          </p:nvSpPr>
          <p:spPr>
            <a:xfrm>
              <a:off x="1752480" y="4713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AutoShape 17"/>
            <p:cNvSpPr/>
            <p:nvPr/>
          </p:nvSpPr>
          <p:spPr>
            <a:xfrm>
              <a:off x="1874880" y="4833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8"/>
            <p:cNvSpPr/>
            <p:nvPr/>
          </p:nvSpPr>
          <p:spPr>
            <a:xfrm>
              <a:off x="1941480" y="4902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Text Box 19"/>
            <p:cNvSpPr/>
            <p:nvPr/>
          </p:nvSpPr>
          <p:spPr>
            <a:xfrm>
              <a:off x="1972080" y="5126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662" name="Group 3"/>
          <p:cNvGrpSpPr/>
          <p:nvPr/>
        </p:nvGrpSpPr>
        <p:grpSpPr>
          <a:xfrm>
            <a:off x="838080" y="1676520"/>
            <a:ext cx="7383960" cy="4421160"/>
            <a:chOff x="838080" y="1676520"/>
            <a:chExt cx="7383960" cy="4421160"/>
          </a:xfrm>
        </p:grpSpPr>
        <p:grpSp>
          <p:nvGrpSpPr>
            <p:cNvPr id="663" name="Group 4"/>
            <p:cNvGrpSpPr/>
            <p:nvPr/>
          </p:nvGrpSpPr>
          <p:grpSpPr>
            <a:xfrm>
              <a:off x="2362320" y="1676520"/>
              <a:ext cx="4419000" cy="4376160"/>
              <a:chOff x="2362320" y="1676520"/>
              <a:chExt cx="4419000" cy="4376160"/>
            </a:xfrm>
          </p:grpSpPr>
          <p:sp>
            <p:nvSpPr>
              <p:cNvPr id="664" name="Puzzle3"/>
              <p:cNvSpPr/>
              <p:nvPr/>
            </p:nvSpPr>
            <p:spPr>
              <a:xfrm>
                <a:off x="4514400" y="167652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Puzzle2"/>
              <p:cNvSpPr/>
              <p:nvPr/>
            </p:nvSpPr>
            <p:spPr>
              <a:xfrm>
                <a:off x="4008960" y="337068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Puzzle4"/>
              <p:cNvSpPr/>
              <p:nvPr/>
            </p:nvSpPr>
            <p:spPr>
              <a:xfrm>
                <a:off x="2937960" y="334440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Puzzle1"/>
              <p:cNvSpPr/>
              <p:nvPr/>
            </p:nvSpPr>
            <p:spPr>
              <a:xfrm>
                <a:off x="2362320" y="237996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8739"/>
                  </a:gs>
                  <a:gs pos="100000">
                    <a:srgbClr val="663e1a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Text Box 9"/>
            <p:cNvSpPr/>
            <p:nvPr/>
          </p:nvSpPr>
          <p:spPr>
            <a:xfrm>
              <a:off x="6477840" y="40528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0"/>
            <p:cNvSpPr/>
            <p:nvPr/>
          </p:nvSpPr>
          <p:spPr>
            <a:xfrm>
              <a:off x="838080" y="34434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Text Box 11"/>
            <p:cNvSpPr/>
            <p:nvPr/>
          </p:nvSpPr>
          <p:spPr>
            <a:xfrm>
              <a:off x="2590920" y="17524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Text Box 12"/>
            <p:cNvSpPr/>
            <p:nvPr/>
          </p:nvSpPr>
          <p:spPr>
            <a:xfrm>
              <a:off x="4267080" y="57294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67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67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67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8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9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3c7d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f3c7d"/>
              </a:solidFill>
              <a:latin typeface="Arial"/>
            </a:endParaRPr>
          </a:p>
        </p:txBody>
      </p:sp>
      <p:grpSp>
        <p:nvGrpSpPr>
          <p:cNvPr id="695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696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3b7e7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fd9a7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23"/>
            <p:cNvSpPr/>
            <p:nvPr/>
          </p:nvSpPr>
          <p:spPr>
            <a:xfrm>
              <a:off x="35496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a52c8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25"/>
            <p:cNvSpPr/>
            <p:nvPr/>
          </p:nvSpPr>
          <p:spPr>
            <a:xfrm>
              <a:off x="365292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8347f"/>
                </a:gs>
                <a:gs pos="100000">
                  <a:srgbClr val="8a52c8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0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721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5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7:12:02Z</dcterms:created>
  <dc:creator>keke</dc:creator>
  <dc:description/>
  <dc:language>en-US</dc:language>
  <cp:lastModifiedBy>a</cp:lastModifiedBy>
  <dcterms:modified xsi:type="dcterms:W3CDTF">2015-02-10T11:28:09Z</dcterms:modified>
  <cp:revision>3</cp:revision>
  <dc:subject/>
  <dc:title>站长素材 SC.CHINAZ.COM</dc:title>
</cp:coreProperties>
</file>