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wmf" ContentType="image/x-wmf"/>
  <Override PartName="/ppt/media/image13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183-B7EA-48FF-B62F-5CF832C5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C3C-F356-468F-B5BF-C5EC2203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0BDA7-5185-457F-AABF-EBA44B2C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B1D9B-4A7E-4785-90AB-572EFE02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868A7-8C76-4617-A79F-5B923735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8F8CE-3FD8-4715-AE0D-9E261E77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FB5D9-1EEE-4309-91A6-F1CDEC88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8975D-ABD5-4355-8516-432D8F6F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7C9F8-2D37-4FC3-89FB-787DDEDD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A932D-96A0-4F33-9768-81BDB6AF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B9EFF-AF8D-4246-B16F-13AE125E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B877C-B453-4988-8006-67D57BEA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6CF-D53E-4FD9-BFCE-FA48A83B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5DE99-FBFD-4DEF-9D08-0FB9CC7F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76B4B-6A28-43D4-A518-BD40F739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9B0E5-B77F-453E-A595-1F353265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12B6C-EF4D-46C3-A585-352A7F4D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A821D-1BA6-484D-846F-7084260D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85965-83D5-4F7A-B091-591AA938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DE1E6-F5C8-4C33-856F-3EA681EF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70D17-6703-49AC-A322-C3699355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86980-56F5-405F-A689-1F1A6DAD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B83E2-57F5-4A80-BCC0-D33132C1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8A5-7CD8-4188-B0A8-C4976540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EB80A-2A49-471E-B749-F1ADA179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4E092-E14A-4A4E-9403-D6BC48BD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8D861-DC52-479D-82BF-3CFEBFFB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57E39-BE76-4ABD-BF69-4C6123D5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F2AFF-8C32-4B9E-832C-C0B9B8E0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BD814-FD23-48E9-A112-166331BC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3BC57-A7CC-44A0-8A78-D15CC74A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B5743-7A7D-490B-8093-1D99E68F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564E8-256D-4917-8181-FBD294C6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19326-0C98-4526-9E02-2B917976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9681-B2E1-4B64-B8F6-DC3902AD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9796F-63B8-4801-A124-50147768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31C4F-F488-4C71-B7A2-F7B681DC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21EBA-1F4C-481B-A35A-28C0B62F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1440C-EC1B-4594-A95D-7E7B1474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5B021-4F86-49DC-90E5-5E3651DE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E4936-DCF2-4A83-8DA9-DEC45414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BBE96-52C7-4773-A598-A164F5CB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9AB9B-4806-4183-BED2-E98DFD48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9E8E7-5EB8-414D-9594-C400BA2D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5B19C-430B-4995-846E-493A3A64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9B3B-8783-4DF3-BA8F-7209662B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BA30D-1704-4080-AA25-7F9ADAA6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EFACE-496E-4618-8724-E12B2FB7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4DCB0-8300-41E0-9EBC-8C11F104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EA310-C4BB-44B5-A766-B2E02370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1E5AF-139E-436B-8156-9039BB7B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672FB-D7C0-4FCD-B0B0-5DADC5F7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C3E96-51CB-41A1-A765-7998427B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F1897-1EC5-4B4F-AF08-E204E681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ED41B-299F-4C9C-BDE4-C9C00F79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FFAFA-D416-4A92-B426-D48AE209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AEF7-5242-4E7F-A3D1-22BF1FC6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999145-02A4-4CCA-9A60-DD6ABD12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0930E-63BB-494B-AB30-F2F447F2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938BF-1EB7-4262-A9D1-BC2C0FB5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37A1A-BBE8-4BE6-86F4-FB88E9B5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F8802-6D97-4EE9-9688-5AEBD38D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6F6A7-71E0-418B-996D-BFFD13F1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05159-00AE-44CA-B823-6EA1F9DC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8C73E-E6F2-4CF8-8E32-54D9CE80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1CA77-F3E6-4BDA-BA80-6FEFDF35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88A33-306E-4388-AEBD-0934F819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78B2-E47E-4C2D-B92F-031DFC5A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0636D-CFE0-4808-B5CD-3C574EDA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DED38-0A55-4D9B-B3DB-33451D2F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3FE897-4A40-4163-BDBD-494542B5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D0ABC-A9C7-441D-B8EF-2AFB77AA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D77C6-69FD-4916-8492-0592DE44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259C56-C8F6-4754-AAF6-AB40DD5B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68738-8554-4D1B-A08E-50055793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92C0F-5DE6-4440-BCE6-E60DA226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292F0-D72D-4A16-BC06-A5A7228A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EA2B-A60B-4B8D-B6C2-51CA7351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2D21-3839-49E2-B2C4-1A5A3207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E1F8-474F-4CCD-A21C-A57D358A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A23-774B-4B64-9C80-513B55A8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FEB3-8A79-4BC5-A5AE-5A1CA8EA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8F94-A4DD-43DD-B915-4983BA39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48AB-6719-4108-98CF-7B536547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0CC5-6FB6-4486-BD69-F7777824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2709-DF8E-4A56-8825-D3A4E828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91468-8346-47FE-8A13-E0CB0BB5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19974-4FB3-4780-B399-499D83C0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3BFBF-0E94-452A-84EB-319FA929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28603-C434-4586-9715-D4DFF22F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D00E4-FDB6-4980-B959-4A674F94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D3B-4B8F-476B-B0FF-E502A3F8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E6B9-0834-40AC-8D5B-371D0AC8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FB0F8-E5DA-445F-BC37-5EB6D8FF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8197-9202-4C55-85D6-7A7A88C2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77790-0CBE-46E3-807E-94C1513D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E3B28-71EA-4881-8800-01E6A5F1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EF48-C203-473C-8F76-6DB854E2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6BF3-6528-4F9C-B473-CC8626CF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05723-628A-4B6D-BDCE-F3C94357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B80EF-BD04-43CD-88D4-EF055713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88F61-81D0-48F3-861F-28694AFB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A9A-DA44-4DBB-B21A-7ACC47CE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D3DCF-22F4-438C-9917-3408B37A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C1055-5E6C-4A74-BD43-F030B692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295AF-5DFA-48E3-8FA9-92A2EE40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2E75A-0B01-41EC-937C-F2FACEC1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FF7DE-D214-4738-8C1B-7967A59C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49BDB-F813-4E33-9DC6-6128D298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ABEB6-A5F9-4038-AA44-71E1A10B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35672-F4F1-4C65-9479-1A088CF1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03D21-BF05-4F02-B324-DDBF9304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648A2-9D32-4375-BE86-E8EF1738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379-9A3C-47F4-B747-1BBD1C71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C560F-F149-4841-8DEC-EEA0144B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C0276-2467-427F-AB25-72DA587A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FC360-9A73-4C91-B956-517C8AC2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A7AAD-1AB9-4BF8-9D52-D5FC5E11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E1AC1-E123-4F85-945D-1F1833E1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EB812-E854-4D43-A84D-5BAD3935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06232-E08D-45F8-9B2F-657B28B6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737AA-826B-460B-A0E2-98BB6CE4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00AAF-0CBB-4B2B-952B-CD28CEEE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351E0-7084-4DAE-821E-41D0BE5E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9BB-6EAE-4EDF-AF02-93E9DE11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30CBE-285C-4433-94B3-E8A850B9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AF5EA-50FE-4C20-A1B4-C792736E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D6C57-8AA0-4ED7-B0EC-85AC211A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6D23D-E12B-41CA-81F9-1FC0962D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A9AE9-77A3-431F-AFD6-D8D51F8A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D8560-8B65-4153-B0E5-4BBCDE8F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D28E0-8461-4601-8FEE-9D2C201F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0D21F-31AA-420A-A35C-EF9D92FB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425C5-4E3D-4820-8B2E-5B103DD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635A7-B72B-4836-BDAF-73899664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968-1422-4BBD-9F75-668F5BCC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5850F-C2FB-433B-A442-F3F26AD9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5FB13-B9F7-49C8-91D9-1DC172BD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41505-196B-473F-A9D5-3F357BA6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7FADE-77D1-4D7C-B4EF-98B3823F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E4AA2-84BF-45EB-AD83-65DD0048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542C3-DD2F-4C5C-BB06-0B41A4EA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822DD-6E95-4479-8707-2969F786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14925-634A-4EF3-AFCE-8CA31344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211F5-99A7-4BFA-8A08-77AD7F45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3F507-8F65-4756-AA51-41301EE5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F61-0E6E-4747-BAD9-029D3BB2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5A3AA-9D6C-4462-8C65-64FF41BD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DE039-7CFD-46B5-B8B0-AA932B18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27B1D-35F9-4B18-9BE0-37E52A8D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A7DEC-D227-44B4-96DB-820AC8B9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5DF53-605C-40AD-B0A8-E3D214E8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4D702-668C-469E-8D66-CDDB0EEB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4519C-3FA7-4077-8572-0B35EAE1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D4C57-16E5-4260-9876-A58B3304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AA708-DC0F-45A8-83C3-32AA3433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C6BAD-B65B-4D8A-A924-91C54EA8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359-0AEF-4FA7-B868-D8E1799A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4875A-2F7E-40A3-8C1E-C69CFD1E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5D096-0797-4D92-BC2D-6D1E3046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48653-8FD2-4497-AD21-DFA18AE1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CF7C7-B988-4024-B911-19615C31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CF458-75C9-4612-9226-E4E54A3F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1992B-7297-4950-AC6B-513D5EB9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FD738-1D18-453B-B61D-940BEAE3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5A81B-E1BA-4D7C-AFD1-6A8B7A95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15D80-60EE-4EC6-ACD9-9742C5C2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20A90-B974-4831-9D7B-B205E563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写实模板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CC95-370E-4BDC-9EA3-F88BA1F0C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8C58-42D3-4155-9096-06FB76D1CD7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A045-99DF-47D3-88AA-645AFF13CD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9B77-236D-40BC-BD13-6541AFF442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220E-8DC3-41D1-BB5A-945FDE870E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83EC-4D01-4968-A8D4-C03E264F80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9FF4-25A9-4EA9-84F9-DFAA092325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30C2-9185-444E-AB0F-7EE6560F55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6B69-67C1-4E45-BC47-D385E77B4B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32FD-B6F7-47E8-810D-A009930B53C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D66E-F7FC-42EA-A3CC-79BC492099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F9F3-EA17-4FD2-8D98-D97FB8FA4F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CBAD-FFE2-42CE-BBAE-5145DC6AE0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网站首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7407-B265-42B3-AD21-4FF99833D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53B2-08CF-476A-9B31-10825C4A34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890E-3B7C-47F0-813F-B73B94F97A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C4E3-14DB-4359-AB53-37A2A8FBED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9532-DC57-47BF-8253-FEBA388FF5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C63D-A517-4BC2-B41E-57B8A618FB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2AA9-C785-442C-A762-A4C9364A04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E971-4480-461D-84DD-2FBE0E4CE4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B581-5047-4A7D-ACD0-F3C27FFB68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4D6D-199D-429C-889F-73B84CEC49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0058-2DFF-4B7F-8764-661A42B9AC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B7F1-CF82-484A-80CD-6FE2E79EC7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6DDC-AF1E-4AA7-A738-FBF50B3030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wmf"/><Relationship Id="rId9" Type="http://schemas.openxmlformats.org/officeDocument/2006/relationships/image" Target="../media/image10.jpe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8" descr="large_6991e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13"/>
          <p:cNvGrpSpPr/>
          <p:nvPr/>
        </p:nvGrpSpPr>
        <p:grpSpPr>
          <a:xfrm>
            <a:off x="1905120" y="990720"/>
            <a:ext cx="5715000" cy="748800"/>
            <a:chOff x="1905120" y="990720"/>
            <a:chExt cx="5715000" cy="748800"/>
          </a:xfrm>
        </p:grpSpPr>
        <p:sp>
          <p:nvSpPr>
            <p:cNvPr id="578" name="Text Box 11"/>
            <p:cNvSpPr/>
            <p:nvPr/>
          </p:nvSpPr>
          <p:spPr>
            <a:xfrm>
              <a:off x="1905120" y="990720"/>
              <a:ext cx="1600200" cy="3682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准备好了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2"/>
            <p:cNvSpPr/>
            <p:nvPr/>
          </p:nvSpPr>
          <p:spPr>
            <a:xfrm>
              <a:off x="3505320" y="1371240"/>
              <a:ext cx="411480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即将为您开启海航旅业大客户服务之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54"/>
          <p:cNvGrpSpPr/>
          <p:nvPr/>
        </p:nvGrpSpPr>
        <p:grpSpPr>
          <a:xfrm>
            <a:off x="1734120" y="957600"/>
            <a:ext cx="5756400" cy="5399280"/>
            <a:chOff x="1734120" y="957600"/>
            <a:chExt cx="5756400" cy="5399280"/>
          </a:xfrm>
        </p:grpSpPr>
        <p:sp>
          <p:nvSpPr>
            <p:cNvPr id="639" name="Freeform 53"/>
            <p:cNvSpPr/>
            <p:nvPr/>
          </p:nvSpPr>
          <p:spPr>
            <a:xfrm rot="20805000">
              <a:off x="4781160" y="2822040"/>
              <a:ext cx="1194480" cy="3443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516ae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1"/>
            <p:cNvSpPr/>
            <p:nvPr/>
          </p:nvSpPr>
          <p:spPr>
            <a:xfrm rot="14128200">
              <a:off x="4939200" y="703800"/>
              <a:ext cx="1194840" cy="3443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43010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2"/>
            <p:cNvSpPr/>
            <p:nvPr/>
          </p:nvSpPr>
          <p:spPr>
            <a:xfrm rot="14922600">
              <a:off x="5072040" y="902160"/>
              <a:ext cx="1194840" cy="3443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6cd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"/>
            <p:cNvSpPr/>
            <p:nvPr/>
          </p:nvSpPr>
          <p:spPr>
            <a:xfrm rot="5461200">
              <a:off x="2952720" y="2291040"/>
              <a:ext cx="1194480" cy="3443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4992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4"/>
            <p:cNvSpPr/>
            <p:nvPr/>
          </p:nvSpPr>
          <p:spPr>
            <a:xfrm>
              <a:off x="4575600" y="2888280"/>
              <a:ext cx="1194480" cy="3443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5ddf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5"/>
            <p:cNvSpPr/>
            <p:nvPr/>
          </p:nvSpPr>
          <p:spPr>
            <a:xfrm rot="6256200">
              <a:off x="2952360" y="2094840"/>
              <a:ext cx="1194840" cy="3443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2eae8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Group 46"/>
            <p:cNvGrpSpPr/>
            <p:nvPr/>
          </p:nvGrpSpPr>
          <p:grpSpPr>
            <a:xfrm>
              <a:off x="3960000" y="2859120"/>
              <a:ext cx="1390680" cy="1390680"/>
              <a:chOff x="3960000" y="2859120"/>
              <a:chExt cx="1390680" cy="1390680"/>
            </a:xfrm>
          </p:grpSpPr>
          <p:sp>
            <p:nvSpPr>
              <p:cNvPr id="646" name="Oval 47"/>
              <p:cNvSpPr/>
              <p:nvPr/>
            </p:nvSpPr>
            <p:spPr>
              <a:xfrm>
                <a:off x="3960000" y="2859120"/>
                <a:ext cx="1390680" cy="139068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6e1e1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8"/>
              <p:cNvSpPr/>
              <p:nvPr/>
            </p:nvSpPr>
            <p:spPr>
              <a:xfrm>
                <a:off x="4118760" y="2882160"/>
                <a:ext cx="1072800" cy="524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1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Text Box 49"/>
            <p:cNvSpPr/>
            <p:nvPr/>
          </p:nvSpPr>
          <p:spPr>
            <a:xfrm>
              <a:off x="4259160" y="3285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海航旅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50"/>
            <p:cNvSpPr/>
            <p:nvPr/>
          </p:nvSpPr>
          <p:spPr>
            <a:xfrm>
              <a:off x="2748960" y="30430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航空旅游专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51"/>
            <p:cNvSpPr/>
            <p:nvPr/>
          </p:nvSpPr>
          <p:spPr>
            <a:xfrm>
              <a:off x="5746320" y="21834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定制旅游专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52"/>
            <p:cNvSpPr/>
            <p:nvPr/>
          </p:nvSpPr>
          <p:spPr>
            <a:xfrm>
              <a:off x="2958120" y="489744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顶级旅游产品设计者及供应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310348130_314998afc7"/>
          <p:cNvPicPr/>
          <p:nvPr/>
        </p:nvPicPr>
        <p:blipFill>
          <a:blip r:embed="rId1"/>
          <a:stretch/>
        </p:blipFill>
        <p:spPr>
          <a:xfrm>
            <a:off x="2133720" y="1828800"/>
            <a:ext cx="4998960" cy="386568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5"/>
          <p:cNvSpPr/>
          <p:nvPr/>
        </p:nvSpPr>
        <p:spPr>
          <a:xfrm>
            <a:off x="3048120" y="28195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核心优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较为完善的旅游产业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533520" y="1523880"/>
            <a:ext cx="3276360" cy="368280"/>
          </a:xfrm>
          <a:prstGeom prst="rect">
            <a:avLst/>
          </a:prstGeom>
          <a:solidFill>
            <a:srgbClr val="666699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中国只此一家，我们更懂旅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533520" y="1905120"/>
            <a:ext cx="4724280" cy="368280"/>
          </a:xfrm>
          <a:prstGeom prst="rect">
            <a:avLst/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我们具备较为完善的旅游产业链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全面覆盖旅游“食宿行游购娱”六大要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28"/>
          <p:cNvGrpSpPr/>
          <p:nvPr/>
        </p:nvGrpSpPr>
        <p:grpSpPr>
          <a:xfrm>
            <a:off x="3951360" y="1752480"/>
            <a:ext cx="4731840" cy="4800600"/>
            <a:chOff x="3951360" y="1752480"/>
            <a:chExt cx="4731840" cy="4800600"/>
          </a:xfrm>
        </p:grpSpPr>
        <p:sp>
          <p:nvSpPr>
            <p:cNvPr id="657" name="Freeform 9"/>
            <p:cNvSpPr/>
            <p:nvPr/>
          </p:nvSpPr>
          <p:spPr>
            <a:xfrm>
              <a:off x="5581440" y="4221000"/>
              <a:ext cx="1382760" cy="233208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faacc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"/>
            <p:cNvSpPr/>
            <p:nvPr/>
          </p:nvSpPr>
          <p:spPr>
            <a:xfrm rot="574800">
              <a:off x="4044600" y="2857680"/>
              <a:ext cx="2517840" cy="13334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aae5fa"/>
                </a:gs>
              </a:gsLst>
              <a:lin ang="21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 rot="21118800">
              <a:off x="4038480" y="4152600"/>
              <a:ext cx="2533680" cy="133488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e9cae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15"/>
            <p:cNvSpPr/>
            <p:nvPr/>
          </p:nvSpPr>
          <p:spPr>
            <a:xfrm>
              <a:off x="4599720" y="3063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航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18"/>
            <p:cNvSpPr/>
            <p:nvPr/>
          </p:nvSpPr>
          <p:spPr>
            <a:xfrm>
              <a:off x="4601160" y="486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传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"/>
            <p:cNvSpPr/>
            <p:nvPr/>
          </p:nvSpPr>
          <p:spPr>
            <a:xfrm>
              <a:off x="5563800" y="1752480"/>
              <a:ext cx="1451160" cy="24116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"/>
            <p:cNvSpPr/>
            <p:nvPr/>
          </p:nvSpPr>
          <p:spPr>
            <a:xfrm rot="521400">
              <a:off x="6041520" y="4230360"/>
              <a:ext cx="2419200" cy="12463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d4be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1"/>
            <p:cNvSpPr/>
            <p:nvPr/>
          </p:nvSpPr>
          <p:spPr>
            <a:xfrm rot="21130800">
              <a:off x="6117840" y="2927160"/>
              <a:ext cx="2487600" cy="1314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eeaa"/>
                </a:gs>
                <a:gs pos="100000">
                  <a:srgbClr val="ffcc00"/>
                </a:gs>
              </a:gsLst>
              <a:lin ang="193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12"/>
            <p:cNvGrpSpPr/>
            <p:nvPr/>
          </p:nvGrpSpPr>
          <p:grpSpPr>
            <a:xfrm>
              <a:off x="5609880" y="3392640"/>
              <a:ext cx="1319400" cy="1309680"/>
              <a:chOff x="5609880" y="3392640"/>
              <a:chExt cx="1319400" cy="1309680"/>
            </a:xfrm>
          </p:grpSpPr>
          <p:sp>
            <p:nvSpPr>
              <p:cNvPr id="666" name="Oval 13"/>
              <p:cNvSpPr/>
              <p:nvPr/>
            </p:nvSpPr>
            <p:spPr>
              <a:xfrm>
                <a:off x="5609880" y="3392640"/>
                <a:ext cx="1319400" cy="130968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c0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4"/>
              <p:cNvSpPr/>
              <p:nvPr/>
            </p:nvSpPr>
            <p:spPr>
              <a:xfrm>
                <a:off x="5760720" y="3414240"/>
                <a:ext cx="1017720" cy="494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00">
                      <a:alpha val="1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Text Box 16"/>
            <p:cNvSpPr/>
            <p:nvPr/>
          </p:nvSpPr>
          <p:spPr>
            <a:xfrm>
              <a:off x="6050880" y="2305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旅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17"/>
            <p:cNvSpPr/>
            <p:nvPr/>
          </p:nvSpPr>
          <p:spPr>
            <a:xfrm>
              <a:off x="7435080" y="3063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酒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9"/>
            <p:cNvSpPr/>
            <p:nvPr/>
          </p:nvSpPr>
          <p:spPr>
            <a:xfrm>
              <a:off x="7435080" y="4862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租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0"/>
            <p:cNvSpPr/>
            <p:nvPr/>
          </p:nvSpPr>
          <p:spPr>
            <a:xfrm>
              <a:off x="5982480" y="56228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景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1"/>
            <p:cNvSpPr/>
            <p:nvPr/>
          </p:nvSpPr>
          <p:spPr>
            <a:xfrm>
              <a:off x="5714640" y="37339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海航旅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4" descr="310348130_314998afc7"/>
          <p:cNvPicPr/>
          <p:nvPr/>
        </p:nvPicPr>
        <p:blipFill>
          <a:blip r:embed="rId1"/>
          <a:stretch/>
        </p:blipFill>
        <p:spPr>
          <a:xfrm>
            <a:off x="2133720" y="1828800"/>
            <a:ext cx="4998960" cy="386568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7"/>
          <p:cNvSpPr/>
          <p:nvPr/>
        </p:nvSpPr>
        <p:spPr>
          <a:xfrm>
            <a:off x="3048120" y="281952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核心优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航空旅游定制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4"/>
          <p:cNvSpPr/>
          <p:nvPr/>
        </p:nvSpPr>
        <p:spPr>
          <a:xfrm>
            <a:off x="1752480" y="1447920"/>
            <a:ext cx="426744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长距离旅行专家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·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提供完整旅行解决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21"/>
          <p:cNvGrpSpPr/>
          <p:nvPr/>
        </p:nvGrpSpPr>
        <p:grpSpPr>
          <a:xfrm>
            <a:off x="1752480" y="2133720"/>
            <a:ext cx="7086600" cy="965160"/>
            <a:chOff x="1752480" y="2133720"/>
            <a:chExt cx="7086600" cy="965160"/>
          </a:xfrm>
        </p:grpSpPr>
        <p:sp>
          <p:nvSpPr>
            <p:cNvPr id="677" name="Rectangle 6"/>
            <p:cNvSpPr/>
            <p:nvPr/>
          </p:nvSpPr>
          <p:spPr>
            <a:xfrm>
              <a:off x="1752480" y="2730600"/>
              <a:ext cx="708660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大新华航空、海南航空、香港航空、山西航空、陕西长安航空、天津航空、云南祥鹏航空、重庆西部航空、金鹿航空、金鹿公务航空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7"/>
            <p:cNvSpPr/>
            <p:nvPr/>
          </p:nvSpPr>
          <p:spPr>
            <a:xfrm>
              <a:off x="1752480" y="2133720"/>
              <a:ext cx="89496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航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22"/>
          <p:cNvGrpSpPr/>
          <p:nvPr/>
        </p:nvGrpSpPr>
        <p:grpSpPr>
          <a:xfrm>
            <a:off x="1752480" y="3657600"/>
            <a:ext cx="7086600" cy="827640"/>
            <a:chOff x="1752480" y="3657600"/>
            <a:chExt cx="7086600" cy="827640"/>
          </a:xfrm>
        </p:grpSpPr>
        <p:sp>
          <p:nvSpPr>
            <p:cNvPr id="680" name="Text Box 8"/>
            <p:cNvSpPr/>
            <p:nvPr/>
          </p:nvSpPr>
          <p:spPr>
            <a:xfrm>
              <a:off x="1752480" y="3657600"/>
              <a:ext cx="89496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酒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9"/>
            <p:cNvSpPr/>
            <p:nvPr/>
          </p:nvSpPr>
          <p:spPr>
            <a:xfrm>
              <a:off x="1752480" y="4116960"/>
              <a:ext cx="708660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海航酒店集团、吉林省旅游集团旗下各酒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33"/>
          <p:cNvGrpSpPr/>
          <p:nvPr/>
        </p:nvGrpSpPr>
        <p:grpSpPr>
          <a:xfrm>
            <a:off x="1752480" y="4952880"/>
            <a:ext cx="7086600" cy="767520"/>
            <a:chOff x="1752480" y="4952880"/>
            <a:chExt cx="7086600" cy="767520"/>
          </a:xfrm>
        </p:grpSpPr>
        <p:sp>
          <p:nvSpPr>
            <p:cNvPr id="683" name="Text Box 10"/>
            <p:cNvSpPr/>
            <p:nvPr/>
          </p:nvSpPr>
          <p:spPr>
            <a:xfrm>
              <a:off x="1752480" y="4952880"/>
              <a:ext cx="91440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旅行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1"/>
            <p:cNvSpPr/>
            <p:nvPr/>
          </p:nvSpPr>
          <p:spPr>
            <a:xfrm>
              <a:off x="1752480" y="5352120"/>
              <a:ext cx="708660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幸运国旅、吉林省旅游集团旗下各旅行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24"/>
          <p:cNvGrpSpPr/>
          <p:nvPr/>
        </p:nvGrpSpPr>
        <p:grpSpPr>
          <a:xfrm>
            <a:off x="6562800" y="1571040"/>
            <a:ext cx="1836720" cy="1092240"/>
            <a:chOff x="6562800" y="1571040"/>
            <a:chExt cx="1836720" cy="1092240"/>
          </a:xfrm>
        </p:grpSpPr>
        <p:sp>
          <p:nvSpPr>
            <p:cNvPr id="686" name="Text Box 25"/>
            <p:cNvSpPr/>
            <p:nvPr/>
          </p:nvSpPr>
          <p:spPr>
            <a:xfrm rot="1404000">
              <a:off x="6566760" y="19177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200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余架飞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26"/>
            <p:cNvSpPr/>
            <p:nvPr/>
          </p:nvSpPr>
          <p:spPr>
            <a:xfrm rot="1403400">
              <a:off x="6592680" y="1901160"/>
              <a:ext cx="1624680" cy="40428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Group 34"/>
          <p:cNvGrpSpPr/>
          <p:nvPr/>
        </p:nvGrpSpPr>
        <p:grpSpPr>
          <a:xfrm>
            <a:off x="6558120" y="3319200"/>
            <a:ext cx="2187720" cy="1244160"/>
            <a:chOff x="6558120" y="3319200"/>
            <a:chExt cx="2187720" cy="1244160"/>
          </a:xfrm>
        </p:grpSpPr>
        <p:sp>
          <p:nvSpPr>
            <p:cNvPr id="689" name="Text Box 28"/>
            <p:cNvSpPr/>
            <p:nvPr/>
          </p:nvSpPr>
          <p:spPr>
            <a:xfrm rot="1404000">
              <a:off x="6546240" y="3741840"/>
              <a:ext cx="22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近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50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家星级酒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29"/>
            <p:cNvSpPr/>
            <p:nvPr/>
          </p:nvSpPr>
          <p:spPr>
            <a:xfrm rot="1403400">
              <a:off x="6575040" y="3717720"/>
              <a:ext cx="1952640" cy="4032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30"/>
          <p:cNvGrpSpPr/>
          <p:nvPr/>
        </p:nvGrpSpPr>
        <p:grpSpPr>
          <a:xfrm>
            <a:off x="6562800" y="4542840"/>
            <a:ext cx="1836720" cy="1092240"/>
            <a:chOff x="6562800" y="4542840"/>
            <a:chExt cx="1836720" cy="1092240"/>
          </a:xfrm>
        </p:grpSpPr>
        <p:sp>
          <p:nvSpPr>
            <p:cNvPr id="692" name="Text Box 31"/>
            <p:cNvSpPr/>
            <p:nvPr/>
          </p:nvSpPr>
          <p:spPr>
            <a:xfrm rot="1404000">
              <a:off x="6566760" y="48895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20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余家分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32"/>
            <p:cNvSpPr/>
            <p:nvPr/>
          </p:nvSpPr>
          <p:spPr>
            <a:xfrm rot="1403400">
              <a:off x="6592680" y="4872960"/>
              <a:ext cx="1624680" cy="40428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6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6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6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4"/>
          <p:cNvSpPr/>
          <p:nvPr/>
        </p:nvSpPr>
        <p:spPr>
          <a:xfrm>
            <a:off x="1752480" y="1447920"/>
            <a:ext cx="3276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行业翘楚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星光灿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14"/>
          <p:cNvGrpSpPr/>
          <p:nvPr/>
        </p:nvGrpSpPr>
        <p:grpSpPr>
          <a:xfrm>
            <a:off x="1752480" y="2895480"/>
            <a:ext cx="5604840" cy="386280"/>
            <a:chOff x="1752480" y="2895480"/>
            <a:chExt cx="5604840" cy="386280"/>
          </a:xfrm>
        </p:grpSpPr>
        <p:sp>
          <p:nvSpPr>
            <p:cNvPr id="696" name="Rectangle 11"/>
            <p:cNvSpPr/>
            <p:nvPr/>
          </p:nvSpPr>
          <p:spPr>
            <a:xfrm>
              <a:off x="4142520" y="2913480"/>
              <a:ext cx="321480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亚洲第一公务机公司，占据中国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70%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市场份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2"/>
            <p:cNvSpPr/>
            <p:nvPr/>
          </p:nvSpPr>
          <p:spPr>
            <a:xfrm>
              <a:off x="1752480" y="2895480"/>
              <a:ext cx="160020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金鹿公务航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5"/>
          <p:cNvGrpSpPr/>
          <p:nvPr/>
        </p:nvGrpSpPr>
        <p:grpSpPr>
          <a:xfrm>
            <a:off x="1752480" y="3657600"/>
            <a:ext cx="3996000" cy="386280"/>
            <a:chOff x="1752480" y="3657600"/>
            <a:chExt cx="3996000" cy="386280"/>
          </a:xfrm>
        </p:grpSpPr>
        <p:sp>
          <p:nvSpPr>
            <p:cNvPr id="699" name="Rectangle 16"/>
            <p:cNvSpPr/>
            <p:nvPr/>
          </p:nvSpPr>
          <p:spPr>
            <a:xfrm>
              <a:off x="3921840" y="3675600"/>
              <a:ext cx="182664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中国最大专业旅游包机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17"/>
            <p:cNvSpPr/>
            <p:nvPr/>
          </p:nvSpPr>
          <p:spPr>
            <a:xfrm>
              <a:off x="1752480" y="3657600"/>
              <a:ext cx="160020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金鹿航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22"/>
          <p:cNvGrpSpPr/>
          <p:nvPr/>
        </p:nvGrpSpPr>
        <p:grpSpPr>
          <a:xfrm>
            <a:off x="1752480" y="4419720"/>
            <a:ext cx="5276160" cy="386280"/>
            <a:chOff x="1752480" y="4419720"/>
            <a:chExt cx="5276160" cy="386280"/>
          </a:xfrm>
        </p:grpSpPr>
        <p:sp>
          <p:nvSpPr>
            <p:cNvPr id="702" name="Rectangle 23"/>
            <p:cNvSpPr/>
            <p:nvPr/>
          </p:nvSpPr>
          <p:spPr>
            <a:xfrm>
              <a:off x="4241880" y="4437720"/>
              <a:ext cx="278676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五星金钻奖之全球最具影响力品牌酒店集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24"/>
            <p:cNvSpPr/>
            <p:nvPr/>
          </p:nvSpPr>
          <p:spPr>
            <a:xfrm>
              <a:off x="1752480" y="4419720"/>
              <a:ext cx="160020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海航酒店集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25"/>
          <p:cNvGrpSpPr/>
          <p:nvPr/>
        </p:nvGrpSpPr>
        <p:grpSpPr>
          <a:xfrm>
            <a:off x="1752480" y="5181480"/>
            <a:ext cx="5584680" cy="386280"/>
            <a:chOff x="1752480" y="5181480"/>
            <a:chExt cx="5584680" cy="386280"/>
          </a:xfrm>
        </p:grpSpPr>
        <p:sp>
          <p:nvSpPr>
            <p:cNvPr id="705" name="Rectangle 26"/>
            <p:cNvSpPr/>
            <p:nvPr/>
          </p:nvSpPr>
          <p:spPr>
            <a:xfrm>
              <a:off x="4187880" y="5199480"/>
              <a:ext cx="314928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布局全国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20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余个重点商务旅游城市，辐射全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27"/>
            <p:cNvSpPr/>
            <p:nvPr/>
          </p:nvSpPr>
          <p:spPr>
            <a:xfrm>
              <a:off x="1752480" y="5181480"/>
              <a:ext cx="160020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幸运国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29"/>
          <p:cNvGrpSpPr/>
          <p:nvPr/>
        </p:nvGrpSpPr>
        <p:grpSpPr>
          <a:xfrm>
            <a:off x="1752480" y="2133720"/>
            <a:ext cx="5444640" cy="386280"/>
            <a:chOff x="1752480" y="2133720"/>
            <a:chExt cx="5444640" cy="386280"/>
          </a:xfrm>
        </p:grpSpPr>
        <p:sp>
          <p:nvSpPr>
            <p:cNvPr id="708" name="Rectangle 30"/>
            <p:cNvSpPr/>
            <p:nvPr/>
          </p:nvSpPr>
          <p:spPr>
            <a:xfrm>
              <a:off x="3724560" y="2151720"/>
              <a:ext cx="347256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Skytrax /GT awards-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中国最佳航空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31"/>
            <p:cNvSpPr/>
            <p:nvPr/>
          </p:nvSpPr>
          <p:spPr>
            <a:xfrm>
              <a:off x="1752480" y="2133720"/>
              <a:ext cx="160020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海南航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Rectangle 32"/>
          <p:cNvSpPr/>
          <p:nvPr/>
        </p:nvSpPr>
        <p:spPr>
          <a:xfrm>
            <a:off x="2897280" y="57142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…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10"/>
          <p:cNvGrpSpPr/>
          <p:nvPr/>
        </p:nvGrpSpPr>
        <p:grpSpPr>
          <a:xfrm>
            <a:off x="1143000" y="1600200"/>
            <a:ext cx="6934320" cy="1328040"/>
            <a:chOff x="1143000" y="1600200"/>
            <a:chExt cx="6934320" cy="1328040"/>
          </a:xfrm>
        </p:grpSpPr>
        <p:sp>
          <p:nvSpPr>
            <p:cNvPr id="712" name="Text Box 5"/>
            <p:cNvSpPr/>
            <p:nvPr/>
          </p:nvSpPr>
          <p:spPr>
            <a:xfrm>
              <a:off x="1143000" y="2285640"/>
              <a:ext cx="693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10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日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CCTV           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以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《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民航与旅游相融合 两大产业实现共赢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》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为题对海航旅业集团“航旅结合” 模式进行特别报道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3" name="Picture 8" descr="%e6%96%b0%e9%97%bb%e8%81%94%e6%92%ad"/>
            <p:cNvPicPr/>
            <p:nvPr/>
          </p:nvPicPr>
          <p:blipFill>
            <a:blip r:embed="rId1"/>
            <a:stretch/>
          </p:blipFill>
          <p:spPr>
            <a:xfrm>
              <a:off x="4267080" y="1600200"/>
              <a:ext cx="1206720" cy="106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4" name="Picture 11" descr="CCTV新闻联播标题20070111"/>
          <p:cNvPicPr/>
          <p:nvPr/>
        </p:nvPicPr>
        <p:blipFill>
          <a:blip r:embed="rId2"/>
          <a:stretch/>
        </p:blipFill>
        <p:spPr>
          <a:xfrm>
            <a:off x="4038480" y="3276720"/>
            <a:ext cx="381024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3352680" y="2819520"/>
            <a:ext cx="228600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合作范例，与您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Group 24"/>
          <p:cNvGrpSpPr/>
          <p:nvPr/>
        </p:nvGrpSpPr>
        <p:grpSpPr>
          <a:xfrm>
            <a:off x="1752480" y="3288600"/>
            <a:ext cx="6933960" cy="737280"/>
            <a:chOff x="1752480" y="3288600"/>
            <a:chExt cx="6933960" cy="737280"/>
          </a:xfrm>
        </p:grpSpPr>
        <p:sp>
          <p:nvSpPr>
            <p:cNvPr id="717" name="Rectangle 11"/>
            <p:cNvSpPr/>
            <p:nvPr/>
          </p:nvSpPr>
          <p:spPr>
            <a:xfrm>
              <a:off x="1752480" y="3288600"/>
              <a:ext cx="2286000" cy="3682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定制的会奖旅游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12"/>
            <p:cNvSpPr/>
            <p:nvPr/>
          </p:nvSpPr>
          <p:spPr>
            <a:xfrm>
              <a:off x="1752480" y="3657600"/>
              <a:ext cx="693396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信用卡积分兑换旅游产品，我们根据银行对积分兑换金额、旅游目的地、质量保证、活动主题等的要求，以全年方案的形式为该行全国分行提供灵活的产品定制服务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8"/>
          <p:cNvGrpSpPr/>
          <p:nvPr/>
        </p:nvGrpSpPr>
        <p:grpSpPr>
          <a:xfrm>
            <a:off x="1752480" y="4812480"/>
            <a:ext cx="6933960" cy="1154520"/>
            <a:chOff x="1752480" y="4812480"/>
            <a:chExt cx="6933960" cy="1154520"/>
          </a:xfrm>
        </p:grpSpPr>
        <p:sp>
          <p:nvSpPr>
            <p:cNvPr id="720" name="Rectangle 29"/>
            <p:cNvSpPr/>
            <p:nvPr/>
          </p:nvSpPr>
          <p:spPr>
            <a:xfrm>
              <a:off x="1752480" y="4812480"/>
              <a:ext cx="2311200" cy="3682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整合信息化差旅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30"/>
            <p:cNvSpPr/>
            <p:nvPr/>
          </p:nvSpPr>
          <p:spPr>
            <a:xfrm>
              <a:off x="1752480" y="5181480"/>
              <a:ext cx="6933960" cy="78552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客户只需安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1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名对接人员即可完成在全球任何时空的会议安排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通过嵌入企业的信息化平台，为企业员工差旅提供全年的机票预定、酒店预定，并提供相关统计报告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31"/>
          <p:cNvGrpSpPr/>
          <p:nvPr/>
        </p:nvGrpSpPr>
        <p:grpSpPr>
          <a:xfrm>
            <a:off x="1219320" y="1371600"/>
            <a:ext cx="3047760" cy="368280"/>
            <a:chOff x="1219320" y="1371600"/>
            <a:chExt cx="3047760" cy="368280"/>
          </a:xfrm>
        </p:grpSpPr>
        <p:sp>
          <p:nvSpPr>
            <p:cNvPr id="723" name="Text Box 32"/>
            <p:cNvSpPr/>
            <p:nvPr/>
          </p:nvSpPr>
          <p:spPr>
            <a:xfrm>
              <a:off x="1219320" y="1371600"/>
              <a:ext cx="1143000" cy="368280"/>
            </a:xfrm>
            <a:prstGeom prst="rect">
              <a:avLst/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808080"/>
                  </a:solidFill>
                  <a:latin typeface="Arial"/>
                  <a:ea typeface="华文细黑"/>
                </a:rPr>
                <a:t>客户概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33"/>
            <p:cNvSpPr/>
            <p:nvPr/>
          </p:nvSpPr>
          <p:spPr>
            <a:xfrm>
              <a:off x="2362320" y="1371600"/>
              <a:ext cx="1904760" cy="368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国内某知名银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34"/>
          <p:cNvSpPr/>
          <p:nvPr/>
        </p:nvSpPr>
        <p:spPr>
          <a:xfrm>
            <a:off x="1752480" y="2057400"/>
            <a:ext cx="6934320" cy="368280"/>
          </a:xfrm>
          <a:prstGeom prst="rect">
            <a:avLst/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海航旅业自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就开始为该银行提供专业的整合“会奖旅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差旅”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6"/>
          <p:cNvSpPr/>
          <p:nvPr/>
        </p:nvSpPr>
        <p:spPr>
          <a:xfrm>
            <a:off x="1219320" y="3276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13"/>
          <p:cNvGrpSpPr/>
          <p:nvPr/>
        </p:nvGrpSpPr>
        <p:grpSpPr>
          <a:xfrm>
            <a:off x="1143000" y="1371600"/>
            <a:ext cx="5334120" cy="368280"/>
            <a:chOff x="1143000" y="1371600"/>
            <a:chExt cx="5334120" cy="368280"/>
          </a:xfrm>
        </p:grpSpPr>
        <p:sp>
          <p:nvSpPr>
            <p:cNvPr id="728" name="Text Box 11"/>
            <p:cNvSpPr/>
            <p:nvPr/>
          </p:nvSpPr>
          <p:spPr>
            <a:xfrm>
              <a:off x="1143000" y="1371600"/>
              <a:ext cx="1879560" cy="368280"/>
            </a:xfrm>
            <a:prstGeom prst="rect">
              <a:avLst/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808080"/>
                  </a:solidFill>
                  <a:latin typeface="Arial"/>
                  <a:ea typeface="华文细黑"/>
                </a:rPr>
                <a:t>客户收益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2"/>
            <p:cNvSpPr/>
            <p:nvPr/>
          </p:nvSpPr>
          <p:spPr>
            <a:xfrm>
              <a:off x="2743200" y="1371600"/>
              <a:ext cx="3733920" cy="368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收益提升与成本节省间的巨大反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19"/>
          <p:cNvGrpSpPr/>
          <p:nvPr/>
        </p:nvGrpSpPr>
        <p:grpSpPr>
          <a:xfrm>
            <a:off x="1676520" y="1992960"/>
            <a:ext cx="6858000" cy="737640"/>
            <a:chOff x="1676520" y="1992960"/>
            <a:chExt cx="6858000" cy="737640"/>
          </a:xfrm>
        </p:grpSpPr>
        <p:sp>
          <p:nvSpPr>
            <p:cNvPr id="731" name="Rectangle 15"/>
            <p:cNvSpPr/>
            <p:nvPr/>
          </p:nvSpPr>
          <p:spPr>
            <a:xfrm>
              <a:off x="1676520" y="1992960"/>
              <a:ext cx="2286000" cy="3682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循环性消费收益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16"/>
            <p:cNvSpPr/>
            <p:nvPr/>
          </p:nvSpPr>
          <p:spPr>
            <a:xfrm>
              <a:off x="1676520" y="2362320"/>
              <a:ext cx="685800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显著刺激信用卡消费，截至目前，旅游服务已接待该行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信用卡用户逾万人次，并对该行吸引新用户、增强用户忠诚度起到积极作用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20"/>
          <p:cNvGrpSpPr/>
          <p:nvPr/>
        </p:nvGrpSpPr>
        <p:grpSpPr>
          <a:xfrm>
            <a:off x="1676520" y="3212280"/>
            <a:ext cx="6858000" cy="1724040"/>
            <a:chOff x="1676520" y="3212280"/>
            <a:chExt cx="6858000" cy="1724040"/>
          </a:xfrm>
        </p:grpSpPr>
        <p:sp>
          <p:nvSpPr>
            <p:cNvPr id="734" name="Rectangle 17"/>
            <p:cNvSpPr/>
            <p:nvPr/>
          </p:nvSpPr>
          <p:spPr>
            <a:xfrm>
              <a:off x="1676520" y="3212280"/>
              <a:ext cx="2286000" cy="3682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会议差旅管理降成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76520" y="3581280"/>
              <a:ext cx="6858000" cy="135504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挥海航旅业航空、酒店等资源优势为客户切实降低成本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通过年度的会议采购，截至目前共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保障该行全国性大中型会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次；信息化预订平台已为该行员工提供机票、酒店预订逾万人次，极大便捷了出行审批环节，同时保证出差员工的安全性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以同比分析，差旅成本节省比例超过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0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%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在客户与海航旅业双方团队的努力下，这个数字还在提升中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4"/>
          <p:cNvSpPr/>
          <p:nvPr/>
        </p:nvSpPr>
        <p:spPr>
          <a:xfrm>
            <a:off x="3520080" y="2895480"/>
            <a:ext cx="223056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也许您正满怀同样的期待 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…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1219320" y="2286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月，海航旅业集团旗下金鹿航空包机保障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非诚勿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剧组赴日本札幌进行拍摄，为观众记录下北海道最美的秋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3" descr="cb9b96514172ce908d543049"/>
          <p:cNvPicPr/>
          <p:nvPr/>
        </p:nvPicPr>
        <p:blipFill>
          <a:blip r:embed="rId1"/>
          <a:stretch/>
        </p:blipFill>
        <p:spPr>
          <a:xfrm>
            <a:off x="533520" y="3124080"/>
            <a:ext cx="3276360" cy="18576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4" descr="金鹿航空－A319-４"/>
          <p:cNvPicPr/>
          <p:nvPr/>
        </p:nvPicPr>
        <p:blipFill>
          <a:blip r:embed="rId2"/>
          <a:stretch/>
        </p:blipFill>
        <p:spPr>
          <a:xfrm>
            <a:off x="3276720" y="4419720"/>
            <a:ext cx="5340240" cy="1939680"/>
          </a:xfrm>
          <a:prstGeom prst="rect">
            <a:avLst/>
          </a:prstGeom>
          <a:ln w="0">
            <a:noFill/>
          </a:ln>
        </p:spPr>
      </p:pic>
      <p:grpSp>
        <p:nvGrpSpPr>
          <p:cNvPr id="739" name="Group 5"/>
          <p:cNvGrpSpPr/>
          <p:nvPr/>
        </p:nvGrpSpPr>
        <p:grpSpPr>
          <a:xfrm>
            <a:off x="1295280" y="1600200"/>
            <a:ext cx="3722040" cy="368280"/>
            <a:chOff x="1295280" y="1600200"/>
            <a:chExt cx="3722040" cy="368280"/>
          </a:xfrm>
        </p:grpSpPr>
        <p:sp>
          <p:nvSpPr>
            <p:cNvPr id="740" name="Text Box 6"/>
            <p:cNvSpPr/>
            <p:nvPr/>
          </p:nvSpPr>
          <p:spPr>
            <a:xfrm>
              <a:off x="1295280" y="1600200"/>
              <a:ext cx="205740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冯小刚的诚意之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3739320" y="1600200"/>
              <a:ext cx="127800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更是您的明智之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41134"/>
          <p:cNvPicPr/>
          <p:nvPr/>
        </p:nvPicPr>
        <p:blipFill>
          <a:blip r:embed="rId1"/>
          <a:stretch/>
        </p:blipFill>
        <p:spPr>
          <a:xfrm>
            <a:off x="3886200" y="3809880"/>
            <a:ext cx="4038480" cy="256716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3"/>
          <p:cNvSpPr/>
          <p:nvPr/>
        </p:nvSpPr>
        <p:spPr>
          <a:xfrm>
            <a:off x="1143000" y="1295280"/>
            <a:ext cx="617220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秦奋和矜持美女见面的那个酒店，许多人都看着眼熟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没错，那就是著名的新国宾馆，海航麾下的一个高级下榻之处。钱包不是特别干瘪的人去趟海口，回来总爱显摆‘新国宾馆可真是不错’，可见受欢迎程度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摘自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新华航空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4" descr="large_9212o177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grpSp>
        <p:nvGrpSpPr>
          <p:cNvPr id="745" name="Group 8"/>
          <p:cNvGrpSpPr/>
          <p:nvPr/>
        </p:nvGrpSpPr>
        <p:grpSpPr>
          <a:xfrm>
            <a:off x="2133720" y="3352680"/>
            <a:ext cx="990360" cy="368280"/>
            <a:chOff x="2133720" y="3352680"/>
            <a:chExt cx="990360" cy="368280"/>
          </a:xfrm>
        </p:grpSpPr>
        <p:sp>
          <p:nvSpPr>
            <p:cNvPr id="746" name="Text Box 5"/>
            <p:cNvSpPr/>
            <p:nvPr/>
          </p:nvSpPr>
          <p:spPr>
            <a:xfrm>
              <a:off x="2590920" y="3352680"/>
              <a:ext cx="533160" cy="368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6"/>
            <p:cNvSpPr/>
            <p:nvPr/>
          </p:nvSpPr>
          <p:spPr>
            <a:xfrm>
              <a:off x="2133720" y="3352680"/>
              <a:ext cx="457200" cy="36828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808080"/>
                  </a:solidFill>
                  <a:latin typeface="Arial"/>
                  <a:ea typeface="华文细黑"/>
                </a:rPr>
                <a:t>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46"/>
          <p:cNvGrpSpPr/>
          <p:nvPr/>
        </p:nvGrpSpPr>
        <p:grpSpPr>
          <a:xfrm>
            <a:off x="457200" y="1752480"/>
            <a:ext cx="4000680" cy="2454480"/>
            <a:chOff x="457200" y="1752480"/>
            <a:chExt cx="4000680" cy="2454480"/>
          </a:xfrm>
        </p:grpSpPr>
        <p:pic>
          <p:nvPicPr>
            <p:cNvPr id="582" name="Picture 6" descr="狗看书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2384280" cy="176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3" name="Group 13"/>
            <p:cNvGrpSpPr/>
            <p:nvPr/>
          </p:nvGrpSpPr>
          <p:grpSpPr>
            <a:xfrm>
              <a:off x="2362320" y="1752480"/>
              <a:ext cx="2095560" cy="1441440"/>
              <a:chOff x="2362320" y="1752480"/>
              <a:chExt cx="2095560" cy="1441440"/>
            </a:xfrm>
          </p:grpSpPr>
          <p:graphicFrame>
            <p:nvGraphicFramePr>
              <p:cNvPr id="584" name="Object 10"/>
              <p:cNvGraphicFramePr/>
              <p:nvPr/>
            </p:nvGraphicFramePr>
            <p:xfrm>
              <a:off x="2362320" y="1752480"/>
              <a:ext cx="2095560" cy="1441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85" name="Object 10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362320" y="1752480"/>
                        <a:ext cx="2095560" cy="144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6" name="Text Box 11"/>
              <p:cNvSpPr/>
              <p:nvPr/>
            </p:nvSpPr>
            <p:spPr>
              <a:xfrm>
                <a:off x="2707200" y="2143440"/>
                <a:ext cx="1400040" cy="83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子曾经曰过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       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要读万卷书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       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更要行万里路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7" name="Group 39"/>
          <p:cNvGrpSpPr/>
          <p:nvPr/>
        </p:nvGrpSpPr>
        <p:grpSpPr>
          <a:xfrm>
            <a:off x="4343400" y="1295280"/>
            <a:ext cx="4114800" cy="2631960"/>
            <a:chOff x="4343400" y="1295280"/>
            <a:chExt cx="4114800" cy="2631960"/>
          </a:xfrm>
        </p:grpSpPr>
        <p:pic>
          <p:nvPicPr>
            <p:cNvPr id="588" name="Picture 26" descr="流浪歌手-熊"/>
            <p:cNvPicPr/>
            <p:nvPr/>
          </p:nvPicPr>
          <p:blipFill>
            <a:blip r:embed="rId4"/>
            <a:stretch/>
          </p:blipFill>
          <p:spPr>
            <a:xfrm>
              <a:off x="5715000" y="2209680"/>
              <a:ext cx="2743200" cy="171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Group 27"/>
            <p:cNvGrpSpPr/>
            <p:nvPr/>
          </p:nvGrpSpPr>
          <p:grpSpPr>
            <a:xfrm>
              <a:off x="4343400" y="1295280"/>
              <a:ext cx="3320640" cy="1288800"/>
              <a:chOff x="4343400" y="1295280"/>
              <a:chExt cx="3320640" cy="1288800"/>
            </a:xfrm>
          </p:grpSpPr>
          <p:pic>
            <p:nvPicPr>
              <p:cNvPr id="590" name="Picture 28" descr="cloud"/>
              <p:cNvPicPr/>
              <p:nvPr/>
            </p:nvPicPr>
            <p:blipFill>
              <a:blip r:embed="rId5"/>
              <a:stretch/>
            </p:blipFill>
            <p:spPr>
              <a:xfrm>
                <a:off x="4343400" y="1295280"/>
                <a:ext cx="2957760" cy="12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Text Box 29"/>
              <p:cNvSpPr/>
              <p:nvPr/>
            </p:nvSpPr>
            <p:spPr>
              <a:xfrm>
                <a:off x="4654440" y="1591560"/>
                <a:ext cx="3009600" cy="83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放声高歌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没有什么能够阻挡，我对旅行的向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2" name="Group 52"/>
          <p:cNvGrpSpPr/>
          <p:nvPr/>
        </p:nvGrpSpPr>
        <p:grpSpPr>
          <a:xfrm>
            <a:off x="1905120" y="3276720"/>
            <a:ext cx="3087720" cy="2965320"/>
            <a:chOff x="1905120" y="3276720"/>
            <a:chExt cx="3087720" cy="2965320"/>
          </a:xfrm>
        </p:grpSpPr>
        <p:pic>
          <p:nvPicPr>
            <p:cNvPr id="593" name="Picture 31" descr="113e3bfb6a5c8c3ea9d31160"/>
            <p:cNvPicPr/>
            <p:nvPr/>
          </p:nvPicPr>
          <p:blipFill>
            <a:blip r:embed="rId6"/>
            <a:stretch/>
          </p:blipFill>
          <p:spPr>
            <a:xfrm>
              <a:off x="1905120" y="4343400"/>
              <a:ext cx="2590560" cy="1898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4" name="Group 32"/>
            <p:cNvGrpSpPr/>
            <p:nvPr/>
          </p:nvGrpSpPr>
          <p:grpSpPr>
            <a:xfrm>
              <a:off x="3048120" y="3276720"/>
              <a:ext cx="1944720" cy="1184040"/>
              <a:chOff x="3048120" y="3276720"/>
              <a:chExt cx="1944720" cy="1184040"/>
            </a:xfrm>
          </p:grpSpPr>
          <p:graphicFrame>
            <p:nvGraphicFramePr>
              <p:cNvPr id="595" name="Object 33"/>
              <p:cNvGraphicFramePr/>
              <p:nvPr/>
            </p:nvGraphicFramePr>
            <p:xfrm>
              <a:off x="3048120" y="3276720"/>
              <a:ext cx="1944720" cy="1184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96" name="Object 3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048120" y="3276720"/>
                        <a:ext cx="1944720" cy="11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97" name="Text Box 34"/>
              <p:cNvSpPr/>
              <p:nvPr/>
            </p:nvSpPr>
            <p:spPr>
              <a:xfrm>
                <a:off x="3257280" y="3673800"/>
                <a:ext cx="157680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公司集体出游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“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我们都爱大自然！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Group 53"/>
          <p:cNvGrpSpPr/>
          <p:nvPr/>
        </p:nvGrpSpPr>
        <p:grpSpPr>
          <a:xfrm>
            <a:off x="4724280" y="4038480"/>
            <a:ext cx="3581640" cy="2430720"/>
            <a:chOff x="4724280" y="4038480"/>
            <a:chExt cx="3581640" cy="2430720"/>
          </a:xfrm>
        </p:grpSpPr>
        <p:pic>
          <p:nvPicPr>
            <p:cNvPr id="599" name="Picture 50" descr="0000431637"/>
            <p:cNvPicPr/>
            <p:nvPr/>
          </p:nvPicPr>
          <p:blipFill>
            <a:blip r:embed="rId9"/>
            <a:stretch/>
          </p:blipFill>
          <p:spPr>
            <a:xfrm>
              <a:off x="5562720" y="4952880"/>
              <a:ext cx="2743200" cy="1516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00" name="Object 42"/>
            <p:cNvGraphicFramePr/>
            <p:nvPr/>
          </p:nvGraphicFramePr>
          <p:xfrm>
            <a:off x="4724280" y="4038480"/>
            <a:ext cx="1905120" cy="1204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01" name="Object 4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724280" y="4038480"/>
                      <a:ext cx="190512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2" name="Text Box 43"/>
            <p:cNvSpPr/>
            <p:nvPr/>
          </p:nvSpPr>
          <p:spPr>
            <a:xfrm>
              <a:off x="5029200" y="434340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会奖旅游，回报客户，人人喜爱，偷着乐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5"/>
          <p:cNvSpPr/>
          <p:nvPr/>
        </p:nvSpPr>
        <p:spPr>
          <a:xfrm>
            <a:off x="3580920" y="2895480"/>
            <a:ext cx="195624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却面临着同样的烦恼 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…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992644_20936856"/>
          <p:cNvPicPr/>
          <p:nvPr/>
        </p:nvPicPr>
        <p:blipFill>
          <a:blip r:embed="rId1"/>
          <a:stretch/>
        </p:blipFill>
        <p:spPr>
          <a:xfrm>
            <a:off x="1676520" y="1447920"/>
            <a:ext cx="7289640" cy="509256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7164360" y="5181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特产采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280584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机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509184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住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737784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餐饮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2668680" y="5181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地面交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2"/>
          <p:cNvSpPr/>
          <p:nvPr/>
        </p:nvSpPr>
        <p:spPr>
          <a:xfrm>
            <a:off x="4954680" y="5181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景点门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24"/>
          <p:cNvGrpSpPr/>
          <p:nvPr/>
        </p:nvGrpSpPr>
        <p:grpSpPr>
          <a:xfrm>
            <a:off x="295560" y="641520"/>
            <a:ext cx="2662920" cy="1955160"/>
            <a:chOff x="295560" y="641520"/>
            <a:chExt cx="2662920" cy="1955160"/>
          </a:xfrm>
        </p:grpSpPr>
        <p:sp>
          <p:nvSpPr>
            <p:cNvPr id="612" name="Text Box 22"/>
            <p:cNvSpPr/>
            <p:nvPr/>
          </p:nvSpPr>
          <p:spPr>
            <a:xfrm rot="20024400">
              <a:off x="389520" y="1142640"/>
              <a:ext cx="2487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在家千日好，出门万事难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3"/>
            <p:cNvSpPr/>
            <p:nvPr/>
          </p:nvSpPr>
          <p:spPr>
            <a:xfrm rot="20023800">
              <a:off x="383400" y="1241640"/>
              <a:ext cx="2210040" cy="9129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2286000" y="2819520"/>
            <a:ext cx="480060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海航旅业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——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为机构及个人提供定制旅游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37" descr="大新华快运-图片-乘务形象3"/>
          <p:cNvPicPr/>
          <p:nvPr/>
        </p:nvPicPr>
        <p:blipFill>
          <a:blip r:embed="rId1"/>
          <a:stretch/>
        </p:blipFill>
        <p:spPr>
          <a:xfrm>
            <a:off x="4419720" y="3886200"/>
            <a:ext cx="3809880" cy="254304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45"/>
          <p:cNvGrpSpPr/>
          <p:nvPr/>
        </p:nvGrpSpPr>
        <p:grpSpPr>
          <a:xfrm>
            <a:off x="914400" y="1600200"/>
            <a:ext cx="4097520" cy="386280"/>
            <a:chOff x="914400" y="1600200"/>
            <a:chExt cx="4097520" cy="386280"/>
          </a:xfrm>
        </p:grpSpPr>
        <p:sp>
          <p:nvSpPr>
            <p:cNvPr id="617" name="Rectangle 43"/>
            <p:cNvSpPr/>
            <p:nvPr/>
          </p:nvSpPr>
          <p:spPr>
            <a:xfrm>
              <a:off x="3734280" y="1618200"/>
              <a:ext cx="127764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奖励旅游、福利旅游、招待旅游、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拓展培训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44"/>
            <p:cNvSpPr/>
            <p:nvPr/>
          </p:nvSpPr>
          <p:spPr>
            <a:xfrm>
              <a:off x="914400" y="1600200"/>
              <a:ext cx="116604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旅游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54"/>
          <p:cNvGrpSpPr/>
          <p:nvPr/>
        </p:nvGrpSpPr>
        <p:grpSpPr>
          <a:xfrm>
            <a:off x="914400" y="2362320"/>
            <a:ext cx="5826240" cy="386280"/>
            <a:chOff x="914400" y="2362320"/>
            <a:chExt cx="5826240" cy="386280"/>
          </a:xfrm>
        </p:grpSpPr>
        <p:sp>
          <p:nvSpPr>
            <p:cNvPr id="620" name="Rectangle 47"/>
            <p:cNvSpPr/>
            <p:nvPr/>
          </p:nvSpPr>
          <p:spPr>
            <a:xfrm>
              <a:off x="2057400" y="2380320"/>
              <a:ext cx="468324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研讨会、年终会、展览会、联合推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48"/>
            <p:cNvSpPr/>
            <p:nvPr/>
          </p:nvSpPr>
          <p:spPr>
            <a:xfrm>
              <a:off x="914400" y="2362320"/>
              <a:ext cx="114300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会展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49"/>
          <p:cNvGrpSpPr/>
          <p:nvPr/>
        </p:nvGrpSpPr>
        <p:grpSpPr>
          <a:xfrm>
            <a:off x="914400" y="3124080"/>
            <a:ext cx="5866920" cy="386640"/>
            <a:chOff x="914400" y="3124080"/>
            <a:chExt cx="5866920" cy="386640"/>
          </a:xfrm>
        </p:grpSpPr>
        <p:sp>
          <p:nvSpPr>
            <p:cNvPr id="623" name="Rectangle 50"/>
            <p:cNvSpPr/>
            <p:nvPr/>
          </p:nvSpPr>
          <p:spPr>
            <a:xfrm>
              <a:off x="2001240" y="3142440"/>
              <a:ext cx="478008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机票预定、酒店预定、租车服务、差旅管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51"/>
            <p:cNvSpPr/>
            <p:nvPr/>
          </p:nvSpPr>
          <p:spPr>
            <a:xfrm>
              <a:off x="914400" y="3124080"/>
              <a:ext cx="1164240" cy="36828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差旅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13"/>
          <p:cNvGrpSpPr/>
          <p:nvPr/>
        </p:nvGrpSpPr>
        <p:grpSpPr>
          <a:xfrm>
            <a:off x="2133720" y="1535760"/>
            <a:ext cx="4876560" cy="750240"/>
            <a:chOff x="2133720" y="1535760"/>
            <a:chExt cx="4876560" cy="750240"/>
          </a:xfrm>
        </p:grpSpPr>
        <p:sp>
          <p:nvSpPr>
            <p:cNvPr id="626" name="Rectangle 4"/>
            <p:cNvSpPr/>
            <p:nvPr/>
          </p:nvSpPr>
          <p:spPr>
            <a:xfrm>
              <a:off x="2948400" y="1535760"/>
              <a:ext cx="409320" cy="3682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便捷的一站式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12"/>
            <p:cNvSpPr/>
            <p:nvPr/>
          </p:nvSpPr>
          <p:spPr>
            <a:xfrm>
              <a:off x="2133720" y="1917720"/>
              <a:ext cx="487656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可提供多类型服务，满足您的一站式采购需求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4"/>
          <p:cNvGrpSpPr/>
          <p:nvPr/>
        </p:nvGrpSpPr>
        <p:grpSpPr>
          <a:xfrm>
            <a:off x="2133720" y="2678760"/>
            <a:ext cx="4876560" cy="750240"/>
            <a:chOff x="2133720" y="2678760"/>
            <a:chExt cx="4876560" cy="750240"/>
          </a:xfrm>
        </p:grpSpPr>
        <p:sp>
          <p:nvSpPr>
            <p:cNvPr id="629" name="Rectangle 15"/>
            <p:cNvSpPr/>
            <p:nvPr/>
          </p:nvSpPr>
          <p:spPr>
            <a:xfrm>
              <a:off x="2513880" y="2678760"/>
              <a:ext cx="1278000" cy="3682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由的定制化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16"/>
            <p:cNvSpPr/>
            <p:nvPr/>
          </p:nvSpPr>
          <p:spPr>
            <a:xfrm>
              <a:off x="2133720" y="3060720"/>
              <a:ext cx="487656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为您量身定制高品质个性化的旅游产品及服务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20"/>
          <p:cNvGrpSpPr/>
          <p:nvPr/>
        </p:nvGrpSpPr>
        <p:grpSpPr>
          <a:xfrm>
            <a:off x="2133720" y="3821760"/>
            <a:ext cx="4876560" cy="750240"/>
            <a:chOff x="2133720" y="3821760"/>
            <a:chExt cx="4876560" cy="750240"/>
          </a:xfrm>
        </p:grpSpPr>
        <p:sp>
          <p:nvSpPr>
            <p:cNvPr id="632" name="Rectangle 18"/>
            <p:cNvSpPr/>
            <p:nvPr/>
          </p:nvSpPr>
          <p:spPr>
            <a:xfrm>
              <a:off x="2513520" y="3821760"/>
              <a:ext cx="1278000" cy="3682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贴心的品质化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2133720" y="4203720"/>
              <a:ext cx="487656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组团、地接、监督等各个环节，全程服务保障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24"/>
          <p:cNvGrpSpPr/>
          <p:nvPr/>
        </p:nvGrpSpPr>
        <p:grpSpPr>
          <a:xfrm>
            <a:off x="2133720" y="4964760"/>
            <a:ext cx="4876560" cy="750240"/>
            <a:chOff x="2133720" y="4964760"/>
            <a:chExt cx="4876560" cy="750240"/>
          </a:xfrm>
        </p:grpSpPr>
        <p:sp>
          <p:nvSpPr>
            <p:cNvPr id="635" name="Rectangle 22"/>
            <p:cNvSpPr/>
            <p:nvPr/>
          </p:nvSpPr>
          <p:spPr>
            <a:xfrm>
              <a:off x="2513520" y="4964760"/>
              <a:ext cx="1278000" cy="368280"/>
            </a:xfrm>
            <a:prstGeom prst="rect">
              <a:avLst/>
            </a:prstGeom>
            <a:solidFill>
              <a:srgbClr val="666699"/>
            </a:solidFill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科学的信息化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23"/>
            <p:cNvSpPr/>
            <p:nvPr/>
          </p:nvSpPr>
          <p:spPr>
            <a:xfrm>
              <a:off x="2133720" y="5346720"/>
              <a:ext cx="4876560" cy="36828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整合内外资源，为您提供安全稳定高效的平台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/>
          <p:cNvSpPr/>
          <p:nvPr/>
        </p:nvSpPr>
        <p:spPr>
          <a:xfrm>
            <a:off x="3200400" y="2819520"/>
            <a:ext cx="274320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海航旅业</a:t>
            </a:r>
            <a:r>
              <a:rPr b="0" lang="en-US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——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术业有专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10T02:10:19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