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9.gif" ContentType="image/gif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16E8-3C3F-4D89-AA71-5FBA81E2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92A-78EC-4676-8CF6-FBF372BD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B3E9B-E00F-479C-A4DF-A2CE2626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4BE0E-9167-4223-A310-8E133690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41CDE-A788-489C-80AC-FCE437E5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1E338-185C-438C-9F20-91757AD4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E6087-9A0B-47A3-B0BC-95CAC43C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89743-4D54-431C-B71A-DE2B6439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C02DA-98B7-41DD-8F44-F60772CE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48357-1959-46B3-9658-1137CA59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75E09-D446-4C9B-A728-1CA4BF35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26406-83B9-4177-8E08-740356EE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148-1390-4E74-9CF7-E3FD1D9F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EFBF3-3FC4-4421-B2A1-AFF254C0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E7C7A-0B96-4309-B48C-378B6CE4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DF289-9A31-46EA-AB42-22224AD0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14CA9-08DB-46CE-8D7D-A0897883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CD92B-2524-4A88-92A5-D41B6A7B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CFF36-95D5-4FD9-9FEE-B52FBC84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5246E-E10F-42FE-819F-63918A66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48EAF-C1A8-4205-B29F-13D4E4BE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6DE0D-59C6-4A6B-A066-ADCC9BC5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45922-2D8A-4B5D-9CFD-A92B3AE0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192-F496-487C-BF3E-C0157415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1DB26-5443-4B15-9721-EA7DF1FC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B83F9-D2D9-4925-9EBA-9FA6A6ED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75FF9-C03D-4228-AEEA-B879C89E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243BD-514B-4A8F-8E6D-CE006F38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23201-B78E-4503-96A1-5F6E34A6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439DE-EC20-4251-8638-7F6BAB21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7EA20-78CB-4A2C-88B2-E4AA6121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EDF97-F6A8-4D3F-8C80-82EF8D38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751F6-FD80-418E-941A-FBD4A7D5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D5E86-928A-4651-B0B4-4581A207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3A99-C6D5-4B7F-9713-836C8571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20EB0-22CE-4275-8C58-D5ACA495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6691B-8CB7-45F2-A10C-72517094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C2F7B-5714-4553-B825-A42CE945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D645C-8A11-46D2-B932-1F55D2F4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651E2-9FB5-492C-9E7E-0958A748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C8C16-E12D-402A-8C87-DA4603A6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A20D9-DE4C-436D-B828-9C56D5B9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298AD-8DFB-4569-B09C-E933321B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13891-CA13-46CF-8836-B4781AFC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DF5FF-B7E5-4C9B-ABB7-57426F9B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FE13-C728-4039-BB57-899F5C9D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9B763-9A03-44C5-A252-BC747283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BB7B2-CA55-4B94-BBA8-EE887989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4417A-6AD3-4B1F-8EC1-C769B169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9B8FA-F72D-47AF-9B8E-18C7D3F2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59A04-1228-41C4-BECB-D323EF95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31F33-00FE-4583-A2F8-A11A34D4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CEE8A-7F81-4FAE-B25C-D0022230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F4ADE-A0A6-49E1-A79A-92B64435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59D8A-B06A-49E7-82AA-A8910C3B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B8639-AD40-4FB9-9E3C-4DC9FD49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0D1A-DADE-4D23-AFB9-42B930F6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18504-038D-4F37-8874-E190078E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479E0-9BBA-4C8F-BEEB-AEB0D8CD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C14FC-3823-46F0-A3E4-1D893A4D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36642-8E44-4477-A811-C5F1A530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002E1-9BC2-44F8-BEDB-0662ABE6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551BA-4F9E-4F71-8157-383FB458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50A77-4FB4-4EE2-B2AA-DA36BCC7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A919-B4A6-4AD8-933E-BB1E8C57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25F8-353E-4022-A0AE-60DBC48C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AA25-CAC7-454A-AA71-05B7FC53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2C7F-753B-49C8-93BF-62482DCF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BD0-2248-479C-BDAD-5FBB08FC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C6B8-6407-4454-AB38-CEC85092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8C8F-D70E-4A89-AC8B-1AF43852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8949-0317-4887-BF07-801803A7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C5BF-8494-4AA6-AFB8-98A426DD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7699-EB9C-4DF7-A8C8-40FBE46A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37603-52AA-4BA4-B940-E6669953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9B1A5-E972-4276-B44E-C90C8F7B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77E10-0BFC-491A-9179-4FEDAE72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D51F-63CA-4789-9733-F5E541D8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E855A-4766-4185-A059-45C0C832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D50-1DC4-4B0F-BB17-921DFC4C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27E3D-AF41-4E71-9740-CF405CC6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B0AE9-80E3-4C9B-844C-CE5FE031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40F2-FF11-46DD-9023-027BB38A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613BD-CACF-483F-8163-37F4FD8F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6320-CC21-4896-AEBD-31F16659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12AE3-FC4A-45C3-AC24-0C472D71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B580-4A47-4426-B319-3C3AE507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7C57E-AE93-4D61-AD58-A261DB5E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A3863-074F-4EC0-9807-71FB1EFD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78752-30E4-494B-85BE-46D3E832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60E-64EA-4ACF-8983-4CC7C813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FD2C6-A065-43EF-BD28-2DA37511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1081E-E408-4F6F-9442-C9E0C427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FCD5B-1349-48CF-BE3A-8BB3148D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59DDA-AFE0-4503-9771-57A0B4EC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ADB91-B2F4-46AA-8931-8C5F6115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5421E-2F29-4C4E-8AC3-BA122CE7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9ECD8-353E-46EE-8DA1-29D178D4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C7237-0EBA-45BC-924A-3372126F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A8951-9D6F-441C-A829-78EACDBF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F2C9E-C034-4E2E-A2B6-7C4DF63D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FE8-99A6-48D7-BE7B-0B81ED04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9F523-9FD4-4648-B607-F7208089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A391B-791B-457B-8AC1-CB9C67A5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402A2-AFD0-4A2B-97ED-2710DEAC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314AC-C908-47FA-A574-902464BF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AC223-B3A5-4781-B299-56E9DE3E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C0079-874A-4ED9-AE34-DFE0E396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15E66-080C-4652-9B1F-D49A1C93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00B5F-D31D-46AA-866F-61F453E9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19C65-E5AD-4437-ABF8-68B6A43E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A4748-4BBD-475E-BC6D-9E03EDFF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265-D777-47BB-B39D-F50F2A94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AA25D-5E9C-44D8-B5ED-0B2EE50F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36ADF-A2BC-49FC-B5BB-A7328674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DADAC-5C02-404E-9781-FA6F029A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0619F-2FAD-4DAD-A817-0C90452B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3E9FE-94C1-4628-A1E0-53B1753A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2C5D5-5B49-46A1-84B8-4E1C4857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8B9A7-8329-4DB9-ABB5-68F5E1DB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8120C-AAB0-4BE5-A689-CAF0A9EB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2BBB9-46B0-4004-9804-1D6D455E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7B086-5794-4912-A105-F451FC0F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571-42AB-4F76-9D37-E3E36CC8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A6021-56FF-4766-99C6-F380292E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3CFF4-0AF4-42CA-AC1F-28D46581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5E662-88E8-449B-A20A-35DD3EF0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334BA-5BC6-49DD-B1EB-E8C7DD7C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109FB-D18B-46AA-A1D8-C9FCE0BD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A9B24-6BD5-40DD-A942-A5DCEDAF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77B9A-E7A6-42AE-A31B-B08F3049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383E4-BD53-44CE-AAFF-CDEC555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A7C2C-BDF5-4323-A03B-4A3188C5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6BC8E-C036-4D9D-90F9-A30F65E4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FAF9-FEC0-416D-8CA2-378931DA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70EBF-5103-4FAF-8CEC-DF118E16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24C20-F9A6-486C-A8BC-43D15C48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CBEA3-652E-4DB1-BB3A-6E40DCF1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6D6EF-8885-437F-93B7-D29433C7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423DD-F85A-485E-98BF-843787F6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90DDC-C692-4363-B04B-44535196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0F97C-92B9-485C-8810-1A6DF6E0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C93A6-D1CF-4C25-8E5B-E7ACF182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CBBD3-E09A-4430-ABD7-E4481F1E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8DAFA-28B3-45A2-B21C-C195E967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7FF-5218-44BF-9DDB-18B6A7E1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FFB80-12BB-4995-B413-1DFCDDED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02F61-0FAF-4087-9DD4-DD444593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855D4-B203-4BB2-BAE2-7432DD4B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6E687-21C6-4130-A84D-D2663E7C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1E38C-737B-4C89-B581-4D3DC6A9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3836E-B9A9-4CAD-AF8C-71587A20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CAD94-8B7F-4F49-9503-47A0F7E5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1B349-C2E5-4F66-9F8F-7BF850EF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8E2F0-0C13-416B-9766-DF434FC1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6212E-E695-4D3C-9413-FEC761D3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7F46-6BC7-4DAD-B4E0-A10E4FAB5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4946-7723-428C-8651-245C8A6239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27B0-3B54-4E3D-B707-2CC0289797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56E0-C0ED-40B0-A0AD-E778947F17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0305-3D0C-400E-996A-112672FF3B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8079-B607-434F-A615-45E144C975B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C8FD-FA1C-4613-B982-64254FF052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8E84-F57B-4314-848A-96C04B42DB6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944F-566D-4116-B8E0-D91ED629D5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8953-C088-4B9F-A654-1DFCDB1EF1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28BE-A109-4D56-9F00-CC4333C802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7A3D-4BAA-449D-A421-023FD86E298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B779-ED63-4B79-9C8C-C4367F4257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DCA0-F169-41E7-A8D8-2F434876094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1D8D-4345-4310-AD1D-3EA24386B3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36F7-2D48-4D4C-8B26-17304CC7C88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6480-7063-4767-A715-B807714348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FF42-F67D-4264-81B0-781B31A28C8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B870-FE2C-4B3C-91A0-3C84EFDE4B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5B68-E20F-4243-9D24-834564A74B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30B8-43A8-4A02-8711-CAFFE09480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AAEE-22AA-419C-BD25-0CD22205273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5303-0550-40F5-B182-D6B3CC5D9A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2E54-09A5-4310-9A3E-255E58B33B4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B172-5835-4B45-B268-A32902753A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5" descr="9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6"/>
          <p:cNvSpPr/>
          <p:nvPr/>
        </p:nvSpPr>
        <p:spPr>
          <a:xfrm>
            <a:off x="2340000" y="55080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华文细黑"/>
              </a:rPr>
              <a:t>给予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5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7"/>
          <p:cNvSpPr/>
          <p:nvPr/>
        </p:nvSpPr>
        <p:spPr>
          <a:xfrm>
            <a:off x="395280" y="765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让我们用爱心做水，用善良做土，用同情和仁慈做阳光，精心地栽培给予树，让它在我们的心田里永远垂着绿茵，开着芬芳的花，结着丰硕的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U397P1T1D8440730F21DT20051130014300"/>
          <p:cNvPicPr/>
          <p:nvPr/>
        </p:nvPicPr>
        <p:blipFill>
          <a:blip r:embed="rId1"/>
          <a:stretch/>
        </p:blipFill>
        <p:spPr>
          <a:xfrm>
            <a:off x="250920" y="333360"/>
            <a:ext cx="3960720" cy="26226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news2006052315"/>
          <p:cNvPicPr/>
          <p:nvPr/>
        </p:nvPicPr>
        <p:blipFill>
          <a:blip r:embed="rId2"/>
          <a:stretch/>
        </p:blipFill>
        <p:spPr>
          <a:xfrm>
            <a:off x="6084720" y="2060640"/>
            <a:ext cx="2903760" cy="2178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" descr="news2006052319"/>
          <p:cNvPicPr/>
          <p:nvPr/>
        </p:nvPicPr>
        <p:blipFill>
          <a:blip r:embed="rId3"/>
          <a:stretch/>
        </p:blipFill>
        <p:spPr>
          <a:xfrm>
            <a:off x="3780000" y="189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greenpeace-global-forest-rescu-2"/>
          <p:cNvPicPr/>
          <p:nvPr/>
        </p:nvPicPr>
        <p:blipFill>
          <a:blip r:embed="rId4"/>
          <a:stretch/>
        </p:blipFill>
        <p:spPr>
          <a:xfrm>
            <a:off x="324000" y="3213000"/>
            <a:ext cx="4392360" cy="28702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supermarket-sampling-1"/>
          <p:cNvPicPr/>
          <p:nvPr/>
        </p:nvPicPr>
        <p:blipFill>
          <a:blip r:embed="rId5"/>
          <a:stretch/>
        </p:blipFill>
        <p:spPr>
          <a:xfrm>
            <a:off x="4859280" y="4221000"/>
            <a:ext cx="352908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200505241906215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只攒了一百美元，却要由五个孩子来分享，他们怎么可能买到很多很好的礼物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0" y="263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攒了一百美元，要分给五个孩子，他们可能买不到很多很好的礼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200505151735415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2005052218034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5"/>
          <p:cNvSpPr/>
          <p:nvPr/>
        </p:nvSpPr>
        <p:spPr>
          <a:xfrm>
            <a:off x="1258920" y="1557360"/>
            <a:ext cx="69897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圣诞   宽裕   试探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甜蜜   猜测   拥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200505251538196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5"/>
          <p:cNvSpPr/>
          <p:nvPr/>
        </p:nvSpPr>
        <p:spPr>
          <a:xfrm>
            <a:off x="1042920" y="170028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透过塑料口袋，我发现，她只买了一些棒棒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种五十美分一大把的棒棒糖！我有些生气：她到底用这二十美元做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200509131831135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6"/>
          <p:cNvSpPr/>
          <p:nvPr/>
        </p:nvSpPr>
        <p:spPr>
          <a:xfrm>
            <a:off x="138420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167148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0" y="1484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金吉娅说话的声音很低，显然在为没能给我们买到像样的礼物而难过。“我的钱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只够买这些棒棒糖了。可是妈妈，我们有这么多人，已经能得到许多礼物了，而那个小女孩却什么都没有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216000" y="1268280"/>
            <a:ext cx="86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20040203165944(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611280" y="1341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紧紧地拥抱着金吉娅。这个圣诞节，她不但送给我们棒棒糖，还送给我们善良、仁爱、同情和体贴，以及一个陌生女孩如愿以偿的笑脸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tp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12"/>
          <p:cNvSpPr/>
          <p:nvPr/>
        </p:nvSpPr>
        <p:spPr>
          <a:xfrm>
            <a:off x="216000" y="1268280"/>
            <a:ext cx="86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4" descr="20040203165944(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15"/>
          <p:cNvSpPr/>
          <p:nvPr/>
        </p:nvSpPr>
        <p:spPr>
          <a:xfrm>
            <a:off x="611280" y="1341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紧紧地拥抱着金吉娅。这个圣诞节，她不但送给我们棒棒糖，还送给我们善良、仁爱、同情和体贴，以及一个陌生女孩如愿以偿的笑脸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7:08:14Z</dcterms:created>
  <dc:creator>第一PPT模板网-WWW.1PPT.COM</dc:creator>
  <dc:description>第一PPT模板网-WWW.1PPT.COM
</dc:description>
  <dc:language>en-US</dc:language>
  <cp:lastModifiedBy>a</cp:lastModifiedBy>
  <dcterms:modified xsi:type="dcterms:W3CDTF">2015-02-09T01:57:08Z</dcterms:modified>
  <cp:revision>14</cp:revision>
  <dc:subject/>
  <dc:title>第一PPT模板网-WWW.1PPT.COM</dc:title>
</cp:coreProperties>
</file>