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F40-ED7B-4EC0-84D1-D8915D58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787-B0D6-43A5-95AF-F7392C9A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161B2-E314-4C81-A73F-0FAA12F6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A7A9F-BECF-48F6-A537-9FC534DB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A5FA2-134A-406D-B230-9E8C0874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62676-85A0-4355-89DD-1445E8CD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7B582-DDD7-4591-AD05-604C35E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3B6CB-F25A-44DD-9FE0-B7147AF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06666-3BBF-4158-A474-7642DC5F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86A17-097F-4231-AC22-FEDB1539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D7B7E-5D7A-4E84-9641-5233E6C0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89742-FBE7-4AD5-8E8B-A759ECCC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1B9-932E-4F0B-ACDC-2863C405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97DE5-3C01-4E2B-ADEA-0320D224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29A5E-7AC5-4D22-ACF1-954FAFE2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9056E-EB79-4C5B-A7CA-5760B236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15256-5916-46C4-A3C1-17267833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5C456-4570-4B32-816F-255228E0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1FEE0-FEBC-4FEC-BF1A-72994D89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F4DD8-91A0-49EC-A65F-E851C1B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AFC8F-CB2A-4387-AB65-97EA55FC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7503D-B87E-42F7-83AF-3AEA59C7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B75B1-860E-40AE-B4A9-76359B99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2F0-6EFF-4129-81B5-0F792D44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CB044-96FD-468B-90F6-4DB3F92A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DFE0F-2D73-4B00-B1FF-EE91BCC4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4A89B-4153-4C4F-8E3D-2BF8EC6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9AC4E-719F-405D-AC02-735BA5F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1C344-7568-4AE2-8BE6-67E3855C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DD7A0-0DA4-4360-9895-A8C52100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E9B86-8164-42E6-BE96-7FCDFF9B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BCB5F-EC76-4E36-A5B7-FD0E8BE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280EB-2618-4846-95D9-BF0381CF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5E766-9FB9-4BDB-8914-212A21AA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D882-08BC-4F0F-AC82-9440C89A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BB166-73DD-40F2-9472-95D3E95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DF262-ABBD-4588-98B6-CF1514FC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8DDC9-AB6F-46A8-B156-F889D6A7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E4088-A077-4B6E-AE30-2F77A600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706BB-EDAA-49AD-AF52-D04C1FC7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8122D-7A19-46FB-BCEE-CF814491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0DF2E-6A46-4EB7-9C07-B1E91B5E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C7CC9-83F5-45CB-A32D-427B49A8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40B82-DB8B-4894-862A-B9B6F41D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DA1F8-50F4-4693-A1E1-76A44CD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0B25-6ACA-4C70-B28B-9A99B80A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610B8-6FC6-4E06-AF02-F4F55969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040AD-4961-4B66-A2DB-F17D2247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8656B-8B28-4B14-BB48-F3B2A2CC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C70BE-5710-435F-9C0A-14D551A7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60E26-F129-4A4B-ACAE-2064F374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26121-BEA0-4FB4-B0D8-B832FF79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387D6-AA9B-4860-A591-F10347E3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8AA05-EC6C-47AB-94CC-2AA9C31C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1988B-D32E-4FFD-B78F-A7DFB402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DFBE0-FF1F-4AA3-A83C-C5FC8B7B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F9F7-ACC8-4774-A62D-3F783F8B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A3C01-4D7C-4BB8-AF6B-9FC1FF39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9FB09-2D8C-49C0-894F-7A9909AF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DC0D9-5A84-490C-97A1-8F0C12C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5FB25-370D-4ACF-B2E8-DEDB745C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A33BC-96D0-4CF7-97E1-D1C1FCFA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D5C6D-A933-401E-843E-50EFBDBB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FAB35-17CB-462E-8848-49E334BE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E0F39-AF8D-4B39-A2A1-0A7C8A6B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6D9C1-B1E9-4D50-BF0F-9EEE8F8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CD835-5A70-4295-ABC6-24F2DDCA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5614-5B0F-4F5A-9C3F-1B3A438B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A17EF-3D37-41F2-A6A8-24051C62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0EDC1-4447-4A36-B144-8889EE7C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59EE9-6C28-477B-BB35-E3F84B6C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85479-45DD-4DAE-ACC2-DB9B933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5960C-9559-4CBF-B754-8861B2CF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5F6C8-07E2-4675-B8A3-F17CA026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BF85F-4045-4E5A-A120-2C918E23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CE620-3493-48B3-A349-FC6164BD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901FC-73C5-4593-9E70-192AEDCC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A5A07-94F4-42C7-9227-67E3C7EC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E1BE-AB5D-4474-9427-8E7DC6A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D0C10-FC49-42DC-A21B-988586D2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2A8BC-2D8A-4F87-AE73-506973DE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E53BE-EA81-4A39-92FE-1FEECAB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51611-8E0C-44E1-A033-B2F0A9F8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6714C-E557-4E91-81C0-63E6DDE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FE647-BA0F-4977-A087-AC6BD72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43797-44FB-4493-A6C3-8773869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64AC5-A725-4867-9B65-1930595A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BC0B7-7D57-4B19-9C38-62611EA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A3CA5-5663-4BE4-B8B3-6B5330A5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0FEF-AFA8-4060-811D-F7729AF8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57C95-E008-458D-955D-D1C1E49E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4D20-D72E-4DB9-A3B6-766F9633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2CA-CDA7-4A6E-8E8B-19AD443B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5573-E349-413F-B36B-7E894F1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CD55-A278-4AF0-9226-D42F95E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4057-BA91-46E5-A230-D92719C3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6D68-4433-44D4-B141-8F637518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CEA4-5AD4-4CB1-B884-3AE35426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256A-7061-430A-B6B1-9193813F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2F4F-BEB0-41E7-B780-D119735B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D93E-77AD-433A-A7DA-F269BE74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9CEA-FA03-45B0-8A93-8E8B8209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F3DB-9D0B-48F8-88A1-5DF4943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19B-2E26-40AA-99B9-084271C8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AFEA-9203-44EF-A406-054CCF97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3B2C-DA1E-4B5A-83F0-0C3B7669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159B-34EA-4EC0-B1F9-4C1F8D04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DDF1-3F4D-446E-A2FF-9C060BA0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81BC-F0A4-4A47-A769-5D8A6532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8559-BE1F-4E00-9EAD-F0019267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5C7B-CD19-4A94-AF9F-919EADDA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83E6-5C42-4973-9C19-7A685E3E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494E2-2DE1-4128-96FB-84544D10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5AA92-D979-44FE-BC43-E5A1809F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231-BF87-4CBF-A7FD-DEC9F451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9AC3-FA9D-4A88-A214-8B4A97B8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4816C-C096-4560-BB3F-8780D88E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829B-1D14-4603-8887-1D39B04A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11468-2D45-492F-81B0-62451F06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8231-CC79-4ED9-B51A-4AA17F89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F2A08-4FAE-4048-BB54-B7566A8C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8677-06CB-4740-A244-3A7535A2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B2298-2BA1-4E49-ACDD-944C2529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C773-BD0F-4018-BF4A-219BE632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3B075-BEE6-44E7-AD50-D42BD929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693-CA65-47C0-8A3B-09F998F0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1E98-2545-42C4-B5CD-6337D9F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AA31-C3F5-4555-805A-45DF13BD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85595-AB8E-43A1-84B1-7963D9E8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F0CFF-CD5C-476B-9246-DED8BAFE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696F-42F2-47F8-BACC-7381875C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A9D49-788C-4E46-A054-5983915F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652B-F06E-4FCF-A9B4-B725C2D7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32CE0-CA52-4D9A-B1A0-61B4D5EF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0697-6E00-4420-9124-F35B4FC7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EE3D3-4A89-45A7-9AFC-D02B69EB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0CB-6D2B-4957-983F-ECE8654B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2494E-E257-4D98-9E24-0BFF84EA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E8D7-2053-4A33-A278-451FA76C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ACEC-A653-486A-9499-6DFCE4E7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4589-5F14-40DC-A949-60ADC75D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44A26-E3DA-46EF-B0C3-5A522DE4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2F3B-E38C-439A-934E-E312A52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18EB0-6DE1-43B4-B086-1A29E050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521F8-A8C3-4AF5-8D3B-E4A82E4E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9DA93-2121-4913-BFFE-80475047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8AC7-5379-448A-8691-EBCCA02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489-A37A-4031-B35E-F242CA32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4C6D6-71D6-4F5E-955B-A188D7D0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A530A-A1C9-4376-947D-04967132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21668-36BB-457C-8530-A3583D92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F885D-15BF-4544-A100-5630A215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C76A0-8880-4E45-B969-55462779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982D4-1349-40A7-9793-D19CFF4C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B8B76-1DF5-4F37-B277-2D3EA33F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1326B-CB6E-43EC-90F5-BFBF2BCD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054E7-C973-44B4-9CB7-5F7EA77A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2B587-9DF8-4EB1-9151-87FF6802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2A3-5719-4298-BE58-97940F8F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EAAC6-2314-4365-9AF1-86AE1FE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9709B-6834-4AC1-9E25-C81CD51F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4DDED-33BD-45E5-98CE-052217B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4BFCF-214B-43EC-8FD5-F993099E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0EA70-1F1A-46D6-ADCE-89221ED2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EAD34-DDD9-43B1-B0E1-8F0B250A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36BAC-1138-4600-A3B5-DC08F056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49DF9-AF60-41A4-9320-7FBA77D4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E48B4-630F-4C74-8D48-03BCD468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05BC1-2A54-4BD7-99C8-7A97D189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C51-B6BB-404D-B6BE-5256797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7954-791D-491D-965B-610D43BB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4BEA9-9DDE-44AB-86BA-FD251A95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D5CE9-57AF-4064-BF8B-AD41107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ED55C-016B-4486-9DA0-5CBA8894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4DC38-98F6-483C-A040-BE07C58C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D0F14-5E62-4CF9-A081-29DEF661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59B5F-D7D1-40E1-86D2-6A97C7A6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79283-58E5-4519-AA12-2EF54C24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05B21-04A5-4604-B23F-2F1BB9F8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406ED-5BE8-4A78-A077-A9989658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0BD7-9C73-4F58-874B-AD50286B5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1703-74DB-473D-A730-813612427D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784-5C58-42CA-B03A-BCF49B7DE8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F3E4-9DED-4EE0-B3CD-6E32E3323C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0527-9DD0-41E2-953F-47631F77F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7D3C-922A-4B7E-A3DE-0579733E3C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94DC-A66B-483A-8DF4-FBE4200DCF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2374-BE05-4D92-B65A-FE611F11D6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FCF4-76B9-46D9-9298-D4088C6007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62BA-C8FF-4965-A3BB-3CA2D23CEF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84E3-6F53-436D-BCE1-57DC09031D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386B-E189-4F96-AA97-F6B540ABC8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4E80-246E-4B0F-8234-2014728540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8AAD-6454-44CA-B489-D27721CE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B778-9EF4-4733-AFFA-93BF20B84D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CFFA-455A-4C79-B251-B6345DADC2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7DF3-9B8F-4663-9117-4977AB5AD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DD9F-EF7C-4DDB-A858-9EE8BE9AA4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65E5-719A-48EA-ADE6-869C16954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82AC-2727-40ED-BFC4-D2A9A18A0E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536-E045-45A3-A234-ADA1148714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2D87-C76A-476D-B5AF-F99651089E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3FEB-2E2B-4F60-B362-556D4B183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F3B6-AF1D-433F-BD93-2A9A3C5BAC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A0ED-5FD6-4638-9BF1-F54A2D2758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8D35-334F-400A-81F5-FD0275DEA1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08EC-FF21-44A5-804C-F417D4D8A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14.xml"/><Relationship Id="rId22" Type="http://schemas.openxmlformats.org/officeDocument/2006/relationships/slide" Target="slide24.xml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BJ2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WordArt 5"/>
          <p:cNvSpPr txBox="1"/>
          <p:nvPr/>
        </p:nvSpPr>
        <p:spPr>
          <a:xfrm>
            <a:off x="1332000" y="1341360"/>
            <a:ext cx="7056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0">
                  <a:noFill/>
                </a:ln>
                <a:solidFill>
                  <a:srgbClr val="008000"/>
                </a:solidFill>
                <a:latin typeface="隶书"/>
              </a:rPr>
              <a:t>火车的故事</a:t>
            </a:r>
            <a:endParaRPr b="1" i="1" lang="en-US" sz="7200" spc="1" strike="noStrike">
              <a:ln w="0">
                <a:noFill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79280" y="189000"/>
            <a:ext cx="5977080" cy="703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义务教育课程标准实验教科书小学语文一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4032000" y="5445000"/>
            <a:ext cx="30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教学设计：王晓君           课件制作：王晓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3" descr="AG00370_"/>
          <p:cNvPicPr/>
          <p:nvPr/>
        </p:nvPicPr>
        <p:blipFill>
          <a:blip r:embed="rId2"/>
          <a:stretch/>
        </p:blipFill>
        <p:spPr>
          <a:xfrm>
            <a:off x="762120" y="5013360"/>
            <a:ext cx="1722240" cy="10796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4"/>
          <p:cNvSpPr/>
          <p:nvPr/>
        </p:nvSpPr>
        <p:spPr>
          <a:xfrm>
            <a:off x="4336920" y="609300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温州市实验小学 “课时锦囊”开发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4548600" y="4076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（第一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这真是一个了不起的创举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这天晚上，小明梦见自己成了一名火车司机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33cc33"/>
                </a:solidFill>
                <a:latin typeface="Arial"/>
              </a:rPr>
              <a:t>郊  列  弄  查  速断  提  修  建  世界  创  梦  名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395280" y="333360"/>
            <a:ext cx="874872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明查了好几本书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原来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节一节的车厢是由机车带动的。最早的机车是蒸汽机车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后来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们把内燃机装到火车上，制成了内燃机车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再后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又发明了电力火车、磁悬 浮火车。这样的火车速度快，污染小，真称得上是“绿色环保型”火车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8028000" y="1628640"/>
            <a:ext cx="90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1682280" y="1989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6153120" y="36450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í  xuán 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5796000" y="443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ū  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4281480" y="522936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í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4"/>
          <p:cNvSpPr/>
          <p:nvPr/>
        </p:nvSpPr>
        <p:spPr>
          <a:xfrm>
            <a:off x="6012000" y="2421000"/>
            <a:ext cx="90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5364000" y="278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395280" y="333360"/>
            <a:ext cx="8748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明查了好几本书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原来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节一节的车厢是由机车带动的。最早的机车是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蒸汽机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后来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们把内燃机装到火车上，制成了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内燃机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再后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又发明了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电力火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磁悬 浮火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这样的火车速度快，污染小，真称得上是“绿色环保型”火车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8028000" y="1628640"/>
            <a:ext cx="90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1682280" y="1989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6153120" y="36450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í  xuán 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5796000" y="443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ū  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4281480" y="522936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í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6012000" y="2421000"/>
            <a:ext cx="90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9"/>
          <p:cNvSpPr/>
          <p:nvPr/>
        </p:nvSpPr>
        <p:spPr>
          <a:xfrm>
            <a:off x="1476360" y="5445000"/>
            <a:ext cx="2448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1979640" y="299736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1"/>
          <p:cNvSpPr/>
          <p:nvPr/>
        </p:nvSpPr>
        <p:spPr>
          <a:xfrm>
            <a:off x="5580000" y="371628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2"/>
          <p:cNvSpPr/>
          <p:nvPr/>
        </p:nvSpPr>
        <p:spPr>
          <a:xfrm>
            <a:off x="6659640" y="4508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3"/>
          <p:cNvSpPr/>
          <p:nvPr/>
        </p:nvSpPr>
        <p:spPr>
          <a:xfrm>
            <a:off x="4067280" y="4508640"/>
            <a:ext cx="20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4"/>
          <p:cNvSpPr/>
          <p:nvPr/>
        </p:nvSpPr>
        <p:spPr>
          <a:xfrm>
            <a:off x="468360" y="544500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5435640" y="2781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4"/>
          <p:cNvSpPr/>
          <p:nvPr/>
        </p:nvSpPr>
        <p:spPr>
          <a:xfrm>
            <a:off x="755640" y="1341360"/>
            <a:ext cx="7920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爸爸告诉小明，我国的火车不断提速。现在从北京到上海，可以夕发朝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4356000" y="335772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ī        zhāo  zhì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4"/>
          <p:cNvSpPr/>
          <p:nvPr/>
        </p:nvSpPr>
        <p:spPr>
          <a:xfrm>
            <a:off x="611280" y="692280"/>
            <a:ext cx="806436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爸爸讲，我国正在修建世界上海拔最高的铁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青藏铁路。等铁路修成了，火车就可以开到“世界屋脊”上了。这真是一个了不起的创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392436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ǐ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7590240" y="1773360"/>
            <a:ext cx="15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àn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3"/>
          <p:cNvSpPr/>
          <p:nvPr/>
        </p:nvSpPr>
        <p:spPr>
          <a:xfrm>
            <a:off x="611280" y="692280"/>
            <a:ext cx="806436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爸爸讲，我国正在修建世界上海拔最高的铁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青藏铁路。等铁路修成了，火车就可以开到“世界屋脊”上了。这真是一个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了不起的创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392436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ǐ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7590240" y="1773360"/>
            <a:ext cx="15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àn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611280" y="260280"/>
            <a:ext cx="806436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天晚上，小明梦见自己成了一名火车司机，架着新型的高速火车，在祖国的大地上飞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4" descr="青藏铁路"/>
          <p:cNvPicPr/>
          <p:nvPr/>
        </p:nvPicPr>
        <p:blipFill>
          <a:blip r:embed="rId1"/>
          <a:stretch/>
        </p:blipFill>
        <p:spPr>
          <a:xfrm>
            <a:off x="4140360" y="3479760"/>
            <a:ext cx="3887640" cy="293364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5"/>
          <p:cNvSpPr/>
          <p:nvPr/>
        </p:nvSpPr>
        <p:spPr>
          <a:xfrm>
            <a:off x="822600" y="213372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í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4"/>
          <p:cNvSpPr/>
          <p:nvPr/>
        </p:nvSpPr>
        <p:spPr>
          <a:xfrm>
            <a:off x="1042920" y="981000"/>
            <a:ext cx="7489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  快速  提高  提醒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想  做梦  查看  查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创  创新  修改  修理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4"/>
          <p:cNvSpPr/>
          <p:nvPr/>
        </p:nvSpPr>
        <p:spPr>
          <a:xfrm>
            <a:off x="755640" y="0"/>
            <a:ext cx="784872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郊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游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一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列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弄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明白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查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 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  不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断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提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速  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修建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 action="ppaction://hlinksldjump"/>
              </a:rPr>
              <a:t>世界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1" action="ppaction://hlinksldjump"/>
              </a:rPr>
              <a:t>创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2" action="ppaction://hlinksldjump"/>
              </a:rPr>
              <a:t>举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3" action="ppaction://hlinksldjump"/>
              </a:rPr>
              <a:t>梦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4" action="ppaction://hlinksldjump"/>
              </a:rPr>
              <a:t>见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5" action="ppaction://hlinksldjump"/>
              </a:rPr>
              <a:t>一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6" action="ppaction://hlinksldjump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755640" y="2852640"/>
            <a:ext cx="78487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驰而过  鼓励  海拔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7" action="ppaction://hlinksldjump"/>
              </a:rPr>
              <a:t>蒸汽机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8" action="ppaction://hlinksldjump"/>
              </a:rPr>
              <a:t>内燃机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9" action="ppaction://hlinksldjump"/>
              </a:rPr>
              <a:t>电力火车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0" action="ppaction://hlinksldjump"/>
              </a:rPr>
              <a:t>磁 悬 浮火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1" action="ppaction://hlinksldjump"/>
              </a:rPr>
              <a:t>污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新型  夕发朝至  世界屋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藏铁路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2" action="ppaction://hlinksldjump"/>
              </a:rPr>
              <a:t>绿色环保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1209240" y="2781360"/>
            <a:ext cx="58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í                 gǔ  lì             bá    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611280" y="3645000"/>
            <a:ext cx="74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èi  rán                                              cí   xuán 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611280" y="443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ū  rán         xíng     xī    zhāo  zhì                     jǐ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730080" y="5300640"/>
            <a:ext cx="53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àng                                    xí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4"/>
          <p:cNvSpPr/>
          <p:nvPr/>
        </p:nvSpPr>
        <p:spPr>
          <a:xfrm>
            <a:off x="250920" y="260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蒸汽机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它烧煤炭，从上面的烟囱冒出浓浓的黑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4"/>
          <p:cNvSpPr/>
          <p:nvPr/>
        </p:nvSpPr>
        <p:spPr>
          <a:xfrm>
            <a:off x="1042920" y="907920"/>
            <a:ext cx="74898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内燃机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它烧汽油、柴油或煤气，没有太多烟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4"/>
          <p:cNvSpPr/>
          <p:nvPr/>
        </p:nvSpPr>
        <p:spPr>
          <a:xfrm>
            <a:off x="250920" y="476280"/>
            <a:ext cx="8642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电力机车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电力机车的车顶上有电线。它行驶时，下面靠两根铁轨，上面靠电线提供能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5" descr="电车"/>
          <p:cNvPicPr/>
          <p:nvPr/>
        </p:nvPicPr>
        <p:blipFill>
          <a:blip r:embed="rId1"/>
          <a:stretch/>
        </p:blipFill>
        <p:spPr>
          <a:xfrm>
            <a:off x="2340000" y="3789360"/>
            <a:ext cx="3960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4"/>
          <p:cNvSpPr/>
          <p:nvPr/>
        </p:nvSpPr>
        <p:spPr>
          <a:xfrm>
            <a:off x="250920" y="1890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磁悬浮火车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当今世界上最先进的火车，速度快，接近普通飞机。这种火车只有中间一根铁轨，最特别的是：它是浮在轨道上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5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81374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4"/>
          <p:cNvSpPr/>
          <p:nvPr/>
        </p:nvSpPr>
        <p:spPr>
          <a:xfrm>
            <a:off x="900000" y="1413000"/>
            <a:ext cx="74170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这样的火车速度快，污染小，真称得上是“绿色环保型”火车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WordArt 4"/>
          <p:cNvSpPr txBox="1"/>
          <p:nvPr/>
        </p:nvSpPr>
        <p:spPr>
          <a:xfrm>
            <a:off x="1835280" y="1484280"/>
            <a:ext cx="5400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我的梦？</a:t>
            </a:r>
            <a:endParaRPr b="1" i="1" lang="en-US" sz="96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小明和爸爸去郊游。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80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他们看到一列火车飞驰而过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80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爸爸鼓励他自己弄明白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小明查了好几本书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54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爸爸告诉小明，我国的火车不断提速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48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听爸爸讲，我国正在修建世界上海拔最高的铁路</a:t>
            </a:r>
            <a:r>
              <a:rPr b="0" lang="en-US" sz="48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——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青藏铁路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06:01:18Z</dcterms:created>
  <dc:creator>jh</dc:creator>
  <dc:description/>
  <dc:language>en-US</dc:language>
  <cp:lastModifiedBy>a</cp:lastModifiedBy>
  <dcterms:modified xsi:type="dcterms:W3CDTF">2015-03-17T06:12:43Z</dcterms:modified>
  <cp:revision>29</cp:revision>
  <dc:subject/>
  <dc:title>幻灯片 1</dc:title>
</cp:coreProperties>
</file>