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11C9-FC16-4CF0-99D1-C7CB8AFC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42C-140D-44D3-B571-6B1EDA1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AF18E-FD3D-4557-A814-AE8DAD07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93A59-C4A0-487D-AC87-A56F9618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B5136-1927-46AE-A043-507410D6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4DF71-1288-4FBA-8769-235340A3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CBFB9-AFBC-4363-84C7-203CD826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F1FA9-1655-43DA-8D09-3488B19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78E6B-DE48-47C1-B78A-A3635C5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EC5E0-92C1-4C03-8D71-C1385805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6273E-36B8-4A0E-8023-5109F762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CE6F2-5840-4EE4-A304-8057872B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154-43AA-4572-AE96-FDD8C475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CD9D9-A397-4EEE-BBEA-64E2CADE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75B9B-7474-467D-B06E-DABCB230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FBE49-CFEC-4E4F-84DF-69854EA6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40968-AB06-4D64-A2D0-CFA82D61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916C2-5DC4-4804-88DB-0AC93312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4FCCE-0C87-44EC-890F-BA0407B1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656E1-FE7E-4203-B822-5B3B3F30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D6A89-9DD2-4F4C-A218-FD5612AF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BCF31-D461-4B32-A1AA-F0168F91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D120D1-A954-45A9-99E4-15C4CB77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9E74-C98F-4FC5-B814-FF4F1208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5B6A0-AD54-4F26-A006-EDE93700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A57BD-9E42-449A-88A5-4B7973FC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F2E7D-BA25-44D2-B699-EA4EA2A0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96CD6-074B-472E-848B-F2125853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49936-FB54-4716-8899-4FBAAD42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81123-7F31-425F-965F-4B32A528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F53EE-D7CF-41F8-B3C4-DCD06EAE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DD3D6-BA0C-459F-AA28-035CFDF5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5AB71-6A69-435F-994B-595208F0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9A83D-20D2-4944-8FB8-043C7F41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CA3C-6BC4-4DFF-BBB1-ACEF9FA8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CCF0B-47CF-45DC-BD2B-9FEB1F3B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63708-FCD3-4B28-966E-3A724334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0EC59-3D2E-4802-8118-29C32534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3C3EE-E842-4C9A-A304-E60060B4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37C53-4EED-4664-B118-90A30D5F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0BD26-B251-4645-8A83-554915E3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C2F20-27C3-4C2A-B933-B45E3AE4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2FD80-926C-4CCC-AAE5-60CEE0AD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1A813-E0AA-44E4-9060-8BD915C0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3C820-7F18-4863-81CC-3EE570F4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8C2E-E226-47A1-BF82-58BC9A6E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19BF9-6E06-44D8-A8F1-B9BE9D0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878C5-BCC1-4D64-8A12-E90F21F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FB16E-66D2-4B64-8D1A-96F355E0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715E4-E3A9-412D-BC28-7FB6349F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F027FB-7695-43AE-B41C-3484643E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0EC8D-0EBE-462C-A3EB-9182D83C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141A9-E09C-4698-98F6-42165D65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D191E-096A-4BEF-ADA1-312106EF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E2D18-10F2-4381-8E72-A3FAA949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EB2F49-7230-468C-9AB2-3E7C6ABB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24EF5-4DA9-44E1-AEC9-23B8DBE2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581A4-7EB0-46C4-BF74-719FD9AB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5E7B7-029C-410B-A8BE-157D0088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40F70B-98AB-4E38-ADF6-5DE36D3D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ABC300-9D0C-43C5-B3BA-FF550784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8861F-294C-42D1-9FDB-3D84D102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C02FC-BAEC-420E-8716-7858C9EE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D61D7-DE2B-4831-BD75-E77ED559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7C40-0BE4-4DB0-BDAB-0210029D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7346-33CF-4DED-A962-A269B3FB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CFA0-D252-444B-8DC3-E00F30D6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CE7C-75DA-474B-B2BD-44C4E820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059D-E793-4591-8622-AE8FA39F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FE66-3CC6-40B3-A624-D9820019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BB5-9708-4129-BED0-CD810325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C217-DEFA-421A-A8EB-86D63441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ABB0-561E-4041-93E5-36B10C77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9A8D-965B-4413-AB9A-81E4382E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A0494-F1B8-4F7F-962C-62BF9B95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992D-4CC2-486D-B007-42DB0D75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6D26-AFCE-4885-986B-1D4E2F56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B715A-3709-4CEB-A5BD-49EAC813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111A-3C76-46B9-80DA-E0E64039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2CE-34E7-4E2F-9AE9-767179F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739D-2803-49E8-9208-D772C21D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8B49-B0BD-4BD9-8DC2-ECF802F5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95CEA-1B92-4283-9CD5-7C63F7CD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BD5B-E3C0-42B3-96CF-B6DACB26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A2549-4969-4BC4-8B43-833CB9E8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8F74-E7E9-4EB4-BDC7-516089ED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36FC-4AB4-4637-A995-9252C13D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300FB-C65C-44D6-AEDF-8128BD96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A755D-E74B-468A-962C-A1770A06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0215D-2730-41E9-A757-B20DF05E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93D-1A4F-4DA1-9379-F70A8DAF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B885-A601-4F54-9132-770D7F40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4D19D-A699-454B-A2BF-A4F70B46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D5077-FFA8-4089-AA2F-413D1682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1698A-EB77-4708-8A04-87FCE394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7D92F-4753-4AB3-9191-86272AA0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03FE4-6291-46A4-BC88-2CEE7F4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59F06-572D-4646-ADB1-2A9FD082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00C18-C443-48A2-91E8-E1831D11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64D22-8ED0-4632-B5E6-859DFAA3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3EB95-36AD-4C8C-9A47-718CE797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C64-6361-4863-A134-2D44AF95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E4F03-8561-4BC6-8651-7B66410A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0AF7-9779-4466-AE5B-174F102F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76FED-EA04-4E6C-97AD-002AAEC7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007A-C59D-4414-814B-AA875AFA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3E9B-38F6-469F-9114-89004FE0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BD506-4EE3-4653-92AB-ECABE1CC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746BF-23B4-43B3-A6FD-9EC25E18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7EFCB-3F54-4AC3-B426-02D73A18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5826C-67EF-47B0-B27D-4032F6D5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2E41B-65A6-4026-8255-5C9CB42A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B66-01F3-437A-9798-D209AC3A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CD3B9-B552-43DB-AB96-771E81B3A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8815C-F90C-45B7-B082-F3FCC391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96F9E-7951-4A56-BA2C-04F8FA6A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A0E06-3C14-4465-931B-60EAE864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747A2-EE0F-4725-91AA-B8DC7E1D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D5CCE-27A0-4C74-8A62-6F4100E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04500-B962-4BCF-91D2-E24B2ACB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46AA-4D9F-4AF6-8B19-942E954E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BEC8B-1ACE-417C-91B7-9A295E8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F379-BD99-4D72-957E-A8C9B3E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4B9-1619-4AC9-8A58-FB67922E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02E06-D2F8-4B2D-8BF5-B69C36EF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9F51D-4FBC-4247-87B9-F0EBA7A7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3E685-8063-457F-8708-FE973FF8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B3E09-2CE6-4858-8FCD-005DA0E5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BA848-6D85-4CA7-8232-EB2924FF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48C2D-9E53-4F83-A800-AEBFC786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C5552-90B8-4498-851B-0908DC15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81603-E59B-48E7-B7E3-F752C09F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7F301-BEBC-415B-83AD-E9336FA2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B421B-5F4F-4DFA-B1A3-100A7B6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AB2-03E7-4D49-A4B6-5FA88353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87EE-CC0E-4424-8BB6-EEF47331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359F1-FA8F-4391-AAE3-AD0CC904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6994E-DA02-4206-8990-CD58F998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20A0E-3E29-439D-8C5F-DFB5CDDD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769ED-EA33-40C9-B570-E6297E86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872A5-72AC-4268-8DED-D4521A42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0338F-8AD6-4B3A-8F42-A24B85E9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E7473-E1CE-46BB-911F-D145F8E6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09394-E439-40C8-B4D9-A8D21D1A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4C340-1C72-4BEE-BB92-9B42382D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9270-5199-475E-9BBE-480088FA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29A61-350A-49D8-BDE5-9269B8B5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6A0A2-EAFF-4920-A55F-3EE7B48E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A2000-2B17-4645-BBE2-9184F58E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9E708-4BAE-4EB5-B97E-038865D1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6CE5E-ED13-46BE-A8BA-3D3C2DF0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29130-C0A7-4BB1-B1A8-B89F9F33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61E98-1938-4D28-95FF-689020E4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B0185-7433-493D-BAA1-1D00931E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71557-BC34-4177-B161-2C4F35B3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0DBA7-6CF2-4838-AEBF-CB215CB1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2E62-CECB-4D15-9A7D-F98E127BC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2F63-69C5-4F7B-88FC-CA9476E23B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CCF8-C442-44AE-BE4A-0C3548EBDC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FF2B-0453-4317-8C4B-0779C73F1DA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59F-46B0-4C89-BFC4-83B8750B8F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E890-9613-4DD5-AADA-C7EAAC43027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2184-154D-444A-B128-36E0FAE7AC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A86D-7BEE-44E0-AEFB-9957B1056DC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96F0-F57A-4F8F-A97F-A60D1F1D19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E3A5-2CE8-4461-9FF6-22FC298586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EFC6-CACD-4BE8-9594-381A5B44E4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332C-667B-4C74-9824-2A9CCC92C1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B9F7-94BC-4ED9-8557-D6D6B2DD02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76D0-4F65-4E17-8B8D-1534FB3E1D0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051C-6E09-46DE-9714-3E51BB7BE9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2E50-DE3D-4BBB-9238-B3B2651537B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0751-4DA9-4944-BB29-DD37A577B2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58DE-D939-4193-BBE1-A0F1C94F161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DE81-5165-4804-AB8D-415E919812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9639-A3E1-4238-9669-160D3363D0B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BFD4-D645-4DB1-BE34-C355A800E1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B80D-9D54-498A-9798-E225E4D4FD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993D-E650-437F-B0D3-55C5410402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5D92-FCED-4CBF-BEF8-597DB8BCDC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20B8-F7D2-4EBA-86CF-97DE7666D2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" descr="Frame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755640" y="907920"/>
            <a:ext cx="73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大自然的花，万紫千红，争奇斗妍。同学们，当你漫步花园，尽情享受着春之兰，夏之荷，秋之菊，冬之梅赐给你的绚丽、芬芳时，你可曾想过：这些花为什么这样红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Frame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"/>
          <p:cNvSpPr/>
          <p:nvPr/>
        </p:nvSpPr>
        <p:spPr>
          <a:xfrm>
            <a:off x="826920" y="928800"/>
            <a:ext cx="727416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隶书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理清文章结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了解本文的说明顺序：逻辑顺序和时间顺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培养学生探索大自然奥秘的精神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1" descr="Frame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8893080" cy="24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00"/>
                </a:solidFill>
                <a:latin typeface="Times New Roman"/>
                <a:ea typeface="隶书"/>
              </a:rPr>
              <a:t>说明文有关知识回顾</a:t>
            </a: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324000" y="2637000"/>
            <a:ext cx="8640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、说明文是以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方正姚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为主要表达方式的一种文体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、按说明对象和说明目的的划分，说明文可分为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明文和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说明文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方正姚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3924360" y="2565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说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3635280" y="4724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6588000" y="472428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-2057400" y="228240"/>
            <a:ext cx="118872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事物说明：介绍事物的形状、构造、                        特点、功能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事理说明：解释事物含义、原理、关系、     演变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说明方法：下定义、分类别、举例子、作比较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打比方、列数字、画图表、作引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空间顺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时间顺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说明顺序   逻辑顺序：概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具体，整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局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现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质，原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果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特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途，主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要</a:t>
            </a:r>
            <a:br>
              <a:rPr sz="28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7" name="AutoShape 3"/>
          <p:cNvSpPr/>
          <p:nvPr/>
        </p:nvSpPr>
        <p:spPr>
          <a:xfrm>
            <a:off x="2590920" y="10666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2556000" y="112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2700360" y="1066680"/>
            <a:ext cx="71280" cy="1498680"/>
          </a:xfrm>
          <a:custGeom>
            <a:avLst/>
            <a:gdLst>
              <a:gd name="textAreaLeft" fmla="*/ 45720 w 71280"/>
              <a:gd name="textAreaRight" fmla="*/ 71640 w 71280"/>
              <a:gd name="textAreaTop" fmla="*/ 38880 h 1498680"/>
              <a:gd name="textAreaBottom" fmla="*/ 1459800 h 14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89"/>
                </a:lnTo>
                <a:cubicBezTo>
                  <a:pt x="10800" y="10289"/>
                  <a:pt x="5400" y="11189"/>
                  <a:pt x="0" y="11189"/>
                </a:cubicBezTo>
                <a:cubicBezTo>
                  <a:pt x="5400" y="11189"/>
                  <a:pt x="10800" y="12089"/>
                  <a:pt x="10800" y="129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2971800" y="3733920"/>
            <a:ext cx="114480" cy="1882800"/>
          </a:xfrm>
          <a:custGeom>
            <a:avLst/>
            <a:gdLst>
              <a:gd name="textAreaLeft" fmla="*/ 73080 w 114480"/>
              <a:gd name="textAreaRight" fmla="*/ 114840 w 114480"/>
              <a:gd name="textAreaTop" fmla="*/ 48960 h 1882800"/>
              <a:gd name="textAreaBottom" fmla="*/ 183384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7"/>
          <p:cNvSpPr/>
          <p:nvPr/>
        </p:nvSpPr>
        <p:spPr>
          <a:xfrm>
            <a:off x="4876920" y="4572000"/>
            <a:ext cx="114120" cy="990720"/>
          </a:xfrm>
          <a:custGeom>
            <a:avLst/>
            <a:gdLst>
              <a:gd name="textAreaLeft" fmla="*/ 73080 w 114120"/>
              <a:gd name="textAreaRight" fmla="*/ 114480 w 1141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8"/>
          <p:cNvSpPr/>
          <p:nvPr/>
        </p:nvSpPr>
        <p:spPr>
          <a:xfrm>
            <a:off x="990720" y="728640"/>
            <a:ext cx="576000" cy="5400720"/>
          </a:xfrm>
          <a:custGeom>
            <a:avLst/>
            <a:gdLst>
              <a:gd name="textAreaLeft" fmla="*/ 367920 w 576000"/>
              <a:gd name="textAreaRight" fmla="*/ 576000 w 57600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380880" y="2286000"/>
            <a:ext cx="1447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0"/>
          <p:cNvSpPr/>
          <p:nvPr/>
        </p:nvSpPr>
        <p:spPr>
          <a:xfrm>
            <a:off x="3203640" y="278136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1"/>
          <p:cNvSpPr/>
          <p:nvPr/>
        </p:nvSpPr>
        <p:spPr>
          <a:xfrm>
            <a:off x="3203640" y="2997360"/>
            <a:ext cx="73080" cy="57600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1692360" y="1557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 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240" y="1523880"/>
            <a:ext cx="8915400" cy="47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体裁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说明文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文章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题目中的“红”的含义是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（用词语回答）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划分文章段落，理清结构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2843280" y="1916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事理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1042920" y="350028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</a:rPr>
              <a:t>五彩缤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7"/>
          <p:cNvSpPr/>
          <p:nvPr/>
        </p:nvSpPr>
        <p:spPr>
          <a:xfrm>
            <a:off x="0" y="333360"/>
            <a:ext cx="47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1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8"/>
          <p:cNvSpPr/>
          <p:nvPr/>
        </p:nvSpPr>
        <p:spPr>
          <a:xfrm>
            <a:off x="4067280" y="62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读课文完成下列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9"/>
          <p:cNvSpPr/>
          <p:nvPr/>
        </p:nvSpPr>
        <p:spPr>
          <a:xfrm>
            <a:off x="6156360" y="134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539280" y="259920"/>
            <a:ext cx="799308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段）总：赞叹红花的鲜艳美丽、并提出“花   儿为什么这样红”的问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—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段）分：分别从六个不同角度说明花儿为什么这样红的原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、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段）总：概括花红的原因 、总结全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6"/>
          <p:cNvSpPr/>
          <p:nvPr/>
        </p:nvSpPr>
        <p:spPr>
          <a:xfrm>
            <a:off x="684360" y="551664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疑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总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-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疑（分说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--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结（总说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7559640" cy="404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速读文章第二部分，看看文章从哪些方面说明花红的原 因的？并给第二部分分层次。</a:t>
            </a:r>
            <a:br>
              <a:rPr sz="40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250920" y="333360"/>
            <a:ext cx="41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2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Line 11"/>
          <p:cNvSpPr/>
          <p:nvPr/>
        </p:nvSpPr>
        <p:spPr>
          <a:xfrm>
            <a:off x="1752480" y="2971800"/>
            <a:ext cx="8654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0" y="-352440"/>
            <a:ext cx="9144000" cy="72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提出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花儿为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么这样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2971800" y="304920"/>
            <a:ext cx="2305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一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部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048120" y="3860640"/>
            <a:ext cx="244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-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部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5"/>
          <p:cNvSpPr/>
          <p:nvPr/>
        </p:nvSpPr>
        <p:spPr>
          <a:xfrm>
            <a:off x="2666880" y="304920"/>
            <a:ext cx="576360" cy="5400720"/>
          </a:xfrm>
          <a:custGeom>
            <a:avLst/>
            <a:gdLst>
              <a:gd name="textAreaLeft" fmla="*/ 368280 w 576360"/>
              <a:gd name="textAreaRight" fmla="*/ 576720 w 57636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6"/>
          <p:cNvSpPr/>
          <p:nvPr/>
        </p:nvSpPr>
        <p:spPr>
          <a:xfrm>
            <a:off x="5029200" y="0"/>
            <a:ext cx="4356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花儿的物质基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花青素和胡萝卜素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物理学原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光波的反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生理上的需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热效应的大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7"/>
          <p:cNvSpPr/>
          <p:nvPr/>
        </p:nvSpPr>
        <p:spPr>
          <a:xfrm>
            <a:off x="4788000" y="3500280"/>
            <a:ext cx="288720" cy="2808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8"/>
          <p:cNvSpPr/>
          <p:nvPr/>
        </p:nvSpPr>
        <p:spPr>
          <a:xfrm>
            <a:off x="4643280" y="0"/>
            <a:ext cx="433440" cy="3068640"/>
          </a:xfrm>
          <a:custGeom>
            <a:avLst/>
            <a:gdLst>
              <a:gd name="textAreaLeft" fmla="*/ 276840 w 433440"/>
              <a:gd name="textAreaRight" fmla="*/ 433800 w 433440"/>
              <a:gd name="textAreaTop" fmla="*/ 79920 h 3068640"/>
              <a:gd name="textAreaBottom" fmla="*/ 2988720 h 306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9"/>
          <p:cNvSpPr/>
          <p:nvPr/>
        </p:nvSpPr>
        <p:spPr>
          <a:xfrm>
            <a:off x="4932360" y="3573360"/>
            <a:ext cx="42116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生物进化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以绿色为起点向两端发展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自然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昆虫的作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人工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（加快进程，增添新品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4920" y="1197000"/>
            <a:ext cx="777708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认真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—6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段、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7—1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段看看分别采用了怎样的说明顺序？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分钟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4960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隶书"/>
                <a:ea typeface="隶书"/>
              </a:rPr>
              <a:t>*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2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逻辑顺序（横向说明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*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时间顺序（纵向说明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395280" y="33336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3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2"/>
          <p:cNvSpPr/>
          <p:nvPr/>
        </p:nvSpPr>
        <p:spPr>
          <a:xfrm>
            <a:off x="324000" y="692280"/>
            <a:ext cx="8569080" cy="35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黑体"/>
                <a:ea typeface="黑体"/>
              </a:rPr>
              <a:t>本文语言准确严密，你能从文中试举几例来分析吗</a:t>
            </a:r>
            <a:r>
              <a:rPr b="1" lang="en-US" sz="4800" spc="-1" strike="noStrike">
                <a:solidFill>
                  <a:srgbClr val="808000"/>
                </a:solidFill>
                <a:latin typeface="黑体"/>
                <a:ea typeface="黑体"/>
              </a:rPr>
              <a:t>?</a:t>
            </a:r>
            <a:r>
              <a:rPr b="0" lang="en-US" sz="4000" spc="-1" strike="noStrike">
                <a:solidFill>
                  <a:srgbClr val="808000"/>
                </a:solidFill>
                <a:latin typeface="黑体"/>
                <a:ea typeface="黑体"/>
              </a:rPr>
              <a:t> (3</a:t>
            </a:r>
            <a:r>
              <a:rPr b="0" lang="zh-CN" sz="4000" spc="-1" strike="noStrike">
                <a:solidFill>
                  <a:srgbClr val="808000"/>
                </a:solidFill>
                <a:latin typeface="黑体"/>
                <a:ea typeface="黑体"/>
              </a:rPr>
              <a:t>分钟</a:t>
            </a:r>
            <a:r>
              <a:rPr b="0" lang="en-US" sz="4000" spc="-1" strike="noStrike">
                <a:solidFill>
                  <a:srgbClr val="808000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只要学生能分析一点即可。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684360" y="692280"/>
            <a:ext cx="45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4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380880" y="870120"/>
            <a:ext cx="83822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  <a:ea typeface="黑体"/>
              </a:rPr>
              <a:t> </a:t>
            </a:r>
            <a:r>
              <a:rPr b="0" lang="en-US" sz="40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如第四段说明白花细胞液里花青素含量的变化会引起花色由白变红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有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限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白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表示不是所有的白花都会引起花色的变色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特殊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修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例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表示添色木芙蓉是极个别的；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般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修饰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表示特殊情况除外等等。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026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15640" y="1699920"/>
            <a:ext cx="698508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自学指导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5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：</a:t>
            </a:r>
            <a:br>
              <a:rPr sz="6600"/>
            </a:b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</a:t>
            </a:r>
            <a:br>
              <a:rPr sz="4400"/>
            </a:br>
            <a:r>
              <a:rPr b="0" lang="zh-CN" sz="44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本文中应用了哪些说明方法？互说互评，判断不了的举手问老师。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900000" y="692280"/>
            <a:ext cx="7488360" cy="25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考考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姚体"/>
              </a:rPr>
              <a:t>文章题目原是一句歌词，作者借来作为标题，而且贯穿全篇，引起每一层说明，这样写有什么好处？</a:t>
            </a:r>
            <a:br>
              <a:rPr sz="4800"/>
            </a:br>
            <a:r>
              <a:rPr b="0" lang="zh-CN" sz="3600" spc="-1" strike="noStrike">
                <a:solidFill>
                  <a:srgbClr val="9933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826920" y="1052640"/>
            <a:ext cx="756144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明确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是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通俗形象，又吸引人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二是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借代花的各种各样的颜色，含隽有味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三是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结构上串联全篇，使结构严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395280" y="549360"/>
            <a:ext cx="8443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buClr>
                <a:srgbClr val="0033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学习本文了解了许多养花知识之后，引导学生选择两三种自己喜爱的花，亲自栽培，定时观察，注意花的点滴变化，并坚持写观察笔记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WordArt 4"/>
          <p:cNvSpPr txBox="1"/>
          <p:nvPr/>
        </p:nvSpPr>
        <p:spPr>
          <a:xfrm>
            <a:off x="684360" y="0"/>
            <a:ext cx="23032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外拓展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WordArt 5"/>
          <p:cNvSpPr txBox="1"/>
          <p:nvPr/>
        </p:nvSpPr>
        <p:spPr>
          <a:xfrm>
            <a:off x="971640" y="90792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素材积累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2" name="Text Box 6"/>
          <p:cNvSpPr/>
          <p:nvPr/>
        </p:nvSpPr>
        <p:spPr>
          <a:xfrm>
            <a:off x="755640" y="256536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古诗词中有许多写 “花”的诗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积累几句吗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4"/>
          <p:cNvSpPr/>
          <p:nvPr/>
        </p:nvSpPr>
        <p:spPr>
          <a:xfrm>
            <a:off x="1692360" y="1197000"/>
            <a:ext cx="446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6"/>
          <p:cNvSpPr/>
          <p:nvPr/>
        </p:nvSpPr>
        <p:spPr>
          <a:xfrm>
            <a:off x="539640" y="1052640"/>
            <a:ext cx="813600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</a:rPr>
              <a:t>颜色与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性格急躁</a:t>
            </a:r>
            <a:r>
              <a:rPr b="1" lang="en-US" sz="4400" spc="-1" strike="noStrike">
                <a:solidFill>
                  <a:srgbClr val="0099ff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0099ff"/>
                </a:solidFill>
                <a:latin typeface="Times New Roman"/>
              </a:rPr>
              <a:t>居室浅蓝（冷静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性格内向</a:t>
            </a: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0033cc"/>
                </a:solidFill>
                <a:latin typeface="Times New Roman"/>
              </a:rPr>
              <a:t>居室浅绿（开阔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性格孤僻</a:t>
            </a: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居室粉红（振作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多疑高傲</a:t>
            </a:r>
            <a:r>
              <a:rPr b="1" lang="en-US" sz="4400" spc="-1" strike="noStrike">
                <a:solidFill>
                  <a:srgbClr val="ff66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</a:rPr>
              <a:t>居室黄橙（谦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性格自卑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居室红色（自信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性格抑郁</a:t>
            </a: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——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居室蓝色（稳定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75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WordArt 7"/>
          <p:cNvSpPr txBox="1"/>
          <p:nvPr/>
        </p:nvSpPr>
        <p:spPr>
          <a:xfrm>
            <a:off x="395280" y="0"/>
            <a:ext cx="252108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知道吗？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红花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红花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红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红花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红花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7" descr="红花15"/>
          <p:cNvPicPr/>
          <p:nvPr/>
        </p:nvPicPr>
        <p:blipFill>
          <a:blip r:embed="rId1"/>
          <a:stretch/>
        </p:blipFill>
        <p:spPr>
          <a:xfrm>
            <a:off x="-304920" y="0"/>
            <a:ext cx="10944360" cy="9099720"/>
          </a:xfrm>
          <a:prstGeom prst="rect">
            <a:avLst/>
          </a:prstGeom>
          <a:ln w="0">
            <a:noFill/>
          </a:ln>
        </p:spPr>
      </p:pic>
      <p:sp>
        <p:nvSpPr>
          <p:cNvPr id="542" name="WordArt 8"/>
          <p:cNvSpPr txBox="1"/>
          <p:nvPr/>
        </p:nvSpPr>
        <p:spPr>
          <a:xfrm>
            <a:off x="1066680" y="91440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花儿为什么这样红</a:t>
            </a:r>
            <a:endParaRPr b="0" lang="en-US" sz="20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9" descr="Frame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1908000" y="1773360"/>
            <a:ext cx="431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611280" y="1484280"/>
            <a:ext cx="8064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作者贾祖璋是我国老一辈生物学家和著名的科普作家。他博览群书，从事科普创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年，写了许多把丰富的科学知识和文学知识融为一体的科普作品。写本文时，他已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7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岁高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4211640" y="836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贾祖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755640" y="836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2:52:42Z</dcterms:created>
  <dc:creator>your name</dc:creator>
  <dc:description/>
  <dc:language>en-US</dc:language>
  <cp:lastModifiedBy>a</cp:lastModifiedBy>
  <dcterms:modified xsi:type="dcterms:W3CDTF">2015-02-10T11:15:51Z</dcterms:modified>
  <cp:revision>121</cp:revision>
  <dc:subject/>
  <dc:title>PowerPoint 演示文稿</dc:title>
</cp:coreProperties>
</file>