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png" ContentType="image/png"/>
  <Override PartName="/ppt/media/image2.png" ContentType="image/png"/>
  <Override PartName="/ppt/media/chimes.wav" ContentType="audio/x-wav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F41FB-CA83-44FB-B260-8C81FD38F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9264B-968E-4A0D-944E-97D33B26C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3C1E64-9567-4090-A037-E845B24AD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4611C07-BEAC-4C1B-82F9-9FADAF115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06C9A2E-5021-4289-B2D2-6FE454C0F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239CEA5-E192-4909-A334-176C85476B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C8E1AB1-A5FE-4344-83D3-4238735B7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FE4E65-A052-4D15-918E-0991215EA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55013F-2A63-41D3-9B70-5A91F8571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92026B0-8C68-41FF-ADCE-B95A696F2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0ACCAE-B57C-4057-93E2-16FDDB6482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F3D524-3783-407C-B00A-10EC66B45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621F-3F41-4545-A13A-E2130CBDCF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8E49B0F-9037-4E79-9BA7-6061CA5A25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971B922-30BA-4F6C-A010-414129523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DD59AA6-8299-4CA3-86ED-6BE3CFD8C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5C8232-20BA-4FAB-AC86-977ADB8F3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626C7D-2A78-4D4B-A779-CD3002318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38443-310A-43A0-8F45-85F1FED8A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C45B087-D98A-4ACB-820F-08C9470FA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8E180B-8FCA-4696-A97B-C3D5C4BD4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7C617CF-41C1-4C8B-B58E-0D0FDCA8E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95EEBE-C4E9-4054-A514-24EC1D3E20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FED7-3EDC-4A20-8B17-5A277CBFC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BF951A2-63B5-4414-8C71-F9AB5837A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A30BA-4BF2-4521-84E4-6119834A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2D9850-9845-4B9E-8C35-53837C5BF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755310-326E-4373-8817-9358BFA9DA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89634A-45E7-4CC7-A898-9DCA939A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35BC53B-6DBA-401A-85C5-2AAF4D097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EF229C7-C052-42F2-B35D-511B68308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B59429-5D06-49FE-B491-3D2DFBA4F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C4E67D-848D-42D5-9C6B-5048BB15F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1EE43F-AABE-47F2-A310-1913415ED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1AD1A-DBA3-4A9F-84EB-324EB5EC1B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6CF1F9-953F-4405-A464-484B2F14F1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B8C56-FC36-4FF6-A7ED-F1589E73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708565-9FBE-4B19-95C0-29527D5DD4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895DE04-72A2-45B5-8A8F-5D3441E6A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FE1E133-FAF9-4CEB-B46E-FBF07363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DAD75C1-368C-4C1C-973E-C9116CB5C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8A2EFE-F7B6-43D7-B545-558A618F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D7C51EF-743F-4CD2-835F-62FFA92EE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23B9B4-5E4F-4692-AD99-1CB9ACC50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C8198A-4317-493E-BA06-3D7150847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3022F-9D48-4BC2-B6D0-B6A3C6417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71DE8ED-9E18-47C4-A28E-31BFE33F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F2C7AA0-77F6-4F8A-ACF5-A4C742330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B872E33-84D3-4DBE-9CAC-39025C25F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844E781-513F-4271-9A09-E1807FC379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C6EF0F-1F6C-4099-9A1B-FA2E713339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2C0B09-7F08-4888-844E-32AFC81A21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78D3587-8572-4083-8842-EC8FE9D00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81550A-99C7-4941-A144-824A18044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10D1773-7DFF-4F2F-AAE3-4AEDB7520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6C1E88E-0DB1-411C-98C5-14582EA39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CC7A-9284-4711-B1B5-0E5704EC0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C81C50A-0CF0-4C68-8ACF-CBF0DE2EB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1E6790-C98E-4489-81FC-A711A1917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86ED1B5-F49C-4101-AF98-7D8B1AF27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543F578-9A1A-44D7-9FF9-B6BA8969A9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D73F61-84E1-4408-832B-888EDFA2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BBB7A5-0F65-4091-B53E-A052CEFEC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7A5A439-FE6C-4D1F-B682-F986A777BA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578B8-065F-4EE0-9BE1-A5683243E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85371-C921-4FD4-8ED6-56A8D6FC4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C074A-A714-4740-AEC1-885B25482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2E2F8-DAEB-48BB-BB1B-499A9849E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1B938-8B35-4B54-922D-3DFA0085CA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3DAF97-63E4-418A-B9ED-A3928D2B6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F9040-E613-49F0-B2F3-FE5D4A2743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9A654-7061-464E-8CE7-84C9FFD70D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02C1EA-427C-47EC-B9D3-940C12FC2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ED1B0-B3D0-499C-A40D-C306F496B4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5ED11E-B62B-4801-B3E3-6DBC8530CF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C7D523-67AB-43D2-A385-A12C84FEE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D47781-5E3B-4056-9BC8-BFF68E59BD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A02D2-012D-4E82-9F8D-7E8398323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AD346F-D0CA-446F-998D-41ECC50E2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1BF6C-E7A5-47DA-AD88-B090040D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1BB1A8-6760-4B78-9390-A7C603D5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0CA85B-B4CF-4F5E-A03F-306309BB09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194C0C-A1F9-40EA-8AB9-F3C222EC7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66A73B-06A2-4701-BD50-0A7227C87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1E23D-A0F8-49B0-9332-6E81E49020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AE61B2-09F7-416B-A950-012411B8E2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1A1AF8-D6EE-4E2D-A203-BB56753EB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61D7D-62B4-4C8B-BA1B-E136CD997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4B2C8D-24E1-46E7-8ABC-DCA8F6A05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C4D8F36-2295-476C-AE7E-8FA48536D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06AFC-CD76-4516-9F1B-718CBEBFB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DA81B57-286F-4225-8FE5-6FEB9C3B3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068C87-5E0C-4484-998A-DB66CED2D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0CD6FC-E731-4610-BC5F-1BF27AB82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042477-33EC-4409-9EF9-B42CB9815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BA59D3-3464-4A7D-89D8-807973308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D2E16D-F3BD-47E8-8C68-C3B5B3906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14F6DD-C787-442D-8E58-42A4FB1C6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563902-64F9-4557-99B7-AE8C85B7D6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20A48-BBD0-4169-BA0F-8D0ABBB6C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DEB9DC-7689-474A-B582-A05763339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D442A-F90A-4D41-8144-4E064F083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319020-C38B-4B8E-9B5E-533D423A2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ED8A6F-19D8-4025-A930-DF5FAC65A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5E2C42-D88D-4AF7-9C8F-3D3670B8D3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02EA0E-80AC-47B6-862A-26B6BD9CE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8C88FD-EED5-472B-B0DA-602367D35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28A218-CAB7-42C3-8D38-6FCDBC3B0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B6116-6722-4E62-A401-2BA445E40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FE0995-A60B-409B-A1AF-3AAB33177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DBAF2A-5B4A-4CB1-9BAF-7880E8F00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17EA78-92C2-45CD-8A38-737B78C18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C0BF-4472-4954-B2F3-C15D05E08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071BC2-2A9D-44E9-8A6D-DB39E8B955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DC53FED-EA6E-4069-9EA5-9EA2D99BA7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298F446-CC05-4C52-A631-F500A2F62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75AA6-F806-47BA-986D-E62A24DEC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CBE19-71D6-4E2B-B828-6BDFC4D1A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25A4B1-C161-4968-A8A9-3D45125700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050A16-4384-48FB-AC14-8252F0476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2DECAA2-A63F-41A3-81D8-F03D93754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D501F4-BD9C-407B-AA4D-697AC17AF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E93644-366A-489F-9122-70D3451A8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8A1F6-AC9C-4AA7-9471-CFE8F0497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4D46BC-8664-46ED-9ABC-8EF31FE6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D19401-82A7-4333-BB1B-CF457E98FF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8029CC-6B86-49D3-B057-6F68A8BF31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278D66-41B0-4C7C-83EE-8E659A3DF9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B8E1CA-0572-402D-B2EF-BF575DDD3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721A2D-3A30-4247-AACB-53E9F2056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8A62D6-3005-49C0-A0F7-07CCDADE73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4C66D3B-DEF3-4FCF-A9E7-74DCB04E6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6E630A4-8964-4566-9AA5-5E854075B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CC2D2-7F0B-4225-AE90-9D95B6417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84FE-93BE-43AC-89F8-C32464C56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FBA5289-E137-4DE5-8E8A-357325548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CBF139-9C5E-4AA6-B3EE-EF2FFA535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1A95EBD-A678-4D99-A3FD-AE21D1522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B7C866E-62D6-4FD8-A1C2-BB5CD6150B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7DEA6B-0A65-4C77-AFED-78C30760C6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FD0A1C2-8AB9-4AE9-A9F9-1CB807BE09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9DD7701-453C-455E-92C8-8009F1B23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E9601E-0296-4500-A72C-742B9ABBB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29DB33-9E0A-42C5-9409-11B4B5BB6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6C8FE96-98BD-44F8-8A9D-BAA4AFAF1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4B85-5F89-487C-87B7-6915AD85D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14CA8C-7D55-49A3-9966-5DB7514D45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53ABCA-10A7-415B-9FF1-FF937AA7F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BFB667D-C848-4756-830E-862C5AB3E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6AA1993-16BC-47F8-B276-266C2E9DC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0D727AE-E712-48FF-AC82-E9058640D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49F4F4-B033-49CF-A79B-9DD4CC9DA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8BDCFDC-2289-4DB8-B70A-9FA747698C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B569527-9DBB-4491-B711-B24CBC8AE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771EB8A-2E08-4A2F-89DA-844859ED85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988E83A-E861-4350-A6BC-B23E0EE55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cc00"/>
            </a:gs>
            <a:gs pos="50000">
              <a:srgbClr val="ffffff"/>
            </a:gs>
            <a:gs pos="100000">
              <a:srgbClr val="99cc00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CE5147-640E-48E6-8881-D903B4F55E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A04E5-7266-40B5-A6AA-BE29B9665FFC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61AA67-A9C2-4296-9D4E-DA9754F148F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87BC0-AD92-4683-9845-BAED6A60200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755F3-5081-47A0-8956-1EC776FD61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240C0-E631-438A-939F-03B04848EE3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F3951-FE73-4341-B6AA-A8ED1F3C400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89BD9B-051F-4937-A14B-60D5CD90F16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E0746-DE32-435A-A89A-C7E0581096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C80240-A3A3-42BC-94F0-C3204106F23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89C00E-9D26-46FA-A6A4-9A30C107C18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0E395-E74B-4AEB-A293-6105D6FD441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9D837-E1C6-4C09-B1FA-E3CAE033D62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25378-0700-4D3B-825C-758A9637F21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2AA4F-70FF-4467-A31C-E0FE7DDA9ED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52A562-72A3-40A4-ABA3-C2A60E55CDF0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4965B-341C-4AAA-B3DB-AD981FEA2EF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6529-17B3-435A-9071-CE0C501FC00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AD62A3-2E54-4C0E-8EB3-63CA47853F6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38BAD-C814-433E-B9EB-60F117C87F4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292FBE-8874-46FA-93B5-0AF69A08D59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7EBFBF-7917-47B9-A76F-48F69F292204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3A167-466F-45A0-A74E-D4297164440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1E82E-CFC9-4A51-B58F-248CD97E589D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E97F5-25FE-4E8F-B043-66DE3016D54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1ppt.com/kejian/" TargetMode="External"/><Relationship Id="rId2" Type="http://schemas.openxmlformats.org/officeDocument/2006/relationships/hyperlink" Target="http://www.1ppt.com/kejian/yuwen/" TargetMode="External"/><Relationship Id="rId3" Type="http://schemas.openxmlformats.org/officeDocument/2006/relationships/hyperlink" Target="http://www.1ppt.com/kejian/shuxue/" TargetMode="External"/><Relationship Id="rId4" Type="http://schemas.openxmlformats.org/officeDocument/2006/relationships/hyperlink" Target="http://www.1ppt.com/kejian/yingyu/" TargetMode="External"/><Relationship Id="rId5" Type="http://schemas.openxmlformats.org/officeDocument/2006/relationships/hyperlink" Target="http://www.1ppt.com/kejian/yuwen/138/" TargetMode="External"/><Relationship Id="rId6" Type="http://schemas.openxmlformats.org/officeDocument/2006/relationships/hyperlink" Target="http://www.1ppt.com/kejian/yuwen/160/" TargetMode="External"/><Relationship Id="rId7" Type="http://schemas.openxmlformats.org/officeDocument/2006/relationships/hyperlink" Target="http://www.1ppt.com/kejian/yuwen/161/" TargetMode="External"/><Relationship Id="rId8" Type="http://schemas.openxmlformats.org/officeDocument/2006/relationships/hyperlink" Target="http://www.1ppt.com/kejian/yuwen/162/" TargetMode="External"/><Relationship Id="rId9" Type="http://schemas.openxmlformats.org/officeDocument/2006/relationships/hyperlink" Target="http://www.1ppt.com/kejian/yuwen/163/" TargetMode="External"/><Relationship Id="rId10" Type="http://schemas.openxmlformats.org/officeDocument/2006/relationships/hyperlink" Target="http://www.1ppt.com/kejian/yuwen/164/" TargetMode="External"/><Relationship Id="rId11" Type="http://schemas.openxmlformats.org/officeDocument/2006/relationships/hyperlink" Target="http://www.1ppt.com/kejian/yuwen/165/" TargetMode="External"/><Relationship Id="rId12" Type="http://schemas.openxmlformats.org/officeDocument/2006/relationships/hyperlink" Target="http://www.1ppt.com/" TargetMode="External"/><Relationship Id="rId13" Type="http://schemas.openxmlformats.org/officeDocument/2006/relationships/hyperlink" Target="http://www.1ppt.com/kejian/yuwen/166/" TargetMode="External"/><Relationship Id="rId14" Type="http://schemas.openxmlformats.org/officeDocument/2006/relationships/image" Target="../media/image3.png"/><Relationship Id="rId1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9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4" name="Picture 6" descr="黄果树照片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35" name="WordArt 4"/>
          <p:cNvSpPr txBox="1"/>
          <p:nvPr/>
        </p:nvSpPr>
        <p:spPr>
          <a:xfrm>
            <a:off x="1600200" y="2514600"/>
            <a:ext cx="617220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53966" dir="18900000" blurRad="0" rotWithShape="0">
                    <a:srgbClr val="ffffff">
                      <a:alpha val="50000"/>
                    </a:srgbClr>
                  </a:outerShdw>
                </a:effectLst>
                <a:latin typeface="黑体"/>
              </a:rPr>
              <a:t>黄果树瀑布</a:t>
            </a:r>
            <a:endParaRPr b="0" lang="en-US" sz="60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53966" dir="18900000" blurRad="0" rotWithShape="0">
                  <a:srgbClr val="ffffff">
                    <a:alpha val="5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536" name="WordArt 9"/>
          <p:cNvSpPr txBox="1"/>
          <p:nvPr/>
        </p:nvSpPr>
        <p:spPr>
          <a:xfrm>
            <a:off x="1295280" y="685800"/>
            <a:ext cx="655344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0000ff"/>
                  </a:solidFill>
                  <a:miter/>
                </a:ln>
                <a:solidFill>
                  <a:srgbClr val="0000ff"/>
                </a:solidFill>
                <a:effectLst>
                  <a:outerShdw dist="17819" dir="18900000" blurRad="0" rotWithShape="0">
                    <a:srgbClr val="ffffff">
                      <a:alpha val="50000"/>
                    </a:srgbClr>
                  </a:outerShdw>
                </a:effectLst>
                <a:latin typeface="宋体"/>
              </a:rPr>
              <a:t>义务教育课程标准实验教科书（苏教版）语文   五年级上册</a:t>
            </a:r>
            <a:endParaRPr b="0" lang="en-US" sz="1800" spc="1" strike="noStrike">
              <a:ln w="19080">
                <a:solidFill>
                  <a:srgbClr val="0000ff"/>
                </a:solidFill>
                <a:miter/>
              </a:ln>
              <a:solidFill>
                <a:srgbClr val="0000ff"/>
              </a:solidFill>
              <a:effectLst>
                <a:outerShdw dist="17819" dir="18900000" blurRad="0" rotWithShape="0">
                  <a:srgbClr val="ffffff">
                    <a:alpha val="5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151920" y="380880"/>
            <a:ext cx="8534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宋体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就像是微风拂过树梢，渐近渐响，最后像潮水般涌过来，盖过了人喧马嘶，天地间只存下一片喧嚣的水声了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Rectangle 7"/>
          <p:cNvSpPr/>
          <p:nvPr/>
        </p:nvSpPr>
        <p:spPr>
          <a:xfrm>
            <a:off x="152280" y="2057400"/>
            <a:ext cx="87631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8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</a:rPr>
              <a:t>那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</a:rPr>
              <a:t>哗哗</a:t>
            </a:r>
            <a:r>
              <a:rPr b="1" lang="zh-CN" sz="34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3400" spc="-1" strike="noStrike">
                <a:solidFill>
                  <a:srgbClr val="000000"/>
                </a:solidFill>
                <a:latin typeface="楷体_GB2312"/>
              </a:rPr>
              <a:t>的水声便成了千万架织布机的大合奏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</a:rPr>
              <a:t>瀑布从岩壁上直泻下来，如雷声轰鸣，山回谷应。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850"/>
              </a:spcBef>
              <a:buClr>
                <a:srgbClr val="000000"/>
              </a:buClr>
              <a:buFont typeface="楷体_GB2312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0000"/>
                </a:solidFill>
                <a:latin typeface="楷体_GB2312"/>
              </a:rPr>
              <a:t>聆听着訇然作响的瀑布声</a:t>
            </a:r>
            <a:r>
              <a:rPr b="1" lang="en-US" sz="34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9" name="22.wav" descr=""/>
          <p:cNvPicPr/>
          <p:nvPr/>
        </p:nvPicPr>
        <p:blipFill>
          <a:blip r:embed="rId1"/>
          <a:stretch/>
        </p:blipFill>
        <p:spPr>
          <a:xfrm>
            <a:off x="8229600" y="6172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" restart="whenNotActive" nodeType="interactiveSeq" fill="hold">
                <p:stCondLst>
                  <p:cond evt="onClick">
                    <p:tgtEl>
                      <p:spTgt spid="539"/>
                    </p:tgtEl>
                  </p:cond>
                </p:stCondLst>
                <p:childTnLst>
                  <p:par>
                    <p:cTn id="16" nodeType="clickEffect" fill="hold">
                      <p:stCondLst>
                        <p:cond evt="onClick">
                          <p:tgtEl>
                            <p:spTgt spid="539"/>
                          </p:tgtEl>
                        </p:cond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" dur="27686" fill="hold"/>
                                        <p:tgtEl>
                                          <p:spTgt spid="53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矩形 6"/>
          <p:cNvSpPr/>
          <p:nvPr/>
        </p:nvSpPr>
        <p:spPr>
          <a:xfrm>
            <a:off x="1676520" y="2230560"/>
            <a:ext cx="623880" cy="18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"/>
              </a:rPr>
              <a:t>www.1ppt.com/kejia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语文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2"/>
              </a:rPr>
              <a:t>www.1ppt.com/kejian/yuwen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数学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3"/>
              </a:rPr>
              <a:t>www.1ppt.com/kejian/shuxue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</a:t>
            </a: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英语课件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4"/>
              </a:rPr>
              <a:t>www.1ppt.com/kejian/yingyu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一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5"/>
              </a:rPr>
              <a:t>www.1ppt.com/kejian/yuwen/138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二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6"/>
              </a:rPr>
              <a:t>www.1ppt.com/kejian/yuwen/160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三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7"/>
              </a:rPr>
              <a:t>www.1ppt.com/kejian/yuwen/161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四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8"/>
              </a:rPr>
              <a:t>www.1ppt.com/kejian/yuwen/162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五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9"/>
              </a:rPr>
              <a:t>www.1ppt.com/kejian/yuwen/163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六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0"/>
              </a:rPr>
              <a:t>www.1ppt.com/kejian/yuwen/164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七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1"/>
              </a:rPr>
              <a:t>www.1ppt.com/kejian/yuwen/165/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八年级语文上册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2"/>
              </a:rPr>
              <a:t>www.1ppt.com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Calibri"/>
                <a:hlinkClick r:id="rId13"/>
              </a:rPr>
              <a:t>/kejian/yuwen/166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000000"/>
                </a:solidFill>
                <a:latin typeface="Calibri"/>
              </a:rPr>
              <a:t>人教版九年级语文上册：</a:t>
            </a: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www.1ppt.com/kejian/yuwen/167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页脚占位符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ubu.mpg" descr=""/>
          <p:cNvPicPr/>
          <p:nvPr/>
        </p:nvPicPr>
        <p:blipFill>
          <a:blip r:embed="rId14"/>
          <a:stretch/>
        </p:blipFill>
        <p:spPr>
          <a:xfrm>
            <a:off x="228600" y="152280"/>
            <a:ext cx="8686800" cy="651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0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" dur="154384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543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543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54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609120" y="2057400"/>
            <a:ext cx="8077320" cy="19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也许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______________,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来到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瀑布脚下，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_________________________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0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609120" y="1143000"/>
            <a:ext cx="815364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古代著名旅行家徐霞客在</a:t>
            </a:r>
            <a:r>
              <a:rPr b="0" lang="en-US" sz="2400" spc="-1" strike="noStrike">
                <a:solidFill>
                  <a:srgbClr val="000000"/>
                </a:solidFill>
                <a:latin typeface="宋体"/>
              </a:rPr>
              <a:t>300</a:t>
            </a:r>
            <a:r>
              <a:rPr b="0" lang="zh-CN" sz="2400" spc="-1" strike="noStrike">
                <a:solidFill>
                  <a:srgbClr val="000000"/>
                </a:solidFill>
                <a:latin typeface="宋体"/>
              </a:rPr>
              <a:t>多年前就对黄果树瀑布有过描述，也是中国历史上对黄果树瀑布进行详尽记载的第一人：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  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Rectangle 4"/>
          <p:cNvSpPr/>
          <p:nvPr/>
        </p:nvSpPr>
        <p:spPr>
          <a:xfrm>
            <a:off x="1828800" y="3276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Rectangle 5"/>
          <p:cNvSpPr/>
          <p:nvPr/>
        </p:nvSpPr>
        <p:spPr>
          <a:xfrm>
            <a:off x="914400" y="3276720"/>
            <a:ext cx="754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万练飞空，       飞沫反涌，如烟雾腾空，势甚雄厉。     盖余所见瀑布，高峻数倍者有之，而从无此阔而大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Rectangle 6"/>
          <p:cNvSpPr/>
          <p:nvPr/>
        </p:nvSpPr>
        <p:spPr>
          <a:xfrm>
            <a:off x="4572000" y="327672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Rectangle 7"/>
          <p:cNvSpPr/>
          <p:nvPr/>
        </p:nvSpPr>
        <p:spPr>
          <a:xfrm>
            <a:off x="6781680" y="3763800"/>
            <a:ext cx="129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2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53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4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5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第一PPT模板网-WWW.1PPT.COM</dc:creator>
  <dc:description>第一PPT模板网-WWW.1PPT.COM
</dc:description>
  <cp:keywords>第一PPT模板网-WWW.1PPT.COM</cp:keywords>
  <dc:language>en-US</dc:language>
  <cp:lastModifiedBy>a</cp:lastModifiedBy>
  <dcterms:modified xsi:type="dcterms:W3CDTF">2015-03-16T08:44:47Z</dcterms:modified>
  <cp:revision>3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