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0B5-FB23-43F5-8D69-EAC02350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D28-FEBC-4E5F-92CC-93F3E94C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348C7-905A-4263-B1C0-2E71EEA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F0F3E-5621-4FC3-874D-8E116489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AF071-C933-4008-AE27-8C135E13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9206B-B523-4A9C-8B30-C2E1865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1079F-9691-41E9-BFC0-A216D05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966A3-E852-4A00-85F6-0E5B45F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B0A71-8752-42FB-9D3E-A369A14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6AEB4-5090-4874-9C2E-AEEFD1DD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C5F1-6BEC-48BB-B45C-F1178D04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0284B-EE9A-4B33-829E-EE8FBAC9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F8D-2CD0-4221-A258-BA75632F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114FB-8A42-4E3F-93B4-C50C2347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B2372-FD3D-4B05-A8AA-820ADAB7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76E00-59A9-459D-8E32-3F378805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5C7CB-94F0-4E52-BC35-6C883566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79A2F-B04B-4FD2-9273-3ADE3BB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31C6-0D1F-495F-8BB4-17B09A6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E451B-9645-4882-A083-AF2C547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4BF10-B9F7-4874-A00D-076804B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42C0F-6B58-4CDE-A2F2-798BF63D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35EF6-EFB5-4391-BD58-758D97A3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3FB-DC2A-472F-8B5D-5F7363F7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BC6D1-92F9-4BDC-80E6-98E004D7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D18CD-EBA6-40EE-8203-FB8D5F14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0BCC2-3DF3-4273-9ABB-CDBA734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8C051-B173-456B-A23B-74B39B4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8A132-3999-41AD-BB01-024FBDD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4F253-687B-4F37-9128-87F6E914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3B4E3-E8B0-4602-A53A-2EFEE896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B38D6-F48B-418C-927A-584738A9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8B81C-01A5-42DF-96C9-2C70C00A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5E9BE-63F2-4C60-9A79-13B7CF1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545F-F855-4E84-8A5E-D0DDB8C1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BDEAD-04E9-48F0-B0CA-FE02212A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B4DEE-BC69-41E9-AEBF-FA16C508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BDC5D-7FF0-4A8D-A34D-4E67C33E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D8A23-00BB-4DDD-B67A-E60BA7BE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9B6D8-84B1-4EFB-83D7-58E4208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D2F71-CA0D-4DC7-96CD-E3D20741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E24E9-8232-4617-929A-EF313C6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25658-574B-4AB4-8CB1-7A8D07F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3FC21-016D-4970-A428-0411BAF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4A793-7235-4CD0-BF17-9A1271E0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BDDE-5695-4208-AC2F-9170071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6FF13-5DBF-4575-8460-0B2331A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3E9B0-8DE9-40C4-ADBA-9813B0E5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30AD4-9C58-49EC-B667-E0CEACF5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4DED9-AAF6-41D3-B595-D77ABABB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91CAF-C533-41BE-B453-51C7AAF2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26B5B-6E6F-4FA5-BB68-C558F9B8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39145-51A9-4039-AF08-287C39C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28444-4ADD-4339-8EA8-1697DF8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45E08-97C8-4CC1-A782-AAF419E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75FE9-65E3-4B0F-BCB9-55A0E1B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466-138B-4665-9EA0-A68844B5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86A12-F171-439A-9C57-0406086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4D6BD-33DD-4254-A1B9-A21C578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F37CD-1556-406B-B41E-2CF333F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D91A7-A5CB-47DA-B844-23C0C0D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38C86-4F43-4DF2-969B-0B9CF803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10457-3D3E-409D-84B6-EDD2F9B2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9A964-24B3-423C-9B0D-5E866298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1C5C-D73D-4A14-90DA-9BD98635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A3B2-9A3A-4DA0-AC75-7431DF7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DCD0-9C59-48EB-A751-A339D30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6CB4-B82A-4B69-9778-DDA9958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658-3686-4EAC-BC28-F9499076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6B6-8814-4114-88A5-070968F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F72E-0D2C-486E-81A8-B5660B4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B102-493C-4E95-A324-5F307E03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03D2-9907-41A6-8E1F-CA8B3F40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4F75-5EE8-4958-B698-929D26CA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CC42-B637-467A-8FEF-D3041AC3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4BF9-0CA1-48F0-A41B-F030659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2BF0-A1CD-42D2-ACFB-5971B77B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B60C-930B-469B-BD79-3A76694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8671-5A05-4540-92DE-C061448D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7FB-7CA5-4952-A7AB-4F8EA663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7662-C478-4775-AAAE-263635A6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85AC-BC37-4D14-A4E6-D1743ED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BAC1-2BFC-4957-9696-7CDAFD0D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AC3C-B268-42DB-9815-6646ED6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2398-8BFE-449F-B551-BBF76D87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3CE1-F4E4-447A-B137-1507B5CB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0517-218F-4A63-ADF3-232E2FD6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4BF8-BDC6-4898-A5D4-24C579F5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9604-987F-44D8-A8AF-0A74F07F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DDDA-84AC-4EEF-878E-446623F5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4A8-3D3A-401A-9181-DFE1E05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5490-DA82-47F2-BFEF-D3401639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55926-1E42-4FD2-A324-BEB41857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A019-E033-48FB-AFDB-D894D53E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4CFF-1DF9-4A0A-9D0B-A8AC25B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3911-FDD4-4C71-8F81-D7EEA7F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2DE3-474D-4EEA-AA33-A729089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F447-4ADF-4254-815A-F280FB80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959B-15A6-4168-B376-D167404D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9BFC9-B90A-4067-8601-CBDB690F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4354-5D38-4134-8C17-9A8C4339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AB5-E357-4C25-89F0-7B7FE252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CF54-60BD-4AE7-898C-C479A228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821E8-6561-47AB-9AD7-70F09AB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81A93-2DB9-4AB4-ACEA-F37CFFC3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ECFE-E196-4553-9CC7-FBCD9BFE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3ED1-AE60-4000-A7AD-7A4ED18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F1CE-1718-4479-AD67-ED98292F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D7BE-64C2-46A4-BB3B-BE81BAAA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C275-D471-4CD6-B499-147482D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90A1-7768-484E-831E-29C41A0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57FA9-2117-477F-9A5F-C495F3A5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CFF-31AC-4993-8356-D953AD6E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C38F-6D8D-4D2A-B4E8-952EF99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606D-3E9B-4629-9634-07A00D6B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57DF-83C6-424D-82DF-50ECC96E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8DF7A-A13F-4823-A79C-66A88D2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D830-711F-407F-896A-51C7FB9C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EF58-525D-4CDE-8520-53B5541F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E062F-B0CC-4B04-A5D9-68731343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2C65-1E83-4902-B6B9-F7F2BE3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277F-759A-438C-87F3-2494697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1819-BFEE-427B-885A-5E7DF96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FAA-5F02-4EA1-BF28-F104DA6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9B8F-8863-41CD-B2A9-3824CAF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CB84-411F-41ED-9E32-EB449A35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2C83-EEFD-4708-8B12-B41574CA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626C-E278-46EB-A32B-12573D8B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7D75-C230-42FE-A2F8-B023B9E4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67988-8AA4-47F4-B5DE-D1B3B64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D09B-D26B-4EAF-97FE-7D631A62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842E-E6A0-4587-9A8C-5ED3E585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68609-24B4-4674-856C-32551EC5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496A-C309-4B71-9907-162A7A5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EB0-8205-4AFF-A868-B0E1092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8D9C-4CFB-4F8C-8146-5557164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FD1D2-BA12-4CD1-86B1-868C7D3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CE45A-A7FD-4147-8811-F416802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48A7-B00C-4F77-A002-72635EB3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3C2A-6993-4CC5-ACF7-E1761AA7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5EAD-97A7-4DAC-A2C0-7F54936D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D203-857A-4EFB-AE3D-7E45166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3808C-FEDB-42DF-A2E5-74CB251A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45735-7FBB-4D44-A0C0-405E1E5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FE507-7B6C-4ADE-8F53-F2489303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D86-4DDD-4D91-9154-4DFCFB81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7D2C9-FA4F-4422-A7D3-1235358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D0C0-4F75-4E42-BFDB-67F1B2F1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3B1DE-FAFF-465C-8913-1D5C0DF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DB21-7981-49A8-A856-3F05BD3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2B575-9F6B-4C10-9C82-847C422A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B457-666C-4BC9-AFCC-59FB9B12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1159F-66D1-479F-B938-3F3DA6F1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E4AF2-B55F-4236-A5E9-2DFC7DF6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9CC51-B207-4546-BAF2-922D7DFC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AB8D-1E06-427D-916D-D1652E9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4A8F-99D6-463B-8734-FEA513F2A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F93F-66C0-432D-A8A5-5DDF62D97C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B6AE-BE46-42D0-85BA-D10D2CA7E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D588-2BDE-4593-AF02-36FAC081C2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8D5-FB8D-4628-BB8E-E8BD0354E4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B9CA-4797-42E8-ADC2-BB79029002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962-7A83-4CCB-9165-01B7922C03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F1C-45DC-4C8C-B59F-EBF2936D51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DEA2-F4C7-4E81-BBDD-1FD4F96B5A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A3A7-2AD3-4B30-893B-DA10318B3C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5C0-45EC-40E3-BAC4-35B7C7213D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8F86-2345-409B-9535-2BA08DC6FE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B219-2E1C-4888-A631-265A8F1BE0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ED22-A887-4F9A-8A12-DA3D1701A7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3318-C7EE-489D-9129-4AFE0988D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E2CB-4FA1-430B-AADE-2BBC4F94C5B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ED9C-65A2-4E2B-BD76-201DEB8559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35A-E93C-4BB9-8BA5-875BAEB768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FE5E-F610-4F6D-9CA7-0D960BAF00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F3A-1788-4E95-B91D-A6898C1BA2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707-BA68-439C-A166-7A51B7A0F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D4D-7C8A-4957-8679-163087B3C5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6DE-FBA7-483F-9BFE-6CA624BD56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740-A694-405C-B4FF-E680B57AD5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3125-4EA2-434D-8913-8F884483D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2.pn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5"/>
          <p:cNvSpPr txBox="1"/>
          <p:nvPr/>
        </p:nvSpPr>
        <p:spPr>
          <a:xfrm>
            <a:off x="1763640" y="242100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好汉查理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7"/>
          <p:cNvSpPr/>
          <p:nvPr/>
        </p:nvSpPr>
        <p:spPr>
          <a:xfrm>
            <a:off x="2176560" y="2060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35" name="Picture 7" descr="小学语文(记叙文）01"/>
          <p:cNvPicPr/>
          <p:nvPr/>
        </p:nvPicPr>
        <p:blipFill>
          <a:blip r:embed="rId13"/>
          <a:stretch/>
        </p:blipFill>
        <p:spPr>
          <a:xfrm>
            <a:off x="9907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9" descr=""/>
          <p:cNvPicPr/>
          <p:nvPr/>
        </p:nvPicPr>
        <p:blipFill>
          <a:blip r:embed="rId14"/>
          <a:stretch/>
        </p:blipFill>
        <p:spPr>
          <a:xfrm>
            <a:off x="2176560" y="1816200"/>
            <a:ext cx="5062320" cy="37465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0"/>
          <p:cNvSpPr/>
          <p:nvPr/>
        </p:nvSpPr>
        <p:spPr>
          <a:xfrm>
            <a:off x="3794040" y="5653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好 汉 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3"/>
          <p:cNvSpPr/>
          <p:nvPr/>
        </p:nvSpPr>
        <p:spPr>
          <a:xfrm>
            <a:off x="4322880" y="2362320"/>
            <a:ext cx="12031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自由朗读课文。要求：读正确，读流利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4123440" y="3352680"/>
            <a:ext cx="1423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讨论交流：课文讲述了一个什么故事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026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027"/>
          <p:cNvSpPr/>
          <p:nvPr/>
        </p:nvSpPr>
        <p:spPr>
          <a:xfrm>
            <a:off x="3985560" y="1998720"/>
            <a:ext cx="12427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  <a:ea typeface="楷体_GB2312"/>
              </a:rPr>
              <a:t>默读课文，边读边画出不理解的内容。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1066680" y="3065400"/>
            <a:ext cx="7543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查理有哪些变化？你找到了哪些句子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8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4"/>
          <p:cNvSpPr/>
          <p:nvPr/>
        </p:nvSpPr>
        <p:spPr>
          <a:xfrm>
            <a:off x="1143000" y="1752480"/>
            <a:ext cx="7543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不，好汉查理从来不随便拿别人的东西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谢谢！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查理显得彬彬有礼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当然可以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查理虽然调皮，但说话是算数的。整整一个暑假，他每天都陪杰西在草地上玩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杰西，我会做个好汉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066680" y="2031840"/>
            <a:ext cx="6782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查理为什么会有这么大的变化呢？你　  觉得查理的变化和哪些人有关呢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143000" y="3675240"/>
            <a:ext cx="7543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你对故事中的这些人物有什么看法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5213520" y="2209680"/>
            <a:ext cx="568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宋体"/>
                <a:ea typeface="楷体_GB2312"/>
              </a:rPr>
              <a:t>自由组合，分角色感情朗读。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50" name="Picture 19" descr="小学语文(记叙文）05"/>
          <p:cNvPicPr/>
          <p:nvPr/>
        </p:nvPicPr>
        <p:blipFill>
          <a:blip r:embed="rId1"/>
          <a:stretch/>
        </p:blipFill>
        <p:spPr>
          <a:xfrm>
            <a:off x="663480" y="1028880"/>
            <a:ext cx="2079720" cy="571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r05"/>
          <p:cNvPicPr/>
          <p:nvPr/>
        </p:nvPicPr>
        <p:blipFill>
          <a:blip r:embed="rId2"/>
          <a:stretch/>
        </p:blipFill>
        <p:spPr>
          <a:xfrm>
            <a:off x="1523880" y="2289240"/>
            <a:ext cx="2097360" cy="35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1523880" y="1981080"/>
            <a:ext cx="6210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完了这个故事，你有什么感想？ 　  先说一说，再写一写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53" name="Picture 6" descr="小学语文(记叙文）06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7"/>
          <p:cNvSpPr/>
          <p:nvPr/>
        </p:nvSpPr>
        <p:spPr>
          <a:xfrm>
            <a:off x="1523880" y="3556080"/>
            <a:ext cx="6324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镇上的人后来会怎么评价查理呢？　  请你发挥想象，写出人们对查理的　  评价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5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3:16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2:39:53Z</dcterms:modified>
  <cp:revision>146</cp:revision>
  <dc:subject/>
  <dc:title>第一PPT模板网-WWW.1PPT.COM</dc:title>
</cp:coreProperties>
</file>