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5.gif" ContentType="image/gif"/>
  <Override PartName="/ppt/media/image14.jpeg" ContentType="image/jpeg"/>
  <Override PartName="/ppt/media/image2.png" ContentType="image/png"/>
  <Override PartName="/ppt/media/image4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C103-9721-4948-A5CF-9A7D95C91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27DA-2082-4D96-A6D3-43786036C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526AA8-92F1-446B-B1B5-744A62F62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52D666-34F8-4D4F-9458-67242C6F9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E08950-EA94-4286-BB6A-7890F07C7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F528C3-AB92-43BA-B8CF-6B9981DA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D31797-6040-47F2-86B3-882E7B51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D33E5C-7EBE-4F1E-BA7F-2A34FE98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074F41-19A3-4DE0-B576-5B046E231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035FCD-C828-4C3D-A89C-E370E5E57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62F5B2-F16D-4D10-B09C-F8A9BA3A3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F8D7A0-4C6D-4250-B7A5-0BCC2C333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91E4-70DF-41CE-A6BD-B3E86E6E4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14CCBF-DBFC-4C61-94E9-F6B76CD76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6DDCE1-E0D7-4BE1-ACBB-38EB03FDB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D15AC0-3112-4B10-8590-4AB75A1F6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74C26C-7D16-4482-95C6-D8E65D099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D22213-D658-433E-9E7A-E4769E1C6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BD3685-B7AA-43FE-B754-02291296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E07B0C-B0C2-4182-9CF6-A21AC379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7AC072-91DB-48E7-AD5B-B5B5D366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BDF831-A564-4E7D-9E7B-580EFAE21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3EE115-E183-4BE9-8EED-8F86C1A0F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0EDA-5644-445A-B94D-74172FF8C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A7C654-DB2D-408D-BF26-7A1582D32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7700F9-5960-4DA7-AEAF-8C8F69830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A651AD-6BF1-41F7-BCF4-B9211D1EC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0469D2-FDE3-41D2-A345-579F4444B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56DA18-6FEA-48E9-BFCC-2DB3F6206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44C00A-5441-4A72-955C-24F64136A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C963A7-9B0D-4B5D-B253-AB98769A9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CB401A-B728-4A15-94B5-6FFB7EC1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CE7F91-E502-4105-9048-D4F89CF5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C08582-8B51-43CD-8381-C27C861E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0D813-5131-4AA7-BBEC-0DA7FD637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E0B4A8-3953-4562-9018-399E496FD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F0B8A6-8CF5-4918-BCAC-503FC4E1B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2DCE2E-EE4B-4EB6-B17F-C59B7433A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B213DE-9564-4C1B-9E69-7D4340314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1E0B11-F5B2-4687-AF36-12A9E4D95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964A00-FE6F-4902-9FD4-45B29E274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A855B2-6F00-46F7-AC3B-432419B41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6D1DF4-397A-46D0-BF07-BEE120A5F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20698C-8040-4D80-A206-5BF04D1D5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AA82D3-A227-4A35-AA92-9F81424D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3103C-E677-40ED-B397-9F51D666C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C58D8A-8310-496A-B214-37DFFAB3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34A653-CC73-445F-B7B9-F0D89E23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B20695-879E-48BA-BDF6-6DB25C90B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1AE582-F19E-4491-A078-899C08ACF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71E0C1-2877-45E7-9CF1-C3AD0A0B1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D3C2DB-E699-4DB7-B7A8-5FE6C75B5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543966-4236-4173-BBC0-8C945CCA7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8A20A5-5EFF-4C11-87A0-E74BAF31D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9BE001-6FB5-4F8A-9FE8-71CB01EAB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B6DA71-3605-4682-B445-3E343177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C2E51-8150-4A9A-8749-0CEFA7B7E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716944-5120-4992-8439-5BA076D5A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96A7B1-E3CB-452F-B86D-5401FE25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23B94F-CEB7-4075-B1C3-3854D492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4AC4A9-BCB0-46E8-8ECD-F451B7C1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963F4D-E929-42BE-A50D-A711D0F51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4F7C83-8AFD-4F0E-A33A-755596007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99C0E6-CC38-497C-A9D8-E4C53B636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A1405B-D410-410E-81D0-D7C6AD934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FAA943-96B1-43D9-8F27-F5B6C5D76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636DB3-344B-4CF5-9BBC-6747C9663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FCA45-F888-475E-BD32-8026794A3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0DC8EE-4BFF-4F86-B0CC-4FB5578EB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7437B0-0974-4480-9E98-4CAAB96D1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23CED5-C659-423D-A1FF-7AD7A996E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D6799C-232F-4F61-8D93-D3BAD3AB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459289-6006-4DF6-8AEE-82BDB1A5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25471F-5C20-4D20-8578-C33720B5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042619-1F1C-44B5-A470-BCD8860FC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413C28-1DE6-44BC-A0C4-8214D55E0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4D4C3F-C8CB-41D1-A929-31C5B46D1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9DFB3-BB35-48F5-B9F2-3D0BACD39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757F4-9B23-449C-A7A4-325C1D8C9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9F5D4-C386-4C4C-8FF5-7BD8E8B2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3F63-2DE5-4E74-9F3E-2E0968998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059C1-6A94-41A4-8C8A-7DC8D779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29CC6-85D9-4DE7-B5AA-7C4B8639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0DAD1-A01B-4D1B-9123-103CD918C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9FD90-9BB3-4370-902F-54066C3FB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067DE-A8D4-410B-AC3A-2237FF664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98EFE-C7B6-4D32-AC91-397F1ED53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BE33F-D33D-44DD-922E-1E6698251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1FF27-E9B3-4B83-9273-9006CDA9D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59231-EB04-4C6C-9C5B-0BD2B356E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CA028-5163-49BE-8DEC-355894410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00A9-9891-4328-BC93-F60DFF2AA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4871E-0C69-423B-AF48-BD28B3772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5AEEE-879A-445A-B94D-14EF4F22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286CD-83CF-4985-9DC4-06A127C6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5827D-4DFD-4763-BE99-C5429726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DA60C-0C94-4ECB-A35F-599E3309D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7B841-C44A-46A9-AB89-2D9B09074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5C347-96E9-432E-90A8-7FDF59495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67B6C-E757-4D0E-BBBD-81D4BE59C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B171C-C80F-4F26-860D-978D4527C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DEA1A-753E-423A-B3FB-DCBF413EF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E542-D1B0-4067-9C26-F7895BFAF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9FD6B-C32E-4543-8DD7-815BC0B37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2A21A-5CEF-4375-8887-DB50445CB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9959D-7431-44F9-9599-173701878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1B22E-3C4C-424B-AC03-4BE39C1B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8D6CA-09C6-4E5B-A52A-09032D37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E87B8-676C-4167-A755-EB2E814E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EF570-A3A5-44EE-BFD8-844DC12C0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07EBD-D3F4-4143-BF9E-C6E95C087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28B8A-10C6-4EA6-9FA9-DAA902623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5FE0B-A8BE-462C-8B7C-80EEB2A03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1A47-FEE0-46E4-A2D2-3A7F26193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01949-3D8B-4BCF-82B4-D04317348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68721-BEB6-4DF9-94BD-C0FE956C7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73AAD-C89E-4B56-A7A8-6B3BC7E95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163A3-88D9-43B1-8874-906F1B779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350D3-9C73-44CE-B7AD-40BDD48B9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D8298-6A3A-4920-AB06-C857C17E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5E7D6-3E68-4104-A944-3A3DD858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26E53-6B0B-42BA-9EAC-FBA9E5F2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1C766-B40F-4197-913C-F09CAF963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F93D4-3AA2-40B2-8CF2-7D4C3EDAA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87CF-F0AB-4D90-98FA-8B422E8BD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BDE8F-7695-4166-8BAF-7AB84292D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E4335-0E32-4914-ACA2-15147F764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80F4C-C9D6-43AD-A3CB-1F805DAA1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BC250-6841-4F5E-9F40-29A08F264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78267-7247-4F95-B858-DEDA1BC41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BA946-0820-4BF2-99CE-D5503F081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15554-CF60-400A-BC43-18370874D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30F71-0DAE-47B8-86EC-D7EFC0F3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FD8D7-C5A2-4AC3-8758-E106A771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4FEF92-2F40-48FE-B45C-DFEDDB49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9F9D-F1D9-45C7-8BB1-730E4B94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11295-E19C-4CBF-9C5B-3D4F9CE2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65C2B-BA31-46AF-ABC3-3EB17D552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68756-B2B8-41FF-960C-CA5407B62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A3D2B8-97E4-49DF-8208-23CB20B7E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3EE6C8-C2DD-4743-AFB9-8601B6A62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30350-267C-486F-93DE-219503BCC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26B5E-1924-4326-A78F-49678BC52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121F3-4DFC-4AFE-97E3-30685A5DB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5A92A-F7F0-40FC-941D-0DDF96FF0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5D4F56-1330-4D76-99F7-09623E75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B346-1BBB-469A-8AB0-C39953DA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68382-AD64-4E63-8DBF-CFF78712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0B89DC-872A-4B10-BB30-8B8D127F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9487D-2D97-49B7-8365-57D230323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E687F-B102-42E7-A532-14F6D46C0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0DE66-56E4-4278-BBEA-DF88207B0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3E45E8-51F9-4E4B-984E-D9C460999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AA3902-1FA0-452D-8286-FC827B2DC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78A425-9E3D-40E0-AC2D-28D24088E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90C6C7-95C7-4E2C-BA2C-279694BB4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2724DF-44C9-45DA-8546-2AFDE21E9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E104-C3B6-48CA-8111-7D9398F7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499136-CA58-4AC4-9582-C0919EBCB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A4E613-2784-48AA-8911-69C1A5A0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22FCAB-34C8-4A85-AEAC-8FCCA8C5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D52286-1AB9-43C5-845C-773DD243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D30F96-0D29-4895-8029-6C693A828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580D37-94D1-4212-9054-CC69D4506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01CA9C-B1A0-4EEF-893E-59C9BBC02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33D38C-21A6-4F11-9B9C-A546AE35D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C58E55-17B9-4489-854E-FB47BD908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1FA2C1-4BEF-4DEA-9524-DD7FAC7E3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98593-3FFE-4BD6-B46D-EE502F483920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2A43B-DCC0-48B4-A76A-8ED0775E414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2432E-8243-4E62-9EBF-3811320DFE7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95CFB-F6B9-4E89-A3D9-648B7B26B1A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2A2CD-36C8-47A5-BB71-13123EE6578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BD29E-798D-4244-895E-46DCB4800CD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12074-201B-49F6-A45B-F991B110236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31989-9D47-45BF-9688-106EF45B0C2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DBA00-B287-421E-AD4C-8A85247EB48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246C-5099-483A-858F-E30E963985A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7885E-035C-400E-BBAE-1DE1BAD39D2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E5BE6-9EFD-4768-A7E4-517BADC9FE7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0B084-270F-4A86-B1BD-88270A2BD4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89" name="Picture 3" descr="D:\FRONTPAGE THEMES\NATURE\ANABNR2.PNG"/>
          <p:cNvPicPr/>
          <p:nvPr/>
        </p:nvPicPr>
        <p:blipFill>
          <a:blip r:embed="rId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97EFD-5469-4923-85E0-6CFF3D9869C8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9274-A3FD-4ABC-AEFD-36163A0C380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27D23-35CD-49ED-8521-B1D1F59BD2F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7CD8D-9EBE-4BB3-964F-D0049AD2DA1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C7CFF-AEDC-4713-80B8-BFEEE4F66D0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156F4-3A0C-40E4-BB2D-40787AF40C2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2699E-EC3E-4062-B686-99DD03CFDFB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0E5C2-9255-4B0A-A4C8-1F6CC0CD735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03AF1-09BC-4C59-B829-48F6B157E44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8EF2A-D7DF-4E71-9FB1-E2D8217DC16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FB36-DC6C-461C-A67F-BA60ABDE9B7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4C494-196C-4C2D-ADA0-4B14DC05439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1CC0B-A39E-4CB9-89B4-EFB1BF29F0B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 Box 3"/>
          <p:cNvSpPr/>
          <p:nvPr/>
        </p:nvSpPr>
        <p:spPr>
          <a:xfrm>
            <a:off x="3048120" y="1752480"/>
            <a:ext cx="5638680" cy="163044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呼兰河传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萧红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84" name="Text Box 4"/>
          <p:cNvSpPr/>
          <p:nvPr/>
        </p:nvSpPr>
        <p:spPr>
          <a:xfrm>
            <a:off x="3657600" y="45720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连云港海州实验中学      李服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585" name="Picture 5" descr="荡秋千"/>
          <p:cNvPicPr/>
          <p:nvPr/>
        </p:nvPicPr>
        <p:blipFill>
          <a:blip r:embed="rId2"/>
          <a:stretch/>
        </p:blipFill>
        <p:spPr>
          <a:xfrm>
            <a:off x="152280" y="0"/>
            <a:ext cx="4443480" cy="5105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612" name="Picture 4" descr="C:\Documents and Settings\zzh\桌面\黄瓜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in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615" name="Picture 4" descr="C:\Documents and Settings\zzh\桌面\南瓜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in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618" name="Picture 4" descr="C:\Documents and Settings\zzh\桌面\玉米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in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621" name="Picture 4" descr="C:\Documents and Settings\zzh\桌面\鸟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in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624" name="Picture 4" descr="C:\Documents and Settings\zzh\桌面\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in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627" name="Picture 4" descr="C:\Documents and Settings\zzh\桌面\锄草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in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630" name="Picture 4" descr="C:\Documents and Settings\zzh\桌面\除草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in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Picture 2" descr="b_BFE07FF5224AD8DA"/>
          <p:cNvPicPr/>
          <p:nvPr/>
        </p:nvPicPr>
        <p:blipFill>
          <a:blip r:embed="rId1"/>
          <a:stretch/>
        </p:blipFill>
        <p:spPr>
          <a:xfrm>
            <a:off x="228600" y="0"/>
            <a:ext cx="8915400" cy="6858000"/>
          </a:xfrm>
          <a:prstGeom prst="rect">
            <a:avLst/>
          </a:prstGeom>
          <a:ln w="0">
            <a:noFill/>
          </a:ln>
        </p:spPr>
      </p:pic>
      <p:sp>
        <p:nvSpPr>
          <p:cNvPr id="632" name="Text Box 3"/>
          <p:cNvSpPr/>
          <p:nvPr/>
        </p:nvSpPr>
        <p:spPr>
          <a:xfrm>
            <a:off x="1752480" y="1828800"/>
            <a:ext cx="5639040" cy="163044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呼兰河传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萧红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038120" y="45684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66"/>
                </a:solidFill>
                <a:latin typeface="Times New Roman"/>
              </a:rPr>
              <a:t>走近后花园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3276360" y="175248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6600ff"/>
                </a:solidFill>
                <a:latin typeface="Times New Roman"/>
              </a:rPr>
              <a:t>、能否尽可能多地回忆一下文中提到了哪些自然事物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6600ff"/>
                </a:solidFill>
                <a:latin typeface="Times New Roman"/>
              </a:rPr>
              <a:t>、不长的文章中出现了这么多的事物，它们的共同特点是什么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635" name="Picture 5" descr="荡秋千"/>
          <p:cNvPicPr/>
          <p:nvPr/>
        </p:nvPicPr>
        <p:blipFill>
          <a:blip r:embed="rId1"/>
          <a:stretch/>
        </p:blipFill>
        <p:spPr>
          <a:xfrm>
            <a:off x="0" y="0"/>
            <a:ext cx="4443480" cy="51055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962520" y="114264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66"/>
                </a:solidFill>
                <a:latin typeface="Times New Roman"/>
              </a:rPr>
              <a:t>走近园中人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2971800" y="274320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动物、植物都是自由的，置身于这样的环境中的人呢？举例说说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638" name="Picture 5" descr="荡秋千"/>
          <p:cNvPicPr/>
          <p:nvPr/>
        </p:nvPicPr>
        <p:blipFill>
          <a:blip r:embed="rId1"/>
          <a:stretch/>
        </p:blipFill>
        <p:spPr>
          <a:xfrm>
            <a:off x="0" y="0"/>
            <a:ext cx="4443480" cy="51055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588" name="Picture 4" descr="C:\Documents and Settings\zzh\桌面\3141__DSCN12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/>
          </p:nvPr>
        </p:nvSpPr>
        <p:spPr>
          <a:xfrm>
            <a:off x="304920" y="1447920"/>
            <a:ext cx="8610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呼兰河这小城里边，以前住着我的祖父，现在埋着我的祖父。 </a:t>
            </a:r>
            <a:br>
              <a:rPr sz="3200"/>
            </a:b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      我生的时候，祖父已经六十多岁了，我长到四五岁，祖父就快七十了。我还没有长到二十岁，祖父就七八十岁了。祖父一过了八十，祖父就死了。 </a:t>
            </a:r>
            <a:br>
              <a:rPr sz="3200"/>
            </a:b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     从前那后花园的主人，而今不见了。老主人死了，小主人逃荒去了。 </a:t>
            </a:r>
            <a:br>
              <a:rPr sz="3200"/>
            </a:b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　 那园里的蝴蝶，蚂蚱，蜻蜓，也许还是年年仍旧，也许现在完全荒凉了。 </a:t>
            </a:r>
            <a:br>
              <a:rPr sz="3200"/>
            </a:b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　 小黄瓜，大倭瓜，也许还是年年地种着，也许现在根本没有了。 </a:t>
            </a:r>
            <a:br>
              <a:rPr sz="3200"/>
            </a:b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0" name="Text Box 19"/>
          <p:cNvSpPr/>
          <p:nvPr/>
        </p:nvSpPr>
        <p:spPr>
          <a:xfrm>
            <a:off x="1600200" y="685800"/>
            <a:ext cx="624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249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呼兰河传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》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尾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/>
          </p:nvPr>
        </p:nvSpPr>
        <p:spPr>
          <a:xfrm>
            <a:off x="914400" y="10663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　      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那早晨的露珠是不是还落在花盆架上，那午间的太阳是不是还照着那大向日葵，那黄昏时候的红霞是不是还会一会工夫会变出来一匹马来，一会工夫会变出来一匹狗来，那么变着。 </a:t>
            </a:r>
            <a:br>
              <a:rPr sz="3200"/>
            </a:b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　  这一些不能想象了。 </a:t>
            </a:r>
            <a:br>
              <a:rPr sz="3200"/>
            </a:b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6600ff"/>
                </a:solidFill>
                <a:latin typeface="Times New Roman"/>
              </a:rPr>
              <a:t>……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　　 以上我所写的并没有什么幽美的故事，只因他们充满我幼年的记忆，忘却不了，难以忘却，就记在这里了。 </a:t>
            </a:r>
            <a:br>
              <a:rPr sz="3200"/>
            </a:b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　　　　　　　　　　　　　　　　　　　　　　　　     </a:t>
            </a:r>
            <a:r>
              <a:rPr b="1" lang="en-US" sz="3200" spc="-1" strike="noStrike">
                <a:solidFill>
                  <a:srgbClr val="6600ff"/>
                </a:solidFill>
                <a:latin typeface="Times New Roman"/>
              </a:rPr>
              <a:t>1940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年</a:t>
            </a:r>
            <a:r>
              <a:rPr b="1" lang="en-US" sz="3200" spc="-1" strike="noStrike">
                <a:solidFill>
                  <a:srgbClr val="6600ff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月</a:t>
            </a:r>
            <a:r>
              <a:rPr b="1" lang="en-US" sz="3200" spc="-1" strike="noStrike">
                <a:solidFill>
                  <a:srgbClr val="6600ff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日香港完稿。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/>
          </p:nvPr>
        </p:nvSpPr>
        <p:spPr>
          <a:xfrm>
            <a:off x="76212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249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6600ff"/>
                </a:solidFill>
                <a:latin typeface="Times New Roman"/>
              </a:rPr>
              <a:t>萧红一生坎坷，</a:t>
            </a:r>
            <a:r>
              <a:rPr b="1" lang="en-US" sz="3600" spc="-1" strike="noStrike">
                <a:solidFill>
                  <a:srgbClr val="6600ff"/>
                </a:solidFill>
                <a:latin typeface="Times New Roman"/>
              </a:rPr>
              <a:t>9</a:t>
            </a:r>
            <a:r>
              <a:rPr b="1" lang="zh-CN" sz="3600" spc="-1" strike="noStrike">
                <a:solidFill>
                  <a:srgbClr val="6600ff"/>
                </a:solidFill>
                <a:latin typeface="Times New Roman"/>
              </a:rPr>
              <a:t>岁丧母，在暴虐的父亲和继母那儿得不到应有的关爱，只有在祖父那儿才能享受到些许温暖。</a:t>
            </a:r>
            <a:r>
              <a:rPr b="1" lang="en-US" sz="3600" spc="-1" strike="noStrike">
                <a:solidFill>
                  <a:srgbClr val="6600ff"/>
                </a:solidFill>
                <a:latin typeface="Times New Roman"/>
              </a:rPr>
              <a:t>20</a:t>
            </a:r>
            <a:r>
              <a:rPr b="1" lang="zh-CN" sz="3600" spc="-1" strike="noStrike">
                <a:solidFill>
                  <a:srgbClr val="6600ff"/>
                </a:solidFill>
                <a:latin typeface="Times New Roman"/>
              </a:rPr>
              <a:t>岁起就漂泊流浪，生活极不安宁，一再遭受感情挫折，病魔缠身。她曾说过：“若是那时候能回到呼兰我的家乡去多好啊 ！”然而故乡已经在日本侵略者的 铁蹄下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3" name="Text Box 4"/>
          <p:cNvSpPr/>
          <p:nvPr/>
        </p:nvSpPr>
        <p:spPr>
          <a:xfrm>
            <a:off x="990720" y="762120"/>
            <a:ext cx="48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作者简介：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/>
          </p:nvPr>
        </p:nvSpPr>
        <p:spPr>
          <a:xfrm>
            <a:off x="1523880" y="144792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66"/>
                </a:solidFill>
                <a:latin typeface="Times New Roman"/>
              </a:rPr>
              <a:t>后花园：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               </a:t>
            </a:r>
            <a:r>
              <a:rPr b="1" lang="zh-CN" sz="4000" spc="-1" strike="noStrike">
                <a:solidFill>
                  <a:srgbClr val="6600ff"/>
                </a:solidFill>
                <a:latin typeface="Times New Roman"/>
              </a:rPr>
              <a:t>自由、幸福的生活的象征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 advTm="5000"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4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pic>
          <p:nvPicPr>
            <p:cNvPr id="64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591" name="Picture 4" descr="C:\Documents and Settings\zzh\桌面\蝴蝶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in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594" name="Picture 4" descr="C:\Documents and Settings\zzh\桌面\蜻蜓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in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597" name="Picture 4" descr="C:\Documents and Settings\zzh\桌面\蚂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in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600" name="Picture 4" descr="C:\Documents and Settings\zzh\桌面\蜜蜂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in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603" name="Picture 4" descr="C:\Documents and Settings\zzh\桌面\樱桃树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in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606" name="Picture 4" descr="C:\Documents and Settings\zzh\桌面\李子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in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609" name="Picture 4" descr="C:\Documents and Settings\zzh\桌面\榆树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in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03:40:29Z</dcterms:created>
  <dc:creator>zzh</dc:creator>
  <dc:description/>
  <dc:language>en-US</dc:language>
  <cp:lastModifiedBy>a</cp:lastModifiedBy>
  <dcterms:modified xsi:type="dcterms:W3CDTF">2015-03-16T14:50:11Z</dcterms:modified>
  <cp:revision>12</cp:revision>
  <dc:subject/>
  <dc:title>PowerPoint 演示文稿</dc:title>
</cp:coreProperties>
</file>