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projctor.wav" ContentType="audio/x-wav"/>
  <Override PartName="/ppt/media/image6.jpeg" ContentType="image/jpeg"/>
  <Override PartName="/ppt/media/image27.jpeg" ContentType="image/jpeg"/>
  <Override PartName="/ppt/media/chimes.wav" ContentType="audio/x-wav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7.png" ContentType="image/png"/>
  <Override PartName="/ppt/media/image1.jpeg" ContentType="image/jpeg"/>
  <Override PartName="/ppt/media/image3.gif" ContentType="image/gif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16.wmf" ContentType="image/x-wmf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C06-DDAB-42AB-8AE0-FFE988D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FCE-DBCB-463B-8BC1-5A8EE5F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D7A28-F334-48D8-B093-6E21D900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740D3-273C-44B7-943A-6C574D7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46528-14FF-42EC-8D93-363FB84B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FC243-CEF5-4A6F-8434-9792C4A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1EE9A-89F7-41BD-8659-0BC1A58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99C0A-893E-45ED-B15E-C63FED9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1E91B-B731-4580-BE69-B200B63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4BE84-0346-4105-95DB-C745DF04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1CC7D-DE85-474E-88C9-18423B88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40EF-B76D-43DA-9059-8D894E60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A37-EC70-44EF-A5D8-0A45DC9E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18BFB-89FF-4F11-BE5C-598C437C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9CC13-E449-4589-AC3D-28E14BD2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C6874-E665-4E5F-9209-5DAADB84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103A6-74ED-4E82-9114-D2B5BA4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60E74-8CE2-475F-88F1-39D9442E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731D4-5F56-4CDB-8E7D-0C00D46D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5FFE0-0480-4DB0-98F7-B31710A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34B6A-378D-4DCB-971B-E82CCC2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C1C5-D4B1-4CED-9BF0-08BEF0D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2B5D-7B88-44E2-80D0-9560FCD1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733-9F00-4A2C-B2C9-14D707C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B8A6F-2416-4D48-BCA8-9535A30C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3749-F5C7-49A0-90E5-9C868287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C18E-893B-4174-BE49-EE1624F9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5B509-F487-407D-B7E1-C209E9EE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FA805-8BCC-40A1-BA54-D708A3C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F3A58-FAB1-4B40-8292-CAAA8D6A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62121-A59A-460C-A1A5-62DEAF7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A6DB3-3F69-4F4B-8F8A-8156AB3B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6FB21-A2F0-42BB-A556-7D91A09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7239-FB96-481A-A062-445C345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9D16-FE43-4ED3-984D-DB92A5D7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39B03-59E5-4C49-9997-9210C1A4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090CB-7414-4DF1-83D5-D04D2838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4934D-B821-40D8-A4E6-98CFB19D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45E98-4F39-4742-81F4-8CF3CCC7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C15E6-7B9F-4C2F-AD37-3D9EBF8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C827A-30F3-4945-A2F6-9BECAB35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A6F4B-F93D-4A39-ADDC-4F3AAE82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2B076-1184-400F-A0E3-52CA1D44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127F8-040B-4CE2-96ED-5C110E29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097A6-7E24-422F-9555-C66D5DE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80A8-DAB8-4C0A-8F0A-2A4DCD6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95282-0759-42FB-A23D-3E63AF0E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61D5C-EDFF-4DD8-A2E9-4E49718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878A7-86EC-4D81-A496-D5FA635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3D1E3-6CD0-4B6C-86DE-FFA1573B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EF2F-87F7-4601-BE7A-7C06E04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E83B1-893C-4F6B-BA7D-8F336980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C7DA5-EE4B-4364-8275-99A71B9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99E5C-1E78-4C72-A0B7-F5D367C2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C7561-13D4-4981-9F81-E7C3DC7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24401-8F00-41FE-8083-DFEC278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6BF-5276-49EF-8FF5-6823E809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C0E2A-6E32-4973-A03A-64418D8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D5C7A-45BD-40BD-BFD8-66EB382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AE128-A3D9-46C9-93B6-92EEBD8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2D258-C633-410B-88BD-5D2C03E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9FF86-83F6-4354-B4D9-49AF1E8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B236D-0286-425F-8FC2-EFA20982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F3001-F08C-431C-BFF7-06F3BAC7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BAC3-ADA5-4E69-AF85-8D2FA853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8344-0CFC-46B9-B28D-313FE1BB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F90-E5DC-4171-83FF-391E9842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71D4-74C2-4001-BF90-97983AB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BC0-4794-4E60-92C2-386B07D1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03E-6591-4D11-A5B5-A054066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DB70-8597-47A7-B570-266B375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3EC-5E79-4495-8F95-C335FDD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DFA6-6CEA-4000-830C-537A8C17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C43-4859-426E-9FD4-8F225B01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C79C-0217-413C-B946-C49DD123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EFF9-D28D-4657-9ACC-2E00228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268B1-B24B-4C0A-B5DC-F31BC4A4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5295-E142-4E4F-AD9D-CE8FE632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DA1D-4825-4600-8F26-4053968D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D61-0798-4A60-8B0D-57F682D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BC0F-79E7-4293-9C96-802C9EE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98B3-0107-43C3-A797-F5C52C12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FA38-2FAE-41C7-AB2D-C7CB7AF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3DC3-8B13-468F-AE86-8E90DBE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03741-95C7-446C-B58F-6788A29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6AE9-C432-4C7C-9206-605C72A6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659B-F392-4D94-A238-FB956B5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2D66-CBD6-4E50-A387-3744327C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DC16-5FAE-47A1-9A1C-D6FD9658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76264-840E-46F8-9131-CFDA12C1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F9F-78B6-4089-BB5F-98E628E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E6E1-7AEA-4434-B87A-6A9EC01E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8E29-A0FB-4820-BC5E-79FA6E9F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608B-FB2B-4868-ACA8-A0D659A0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A13B-25D0-4D1D-B15B-BF6650D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6E32-9543-48F5-A0BC-4F9D08B5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0B02-04FB-4748-A6B6-805F32B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DED1-04A7-4CFC-9A8B-5F1D877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0BC2-C04A-4E78-B568-01FFCBF6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98092-0DFD-4812-9178-F6381B50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CA6E-135A-4D8D-B20F-4A3E4579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281-F727-4A18-8DE4-466EACB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03EE-89E3-410F-A177-BD1D077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1D6CD-513A-4C75-93EA-D0CE3728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7218-4CC7-4B48-AE34-D5AAF27E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1BC0B-B89B-44DE-A44C-E578B324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FA79A-F1FF-450F-B6C0-A1A5F9F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38EB-5131-4817-8D3F-56C3A86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67D2C-65E8-4425-8D03-94844705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19BE-F4C6-4A1D-BA31-42F8C83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C5DC-EFC8-41AA-98CC-ABB0329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C1835-B1BF-4379-9CCA-D106CBF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295-BF81-43DF-A1F0-45411C4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B271-13E7-456C-AAC3-9CDCA0B6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AAA5E-E847-4D59-9A1C-08BFC0F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3069-B7CF-4AE1-B2DC-9150D3B0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AE66-9849-4AD4-8CE4-967BC3B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4882-952D-420F-93F7-4F7C2D7D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85DEE-51B1-4EE5-A9E0-A400D24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8F99-816E-446D-8F00-519D40E8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44E96-92E6-42BB-8CC9-4BB4D4E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9F4E-1269-4F2F-8AF0-BAF3C11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6A837-293A-4A7F-9DBC-DD67A88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39F-9E0F-486B-8943-84FC4615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6F38-917F-40D6-A060-4195D16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B31C7-28B5-4772-9F29-53F7C8AD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2A46F-A74A-4AE3-B042-68C848BE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57E2-1D5D-4483-AEDB-04430A26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D3B06-4777-4CCD-A1B2-75132C6D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AA32-A337-41B3-A00B-9D6352EC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9B80-910D-4616-881A-1F6EEA61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590DA-0DDF-409B-B890-D0B6484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4D6F9-7679-451B-8EC1-88DF1AC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773C-87A5-4D3E-990D-10F8B6B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B29-9953-4581-A9E0-C7903FE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F5EE5-6CE0-4B41-BC88-D0F91D49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CE52E-BB41-4D70-B49C-A361DF1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82A4-CD3B-4603-9538-9E93F9F7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E53F-F01B-4582-A1EA-2F59D134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D46F-8F22-490A-882D-5E6F7705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6A179-DC93-4446-8480-EB2D3C3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14FD3-5822-4B22-839E-08CC1B0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6E71C-7305-48EA-B57C-4B84BA57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004B-3851-4AEC-B479-9CF261D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BAF6F-BCC2-4CDF-864E-5F99A69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904-241B-44AD-9196-419051AA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8ECB-DF8C-45A1-A0A2-2CDDC80B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8AA1-5EEF-495E-9F68-97CDEF5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31B1-00F4-47DF-95BF-ECD999B0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EA700-F778-4C42-92A0-33903E2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75A9-C0F7-4644-BF7B-3DAE815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7ADA-54C1-40BA-84FF-9EB9C64D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4A3E1-2F95-4E9E-94AE-C9DEC37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E9423-CFED-44B4-A73B-7D9FEADF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AE47-6C81-436A-8A08-D00644BE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B735D-B086-4456-83C2-A491FD5C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3C26-E2FB-46F4-8232-058EF642D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A6F9-06CD-47AB-A5A7-C05A67758A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C82-ED80-43A4-8C60-E4EB0427A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0C5-688C-487D-8DA4-7012822A72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C1A6-00E6-4259-9C8C-0E7467E44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B60-B0E7-4AFD-B39B-2F3220778A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338-8BDF-479F-80FA-331CB8986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8EB9-2DC5-4A10-80C4-0EF614DBE1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68B3-E13F-4DDB-9B86-FCB1E1E4F7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7A3-3463-46B9-92B3-93363518D6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CF6-6704-446F-ADD9-946DB3A37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1A6-1631-4D57-BD1B-6A81819A1E7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6095-CFF7-4CC2-A02B-AA6CD9093F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2994-387D-4F20-8D96-3267F91C45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3AF-ECED-4D33-B5F2-05931B74A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53DE-773A-4AA0-ACE9-E16CE72D58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48D3-A9F2-43CB-8B22-37E228275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0294-636D-45A4-B4E3-3A9FF3AD5D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A7A5-D251-43A9-8FC0-C31A6E1B6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882-A0EF-4F76-9462-2839644916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669-FE96-4D6D-88DB-B5DDDDDE9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EF34-D4C5-42EC-8BC6-78919EDC19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0E3-DEE0-4CCC-A09F-313AF2E63A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63E-5479-4DFE-9481-AF29364E8F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A505-E8D3-4CCE-94DC-28F7BDFF67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image" Target="../media/image8.gif"/><Relationship Id="rId5" Type="http://schemas.openxmlformats.org/officeDocument/2006/relationships/slide" Target="slide7.xml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gif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3" descr="TN_kuang216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蛋糕3"/>
          <p:cNvPicPr/>
          <p:nvPr/>
        </p:nvPicPr>
        <p:blipFill>
          <a:blip r:embed="rId17"/>
          <a:stretch/>
        </p:blipFill>
        <p:spPr>
          <a:xfrm>
            <a:off x="4876920" y="4114800"/>
            <a:ext cx="2324160" cy="1981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星01"/>
          <p:cNvPicPr/>
          <p:nvPr/>
        </p:nvPicPr>
        <p:blipFill>
          <a:blip r:embed="rId18"/>
          <a:stretch/>
        </p:blipFill>
        <p:spPr>
          <a:xfrm>
            <a:off x="6019920" y="-609480"/>
            <a:ext cx="3684600" cy="3962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星01"/>
          <p:cNvPicPr/>
          <p:nvPr/>
        </p:nvPicPr>
        <p:blipFill>
          <a:blip r:embed="rId19"/>
          <a:stretch/>
        </p:blipFill>
        <p:spPr>
          <a:xfrm>
            <a:off x="-762120" y="1447920"/>
            <a:ext cx="2676600" cy="4429080"/>
          </a:xfrm>
          <a:prstGeom prst="rect">
            <a:avLst/>
          </a:prstGeom>
          <a:ln w="0">
            <a:noFill/>
          </a:ln>
        </p:spPr>
      </p:pic>
      <p:sp>
        <p:nvSpPr>
          <p:cNvPr id="538" name="WordArt 9"/>
          <p:cNvSpPr txBox="1"/>
          <p:nvPr/>
        </p:nvSpPr>
        <p:spPr>
          <a:xfrm>
            <a:off x="2484360" y="1916280"/>
            <a:ext cx="381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欢庆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5-0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珠江新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WordArt 3"/>
          <p:cNvSpPr txBox="1"/>
          <p:nvPr/>
        </p:nvSpPr>
        <p:spPr>
          <a:xfrm>
            <a:off x="4114800" y="40384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新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1" name="WordArt 4"/>
          <p:cNvSpPr txBox="1"/>
          <p:nvPr/>
        </p:nvSpPr>
        <p:spPr>
          <a:xfrm>
            <a:off x="5257800" y="239076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面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2" name="WordArt 5"/>
          <p:cNvSpPr txBox="1"/>
          <p:nvPr/>
        </p:nvSpPr>
        <p:spPr>
          <a:xfrm>
            <a:off x="6400800" y="373392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貌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3" name="WordArt 6"/>
          <p:cNvSpPr txBox="1"/>
          <p:nvPr/>
        </p:nvSpPr>
        <p:spPr>
          <a:xfrm>
            <a:off x="2895480" y="290988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国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sp>
        <p:nvSpPr>
          <p:cNvPr id="594" name="WordArt 7"/>
          <p:cNvSpPr txBox="1"/>
          <p:nvPr/>
        </p:nvSpPr>
        <p:spPr>
          <a:xfrm>
            <a:off x="1447920" y="3886200"/>
            <a:ext cx="914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方正姚体"/>
              </a:rPr>
              <a:t>祖</a:t>
            </a:r>
            <a:endParaRPr b="0" lang="en-US" sz="72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方正姚体"/>
              <a:ea typeface="方正姚体"/>
            </a:endParaRPr>
          </a:p>
        </p:txBody>
      </p:sp>
      <p:pic>
        <p:nvPicPr>
          <p:cNvPr id="595" name="音乐15.WAV" descr=""/>
          <p:cNvPicPr/>
          <p:nvPr/>
        </p:nvPicPr>
        <p:blipFill>
          <a:blip r:embed="rId2"/>
          <a:stretch/>
        </p:blipFill>
        <p:spPr>
          <a:xfrm>
            <a:off x="9144000" y="7086600"/>
            <a:ext cx="360" cy="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2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597" name="Picture 13" descr="世界贸易中心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WordArt 14"/>
            <p:cNvSpPr txBox="1"/>
            <p:nvPr/>
          </p:nvSpPr>
          <p:spPr>
            <a:xfrm>
              <a:off x="365400" y="811800"/>
              <a:ext cx="2907720" cy="50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世界贸易中心</a:t>
              </a:r>
              <a:endPara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7"/>
          <p:cNvGrpSpPr/>
          <p:nvPr/>
        </p:nvGrpSpPr>
        <p:grpSpPr>
          <a:xfrm>
            <a:off x="0" y="0"/>
            <a:ext cx="9144000" cy="6985080"/>
            <a:chOff x="0" y="0"/>
            <a:chExt cx="9144000" cy="6985080"/>
          </a:xfrm>
        </p:grpSpPr>
        <p:pic>
          <p:nvPicPr>
            <p:cNvPr id="600" name="Picture 8" descr="解放大桥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WordArt 9"/>
            <p:cNvSpPr txBox="1"/>
            <p:nvPr/>
          </p:nvSpPr>
          <p:spPr>
            <a:xfrm>
              <a:off x="5867280" y="736560"/>
              <a:ext cx="243864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华文行楷"/>
                </a:rPr>
                <a:t>解放大桥</a:t>
              </a:r>
              <a:endParaRPr b="0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3" name="Picture 5" descr="花园酒店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WordArt 6"/>
            <p:cNvSpPr txBox="1"/>
            <p:nvPr/>
          </p:nvSpPr>
          <p:spPr>
            <a:xfrm>
              <a:off x="1843560" y="5125320"/>
              <a:ext cx="23594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华文行楷"/>
                </a:rPr>
                <a:t>花园酒店</a:t>
              </a:r>
              <a:endParaRPr b="0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  <a:ea typeface="华文行楷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GIF-378"/>
          <p:cNvPicPr/>
          <p:nvPr/>
        </p:nvPicPr>
        <p:blipFill>
          <a:blip r:embed="rId2"/>
          <a:stretch/>
        </p:blipFill>
        <p:spPr>
          <a:xfrm>
            <a:off x="1371600" y="22096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GIF-378"/>
          <p:cNvPicPr/>
          <p:nvPr/>
        </p:nvPicPr>
        <p:blipFill>
          <a:blip r:embed="rId3"/>
          <a:stretch/>
        </p:blipFill>
        <p:spPr>
          <a:xfrm>
            <a:off x="1371600" y="2895480"/>
            <a:ext cx="696960" cy="628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GIF-378"/>
          <p:cNvPicPr/>
          <p:nvPr/>
        </p:nvPicPr>
        <p:blipFill>
          <a:blip r:embed="rId4"/>
          <a:stretch/>
        </p:blipFill>
        <p:spPr>
          <a:xfrm>
            <a:off x="1371600" y="3733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0" descr="GIF-378"/>
          <p:cNvPicPr/>
          <p:nvPr/>
        </p:nvPicPr>
        <p:blipFill>
          <a:blip r:embed="rId5"/>
          <a:stretch/>
        </p:blipFill>
        <p:spPr>
          <a:xfrm>
            <a:off x="1371600" y="4495680"/>
            <a:ext cx="696960" cy="62892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13"/>
          <p:cNvGrpSpPr/>
          <p:nvPr/>
        </p:nvGrpSpPr>
        <p:grpSpPr>
          <a:xfrm>
            <a:off x="2567880" y="1295280"/>
            <a:ext cx="4007880" cy="4574520"/>
            <a:chOff x="2567880" y="1295280"/>
            <a:chExt cx="4007880" cy="4574520"/>
          </a:xfrm>
        </p:grpSpPr>
        <p:sp>
          <p:nvSpPr>
            <p:cNvPr id="610" name="WordArt 3"/>
            <p:cNvSpPr txBox="1"/>
            <p:nvPr/>
          </p:nvSpPr>
          <p:spPr>
            <a:xfrm>
              <a:off x="3733920" y="1295280"/>
              <a:ext cx="1828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我能行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2981160" y="2133720"/>
              <a:ext cx="359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把这首诗有感情地朗诵给爸爸妈妈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8"/>
            <p:cNvSpPr/>
            <p:nvPr/>
          </p:nvSpPr>
          <p:spPr>
            <a:xfrm>
              <a:off x="3316680" y="2895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画一幅插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3854880" y="373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找一首相配的歌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1"/>
            <p:cNvSpPr/>
            <p:nvPr/>
          </p:nvSpPr>
          <p:spPr>
            <a:xfrm>
              <a:off x="2567880" y="45720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给课文编个舞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12"/>
            <p:cNvSpPr/>
            <p:nvPr/>
          </p:nvSpPr>
          <p:spPr>
            <a:xfrm>
              <a:off x="3898800" y="5410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（任选一两项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14"/>
          <p:cNvGrpSpPr/>
          <p:nvPr/>
        </p:nvGrpSpPr>
        <p:grpSpPr>
          <a:xfrm>
            <a:off x="1143000" y="1752480"/>
            <a:ext cx="7162560" cy="2971800"/>
            <a:chOff x="1143000" y="1752480"/>
            <a:chExt cx="7162560" cy="2971800"/>
          </a:xfrm>
        </p:grpSpPr>
        <p:grpSp>
          <p:nvGrpSpPr>
            <p:cNvPr id="540" name="Group 6"/>
            <p:cNvGrpSpPr/>
            <p:nvPr/>
          </p:nvGrpSpPr>
          <p:grpSpPr>
            <a:xfrm>
              <a:off x="1143000" y="1752480"/>
              <a:ext cx="3047760" cy="2971800"/>
              <a:chOff x="1143000" y="1752480"/>
              <a:chExt cx="3047760" cy="2971800"/>
            </a:xfrm>
          </p:grpSpPr>
          <p:sp>
            <p:nvSpPr>
              <p:cNvPr id="541" name="Rectangle 3"/>
              <p:cNvSpPr/>
              <p:nvPr/>
            </p:nvSpPr>
            <p:spPr>
              <a:xfrm>
                <a:off x="11430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4"/>
              <p:cNvSpPr/>
              <p:nvPr/>
            </p:nvSpPr>
            <p:spPr>
              <a:xfrm>
                <a:off x="11430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5"/>
              <p:cNvSpPr/>
              <p:nvPr/>
            </p:nvSpPr>
            <p:spPr>
              <a:xfrm>
                <a:off x="26668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7"/>
            <p:cNvGrpSpPr/>
            <p:nvPr/>
          </p:nvGrpSpPr>
          <p:grpSpPr>
            <a:xfrm>
              <a:off x="5257800" y="1752480"/>
              <a:ext cx="3047760" cy="2971800"/>
              <a:chOff x="5257800" y="1752480"/>
              <a:chExt cx="3047760" cy="2971800"/>
            </a:xfrm>
          </p:grpSpPr>
          <p:sp>
            <p:nvSpPr>
              <p:cNvPr id="545" name="Rectangle 8"/>
              <p:cNvSpPr/>
              <p:nvPr/>
            </p:nvSpPr>
            <p:spPr>
              <a:xfrm>
                <a:off x="5257800" y="1752480"/>
                <a:ext cx="2971800" cy="2971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9"/>
              <p:cNvSpPr/>
              <p:nvPr/>
            </p:nvSpPr>
            <p:spPr>
              <a:xfrm>
                <a:off x="5257800" y="3276720"/>
                <a:ext cx="304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10"/>
              <p:cNvSpPr/>
              <p:nvPr/>
            </p:nvSpPr>
            <p:spPr>
              <a:xfrm>
                <a:off x="67816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WordArt 11"/>
            <p:cNvSpPr txBox="1"/>
            <p:nvPr/>
          </p:nvSpPr>
          <p:spPr>
            <a:xfrm>
              <a:off x="1523880" y="2133720"/>
              <a:ext cx="2057400" cy="213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宋体"/>
                </a:rPr>
                <a:t>欢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549" name="WordArt 12"/>
            <p:cNvSpPr txBox="1"/>
            <p:nvPr/>
          </p:nvSpPr>
          <p:spPr>
            <a:xfrm>
              <a:off x="5790960" y="2209680"/>
              <a:ext cx="1905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solidFill>
                    <a:srgbClr val="ff0000"/>
                  </a:solidFill>
                  <a:latin typeface="宋体"/>
                </a:rPr>
                <a:t>庆</a:t>
              </a:r>
              <a:endParaRPr b="1" lang="en-US" sz="2400" spc="1" strike="noStrike">
                <a:ln w="0">
                  <a:noFill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checke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6"/>
          <p:cNvSpPr/>
          <p:nvPr/>
        </p:nvSpPr>
        <p:spPr>
          <a:xfrm>
            <a:off x="1828800" y="25146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庆  献  帜  洁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奏  曲  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WordArt 9"/>
          <p:cNvSpPr txBox="1"/>
          <p:nvPr/>
        </p:nvSpPr>
        <p:spPr>
          <a:xfrm>
            <a:off x="2987640" y="1125360"/>
            <a:ext cx="22701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latin typeface="隶书"/>
              </a:rPr>
              <a:t>我会认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552" name="Picture 6" descr="我会猜"/>
          <p:cNvPicPr/>
          <p:nvPr/>
        </p:nvPicPr>
        <p:blipFill>
          <a:blip r:embed="rId2"/>
          <a:stretch/>
        </p:blipFill>
        <p:spPr>
          <a:xfrm>
            <a:off x="611280" y="476280"/>
            <a:ext cx="1619280" cy="1503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练一练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"/>
          <p:cNvSpPr/>
          <p:nvPr/>
        </p:nvSpPr>
        <p:spPr>
          <a:xfrm>
            <a:off x="6858000" y="0"/>
            <a:ext cx="2286000" cy="10666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7162920" y="30492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读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698480" y="1066680"/>
            <a:ext cx="7445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献上  洁白  旗帜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祖国  奏起  十三亿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曲  欢</a:t>
            </a:r>
            <a:r>
              <a:rPr b="1" lang="zh-CN" sz="6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8"/>
          <p:cNvGrpSpPr/>
          <p:nvPr/>
        </p:nvGrpSpPr>
        <p:grpSpPr>
          <a:xfrm>
            <a:off x="2135160" y="4343400"/>
            <a:ext cx="3710880" cy="642600"/>
            <a:chOff x="2135160" y="4343400"/>
            <a:chExt cx="3710880" cy="642600"/>
          </a:xfrm>
        </p:grpSpPr>
        <p:sp>
          <p:nvSpPr>
            <p:cNvPr id="558" name="Text Box 6"/>
            <p:cNvSpPr/>
            <p:nvPr/>
          </p:nvSpPr>
          <p:spPr>
            <a:xfrm>
              <a:off x="2135160" y="434340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yu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7"/>
            <p:cNvSpPr/>
            <p:nvPr/>
          </p:nvSpPr>
          <p:spPr>
            <a:xfrm>
              <a:off x="5336280" y="4343400"/>
              <a:ext cx="5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l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FR_0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1" name="Text Box 7"/>
          <p:cNvSpPr/>
          <p:nvPr/>
        </p:nvSpPr>
        <p:spPr>
          <a:xfrm>
            <a:off x="3223440" y="1676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99760" y="2590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3299760" y="3505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3299760" y="4419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11" descr="GIF-37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18288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GIF-37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259092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GIF-378"/>
          <p:cNvPicPr/>
          <p:nvPr/>
        </p:nvPicPr>
        <p:blipFill>
          <a:blip r:embed="rId7"/>
          <a:stretch/>
        </p:blipFill>
        <p:spPr>
          <a:xfrm>
            <a:off x="1600200" y="342900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4" descr="GIF-378"/>
          <p:cNvPicPr/>
          <p:nvPr/>
        </p:nvPicPr>
        <p:blipFill>
          <a:blip r:embed="rId8"/>
          <a:stretch/>
        </p:blipFill>
        <p:spPr>
          <a:xfrm>
            <a:off x="1676520" y="4419720"/>
            <a:ext cx="696960" cy="628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9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稻谷2"/>
          <p:cNvPicPr/>
          <p:nvPr/>
        </p:nvPicPr>
        <p:blipFill>
          <a:blip r:embed="rId1"/>
          <a:stretch/>
        </p:blipFill>
        <p:spPr>
          <a:xfrm>
            <a:off x="380880" y="304920"/>
            <a:ext cx="1797120" cy="2438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稻谷3"/>
          <p:cNvPicPr/>
          <p:nvPr/>
        </p:nvPicPr>
        <p:blipFill>
          <a:blip r:embed="rId2"/>
          <a:stretch/>
        </p:blipFill>
        <p:spPr>
          <a:xfrm>
            <a:off x="2590920" y="304920"/>
            <a:ext cx="2286000" cy="23619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稻谷5"/>
          <p:cNvPicPr/>
          <p:nvPr/>
        </p:nvPicPr>
        <p:blipFill>
          <a:blip r:embed="rId3"/>
          <a:stretch/>
        </p:blipFill>
        <p:spPr>
          <a:xfrm>
            <a:off x="5105520" y="228600"/>
            <a:ext cx="1784160" cy="2514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南瓜"/>
          <p:cNvPicPr/>
          <p:nvPr/>
        </p:nvPicPr>
        <p:blipFill>
          <a:blip r:embed="rId4"/>
          <a:stretch/>
        </p:blipFill>
        <p:spPr>
          <a:xfrm>
            <a:off x="7162920" y="304920"/>
            <a:ext cx="1679400" cy="24382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葫芦"/>
          <p:cNvPicPr/>
          <p:nvPr/>
        </p:nvPicPr>
        <p:blipFill>
          <a:blip r:embed="rId5"/>
          <a:stretch/>
        </p:blipFill>
        <p:spPr>
          <a:xfrm>
            <a:off x="2971800" y="2971800"/>
            <a:ext cx="3352680" cy="2263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玉米"/>
          <p:cNvPicPr/>
          <p:nvPr/>
        </p:nvPicPr>
        <p:blipFill>
          <a:blip r:embed="rId6"/>
          <a:stretch/>
        </p:blipFill>
        <p:spPr>
          <a:xfrm>
            <a:off x="6781680" y="3200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9"/>
          <p:cNvSpPr/>
          <p:nvPr/>
        </p:nvSpPr>
        <p:spPr>
          <a:xfrm>
            <a:off x="245412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田野献上金黄的果实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10" descr="GIF-378"/>
          <p:cNvPicPr/>
          <p:nvPr/>
        </p:nvPicPr>
        <p:blipFill>
          <a:blip r:embed="rId7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2" descr="南瓜2"/>
          <p:cNvPicPr/>
          <p:nvPr/>
        </p:nvPicPr>
        <p:blipFill>
          <a:blip r:embed="rId8"/>
          <a:stretch/>
        </p:blipFill>
        <p:spPr>
          <a:xfrm>
            <a:off x="457200" y="3048120"/>
            <a:ext cx="183204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Object 2" descr=""/>
          <p:cNvPicPr/>
          <p:nvPr/>
        </p:nvPicPr>
        <p:blipFill>
          <a:blip r:embed="rId1"/>
          <a:stretch/>
        </p:blipFill>
        <p:spPr>
          <a:xfrm>
            <a:off x="685800" y="54756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3"/>
          <p:cNvSpPr/>
          <p:nvPr/>
        </p:nvSpPr>
        <p:spPr>
          <a:xfrm>
            <a:off x="2606760" y="548640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枫林举起火红的旗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4" descr="GIF-378"/>
          <p:cNvPicPr/>
          <p:nvPr/>
        </p:nvPicPr>
        <p:blipFill>
          <a:blip r:embed="rId2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国旗01"/>
          <p:cNvPicPr/>
          <p:nvPr/>
        </p:nvPicPr>
        <p:blipFill>
          <a:blip r:embed="rId3"/>
          <a:stretch/>
        </p:blipFill>
        <p:spPr>
          <a:xfrm>
            <a:off x="7010280" y="129528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1-1368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262116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天飞着洁白的鸽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" descr="GIF-378"/>
          <p:cNvPicPr/>
          <p:nvPr/>
        </p:nvPicPr>
        <p:blipFill>
          <a:blip r:embed="rId2"/>
          <a:stretch/>
        </p:blipFill>
        <p:spPr>
          <a:xfrm>
            <a:off x="815328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SS040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2759040" y="54100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海奏起欢乐的乐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GIF-378"/>
          <p:cNvPicPr/>
          <p:nvPr/>
        </p:nvPicPr>
        <p:blipFill>
          <a:blip r:embed="rId2"/>
          <a:stretch/>
        </p:blipFill>
        <p:spPr>
          <a:xfrm>
            <a:off x="8447040" y="6229440"/>
            <a:ext cx="69696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7:45:41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8T05:50:18Z</dcterms:modified>
  <cp:revision>38</cp:revision>
  <dc:subject/>
  <dc:title>第一PPT模板网-WWW.1PPT.COM</dc:title>
</cp:coreProperties>
</file>