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0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26C4-1336-45EE-B12F-5FB31B6FA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CC59-5409-4B10-BF68-C583BF58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7EA13-817A-40FF-89F3-997ED519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F6977-3CB2-4A23-8BD3-28B2CD06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24C21-E5B8-47E6-8149-EB05905F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26F769-56DC-47F2-B47A-2C3C395A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4940B2-DDDB-49AA-8488-44AC8641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4EBDCA-1C15-4DAE-862E-9D5BBCBE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81F72-E162-4676-A48D-737052B2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58F8F-D8EF-44EB-BD01-40616CBA2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14D763-F89A-4655-8118-BC62DF0D9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AB51FA-0096-4C4A-A636-A1DEA88AB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119A-E3D3-4F36-B15B-C2BB8A07D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C8F543-54C7-44D4-B14C-D1403551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BFE06B-51A5-4003-B7E0-3CF51E21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D31A8D-5F35-46E0-8FA3-8686B7C0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88D12B-6F4D-4950-9D39-F145958E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FE576-5108-406B-90E5-2261945E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0B4548-1393-4F93-B92E-3E4C7C9C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D0F77-D67E-49AD-B173-23439DDC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17B205-76E0-43D7-BA77-C298F681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092DA0-4D57-42C2-9BB7-6874D725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AAAAF2-FB60-42E8-8D69-4AB4E4C5D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3759-7271-4FC3-AFFE-2C82EC30E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683BBE-E86F-4E92-A90A-0FE00692F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FFFCB4-7867-4E62-ACA5-44189DF9B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139E8-9857-4BB4-BD6E-C570D022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24868-7C86-45CD-A077-8FC2AD7E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4617CB-9315-4089-A39C-097BD845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864EA-2F5F-4DEB-B097-7408C29B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CE174-58F7-495E-861A-72CB8BC0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5721E-FDE4-446C-943D-4A7372C0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0E05AC-91CA-46F2-A139-E2E5E06B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56261-E21A-433E-9DE3-CEB21DF3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758B-E5A0-4427-B9EA-F2B36AB1F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5BC52-5B18-462B-A868-028C16E0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9A4CF-3625-496E-8163-796A68200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704A5-CFFA-41D4-AA3C-0449D96FE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B9BBF1-46D2-4284-A642-04781B3FD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DDC8CF-DC25-47DA-84A8-FA1E8457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B071C1-32CC-47B0-99CB-6018D17F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07518F-EBCB-4272-84A9-CFC97193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A63DFB-DDDC-41A0-B8C1-A2BEF053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BC1FFF-2552-44B0-A6EB-6861E215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0D60CA-9FFA-4AC4-B149-6DD4F4F9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4940-2CE9-409F-8441-D648804A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34BA61-7676-497C-AE05-E0BD3175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445AE4-F10D-41B2-9CEB-36BAA2D3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DB80CD-B082-4676-91D7-993359B5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1A99D5-DE28-47CB-A1DE-A3FC15526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058D89-A874-470A-B39F-94C4396D4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19AD08-721C-4607-B3B8-4C1C693CA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99FBD4-BACD-4FEF-85F5-395DEA53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2F6648-1152-4BF3-A29C-BB3D67C0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0C1794-D94E-48BA-9B49-4735148C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50E7DD-4F08-4370-997D-A5A79758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9A2A-5950-4B82-B3AA-11FD0314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3B7260-B09A-4312-95DA-3B136B2E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B211CE-7B4E-402D-8DC7-E47A4C5F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E57961-554A-4F09-B85F-426B70E8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3125B5-7B76-4FE3-B9FF-65F5BECC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8BB6CD-1563-4B18-8CC1-41C068EA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7E5EA3-CF84-461B-86AE-9D3C4FEC3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23FCBE-3883-4078-878A-96BBBB67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1EBB-ED3B-4773-A32C-21A9E498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1DEB-0556-4400-B7FA-F4A015D9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24C5-AB1B-4019-9B79-019DAB9E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B88B-DD0C-4844-9FC8-F05EB2F0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0BF5-44FD-4B95-A4F6-2548C961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0BB0-6BA2-4879-B61E-E674BE1C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DC62-305F-4DF2-9F0D-89BBC4E9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C555-EF77-4FE2-99D0-DE54B9F4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82D5-31ED-4794-A78D-62457E7BD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6CA8-8CD7-4A0E-B489-271CD3E6A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E3E34-4CA5-45C7-A4EC-75E80FF26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DA770-1EFA-4BED-9E3B-8E26A71C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8DB28-C24C-48FC-9300-99610212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AD103-081C-4384-9366-41A48F1B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92180-04C5-4880-88BA-05772A19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D84A-B3D1-4E71-B647-75F65FAA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483DB-598E-4780-9086-520FF76F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5ECB1-377A-4E9B-9C12-A2C60434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21610-B90D-4817-BE31-6415B7D3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7CEC3-3BFD-4FD6-9153-FAF76EBC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68F80-C2EA-427F-B0AF-70B446E4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B34B2-4110-4766-B6EF-9EBE0C062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200BA-22AE-4B8C-9E18-29423FBDA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14A71-5BAA-4F50-BE4F-6F9D64208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8972E-8EF8-466D-8B44-8EFE4C6B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52425-F18C-4F1E-A367-24427136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44F7-166D-4F21-BF17-19E92C03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432FD-FA04-422F-A268-55376C07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9DCD8-1772-4731-9188-74C987C4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44377-30F8-4E27-B1E3-3A77EEB3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2D1BB-AB27-4D76-A7C0-F6E36D0F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2137A-B1D4-4C7F-817A-BDC64355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B1BC0-B299-4D11-B6B1-FA1695F4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FFFE2-3330-49E6-B290-DB4C54F1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3F6DD-5160-4E6E-9F31-5367F04BB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C8033-C619-4D33-B66D-C60D96FC8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1DBF1-9C1B-4C96-B966-D389825BF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76DF-DA19-4C6E-A2E1-BA22D7CD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ABEDA-3252-4427-B906-823EC7E7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27A00-DAB9-40BC-93F1-A0FD4D4F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B999C-1F87-498B-BA2E-DC0B697D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57E7F-F806-4D35-A3C9-D8FB9115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23585-938B-4567-9267-97AA2F1E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21C6B-0A35-4BFB-AAC5-D9CA585F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91985-5A6B-4E13-A16E-3581B287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09AAA-1267-4487-AA0E-BAE05DDB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F8348-35D0-4E16-8A39-4C2F867F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7E59A-F1E4-4DF3-B076-06430DC9B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7470-162F-4DC4-BF9F-4DC2C28E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3A356-639B-4337-9013-6E6550322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581E9-443A-4782-BB6E-D1842CA63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CB49D-532F-42B6-A878-E3B041BF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503C0-A3EE-41E5-AD33-82065783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DA4CC-61AE-4D40-9BB7-3551EEE0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A66C2-7F56-45BC-98B2-203C976F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2DC39-3A7E-4BF0-A82A-08E8946B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8A71D-2E03-4726-93A8-84A00E4E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8D07F-D4C1-4BCF-B5A9-23C27E0D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7244B-74EC-4AE7-8E0E-B9BC6666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6D51-DF43-4538-B80A-5F13B7B8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01B3F-7215-4B16-90F3-66417B7E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7BD0B-98C5-4303-B7C2-B85867942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938CF-9D8B-4073-B9BF-9D0B3B4C6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7590D-F314-4CB2-B2F5-B2C3C9064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03BE7-E6A3-4AFD-9179-0DA2F891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3A7BD-99ED-4253-8304-A54C63B3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1C9AD-0D2F-42BD-A96F-E155C88E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714B3-22B7-4CAA-A8C4-FC3B924D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EA19A-440F-4281-843B-68DAEE00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E6230-920E-44F1-A822-5B06B44C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AEF8-CEFB-4539-905A-F392C510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7CE33-2A3E-4823-A0C2-D152E908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7F1FA-8DE5-4B41-8406-64C8C6FF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82D9C-121C-4921-84BE-75EEF4CA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496AA-DBB0-40BE-AF2D-A19C38811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F41D7-6C7A-44DF-B659-5783861D4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E093C-CD58-47B4-B31B-98BFADD7E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A7885-6B3B-41C3-A18A-B9CA2783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9F633-0CF3-4F3B-B552-C9B29E4A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60B52-6810-4E08-9D48-44C299F2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53B07-A2B8-494B-9A14-DDB601A0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B9E0-F525-4F2E-AA5A-FD802257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1281F-B29D-4804-BA80-16451BE4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8B615-34B4-4472-A0FC-46A7F691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5637A-525E-4005-ABED-5D54D186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99712-2B65-4766-9BF3-EF32751C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9148A-E20C-464A-B53D-8EE45FBF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ACC7E-9AE6-4A68-AA6C-9206C0571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7839C-3603-4622-B72D-9D3766673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A5D58-CAD6-4DB9-9320-B38686886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10996-F907-4547-A79F-47EBE154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62755-D909-44F6-92A6-8712FFB3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48EC-C107-4195-A981-C60CDE47B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5C9F-E210-4292-B25F-8493549EFC2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A8D3-5C31-4E59-A46C-8A1CB7F707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DA91-6984-4433-8288-6E08DBF2FDE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90C3-4133-4E25-98FA-9749610B98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35C1-2947-47E1-8E9F-11873A619DB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51A3-717D-40E8-9D36-1AF1225C1D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F861-5060-4B09-8F45-943905EE807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87AC-730B-4F61-8A11-D41EC0377E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A565-9103-433B-B05D-071969CB1C0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BF6A-A8BF-4C9D-991C-5D0505187D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4B04-881C-4D51-B460-228E52D3D6E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5093-49DA-447A-BC55-410CF1D79D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E3BE-51F7-4631-97DE-1AF42CCFA93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B019-EC67-4B8D-A853-41AF66AFEC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DEBF-2D26-466B-B91C-E2DB3B06204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4B78-86AC-4CBA-A2AD-D699C3B7E3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8C17-F1A5-4AEF-ACF0-5C16F06F4FD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ABFB-2ADB-4802-B3C2-618F76CC89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0562-5B12-44DA-B86B-2162A8D3676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DF98-B0EB-49BC-A852-BAF2371369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6722-2A5C-4CD3-81DD-04B1834D49E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5A85-2A2B-4F10-AB21-82699C0192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4C0B-6D32-45C0-A0F4-7897C9B0475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770A-03BC-430B-AE40-9DE1D4E39D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7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15" descr="IMG0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5" descr="b1289"/>
          <p:cNvPicPr/>
          <p:nvPr/>
        </p:nvPicPr>
        <p:blipFill>
          <a:blip r:embed="rId2"/>
          <a:stretch/>
        </p:blipFill>
        <p:spPr>
          <a:xfrm>
            <a:off x="4643280" y="260280"/>
            <a:ext cx="4104000" cy="1235160"/>
          </a:xfrm>
          <a:prstGeom prst="rect">
            <a:avLst/>
          </a:prstGeom>
          <a:ln w="0">
            <a:noFill/>
          </a:ln>
        </p:spPr>
      </p:pic>
      <p:sp>
        <p:nvSpPr>
          <p:cNvPr id="536" name="WordArt 7"/>
          <p:cNvSpPr txBox="1"/>
          <p:nvPr/>
        </p:nvSpPr>
        <p:spPr>
          <a:xfrm>
            <a:off x="1835280" y="1916280"/>
            <a:ext cx="4968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隶书"/>
              </a:rPr>
              <a:t>灰 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2"/>
          <p:cNvSpPr/>
          <p:nvPr/>
        </p:nvSpPr>
        <p:spPr>
          <a:xfrm>
            <a:off x="0" y="907920"/>
            <a:ext cx="845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汉鼎简中圆"/>
              </a:rPr>
              <a:t>        “</a:t>
            </a:r>
            <a:r>
              <a:rPr b="1" lang="zh-CN" sz="6600" spc="-1" strike="noStrike">
                <a:solidFill>
                  <a:srgbClr val="000000"/>
                </a:solidFill>
                <a:latin typeface="汉鼎简中圆"/>
              </a:rPr>
              <a:t>一定会飞回来！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汉鼎简中圆"/>
              </a:rPr>
              <a:t>男孩肯定地说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3859920" y="1052640"/>
            <a:ext cx="1722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汉鼎简中圆"/>
                <a:ea typeface="黑体"/>
              </a:rPr>
              <a:t>“</a:t>
            </a:r>
            <a:r>
              <a:rPr b="0" lang="zh-CN" sz="6600" spc="-1" strike="noStrike">
                <a:solidFill>
                  <a:srgbClr val="0000ff"/>
                </a:solidFill>
                <a:latin typeface="黑体"/>
                <a:ea typeface="黑体"/>
              </a:rPr>
              <a:t>会飞回来的，一定会飞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黑体"/>
                <a:ea typeface="黑体"/>
              </a:rPr>
              <a:t>回来的。它还活着。</a:t>
            </a:r>
            <a:r>
              <a:rPr b="0" lang="zh-CN" sz="6600" spc="-1" strike="noStrike">
                <a:solidFill>
                  <a:srgbClr val="0000ff"/>
                </a:solidFill>
                <a:latin typeface="汉鼎简中圆"/>
                <a:ea typeface="黑体"/>
              </a:rPr>
              <a:t>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250920" y="3933720"/>
            <a:ext cx="845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en-US" sz="6600" spc="-1" strike="noStrike">
                <a:solidFill>
                  <a:srgbClr val="0000ff"/>
                </a:solidFill>
                <a:latin typeface="汉鼎简中圆"/>
                <a:ea typeface="黑体"/>
              </a:rPr>
              <a:t>“</a:t>
            </a:r>
            <a:r>
              <a:rPr b="1" lang="zh-CN" sz="6600" spc="-1" strike="noStrike">
                <a:solidFill>
                  <a:srgbClr val="0000ff"/>
                </a:solidFill>
                <a:latin typeface="黑体"/>
                <a:ea typeface="黑体"/>
              </a:rPr>
              <a:t>一定会飞回来！</a:t>
            </a:r>
            <a:r>
              <a:rPr b="1" lang="zh-CN" sz="6600" spc="-1" strike="noStrike">
                <a:solidFill>
                  <a:srgbClr val="0000ff"/>
                </a:solidFill>
                <a:latin typeface="汉鼎简中圆"/>
                <a:ea typeface="黑体"/>
              </a:rPr>
              <a:t>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2"/>
          <p:cNvSpPr/>
          <p:nvPr/>
        </p:nvSpPr>
        <p:spPr>
          <a:xfrm>
            <a:off x="0" y="1773360"/>
            <a:ext cx="5435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汉鼎简中圆"/>
              </a:rPr>
              <a:t>        “</a:t>
            </a:r>
            <a:r>
              <a:rPr b="1" lang="zh-CN" sz="6600" spc="-1" strike="noStrike">
                <a:solidFill>
                  <a:srgbClr val="000000"/>
                </a:solidFill>
                <a:latin typeface="汉鼎简中圆"/>
              </a:rPr>
              <a:t>一定会飞回来！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汉鼎简中圆"/>
              </a:rPr>
              <a:t>男孩肯定地说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3"/>
          <p:cNvSpPr/>
          <p:nvPr/>
        </p:nvSpPr>
        <p:spPr>
          <a:xfrm>
            <a:off x="5003640" y="333360"/>
            <a:ext cx="5256360" cy="3959280"/>
          </a:xfrm>
          <a:prstGeom prst="cloudCallout">
            <a:avLst>
              <a:gd name="adj1" fmla="val -6449"/>
              <a:gd name="adj2" fmla="val 32115"/>
            </a:avLst>
          </a:prstGeom>
          <a:solidFill>
            <a:srgbClr val="ffff00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这时候，小男孩在想什么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555" name="AutoShape 3"/>
          <p:cNvSpPr/>
          <p:nvPr/>
        </p:nvSpPr>
        <p:spPr>
          <a:xfrm>
            <a:off x="6372360" y="0"/>
            <a:ext cx="2447640" cy="2879640"/>
          </a:xfrm>
          <a:prstGeom prst="wedgeEllipseCallout">
            <a:avLst>
              <a:gd name="adj1" fmla="val -93189"/>
              <a:gd name="adj2" fmla="val 167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列宁为什么不问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孩却问灰雀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6" descr="6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AutoShape 8"/>
          <p:cNvSpPr/>
          <p:nvPr/>
        </p:nvSpPr>
        <p:spPr>
          <a:xfrm>
            <a:off x="179280" y="289080"/>
            <a:ext cx="8675640" cy="6453000"/>
          </a:xfrm>
          <a:custGeom>
            <a:avLst/>
            <a:gdLst>
              <a:gd name="textAreaLeft" fmla="*/ 2022840 w 8675640"/>
              <a:gd name="textAreaRight" fmla="*/ 6650280 w 8675640"/>
              <a:gd name="textAreaTop" fmla="*/ 680040 h 6453000"/>
              <a:gd name="textAreaBottom" fmla="*/ 4086000 h 6453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66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6" descr="5"/>
          <p:cNvPicPr/>
          <p:nvPr/>
        </p:nvPicPr>
        <p:blipFill>
          <a:blip r:embed="rId1"/>
          <a:srcRect l="0" t="0" r="56601" b="0"/>
          <a:stretch/>
        </p:blipFill>
        <p:spPr>
          <a:xfrm>
            <a:off x="1116000" y="2025720"/>
            <a:ext cx="3240000" cy="483228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7" descr="5"/>
          <p:cNvPicPr/>
          <p:nvPr/>
        </p:nvPicPr>
        <p:blipFill>
          <a:blip r:embed="rId2"/>
          <a:srcRect l="60714" t="14747" r="7841" b="10225"/>
          <a:stretch/>
        </p:blipFill>
        <p:spPr>
          <a:xfrm>
            <a:off x="5364000" y="2825640"/>
            <a:ext cx="2305080" cy="403236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12"/>
          <p:cNvSpPr/>
          <p:nvPr/>
        </p:nvSpPr>
        <p:spPr>
          <a:xfrm>
            <a:off x="395280" y="3333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列宁和男孩都爱这三只灰雀，你觉的他们的爱有什么不同呢？你更赞同谁的，说说自己的看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Oval 24"/>
          <p:cNvSpPr/>
          <p:nvPr/>
        </p:nvSpPr>
        <p:spPr>
          <a:xfrm>
            <a:off x="7164360" y="2422440"/>
            <a:ext cx="1152720" cy="1150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>
                  <a:alpha val="3725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28"/>
          <p:cNvSpPr/>
          <p:nvPr/>
        </p:nvSpPr>
        <p:spPr>
          <a:xfrm>
            <a:off x="5364000" y="2781360"/>
            <a:ext cx="936720" cy="1006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>
                  <a:alpha val="3725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32"/>
          <p:cNvSpPr/>
          <p:nvPr/>
        </p:nvSpPr>
        <p:spPr>
          <a:xfrm>
            <a:off x="900000" y="620640"/>
            <a:ext cx="7272360" cy="5688000"/>
          </a:xfrm>
          <a:custGeom>
            <a:avLst/>
            <a:gdLst>
              <a:gd name="textAreaLeft" fmla="*/ 1695600 w 7272360"/>
              <a:gd name="textAreaRight" fmla="*/ 5574600 w 7272360"/>
              <a:gd name="textAreaTop" fmla="*/ 599400 h 5688000"/>
              <a:gd name="textAreaBottom" fmla="*/ 3601800 h 5688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66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8"/>
          <p:cNvSpPr/>
          <p:nvPr/>
        </p:nvSpPr>
        <p:spPr>
          <a:xfrm>
            <a:off x="4211640" y="2781360"/>
            <a:ext cx="1008000" cy="934920"/>
          </a:xfrm>
          <a:custGeom>
            <a:avLst/>
            <a:gdLst>
              <a:gd name="textAreaLeft" fmla="*/ 235080 w 1008000"/>
              <a:gd name="textAreaRight" fmla="*/ 772920 w 1008000"/>
              <a:gd name="textAreaTop" fmla="*/ 98280 h 934920"/>
              <a:gd name="textAreaBottom" fmla="*/ 592200 h 9349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66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Group 7"/>
          <p:cNvGrpSpPr/>
          <p:nvPr/>
        </p:nvGrpSpPr>
        <p:grpSpPr>
          <a:xfrm>
            <a:off x="0" y="2389320"/>
            <a:ext cx="9612360" cy="825120"/>
            <a:chOff x="0" y="2389320"/>
            <a:chExt cx="9612360" cy="825120"/>
          </a:xfrm>
        </p:grpSpPr>
        <p:sp>
          <p:nvSpPr>
            <p:cNvPr id="566" name="Text Box 3"/>
            <p:cNvSpPr/>
            <p:nvPr/>
          </p:nvSpPr>
          <p:spPr>
            <a:xfrm>
              <a:off x="0" y="2389320"/>
              <a:ext cx="9612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爱    ，因为           。</a:t>
              </a: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4"/>
            <p:cNvSpPr/>
            <p:nvPr/>
          </p:nvSpPr>
          <p:spPr>
            <a:xfrm>
              <a:off x="324000" y="3108240"/>
              <a:ext cx="12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5"/>
            <p:cNvSpPr/>
            <p:nvPr/>
          </p:nvSpPr>
          <p:spPr>
            <a:xfrm>
              <a:off x="5292720" y="3108240"/>
              <a:ext cx="345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6"/>
            <p:cNvSpPr/>
            <p:nvPr/>
          </p:nvSpPr>
          <p:spPr>
            <a:xfrm>
              <a:off x="2195640" y="3108240"/>
              <a:ext cx="12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Oval 27"/>
          <p:cNvSpPr/>
          <p:nvPr/>
        </p:nvSpPr>
        <p:spPr>
          <a:xfrm>
            <a:off x="3492360" y="4797360"/>
            <a:ext cx="719280" cy="79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>
                  <a:alpha val="3725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30"/>
          <p:cNvSpPr/>
          <p:nvPr/>
        </p:nvSpPr>
        <p:spPr>
          <a:xfrm>
            <a:off x="1116000" y="3429000"/>
            <a:ext cx="1584360" cy="1440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>
                  <a:alpha val="3725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autoRev="1" nodeType="withEffect" fill="hold" presetClass="emph" presetID="6" repeatCount="1000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9" dur="5000" fill="hold"/>
                                        <p:tgtEl>
                                          <p:spTgt spid="564"/>
                                        </p:tgtEl>
                                      </p:cBhvr>
                                      <p:to x="600000" y="6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0" dur="1" fill="hold">
                                    <p:stCondLst>
                                      <p:cond evt="end">
                                        <p:tn val="18"/>
                                      </p:cond>
                                    </p:stCondLst>
                                  </p:cTn>
                                  <p:tgtEl>
                                    <p:spTgt spid="5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1" nodeType="withEffect" fill="hold" presetClass="entr" presetID="53" repeatCount="100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4" descr="200611151253263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b1289"/>
          <p:cNvPicPr/>
          <p:nvPr/>
        </p:nvPicPr>
        <p:blipFill>
          <a:blip r:embed="rId1"/>
          <a:stretch/>
        </p:blipFill>
        <p:spPr>
          <a:xfrm>
            <a:off x="6012000" y="0"/>
            <a:ext cx="3132000" cy="144612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4"/>
          <p:cNvSpPr/>
          <p:nvPr/>
        </p:nvSpPr>
        <p:spPr>
          <a:xfrm>
            <a:off x="755640" y="1341360"/>
            <a:ext cx="795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公园里有一棵高大的白桦树，树上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黑体"/>
              </a:rPr>
              <a:t>（      ）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两只胸脯是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黑体"/>
              </a:rPr>
              <a:t>（   ）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一只胸脯是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黑体"/>
              </a:rPr>
              <a:t>（   ）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它们在树枝间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黑体"/>
              </a:rPr>
              <a:t>（    ），（   ）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非常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黑体"/>
              </a:rPr>
              <a:t>（      ）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4"/>
          <p:cNvSpPr/>
          <p:nvPr/>
        </p:nvSpPr>
        <p:spPr>
          <a:xfrm>
            <a:off x="2195640" y="6083280"/>
            <a:ext cx="25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4" descr="1288"/>
          <p:cNvPicPr/>
          <p:nvPr/>
        </p:nvPicPr>
        <p:blipFill>
          <a:blip r:embed="rId1"/>
          <a:stretch/>
        </p:blipFill>
        <p:spPr>
          <a:xfrm>
            <a:off x="5904000" y="981000"/>
            <a:ext cx="3240000" cy="181764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7"/>
          <p:cNvSpPr/>
          <p:nvPr/>
        </p:nvSpPr>
        <p:spPr>
          <a:xfrm>
            <a:off x="539640" y="549360"/>
            <a:ext cx="432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请默读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3—10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自然段，把你认为能看出列宁喜欢灰雀，也就是他替灰雀着急的句子找出来，用自己喜欢的符号标出并想想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7"/>
          <p:cNvSpPr/>
          <p:nvPr/>
        </p:nvSpPr>
        <p:spPr>
          <a:xfrm>
            <a:off x="971640" y="1700280"/>
            <a:ext cx="72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黑体"/>
              </a:rPr>
              <a:t>孩子，你看见过一只深红色胸脯的灰雀吗？”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3">
            <a:hlinkClick r:id="rId1" action="ppaction://hlinksldjump"/>
          </p:cNvPr>
          <p:cNvSpPr/>
          <p:nvPr/>
        </p:nvSpPr>
        <p:spPr>
          <a:xfrm>
            <a:off x="539640" y="170028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Arial"/>
                <a:ea typeface="黑体"/>
              </a:rPr>
              <a:t>“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  <a:ea typeface="黑体"/>
              </a:rPr>
              <a:t>一定是飞走了或者是冻死了。天气严寒，它怕冷。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2"/>
          <p:cNvSpPr/>
          <p:nvPr/>
        </p:nvSpPr>
        <p:spPr>
          <a:xfrm>
            <a:off x="1839600" y="1378080"/>
            <a:ext cx="5410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6600" spc="-1" strike="noStrike">
                <a:solidFill>
                  <a:srgbClr val="0000ff"/>
                </a:solidFill>
                <a:latin typeface="黑体"/>
                <a:ea typeface="黑体"/>
              </a:rPr>
              <a:t>列宁自言自语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黑体"/>
                <a:ea typeface="黑体"/>
              </a:rPr>
              <a:t>说：</a:t>
            </a:r>
            <a:r>
              <a:rPr b="1" lang="zh-CN" sz="6600" spc="-1" strike="noStrike">
                <a:solidFill>
                  <a:srgbClr val="0000ff"/>
                </a:solidFill>
                <a:latin typeface="汉鼎简中圆"/>
                <a:ea typeface="黑体"/>
              </a:rPr>
              <a:t>“</a:t>
            </a:r>
            <a:r>
              <a:rPr b="1" lang="zh-CN" sz="6600" spc="-1" strike="noStrike">
                <a:solidFill>
                  <a:srgbClr val="0000ff"/>
                </a:solidFill>
                <a:latin typeface="黑体"/>
                <a:ea typeface="黑体"/>
              </a:rPr>
              <a:t>多好的灰雀呀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黑体"/>
                <a:ea typeface="黑体"/>
              </a:rPr>
              <a:t>可惜再也不会飞回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黑体"/>
                <a:ea typeface="黑体"/>
              </a:rPr>
              <a:t>了。</a:t>
            </a:r>
            <a:r>
              <a:rPr b="1" lang="zh-CN" sz="6600" spc="-1" strike="noStrike">
                <a:solidFill>
                  <a:srgbClr val="0000ff"/>
                </a:solidFill>
                <a:latin typeface="汉鼎简中圆"/>
                <a:ea typeface="黑体"/>
              </a:rPr>
              <a:t>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WordArt 4"/>
          <p:cNvSpPr txBox="1"/>
          <p:nvPr/>
        </p:nvSpPr>
        <p:spPr>
          <a:xfrm>
            <a:off x="468360" y="476280"/>
            <a:ext cx="4321080" cy="14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侦察任务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546" name="WordArt 5"/>
          <p:cNvSpPr txBox="1"/>
          <p:nvPr/>
        </p:nvSpPr>
        <p:spPr>
          <a:xfrm>
            <a:off x="1116000" y="3200400"/>
            <a:ext cx="763272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灰雀究竟哪儿去了？</a:t>
            </a:r>
            <a:endParaRPr b="1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1847520" y="1413000"/>
            <a:ext cx="4813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6600" spc="-1" strike="noStrike">
                <a:solidFill>
                  <a:srgbClr val="000000"/>
                </a:solidFill>
                <a:latin typeface="汉鼎简中圆"/>
                <a:ea typeface="黑体"/>
              </a:rPr>
              <a:t>“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没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我没看见。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2"/>
          <p:cNvSpPr/>
          <p:nvPr/>
        </p:nvSpPr>
        <p:spPr>
          <a:xfrm>
            <a:off x="1303200" y="1716120"/>
            <a:ext cx="6416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男孩看看列宁，说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汉鼎简中圆"/>
                <a:ea typeface="黑体"/>
              </a:rPr>
              <a:t>“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会飞回来的，一定会飞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回来的。它还活着。</a:t>
            </a:r>
            <a:r>
              <a:rPr b="1" lang="zh-CN" sz="6600" spc="-1" strike="noStrike">
                <a:solidFill>
                  <a:srgbClr val="000000"/>
                </a:solidFill>
                <a:latin typeface="汉鼎简中圆"/>
                <a:ea typeface="黑体"/>
              </a:rPr>
              <a:t>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7T16:10:46Z</dcterms:created>
  <dc:creator>第一PPT模板网-WWW.1PPT.COM</dc:creator>
  <dc:description>第一PPT模板网-WWW.1PPT.COM
</dc:description>
  <dc:language>en-US</dc:language>
  <cp:lastModifiedBy>a</cp:lastModifiedBy>
  <dcterms:modified xsi:type="dcterms:W3CDTF">2015-03-16T09:43:38Z</dcterms:modified>
  <cp:revision>91</cp:revision>
  <dc:subject/>
  <dc:title>第一PPT模板网-WWW.1PPT.COM</dc:title>
</cp:coreProperties>
</file>